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C616C-A031-44C0-87EF-7907D3888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83CE3-3B25-41D8-B32F-E290FF6D5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F0C82-372B-4067-9790-C913DAD78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C7C99-AAFE-4C94-A089-8F6035DB7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E0CA9-D644-4463-A10B-F1EFC45BE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CFFD-E78B-4574-8001-C3062B17A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A80C-A54E-461E-B47C-F4162DDE3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2D5EA-4B9C-4C28-8FCD-B7B642732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CC348-2851-40F7-AFD4-273ED1921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38F94-1FB2-4A99-8BF7-0881A3457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349BD-4DD6-42D9-87E4-934C96851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4042D-424D-49AA-BC04-FBA0579EB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0" name="Picture 7" descr="Internet_Inner_10.jpg"/>
          <p:cNvPicPr/>
          <p:nvPr/>
        </p:nvPicPr>
        <p:blipFill>
          <a:blip r:embed="rId2"/>
          <a:stretch/>
        </p:blipFill>
        <p:spPr>
          <a:xfrm>
            <a:off x="0" y="0"/>
            <a:ext cx="9144000" cy="6858000"/>
          </a:xfrm>
          <a:prstGeom prst="rect">
            <a:avLst/>
          </a:prstGeom>
          <a:ln w="0">
            <a:noFill/>
          </a:ln>
        </p:spPr>
      </p:pic>
      <p:sp>
        <p:nvSpPr>
          <p:cNvPr id="1"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38" name="Picture 7" descr="Internet_Inner_10.jpg"/>
          <p:cNvPicPr/>
          <p:nvPr/>
        </p:nvPicPr>
        <p:blipFill>
          <a:blip r:embed="rId2"/>
          <a:stretch/>
        </p:blipFill>
        <p:spPr>
          <a:xfrm>
            <a:off x="0" y="0"/>
            <a:ext cx="9144000" cy="6858000"/>
          </a:xfrm>
          <a:prstGeom prst="rect">
            <a:avLst/>
          </a:prstGeom>
          <a:ln w="0">
            <a:noFill/>
          </a:ln>
        </p:spPr>
      </p:pic>
      <p:sp>
        <p:nvSpPr>
          <p:cNvPr id="39"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69240b"/>
              </a:solidFill>
              <a:latin typeface="Arial"/>
            </a:endParaRPr>
          </a:p>
        </p:txBody>
      </p:sp>
      <p:pic>
        <p:nvPicPr>
          <p:cNvPr id="40" name="Picture 3" descr="Internet_10.jpg"/>
          <p:cNvPicPr/>
          <p:nvPr/>
        </p:nvPicPr>
        <p:blipFill>
          <a:blip r:embed="rId3"/>
          <a:stretch/>
        </p:blipFill>
        <p:spPr>
          <a:xfrm>
            <a:off x="0" y="0"/>
            <a:ext cx="9144000" cy="6858000"/>
          </a:xfrm>
          <a:prstGeom prst="rect">
            <a:avLst/>
          </a:prstGeom>
          <a:ln w="0">
            <a:noFill/>
          </a:ln>
        </p:spPr>
      </p:pic>
      <p:sp>
        <p:nvSpPr>
          <p:cNvPr id="41" name="Rectangle 4"/>
          <p:cNvSpPr/>
          <p:nvPr/>
        </p:nvSpPr>
        <p:spPr>
          <a:xfrm>
            <a:off x="7543800" y="6095880"/>
            <a:ext cx="1187280" cy="474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GO</a:t>
            </a:r>
            <a:endParaRPr b="1" lang="en-US" sz="16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78" name="Picture 7" descr="Internet_Inner_10.jpg"/>
          <p:cNvPicPr/>
          <p:nvPr/>
        </p:nvPicPr>
        <p:blipFill>
          <a:blip r:embed="rId2"/>
          <a:stretch/>
        </p:blipFill>
        <p:spPr>
          <a:xfrm>
            <a:off x="0" y="0"/>
            <a:ext cx="9144000" cy="6858000"/>
          </a:xfrm>
          <a:prstGeom prst="rect">
            <a:avLst/>
          </a:prstGeom>
          <a:ln w="0">
            <a:noFill/>
          </a:ln>
        </p:spPr>
      </p:pic>
      <p:sp>
        <p:nvSpPr>
          <p:cNvPr id="79"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69240b"/>
              </a:solidFill>
              <a:latin typeface="Arial"/>
            </a:endParaRPr>
          </a:p>
        </p:txBody>
      </p:sp>
      <p:sp>
        <p:nvSpPr>
          <p:cNvPr id="80" name="Title 3"/>
          <p:cNvSpPr/>
          <p:nvPr/>
        </p:nvSpPr>
        <p:spPr>
          <a:xfrm>
            <a:off x="284040" y="252360"/>
            <a:ext cx="451980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Master title style</a:t>
            </a:r>
            <a:endParaRPr b="1" lang="en-US" sz="24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117" name="Picture 7" descr="Internet_Inner_10.jpg"/>
          <p:cNvPicPr/>
          <p:nvPr/>
        </p:nvPicPr>
        <p:blipFill>
          <a:blip r:embed="rId2"/>
          <a:stretch/>
        </p:blipFill>
        <p:spPr>
          <a:xfrm>
            <a:off x="0" y="0"/>
            <a:ext cx="9144000" cy="6858000"/>
          </a:xfrm>
          <a:prstGeom prst="rect">
            <a:avLst/>
          </a:prstGeom>
          <a:ln w="0">
            <a:noFill/>
          </a:ln>
        </p:spPr>
      </p:pic>
      <p:sp>
        <p:nvSpPr>
          <p:cNvPr id="118"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69240b"/>
              </a:solidFill>
              <a:latin typeface="Arial"/>
            </a:endParaRPr>
          </a:p>
        </p:txBody>
      </p:sp>
      <p:sp>
        <p:nvSpPr>
          <p:cNvPr id="119" name="Title 3"/>
          <p:cNvSpPr/>
          <p:nvPr/>
        </p:nvSpPr>
        <p:spPr>
          <a:xfrm>
            <a:off x="334800" y="252360"/>
            <a:ext cx="456912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Master title style</a:t>
            </a:r>
            <a:endParaRPr b="1" lang="en-US" sz="24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156" name="Picture 7" descr="Internet_Inner_10.jpg"/>
          <p:cNvPicPr/>
          <p:nvPr/>
        </p:nvPicPr>
        <p:blipFill>
          <a:blip r:embed="rId2"/>
          <a:stretch/>
        </p:blipFill>
        <p:spPr>
          <a:xfrm>
            <a:off x="0" y="0"/>
            <a:ext cx="9144000" cy="6858000"/>
          </a:xfrm>
          <a:prstGeom prst="rect">
            <a:avLst/>
          </a:prstGeom>
          <a:ln w="0">
            <a:noFill/>
          </a:ln>
        </p:spPr>
      </p:pic>
      <p:sp>
        <p:nvSpPr>
          <p:cNvPr id="157"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69240b"/>
              </a:solidFill>
              <a:latin typeface="Arial"/>
            </a:endParaRPr>
          </a:p>
        </p:txBody>
      </p:sp>
      <p:sp>
        <p:nvSpPr>
          <p:cNvPr id="158" name="Title 3"/>
          <p:cNvSpPr/>
          <p:nvPr/>
        </p:nvSpPr>
        <p:spPr>
          <a:xfrm>
            <a:off x="369720" y="235080"/>
            <a:ext cx="4484880" cy="5522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Master title style</a:t>
            </a:r>
            <a:endParaRPr b="1" lang="en-US" sz="24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61A2-BB80-4061-8560-8406BBCBA4BA}"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19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4D1A-B642-4644-9CA2-D6323D813C6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文本框 7170"/>
          <p:cNvSpPr/>
          <p:nvPr/>
        </p:nvSpPr>
        <p:spPr>
          <a:xfrm>
            <a:off x="76320" y="257040"/>
            <a:ext cx="8997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国际经济与贸易毕业论文答辩</a:t>
            </a:r>
            <a:r>
              <a:rPr b="1" lang="zh-CN"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1" lang="en-US" sz="4000" spc="-1" strike="noStrike">
              <a:solidFill>
                <a:srgbClr val="69240b"/>
              </a:solidFill>
              <a:latin typeface="Arial"/>
            </a:endParaRPr>
          </a:p>
        </p:txBody>
      </p:sp>
      <p:sp>
        <p:nvSpPr>
          <p:cNvPr id="23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efee"/>
                </a:solidFill>
                <a:latin typeface="宋体"/>
                <a:ea typeface="宋体"/>
              </a:rPr>
              <a:t>幻灯片之家 </a:t>
            </a:r>
            <a:r>
              <a:rPr b="1" lang="en-US" sz="1600" spc="-1" strike="noStrike">
                <a:solidFill>
                  <a:srgbClr val="faefee"/>
                </a:solidFill>
                <a:latin typeface="宋体"/>
                <a:ea typeface="宋体"/>
              </a:rPr>
              <a:t>http://www.eeppt.com</a:t>
            </a:r>
            <a:endParaRPr b="1" lang="en-US" sz="1600" spc="-1" strike="noStrike">
              <a:solidFill>
                <a:srgbClr val="69240b"/>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482760" y="1733400"/>
          <a:ext cx="8146800" cy="4079880"/>
        </p:xfrm>
        <a:graphic>
          <a:graphicData uri="http://schemas.openxmlformats.org/drawingml/2006/table">
            <a:tbl>
              <a:tblPr/>
              <a:tblGrid>
                <a:gridCol w="1628280"/>
                <a:gridCol w="1630440"/>
                <a:gridCol w="1629000"/>
                <a:gridCol w="1628640"/>
                <a:gridCol w="16304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⅓</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⅔</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⅛</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D</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⅜</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E</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⅝</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F</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⅞</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G</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¼</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H</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½</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I</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¾</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J</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bl>
          </a:graphicData>
        </a:graphic>
      </p:graphicFrame>
      <p:sp>
        <p:nvSpPr>
          <p:cNvPr id="298"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4"/>
          <p:cNvSpPr/>
          <p:nvPr/>
        </p:nvSpPr>
        <p:spPr>
          <a:xfrm>
            <a:off x="5345280" y="2071800"/>
            <a:ext cx="3203280" cy="3786120"/>
          </a:xfrm>
          <a:prstGeom prst="rect">
            <a:avLst/>
          </a:prstGeom>
          <a:solidFill>
            <a:srgbClr val="9b2d1f"/>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Nam orci metus, porta nec fringilla id, congue nec nunc. Etiam facilisis lacus nulla. Morbi ut. Aenean ac orci sapien, id aliquet.</a:t>
            </a:r>
            <a:endParaRPr b="1" lang="en-US" sz="1600" spc="-1" strike="noStrike">
              <a:solidFill>
                <a:srgbClr val="69240b"/>
              </a:solidFill>
              <a:latin typeface="Arial"/>
            </a:endParaRPr>
          </a:p>
        </p:txBody>
      </p:sp>
      <p:grpSp>
        <p:nvGrpSpPr>
          <p:cNvPr id="300" name="组合 17410"/>
          <p:cNvGrpSpPr/>
          <p:nvPr/>
        </p:nvGrpSpPr>
        <p:grpSpPr>
          <a:xfrm>
            <a:off x="731880" y="1859040"/>
            <a:ext cx="2260440" cy="1384200"/>
            <a:chOff x="731880" y="1859040"/>
            <a:chExt cx="2260440" cy="1384200"/>
          </a:xfrm>
        </p:grpSpPr>
        <p:pic>
          <p:nvPicPr>
            <p:cNvPr id="301" name="Скругленный прямоугольник 4" descr=""/>
            <p:cNvPicPr/>
            <p:nvPr/>
          </p:nvPicPr>
          <p:blipFill>
            <a:blip r:embed="rId1"/>
            <a:stretch/>
          </p:blipFill>
          <p:spPr>
            <a:xfrm>
              <a:off x="731880" y="1859040"/>
              <a:ext cx="2260440" cy="1384200"/>
            </a:xfrm>
            <a:prstGeom prst="rect">
              <a:avLst/>
            </a:prstGeom>
            <a:ln w="0">
              <a:noFill/>
            </a:ln>
          </p:spPr>
        </p:pic>
        <p:sp>
          <p:nvSpPr>
            <p:cNvPr id="302" name="文本框 17412"/>
            <p:cNvSpPr/>
            <p:nvPr/>
          </p:nvSpPr>
          <p:spPr>
            <a:xfrm>
              <a:off x="803160" y="192888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grpSp>
      <p:grpSp>
        <p:nvGrpSpPr>
          <p:cNvPr id="303" name="组合 17413"/>
          <p:cNvGrpSpPr/>
          <p:nvPr/>
        </p:nvGrpSpPr>
        <p:grpSpPr>
          <a:xfrm>
            <a:off x="3219480" y="2023920"/>
            <a:ext cx="1925640" cy="1066680"/>
            <a:chOff x="3219480" y="2023920"/>
            <a:chExt cx="1925640" cy="1066680"/>
          </a:xfrm>
        </p:grpSpPr>
        <p:pic>
          <p:nvPicPr>
            <p:cNvPr id="304" name="Штриховая стрелка вправо 5" descr=""/>
            <p:cNvPicPr/>
            <p:nvPr/>
          </p:nvPicPr>
          <p:blipFill>
            <a:blip r:embed="rId2"/>
            <a:stretch/>
          </p:blipFill>
          <p:spPr>
            <a:xfrm>
              <a:off x="3219480" y="2023920"/>
              <a:ext cx="1925640" cy="1066680"/>
            </a:xfrm>
            <a:prstGeom prst="rect">
              <a:avLst/>
            </a:prstGeom>
            <a:ln w="0">
              <a:noFill/>
            </a:ln>
          </p:spPr>
        </p:pic>
        <p:sp>
          <p:nvSpPr>
            <p:cNvPr id="305" name="文本框 17415"/>
            <p:cNvSpPr/>
            <p:nvPr/>
          </p:nvSpPr>
          <p:spPr>
            <a:xfrm>
              <a:off x="3386160" y="2295360"/>
              <a:ext cx="140652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a:t>
              </a:r>
              <a:endParaRPr b="1" lang="en-US" sz="2000" spc="-1" strike="noStrike">
                <a:solidFill>
                  <a:srgbClr val="69240b"/>
                </a:solidFill>
                <a:latin typeface="Arial"/>
              </a:endParaRPr>
            </a:p>
          </p:txBody>
        </p:sp>
      </p:grpSp>
      <p:grpSp>
        <p:nvGrpSpPr>
          <p:cNvPr id="306" name="组合 17416"/>
          <p:cNvGrpSpPr/>
          <p:nvPr/>
        </p:nvGrpSpPr>
        <p:grpSpPr>
          <a:xfrm>
            <a:off x="731880" y="3297240"/>
            <a:ext cx="2266920" cy="1384200"/>
            <a:chOff x="731880" y="3297240"/>
            <a:chExt cx="2266920" cy="1384200"/>
          </a:xfrm>
        </p:grpSpPr>
        <p:pic>
          <p:nvPicPr>
            <p:cNvPr id="307" name="Скругленный прямоугольник 6" descr=""/>
            <p:cNvPicPr/>
            <p:nvPr/>
          </p:nvPicPr>
          <p:blipFill>
            <a:blip r:embed="rId3"/>
            <a:stretch/>
          </p:blipFill>
          <p:spPr>
            <a:xfrm>
              <a:off x="731880" y="3297240"/>
              <a:ext cx="2266920" cy="1384200"/>
            </a:xfrm>
            <a:prstGeom prst="rect">
              <a:avLst/>
            </a:prstGeom>
            <a:ln w="0">
              <a:noFill/>
            </a:ln>
          </p:spPr>
        </p:pic>
        <p:sp>
          <p:nvSpPr>
            <p:cNvPr id="308" name="文本框 17418"/>
            <p:cNvSpPr/>
            <p:nvPr/>
          </p:nvSpPr>
          <p:spPr>
            <a:xfrm>
              <a:off x="806400" y="336852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grpSp>
      <p:grpSp>
        <p:nvGrpSpPr>
          <p:cNvPr id="309" name="组合 17419"/>
          <p:cNvGrpSpPr/>
          <p:nvPr/>
        </p:nvGrpSpPr>
        <p:grpSpPr>
          <a:xfrm>
            <a:off x="3219480" y="3468600"/>
            <a:ext cx="1925640" cy="1060560"/>
            <a:chOff x="3219480" y="3468600"/>
            <a:chExt cx="1925640" cy="1060560"/>
          </a:xfrm>
        </p:grpSpPr>
        <p:pic>
          <p:nvPicPr>
            <p:cNvPr id="310" name="Штриховая стрелка вправо 7" descr=""/>
            <p:cNvPicPr/>
            <p:nvPr/>
          </p:nvPicPr>
          <p:blipFill>
            <a:blip r:embed="rId4"/>
            <a:stretch/>
          </p:blipFill>
          <p:spPr>
            <a:xfrm>
              <a:off x="3219480" y="3468600"/>
              <a:ext cx="1925640" cy="1060560"/>
            </a:xfrm>
            <a:prstGeom prst="rect">
              <a:avLst/>
            </a:prstGeom>
            <a:ln w="0">
              <a:noFill/>
            </a:ln>
          </p:spPr>
        </p:pic>
        <p:sp>
          <p:nvSpPr>
            <p:cNvPr id="311" name="文本框 17421"/>
            <p:cNvSpPr/>
            <p:nvPr/>
          </p:nvSpPr>
          <p:spPr>
            <a:xfrm>
              <a:off x="3390840" y="3735360"/>
              <a:ext cx="1411200" cy="525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B</a:t>
              </a:r>
              <a:endParaRPr b="1" lang="en-US" sz="2000" spc="-1" strike="noStrike">
                <a:solidFill>
                  <a:srgbClr val="69240b"/>
                </a:solidFill>
                <a:latin typeface="Arial"/>
              </a:endParaRPr>
            </a:p>
          </p:txBody>
        </p:sp>
      </p:grpSp>
      <p:grpSp>
        <p:nvGrpSpPr>
          <p:cNvPr id="312" name="组合 17422"/>
          <p:cNvGrpSpPr/>
          <p:nvPr/>
        </p:nvGrpSpPr>
        <p:grpSpPr>
          <a:xfrm>
            <a:off x="725400" y="4743360"/>
            <a:ext cx="2266920" cy="1382760"/>
            <a:chOff x="725400" y="4743360"/>
            <a:chExt cx="2266920" cy="1382760"/>
          </a:xfrm>
        </p:grpSpPr>
        <p:pic>
          <p:nvPicPr>
            <p:cNvPr id="313" name="Скругленный прямоугольник 8" descr=""/>
            <p:cNvPicPr/>
            <p:nvPr/>
          </p:nvPicPr>
          <p:blipFill>
            <a:blip r:embed="rId5"/>
            <a:stretch/>
          </p:blipFill>
          <p:spPr>
            <a:xfrm>
              <a:off x="725400" y="4743360"/>
              <a:ext cx="2266920" cy="1382760"/>
            </a:xfrm>
            <a:prstGeom prst="rect">
              <a:avLst/>
            </a:prstGeom>
            <a:ln w="0">
              <a:noFill/>
            </a:ln>
          </p:spPr>
        </p:pic>
        <p:sp>
          <p:nvSpPr>
            <p:cNvPr id="314" name="文本框 17424"/>
            <p:cNvSpPr/>
            <p:nvPr/>
          </p:nvSpPr>
          <p:spPr>
            <a:xfrm>
              <a:off x="798480" y="4817880"/>
              <a:ext cx="212076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grpSp>
      <p:grpSp>
        <p:nvGrpSpPr>
          <p:cNvPr id="315" name="组合 17425"/>
          <p:cNvGrpSpPr/>
          <p:nvPr/>
        </p:nvGrpSpPr>
        <p:grpSpPr>
          <a:xfrm>
            <a:off x="3213000" y="4913280"/>
            <a:ext cx="1925640" cy="1066680"/>
            <a:chOff x="3213000" y="4913280"/>
            <a:chExt cx="1925640" cy="1066680"/>
          </a:xfrm>
        </p:grpSpPr>
        <p:pic>
          <p:nvPicPr>
            <p:cNvPr id="316" name="Штриховая стрелка вправо 9" descr=""/>
            <p:cNvPicPr/>
            <p:nvPr/>
          </p:nvPicPr>
          <p:blipFill>
            <a:blip r:embed="rId6"/>
            <a:stretch/>
          </p:blipFill>
          <p:spPr>
            <a:xfrm>
              <a:off x="3213000" y="4913280"/>
              <a:ext cx="1925640" cy="1066680"/>
            </a:xfrm>
            <a:prstGeom prst="rect">
              <a:avLst/>
            </a:prstGeom>
            <a:ln w="0">
              <a:noFill/>
            </a:ln>
          </p:spPr>
        </p:pic>
        <p:sp>
          <p:nvSpPr>
            <p:cNvPr id="317" name="文本框 17427"/>
            <p:cNvSpPr/>
            <p:nvPr/>
          </p:nvSpPr>
          <p:spPr>
            <a:xfrm>
              <a:off x="3382920" y="5184720"/>
              <a:ext cx="1406520" cy="525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a:t>
              </a:r>
              <a:endParaRPr b="1" lang="en-US" sz="2000" spc="-1" strike="noStrike">
                <a:solidFill>
                  <a:srgbClr val="69240b"/>
                </a:solidFill>
                <a:latin typeface="Arial"/>
              </a:endParaRPr>
            </a:p>
          </p:txBody>
        </p:sp>
      </p:grpSp>
      <p:sp>
        <p:nvSpPr>
          <p:cNvPr id="318"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Прямоугольник 3"/>
          <p:cNvSpPr/>
          <p:nvPr/>
        </p:nvSpPr>
        <p:spPr>
          <a:xfrm>
            <a:off x="507960" y="1563840"/>
            <a:ext cx="8091360" cy="457200"/>
          </a:xfrm>
          <a:prstGeom prst="rect">
            <a:avLst/>
          </a:pr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20" name="Прямоугольник 4"/>
          <p:cNvSpPr/>
          <p:nvPr/>
        </p:nvSpPr>
        <p:spPr>
          <a:xfrm>
            <a:off x="511200" y="2077920"/>
            <a:ext cx="4005360" cy="457200"/>
          </a:xfrm>
          <a:prstGeom prst="rect">
            <a:avLst/>
          </a:prstGeom>
          <a:solidFill>
            <a:srgbClr val="faded4"/>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1" name="Прямоугольник 5"/>
          <p:cNvSpPr/>
          <p:nvPr/>
        </p:nvSpPr>
        <p:spPr>
          <a:xfrm>
            <a:off x="4597560" y="2071800"/>
            <a:ext cx="4005000" cy="457200"/>
          </a:xfrm>
          <a:prstGeom prst="rect">
            <a:avLst/>
          </a:prstGeom>
          <a:solidFill>
            <a:srgbClr val="faded4"/>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2" name="Прямоугольник 6"/>
          <p:cNvSpPr/>
          <p:nvPr/>
        </p:nvSpPr>
        <p:spPr>
          <a:xfrm>
            <a:off x="511200" y="3227400"/>
            <a:ext cx="8091360" cy="457200"/>
          </a:xfrm>
          <a:prstGeom prst="rect">
            <a:avLst/>
          </a:pr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23" name="Прямоугольник 7"/>
          <p:cNvSpPr/>
          <p:nvPr/>
        </p:nvSpPr>
        <p:spPr>
          <a:xfrm>
            <a:off x="514440" y="3740040"/>
            <a:ext cx="4005000" cy="457200"/>
          </a:xfrm>
          <a:prstGeom prst="rect">
            <a:avLst/>
          </a:prstGeom>
          <a:solidFill>
            <a:srgbClr val="ef8c6a"/>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4" name="Прямоугольник 8"/>
          <p:cNvSpPr/>
          <p:nvPr/>
        </p:nvSpPr>
        <p:spPr>
          <a:xfrm>
            <a:off x="4600440" y="3733920"/>
            <a:ext cx="4005360" cy="457200"/>
          </a:xfrm>
          <a:prstGeom prst="rect">
            <a:avLst/>
          </a:prstGeom>
          <a:solidFill>
            <a:srgbClr val="ef8c6a"/>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5" name="Прямоугольник 9"/>
          <p:cNvSpPr/>
          <p:nvPr/>
        </p:nvSpPr>
        <p:spPr>
          <a:xfrm>
            <a:off x="503280" y="4910040"/>
            <a:ext cx="8091360" cy="457200"/>
          </a:xfrm>
          <a:prstGeom prst="rect">
            <a:avLst/>
          </a:prstGeom>
          <a:solidFill>
            <a:srgbClr val="9b2d1f"/>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26" name="Прямоугольник 10"/>
          <p:cNvSpPr/>
          <p:nvPr/>
        </p:nvSpPr>
        <p:spPr>
          <a:xfrm>
            <a:off x="507960" y="5424480"/>
            <a:ext cx="4003560" cy="457200"/>
          </a:xfrm>
          <a:prstGeom prst="rect">
            <a:avLst/>
          </a:prstGeom>
          <a:solidFill>
            <a:srgbClr val="f4cec9"/>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7" name="Прямоугольник 11"/>
          <p:cNvSpPr/>
          <p:nvPr/>
        </p:nvSpPr>
        <p:spPr>
          <a:xfrm>
            <a:off x="4594320" y="5416560"/>
            <a:ext cx="4005000" cy="457200"/>
          </a:xfrm>
          <a:prstGeom prst="rect">
            <a:avLst/>
          </a:prstGeom>
          <a:solidFill>
            <a:srgbClr val="f4cec9"/>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8" name="Стрелка вниз 12"/>
          <p:cNvSpPr/>
          <p:nvPr/>
        </p:nvSpPr>
        <p:spPr>
          <a:xfrm>
            <a:off x="4292640" y="2649600"/>
            <a:ext cx="500040" cy="457200"/>
          </a:xfrm>
          <a:prstGeom prst="downArrow">
            <a:avLst>
              <a:gd name="adj1" fmla="val 50000"/>
              <a:gd name="adj2" fmla="val 50000"/>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29" name="Стрелка вниз 13"/>
          <p:cNvSpPr/>
          <p:nvPr/>
        </p:nvSpPr>
        <p:spPr>
          <a:xfrm>
            <a:off x="4295880" y="4321080"/>
            <a:ext cx="500040" cy="457200"/>
          </a:xfrm>
          <a:prstGeom prst="downArrow">
            <a:avLst>
              <a:gd name="adj1" fmla="val 50000"/>
              <a:gd name="adj2" fmla="val 50000"/>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30"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4"/>
          <p:cNvSpPr/>
          <p:nvPr/>
        </p:nvSpPr>
        <p:spPr>
          <a:xfrm>
            <a:off x="5592600" y="5416560"/>
            <a:ext cx="3203640" cy="957240"/>
          </a:xfrm>
          <a:prstGeom prst="rect">
            <a:avLst/>
          </a:prstGeom>
          <a:solidFill>
            <a:srgbClr val="9b2d1f"/>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332" name="Freeform 7"/>
          <p:cNvSpPr/>
          <p:nvPr/>
        </p:nvSpPr>
        <p:spPr>
          <a:xfrm>
            <a:off x="179280" y="5349960"/>
            <a:ext cx="5148360" cy="1139760"/>
          </a:xfrm>
          <a:prstGeom prst="pie">
            <a:avLst/>
          </a:prstGeom>
          <a:solidFill>
            <a:srgbClr val="9b2d1f"/>
          </a:solidFill>
          <a:ln w="28440">
            <a:solidFill>
              <a:srgbClr val="e85b29"/>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333" name="Freeform 8"/>
          <p:cNvSpPr/>
          <p:nvPr/>
        </p:nvSpPr>
        <p:spPr>
          <a:xfrm>
            <a:off x="657360" y="4083120"/>
            <a:ext cx="4228920" cy="1138320"/>
          </a:xfrm>
          <a:prstGeom prst="pie">
            <a:avLst/>
          </a:prstGeom>
          <a:solidFill>
            <a:srgbClr val="d34817"/>
          </a:solidFill>
          <a:ln w="28440">
            <a:solidFill>
              <a:srgbClr val="e85b29"/>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334" name="Freeform 9"/>
          <p:cNvSpPr/>
          <p:nvPr/>
        </p:nvSpPr>
        <p:spPr>
          <a:xfrm>
            <a:off x="1127160" y="2792520"/>
            <a:ext cx="3335400" cy="1139760"/>
          </a:xfrm>
          <a:prstGeom prst="pie">
            <a:avLst/>
          </a:prstGeom>
          <a:solidFill>
            <a:srgbClr val="644646"/>
          </a:solidFill>
          <a:ln w="28440">
            <a:solidFill>
              <a:srgbClr val="e85b29"/>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335" name="Freeform 10"/>
          <p:cNvSpPr/>
          <p:nvPr/>
        </p:nvSpPr>
        <p:spPr>
          <a:xfrm>
            <a:off x="1568520" y="1514520"/>
            <a:ext cx="2469960" cy="1138320"/>
          </a:xfrm>
          <a:prstGeom prst="pie">
            <a:avLst/>
          </a:prstGeom>
          <a:solidFill>
            <a:srgbClr val="d34817"/>
          </a:solidFill>
          <a:ln w="28440">
            <a:solidFill>
              <a:srgbClr val="e85b29"/>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336" name="Rectangle 4"/>
          <p:cNvSpPr/>
          <p:nvPr/>
        </p:nvSpPr>
        <p:spPr>
          <a:xfrm>
            <a:off x="5595840" y="4197240"/>
            <a:ext cx="3203640" cy="95724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337" name="Rectangle 4"/>
          <p:cNvSpPr/>
          <p:nvPr/>
        </p:nvSpPr>
        <p:spPr>
          <a:xfrm>
            <a:off x="5586480" y="2846520"/>
            <a:ext cx="3201840" cy="957240"/>
          </a:xfrm>
          <a:prstGeom prst="rect">
            <a:avLst/>
          </a:prstGeom>
          <a:solidFill>
            <a:srgbClr val="644646"/>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338" name="Rectangle 4"/>
          <p:cNvSpPr/>
          <p:nvPr/>
        </p:nvSpPr>
        <p:spPr>
          <a:xfrm>
            <a:off x="5589720" y="1627200"/>
            <a:ext cx="3201840" cy="95724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339"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Скругленный прямоугольник 3"/>
          <p:cNvSpPr/>
          <p:nvPr/>
        </p:nvSpPr>
        <p:spPr>
          <a:xfrm>
            <a:off x="1025640" y="2266920"/>
            <a:ext cx="1646280" cy="1109520"/>
          </a:xfrm>
          <a:prstGeom prst="roundRect">
            <a:avLst>
              <a:gd name="adj" fmla="val 16667"/>
            </a:avLst>
          </a:prstGeom>
          <a:solidFill>
            <a:srgbClr val="644646"/>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1" name="Скругленный прямоугольник 4"/>
          <p:cNvSpPr/>
          <p:nvPr/>
        </p:nvSpPr>
        <p:spPr>
          <a:xfrm>
            <a:off x="1028880" y="4443480"/>
            <a:ext cx="1647720" cy="1109520"/>
          </a:xfrm>
          <a:prstGeom prst="roundRect">
            <a:avLst>
              <a:gd name="adj" fmla="val 16667"/>
            </a:avLst>
          </a:prstGeom>
          <a:solidFill>
            <a:srgbClr val="644646"/>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2" name="Скругленный прямоугольник 5"/>
          <p:cNvSpPr/>
          <p:nvPr/>
        </p:nvSpPr>
        <p:spPr>
          <a:xfrm>
            <a:off x="3470400" y="1851120"/>
            <a:ext cx="1647720" cy="83664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3" name="Скругленный прямоугольник 6"/>
          <p:cNvSpPr/>
          <p:nvPr/>
        </p:nvSpPr>
        <p:spPr>
          <a:xfrm>
            <a:off x="3462480" y="2859120"/>
            <a:ext cx="1647720" cy="83664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4" name="Скругленный прямоугольник 7"/>
          <p:cNvSpPr/>
          <p:nvPr/>
        </p:nvSpPr>
        <p:spPr>
          <a:xfrm>
            <a:off x="3462480" y="4016520"/>
            <a:ext cx="1647720" cy="83664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5" name="Скругленный прямоугольник 8"/>
          <p:cNvSpPr/>
          <p:nvPr/>
        </p:nvSpPr>
        <p:spPr>
          <a:xfrm>
            <a:off x="3454560" y="5024520"/>
            <a:ext cx="1647720" cy="83664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6" name="Прямая соединительная линия 10"/>
          <p:cNvSpPr/>
          <p:nvPr/>
        </p:nvSpPr>
        <p:spPr>
          <a:xfrm flipV="1">
            <a:off x="2671920" y="2270160"/>
            <a:ext cx="798480" cy="55224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47" name="Прямая соединительная линия 12"/>
          <p:cNvSpPr/>
          <p:nvPr/>
        </p:nvSpPr>
        <p:spPr>
          <a:xfrm>
            <a:off x="2671920" y="2822400"/>
            <a:ext cx="790560" cy="45576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48" name="Прямая соединительная линия 14"/>
          <p:cNvSpPr/>
          <p:nvPr/>
        </p:nvSpPr>
        <p:spPr>
          <a:xfrm flipV="1">
            <a:off x="2676600" y="4433760"/>
            <a:ext cx="785880" cy="56520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49" name="Прямая соединительная линия 16"/>
          <p:cNvSpPr/>
          <p:nvPr/>
        </p:nvSpPr>
        <p:spPr>
          <a:xfrm>
            <a:off x="2676600" y="4998960"/>
            <a:ext cx="777960" cy="44316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50" name="Скругленный прямоугольник 17"/>
          <p:cNvSpPr/>
          <p:nvPr/>
        </p:nvSpPr>
        <p:spPr>
          <a:xfrm>
            <a:off x="6056280" y="1224000"/>
            <a:ext cx="1646280" cy="836640"/>
          </a:xfrm>
          <a:prstGeom prst="roundRect">
            <a:avLst>
              <a:gd name="adj" fmla="val 16667"/>
            </a:avLst>
          </a:prstGeom>
          <a:solidFill>
            <a:srgbClr val="faded4"/>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51" name="Скругленный прямоугольник 18"/>
          <p:cNvSpPr/>
          <p:nvPr/>
        </p:nvSpPr>
        <p:spPr>
          <a:xfrm>
            <a:off x="6048360" y="2232000"/>
            <a:ext cx="1646280" cy="838080"/>
          </a:xfrm>
          <a:prstGeom prst="roundRect">
            <a:avLst>
              <a:gd name="adj" fmla="val 16667"/>
            </a:avLst>
          </a:prstGeom>
          <a:solidFill>
            <a:srgbClr val="faded4"/>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52" name="Скругленный прямоугольник 19"/>
          <p:cNvSpPr/>
          <p:nvPr/>
        </p:nvSpPr>
        <p:spPr>
          <a:xfrm>
            <a:off x="6048360" y="4603680"/>
            <a:ext cx="1646280" cy="836640"/>
          </a:xfrm>
          <a:prstGeom prst="roundRect">
            <a:avLst>
              <a:gd name="adj" fmla="val 16667"/>
            </a:avLst>
          </a:prstGeom>
          <a:solidFill>
            <a:srgbClr val="faded4"/>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53" name="Скругленный прямоугольник 20"/>
          <p:cNvSpPr/>
          <p:nvPr/>
        </p:nvSpPr>
        <p:spPr>
          <a:xfrm>
            <a:off x="6040440" y="5611680"/>
            <a:ext cx="1646280" cy="836640"/>
          </a:xfrm>
          <a:prstGeom prst="roundRect">
            <a:avLst>
              <a:gd name="adj" fmla="val 16667"/>
            </a:avLst>
          </a:prstGeom>
          <a:solidFill>
            <a:srgbClr val="faded4"/>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54" name="Скругленный прямоугольник 21"/>
          <p:cNvSpPr/>
          <p:nvPr/>
        </p:nvSpPr>
        <p:spPr>
          <a:xfrm>
            <a:off x="6051600" y="3440160"/>
            <a:ext cx="1647720" cy="83664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55" name="Прямая соединительная линия 24"/>
          <p:cNvSpPr/>
          <p:nvPr/>
        </p:nvSpPr>
        <p:spPr>
          <a:xfrm flipV="1">
            <a:off x="5118120" y="1643040"/>
            <a:ext cx="938160" cy="62712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56" name="Прямая соединительная линия 26"/>
          <p:cNvSpPr/>
          <p:nvPr/>
        </p:nvSpPr>
        <p:spPr>
          <a:xfrm>
            <a:off x="5118120" y="2270160"/>
            <a:ext cx="930240" cy="38088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57" name="Прямая соединительная линия 28"/>
          <p:cNvSpPr/>
          <p:nvPr/>
        </p:nvSpPr>
        <p:spPr>
          <a:xfrm flipV="1">
            <a:off x="5102280" y="5022360"/>
            <a:ext cx="946080" cy="41940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58" name="Прямая соединительная линия 30"/>
          <p:cNvSpPr/>
          <p:nvPr/>
        </p:nvSpPr>
        <p:spPr>
          <a:xfrm>
            <a:off x="5102280" y="5442120"/>
            <a:ext cx="938160" cy="58896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59" name="Прямая соединительная линия 33"/>
          <p:cNvSpPr/>
          <p:nvPr/>
        </p:nvSpPr>
        <p:spPr>
          <a:xfrm flipV="1">
            <a:off x="5110200" y="3857760"/>
            <a:ext cx="941400" cy="57600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60"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Прямоугольник 8"/>
          <p:cNvSpPr/>
          <p:nvPr/>
        </p:nvSpPr>
        <p:spPr>
          <a:xfrm rot="18900000">
            <a:off x="2755800" y="1863360"/>
            <a:ext cx="3911760" cy="3909960"/>
          </a:xfrm>
          <a:prstGeom prst="rect">
            <a:avLst/>
          </a:prstGeom>
          <a:solidFill>
            <a:srgbClr val="7b2a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2" name="Скругленный прямоугольник 3"/>
          <p:cNvSpPr/>
          <p:nvPr/>
        </p:nvSpPr>
        <p:spPr>
          <a:xfrm>
            <a:off x="2576520" y="160956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63" name="Скругленный прямоугольник 5"/>
          <p:cNvSpPr/>
          <p:nvPr/>
        </p:nvSpPr>
        <p:spPr>
          <a:xfrm>
            <a:off x="4822920" y="161280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64" name="Скругленный прямоугольник 6"/>
          <p:cNvSpPr/>
          <p:nvPr/>
        </p:nvSpPr>
        <p:spPr>
          <a:xfrm>
            <a:off x="2579760" y="382428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65" name="Скругленный прямоугольник 7"/>
          <p:cNvSpPr/>
          <p:nvPr/>
        </p:nvSpPr>
        <p:spPr>
          <a:xfrm>
            <a:off x="4826160" y="3827520"/>
            <a:ext cx="2136600" cy="213660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66"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Стрелка вниз 4"/>
          <p:cNvSpPr/>
          <p:nvPr/>
        </p:nvSpPr>
        <p:spPr>
          <a:xfrm rot="10800000">
            <a:off x="5860800" y="4141800"/>
            <a:ext cx="1299960" cy="1262160"/>
          </a:xfrm>
          <a:prstGeom prst="downArrow">
            <a:avLst>
              <a:gd name="adj1" fmla="val 50000"/>
              <a:gd name="adj2" fmla="val 50000"/>
            </a:avLst>
          </a:prstGeom>
          <a:solidFill>
            <a:srgbClr val="855d5d"/>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8" name="Прямоугольник 5"/>
          <p:cNvSpPr/>
          <p:nvPr/>
        </p:nvSpPr>
        <p:spPr>
          <a:xfrm rot="20959800">
            <a:off x="1254240" y="3873240"/>
            <a:ext cx="6613560" cy="147600"/>
          </a:xfrm>
          <a:prstGeom prst="rect">
            <a:avLst/>
          </a:prstGeom>
          <a:solidFill>
            <a:srgbClr val="e85b2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9" name="Прямоугольник 6"/>
          <p:cNvSpPr/>
          <p:nvPr/>
        </p:nvSpPr>
        <p:spPr>
          <a:xfrm>
            <a:off x="1828800" y="474192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69240b"/>
              </a:solidFill>
              <a:latin typeface="Arial"/>
            </a:endParaRPr>
          </a:p>
        </p:txBody>
      </p:sp>
      <p:sp>
        <p:nvSpPr>
          <p:cNvPr id="370" name="Равнобедренный треугольник 7"/>
          <p:cNvSpPr/>
          <p:nvPr/>
        </p:nvSpPr>
        <p:spPr>
          <a:xfrm>
            <a:off x="4486320" y="4149720"/>
            <a:ext cx="403200" cy="446040"/>
          </a:xfrm>
          <a:prstGeom prst="triangle">
            <a:avLst>
              <a:gd name="adj" fmla="val 50000"/>
            </a:avLst>
          </a:prstGeom>
          <a:solidFill>
            <a:srgbClr val="e85b2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71" name="Прямоугольник 8"/>
          <p:cNvSpPr/>
          <p:nvPr/>
        </p:nvSpPr>
        <p:spPr>
          <a:xfrm>
            <a:off x="5894640" y="197964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69240b"/>
              </a:solidFill>
              <a:latin typeface="Arial"/>
            </a:endParaRPr>
          </a:p>
        </p:txBody>
      </p:sp>
      <p:sp>
        <p:nvSpPr>
          <p:cNvPr id="372" name="Стрелка вниз 9"/>
          <p:cNvSpPr/>
          <p:nvPr/>
        </p:nvSpPr>
        <p:spPr>
          <a:xfrm>
            <a:off x="1878120" y="2136600"/>
            <a:ext cx="1299960" cy="1260720"/>
          </a:xfrm>
          <a:prstGeom prst="downArrow">
            <a:avLst>
              <a:gd name="adj1" fmla="val 50000"/>
              <a:gd name="adj2" fmla="val 50000"/>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73"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Скругленный прямоугольник 3"/>
          <p:cNvSpPr/>
          <p:nvPr/>
        </p:nvSpPr>
        <p:spPr>
          <a:xfrm>
            <a:off x="1936800" y="2092320"/>
            <a:ext cx="2084400" cy="765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5" name="Скругленный прямоугольник 5"/>
          <p:cNvSpPr/>
          <p:nvPr/>
        </p:nvSpPr>
        <p:spPr>
          <a:xfrm>
            <a:off x="5332320" y="2095560"/>
            <a:ext cx="2084400" cy="76500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6" name="Скругленный прямоугольник 6"/>
          <p:cNvSpPr/>
          <p:nvPr/>
        </p:nvSpPr>
        <p:spPr>
          <a:xfrm>
            <a:off x="1249200" y="3817800"/>
            <a:ext cx="2084400" cy="765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7" name="Скругленный прямоугольник 7"/>
          <p:cNvSpPr/>
          <p:nvPr/>
        </p:nvSpPr>
        <p:spPr>
          <a:xfrm>
            <a:off x="6111720" y="3821040"/>
            <a:ext cx="2084400" cy="76680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8" name="Скругленный прямоугольник 8"/>
          <p:cNvSpPr/>
          <p:nvPr/>
        </p:nvSpPr>
        <p:spPr>
          <a:xfrm>
            <a:off x="3592440" y="5289480"/>
            <a:ext cx="2082960" cy="765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9" name="Freeform 15"/>
          <p:cNvSpPr/>
          <p:nvPr/>
        </p:nvSpPr>
        <p:spPr>
          <a:xfrm>
            <a:off x="4205160" y="1800360"/>
            <a:ext cx="906480" cy="32832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0" name="Freeform 15"/>
          <p:cNvSpPr/>
          <p:nvPr/>
        </p:nvSpPr>
        <p:spPr>
          <a:xfrm rot="4125000">
            <a:off x="6600240" y="3132000"/>
            <a:ext cx="906480" cy="32868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1" name="Freeform 15"/>
          <p:cNvSpPr/>
          <p:nvPr/>
        </p:nvSpPr>
        <p:spPr>
          <a:xfrm rot="7987200">
            <a:off x="5838480" y="4954680"/>
            <a:ext cx="906480" cy="32832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2" name="Freeform 15"/>
          <p:cNvSpPr/>
          <p:nvPr/>
        </p:nvSpPr>
        <p:spPr>
          <a:xfrm rot="13290600">
            <a:off x="2525760" y="5020920"/>
            <a:ext cx="906480" cy="32868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3" name="Freeform 15"/>
          <p:cNvSpPr/>
          <p:nvPr/>
        </p:nvSpPr>
        <p:spPr>
          <a:xfrm rot="17847600">
            <a:off x="1571400" y="3163680"/>
            <a:ext cx="906480" cy="32868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4"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
        <p:nvSpPr>
          <p:cNvPr id="385" name="文本框 8200"/>
          <p:cNvSpPr/>
          <p:nvPr/>
        </p:nvSpPr>
        <p:spPr>
          <a:xfrm>
            <a:off x="2382840" y="1214280"/>
            <a:ext cx="4413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de6b5c"/>
                </a:solidFill>
                <a:uFillTx/>
                <a:latin typeface="Arial"/>
                <a:ea typeface="宋体"/>
                <a:hlinkClick r:id="rId1"/>
              </a:rPr>
              <a:t>免费ppt模板下载</a:t>
            </a:r>
            <a:r>
              <a:rPr b="1" lang="zh-CN" sz="1600" spc="-1" strike="noStrike">
                <a:solidFill>
                  <a:srgbClr val="69240b"/>
                </a:solidFill>
                <a:latin typeface="Arial"/>
                <a:ea typeface="宋体"/>
              </a:rPr>
              <a:t> </a:t>
            </a:r>
            <a:r>
              <a:rPr b="1" lang="zh-CN" sz="1600" spc="-1" strike="noStrike">
                <a:solidFill>
                  <a:srgbClr val="69240b"/>
                </a:solidFill>
                <a:latin typeface="Arial"/>
                <a:ea typeface="宋体"/>
              </a:rPr>
              <a:t>http://www.eeppt.com</a:t>
            </a:r>
            <a:endParaRPr b="1" lang="en-US" sz="1600" spc="-1" strike="noStrike">
              <a:solidFill>
                <a:srgbClr val="69240b"/>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Прямоугольник 3"/>
          <p:cNvSpPr/>
          <p:nvPr/>
        </p:nvSpPr>
        <p:spPr>
          <a:xfrm rot="288600">
            <a:off x="2133720" y="5407200"/>
            <a:ext cx="4879800" cy="393480"/>
          </a:xfrm>
          <a:prstGeom prst="rect">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7" name="Равнобедренный треугольник 4"/>
          <p:cNvSpPr/>
          <p:nvPr/>
        </p:nvSpPr>
        <p:spPr>
          <a:xfrm>
            <a:off x="4270320" y="5853240"/>
            <a:ext cx="554040" cy="606240"/>
          </a:xfrm>
          <a:prstGeom prst="triangle">
            <a:avLst>
              <a:gd name="adj" fmla="val 50000"/>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8" name="Скругленный прямоугольник 5"/>
          <p:cNvSpPr/>
          <p:nvPr/>
        </p:nvSpPr>
        <p:spPr>
          <a:xfrm>
            <a:off x="4943520" y="1571760"/>
            <a:ext cx="2084400" cy="76680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89" name="Скругленный прямоугольник 6"/>
          <p:cNvSpPr/>
          <p:nvPr/>
        </p:nvSpPr>
        <p:spPr>
          <a:xfrm>
            <a:off x="2279520" y="1554120"/>
            <a:ext cx="2082960" cy="765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0" name="Скругленный прямоугольник 7"/>
          <p:cNvSpPr/>
          <p:nvPr/>
        </p:nvSpPr>
        <p:spPr>
          <a:xfrm rot="251400">
            <a:off x="4947840" y="4669920"/>
            <a:ext cx="2082960" cy="765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1" name="Скругленный прямоугольник 8"/>
          <p:cNvSpPr/>
          <p:nvPr/>
        </p:nvSpPr>
        <p:spPr>
          <a:xfrm rot="251400">
            <a:off x="5003640" y="3843000"/>
            <a:ext cx="2084400" cy="76680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2" name="Скругленный прямоугольник 9"/>
          <p:cNvSpPr/>
          <p:nvPr/>
        </p:nvSpPr>
        <p:spPr>
          <a:xfrm rot="251400">
            <a:off x="5071680" y="3007800"/>
            <a:ext cx="2084400" cy="765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3" name="Скругленный прямоугольник 10"/>
          <p:cNvSpPr/>
          <p:nvPr/>
        </p:nvSpPr>
        <p:spPr>
          <a:xfrm rot="251400">
            <a:off x="2260080" y="4449240"/>
            <a:ext cx="2084400" cy="765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4" name="Скругленный прямоугольник 11"/>
          <p:cNvSpPr/>
          <p:nvPr/>
        </p:nvSpPr>
        <p:spPr>
          <a:xfrm rot="251400">
            <a:off x="2317320" y="3623760"/>
            <a:ext cx="2084400" cy="765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Скругленный прямоугольник 5"/>
          <p:cNvSpPr/>
          <p:nvPr/>
        </p:nvSpPr>
        <p:spPr>
          <a:xfrm>
            <a:off x="6404040" y="2624040"/>
            <a:ext cx="2082600" cy="765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7" name="Скругленный прямоугольник 6"/>
          <p:cNvSpPr/>
          <p:nvPr/>
        </p:nvSpPr>
        <p:spPr>
          <a:xfrm>
            <a:off x="3514680" y="1606680"/>
            <a:ext cx="2084400" cy="76500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8" name="Скругленный прямоугольник 7"/>
          <p:cNvSpPr/>
          <p:nvPr/>
        </p:nvSpPr>
        <p:spPr>
          <a:xfrm>
            <a:off x="690480" y="2620800"/>
            <a:ext cx="2082960" cy="765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9" name="Овал 8"/>
          <p:cNvSpPr/>
          <p:nvPr/>
        </p:nvSpPr>
        <p:spPr>
          <a:xfrm>
            <a:off x="3071880" y="3406680"/>
            <a:ext cx="2924280" cy="2924280"/>
          </a:xfrm>
          <a:prstGeom prst="ellipse">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400" name="Стрелка вправо 9"/>
          <p:cNvSpPr/>
          <p:nvPr/>
        </p:nvSpPr>
        <p:spPr>
          <a:xfrm rot="5400000">
            <a:off x="4249800" y="2630520"/>
            <a:ext cx="682560" cy="542880"/>
          </a:xfrm>
          <a:prstGeom prst="rightArrow">
            <a:avLst>
              <a:gd name="adj1" fmla="val 50000"/>
              <a:gd name="adj2" fmla="val 50082"/>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1" name="Стрелка вправо 10"/>
          <p:cNvSpPr/>
          <p:nvPr/>
        </p:nvSpPr>
        <p:spPr>
          <a:xfrm rot="8341200">
            <a:off x="5743440" y="3421080"/>
            <a:ext cx="681120" cy="542880"/>
          </a:xfrm>
          <a:prstGeom prst="rightArrow">
            <a:avLst>
              <a:gd name="adj1" fmla="val 50000"/>
              <a:gd name="adj2" fmla="val 49976"/>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2" name="Стрелка вправо 11"/>
          <p:cNvSpPr/>
          <p:nvPr/>
        </p:nvSpPr>
        <p:spPr>
          <a:xfrm rot="2435400">
            <a:off x="2723760" y="3400200"/>
            <a:ext cx="681120" cy="541080"/>
          </a:xfrm>
          <a:prstGeom prst="rightArrow">
            <a:avLst>
              <a:gd name="adj1" fmla="val 50000"/>
              <a:gd name="adj2" fmla="val 50143"/>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3"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 name=""/>
          <p:cNvGraphicFramePr/>
          <p:nvPr/>
        </p:nvGraphicFramePr>
        <p:xfrm>
          <a:off x="465120" y="1644480"/>
          <a:ext cx="8204040" cy="4329000"/>
        </p:xfrm>
        <a:graphic>
          <a:graphicData uri="http://schemas.openxmlformats.org/drawingml/2006/table">
            <a:tbl>
              <a:tblPr/>
              <a:tblGrid>
                <a:gridCol w="684360"/>
                <a:gridCol w="7519680"/>
              </a:tblGrid>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1</a:t>
                      </a:r>
                      <a:endParaRPr b="1" lang="en-US" sz="18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solidFill>
                      <a:srgbClr val="d34817"/>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 dolor sit amet consectetur adipiscing elit</a:t>
                      </a:r>
                      <a:endParaRPr b="1" lang="en-US" sz="18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solidFill>
                      <a:srgbClr val="d34817"/>
                    </a:solid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1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bl>
          </a:graphicData>
        </a:graphic>
      </p:graphicFrame>
      <p:sp>
        <p:nvSpPr>
          <p:cNvPr id="239"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614520" y="1468440"/>
            <a:ext cx="8323200" cy="4869000"/>
          </a:xfrm>
          <a:prstGeom prst="rect">
            <a:avLst/>
          </a:prstGeom>
          <a:noFill/>
          <a:ln w="0">
            <a:noFill/>
          </a:ln>
        </p:spPr>
        <p:style>
          <a:lnRef idx="0"/>
          <a:fillRef idx="0"/>
          <a:effectRef idx="0"/>
          <a:fontRef idx="minor"/>
        </p:style>
        <p:txBody>
          <a:bodyPr lIns="0" rIns="0" tIns="46800" bIns="46800" anchor="t">
            <a:noAutofit/>
          </a:bodyPr>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lvl="2" marL="561960" indent="-179280">
              <a:lnSpc>
                <a:spcPct val="100000"/>
              </a:lnSpc>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Arial"/>
              </a:rPr>
              <a:t>Lorem ipsum dolor sit amet, consectetuer adipiscing elit. </a:t>
            </a:r>
            <a:endParaRPr b="1" lang="en-US" sz="16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lvl="2" marL="561960" indent="-179280">
              <a:lnSpc>
                <a:spcPct val="100000"/>
              </a:lnSpc>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Arial"/>
              </a:rPr>
              <a:t>Lorem ipsum dolor sit amet, consectetuer adipiscing elit. </a:t>
            </a:r>
            <a:endParaRPr b="1" lang="en-US" sz="1600" spc="-1" strike="noStrike">
              <a:solidFill>
                <a:srgbClr val="69240b"/>
              </a:solidFill>
              <a:latin typeface="Arial"/>
            </a:endParaRPr>
          </a:p>
          <a:p>
            <a:pPr lvl="2" marL="56196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9240b"/>
              </a:solidFill>
              <a:latin typeface="Arial"/>
            </a:endParaRPr>
          </a:p>
        </p:txBody>
      </p:sp>
      <p:sp>
        <p:nvSpPr>
          <p:cNvPr id="40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reeform 7"/>
          <p:cNvSpPr/>
          <p:nvPr/>
        </p:nvSpPr>
        <p:spPr>
          <a:xfrm>
            <a:off x="243000" y="1459080"/>
            <a:ext cx="4964040" cy="5030640"/>
          </a:xfrm>
          <a:custGeom>
            <a:avLst/>
            <a:gdLst/>
            <a:ahLst/>
            <a:rect l="l" t="t" r="r" b="b"/>
            <a:pathLst>
              <a:path w="3664" h="3713">
                <a:moveTo>
                  <a:pt x="1831" y="0"/>
                </a:moveTo>
                <a:lnTo>
                  <a:pt x="1942" y="4"/>
                </a:lnTo>
                <a:lnTo>
                  <a:pt x="2053" y="14"/>
                </a:lnTo>
                <a:lnTo>
                  <a:pt x="2161" y="31"/>
                </a:lnTo>
                <a:lnTo>
                  <a:pt x="2267" y="53"/>
                </a:lnTo>
                <a:lnTo>
                  <a:pt x="2369" y="81"/>
                </a:lnTo>
                <a:lnTo>
                  <a:pt x="2470" y="116"/>
                </a:lnTo>
                <a:lnTo>
                  <a:pt x="2568" y="157"/>
                </a:lnTo>
                <a:lnTo>
                  <a:pt x="2664" y="203"/>
                </a:lnTo>
                <a:lnTo>
                  <a:pt x="2756" y="253"/>
                </a:lnTo>
                <a:lnTo>
                  <a:pt x="2845" y="310"/>
                </a:lnTo>
                <a:lnTo>
                  <a:pt x="2930" y="371"/>
                </a:lnTo>
                <a:lnTo>
                  <a:pt x="3012" y="437"/>
                </a:lnTo>
                <a:lnTo>
                  <a:pt x="3090" y="507"/>
                </a:lnTo>
                <a:lnTo>
                  <a:pt x="3163" y="581"/>
                </a:lnTo>
                <a:lnTo>
                  <a:pt x="3232" y="660"/>
                </a:lnTo>
                <a:lnTo>
                  <a:pt x="3298" y="743"/>
                </a:lnTo>
                <a:lnTo>
                  <a:pt x="3357" y="829"/>
                </a:lnTo>
                <a:lnTo>
                  <a:pt x="3414" y="919"/>
                </a:lnTo>
                <a:lnTo>
                  <a:pt x="3464" y="1012"/>
                </a:lnTo>
                <a:lnTo>
                  <a:pt x="3509" y="1109"/>
                </a:lnTo>
                <a:lnTo>
                  <a:pt x="3549" y="1208"/>
                </a:lnTo>
                <a:lnTo>
                  <a:pt x="3584" y="1311"/>
                </a:lnTo>
                <a:lnTo>
                  <a:pt x="3612" y="1415"/>
                </a:lnTo>
                <a:lnTo>
                  <a:pt x="3634" y="1522"/>
                </a:lnTo>
                <a:lnTo>
                  <a:pt x="3650" y="1631"/>
                </a:lnTo>
                <a:lnTo>
                  <a:pt x="3660" y="1743"/>
                </a:lnTo>
                <a:lnTo>
                  <a:pt x="3664" y="1855"/>
                </a:lnTo>
                <a:lnTo>
                  <a:pt x="3660" y="1969"/>
                </a:lnTo>
                <a:lnTo>
                  <a:pt x="3650" y="2081"/>
                </a:lnTo>
                <a:lnTo>
                  <a:pt x="3634" y="2190"/>
                </a:lnTo>
                <a:lnTo>
                  <a:pt x="3612" y="2297"/>
                </a:lnTo>
                <a:lnTo>
                  <a:pt x="3584" y="2401"/>
                </a:lnTo>
                <a:lnTo>
                  <a:pt x="3549" y="2504"/>
                </a:lnTo>
                <a:lnTo>
                  <a:pt x="3509" y="2603"/>
                </a:lnTo>
                <a:lnTo>
                  <a:pt x="3464" y="2700"/>
                </a:lnTo>
                <a:lnTo>
                  <a:pt x="3414" y="2793"/>
                </a:lnTo>
                <a:lnTo>
                  <a:pt x="3357" y="2883"/>
                </a:lnTo>
                <a:lnTo>
                  <a:pt x="3298" y="2970"/>
                </a:lnTo>
                <a:lnTo>
                  <a:pt x="3232" y="3052"/>
                </a:lnTo>
                <a:lnTo>
                  <a:pt x="3163" y="3131"/>
                </a:lnTo>
                <a:lnTo>
                  <a:pt x="3090" y="3206"/>
                </a:lnTo>
                <a:lnTo>
                  <a:pt x="3012" y="3276"/>
                </a:lnTo>
                <a:lnTo>
                  <a:pt x="2930" y="3343"/>
                </a:lnTo>
                <a:lnTo>
                  <a:pt x="2845" y="3403"/>
                </a:lnTo>
                <a:lnTo>
                  <a:pt x="2756" y="3460"/>
                </a:lnTo>
                <a:lnTo>
                  <a:pt x="2664" y="3510"/>
                </a:lnTo>
                <a:lnTo>
                  <a:pt x="2568" y="3557"/>
                </a:lnTo>
                <a:lnTo>
                  <a:pt x="2470" y="3597"/>
                </a:lnTo>
                <a:lnTo>
                  <a:pt x="2369" y="3632"/>
                </a:lnTo>
                <a:lnTo>
                  <a:pt x="2267" y="3660"/>
                </a:lnTo>
                <a:lnTo>
                  <a:pt x="2161" y="3683"/>
                </a:lnTo>
                <a:lnTo>
                  <a:pt x="2053" y="3699"/>
                </a:lnTo>
                <a:lnTo>
                  <a:pt x="1942" y="3710"/>
                </a:lnTo>
                <a:lnTo>
                  <a:pt x="1831" y="3713"/>
                </a:lnTo>
                <a:lnTo>
                  <a:pt x="1720" y="3710"/>
                </a:lnTo>
                <a:lnTo>
                  <a:pt x="1609" y="3699"/>
                </a:lnTo>
                <a:lnTo>
                  <a:pt x="1502" y="3683"/>
                </a:lnTo>
                <a:lnTo>
                  <a:pt x="1396" y="3660"/>
                </a:lnTo>
                <a:lnTo>
                  <a:pt x="1293" y="3632"/>
                </a:lnTo>
                <a:lnTo>
                  <a:pt x="1193" y="3597"/>
                </a:lnTo>
                <a:lnTo>
                  <a:pt x="1094" y="3557"/>
                </a:lnTo>
                <a:lnTo>
                  <a:pt x="999" y="3510"/>
                </a:lnTo>
                <a:lnTo>
                  <a:pt x="907" y="3460"/>
                </a:lnTo>
                <a:lnTo>
                  <a:pt x="818" y="3403"/>
                </a:lnTo>
                <a:lnTo>
                  <a:pt x="732" y="3343"/>
                </a:lnTo>
                <a:lnTo>
                  <a:pt x="651" y="3276"/>
                </a:lnTo>
                <a:lnTo>
                  <a:pt x="574" y="3206"/>
                </a:lnTo>
                <a:lnTo>
                  <a:pt x="499" y="3131"/>
                </a:lnTo>
                <a:lnTo>
                  <a:pt x="431" y="3052"/>
                </a:lnTo>
                <a:lnTo>
                  <a:pt x="365" y="2970"/>
                </a:lnTo>
                <a:lnTo>
                  <a:pt x="306" y="2883"/>
                </a:lnTo>
                <a:lnTo>
                  <a:pt x="249" y="2793"/>
                </a:lnTo>
                <a:lnTo>
                  <a:pt x="199" y="2700"/>
                </a:lnTo>
                <a:lnTo>
                  <a:pt x="154" y="2603"/>
                </a:lnTo>
                <a:lnTo>
                  <a:pt x="114" y="2504"/>
                </a:lnTo>
                <a:lnTo>
                  <a:pt x="79" y="2401"/>
                </a:lnTo>
                <a:lnTo>
                  <a:pt x="51" y="2297"/>
                </a:lnTo>
                <a:lnTo>
                  <a:pt x="29" y="2190"/>
                </a:lnTo>
                <a:lnTo>
                  <a:pt x="13" y="2081"/>
                </a:lnTo>
                <a:lnTo>
                  <a:pt x="3" y="1969"/>
                </a:lnTo>
                <a:lnTo>
                  <a:pt x="0" y="1855"/>
                </a:lnTo>
                <a:lnTo>
                  <a:pt x="3" y="1743"/>
                </a:lnTo>
                <a:lnTo>
                  <a:pt x="13" y="1631"/>
                </a:lnTo>
                <a:lnTo>
                  <a:pt x="29" y="1522"/>
                </a:lnTo>
                <a:lnTo>
                  <a:pt x="51" y="1415"/>
                </a:lnTo>
                <a:lnTo>
                  <a:pt x="79" y="1311"/>
                </a:lnTo>
                <a:lnTo>
                  <a:pt x="114" y="1208"/>
                </a:lnTo>
                <a:lnTo>
                  <a:pt x="154" y="1109"/>
                </a:lnTo>
                <a:lnTo>
                  <a:pt x="199" y="1012"/>
                </a:lnTo>
                <a:lnTo>
                  <a:pt x="249" y="919"/>
                </a:lnTo>
                <a:lnTo>
                  <a:pt x="306" y="829"/>
                </a:lnTo>
                <a:lnTo>
                  <a:pt x="365" y="743"/>
                </a:lnTo>
                <a:lnTo>
                  <a:pt x="431" y="660"/>
                </a:lnTo>
                <a:lnTo>
                  <a:pt x="499" y="581"/>
                </a:lnTo>
                <a:lnTo>
                  <a:pt x="574" y="507"/>
                </a:lnTo>
                <a:lnTo>
                  <a:pt x="651" y="437"/>
                </a:lnTo>
                <a:lnTo>
                  <a:pt x="732" y="371"/>
                </a:lnTo>
                <a:lnTo>
                  <a:pt x="818" y="310"/>
                </a:lnTo>
                <a:lnTo>
                  <a:pt x="907" y="253"/>
                </a:lnTo>
                <a:lnTo>
                  <a:pt x="999" y="203"/>
                </a:lnTo>
                <a:lnTo>
                  <a:pt x="1094" y="157"/>
                </a:lnTo>
                <a:lnTo>
                  <a:pt x="1193" y="116"/>
                </a:lnTo>
                <a:lnTo>
                  <a:pt x="1293" y="81"/>
                </a:lnTo>
                <a:lnTo>
                  <a:pt x="1396" y="53"/>
                </a:lnTo>
                <a:lnTo>
                  <a:pt x="1502" y="31"/>
                </a:lnTo>
                <a:lnTo>
                  <a:pt x="1609" y="14"/>
                </a:lnTo>
                <a:lnTo>
                  <a:pt x="1720" y="4"/>
                </a:lnTo>
                <a:lnTo>
                  <a:pt x="1831" y="0"/>
                </a:lnTo>
                <a:close/>
              </a:path>
            </a:pathLst>
          </a:custGeom>
          <a:solidFill>
            <a:srgbClr val="9b2d1f"/>
          </a:solidFill>
          <a:ln w="19080">
            <a:solidFill>
              <a:srgbClr val="ee8c69"/>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7" name="Freeform 8"/>
          <p:cNvSpPr/>
          <p:nvPr/>
        </p:nvSpPr>
        <p:spPr>
          <a:xfrm>
            <a:off x="779400" y="2533680"/>
            <a:ext cx="3889440" cy="3890880"/>
          </a:xfrm>
          <a:custGeom>
            <a:avLst/>
            <a:gdLst/>
            <a:ahLst/>
            <a:rect l="l" t="t" r="r" b="b"/>
            <a:pathLst>
              <a:path w="2870" h="2872">
                <a:moveTo>
                  <a:pt x="1435" y="0"/>
                </a:moveTo>
                <a:lnTo>
                  <a:pt x="1537" y="3"/>
                </a:lnTo>
                <a:lnTo>
                  <a:pt x="1638" y="14"/>
                </a:lnTo>
                <a:lnTo>
                  <a:pt x="1737" y="31"/>
                </a:lnTo>
                <a:lnTo>
                  <a:pt x="1832" y="56"/>
                </a:lnTo>
                <a:lnTo>
                  <a:pt x="1926" y="85"/>
                </a:lnTo>
                <a:lnTo>
                  <a:pt x="2016" y="122"/>
                </a:lnTo>
                <a:lnTo>
                  <a:pt x="2103" y="164"/>
                </a:lnTo>
                <a:lnTo>
                  <a:pt x="2187" y="212"/>
                </a:lnTo>
                <a:lnTo>
                  <a:pt x="2267" y="265"/>
                </a:lnTo>
                <a:lnTo>
                  <a:pt x="2343" y="324"/>
                </a:lnTo>
                <a:lnTo>
                  <a:pt x="2415" y="387"/>
                </a:lnTo>
                <a:lnTo>
                  <a:pt x="2483" y="455"/>
                </a:lnTo>
                <a:lnTo>
                  <a:pt x="2546" y="527"/>
                </a:lnTo>
                <a:lnTo>
                  <a:pt x="2605" y="603"/>
                </a:lnTo>
                <a:lnTo>
                  <a:pt x="2657" y="683"/>
                </a:lnTo>
                <a:lnTo>
                  <a:pt x="2706" y="767"/>
                </a:lnTo>
                <a:lnTo>
                  <a:pt x="2748" y="854"/>
                </a:lnTo>
                <a:lnTo>
                  <a:pt x="2785" y="944"/>
                </a:lnTo>
                <a:lnTo>
                  <a:pt x="2814" y="1038"/>
                </a:lnTo>
                <a:lnTo>
                  <a:pt x="2839" y="1133"/>
                </a:lnTo>
                <a:lnTo>
                  <a:pt x="2856" y="1232"/>
                </a:lnTo>
                <a:lnTo>
                  <a:pt x="2867" y="1333"/>
                </a:lnTo>
                <a:lnTo>
                  <a:pt x="2870" y="1435"/>
                </a:lnTo>
                <a:lnTo>
                  <a:pt x="2867" y="1538"/>
                </a:lnTo>
                <a:lnTo>
                  <a:pt x="2856" y="1639"/>
                </a:lnTo>
                <a:lnTo>
                  <a:pt x="2839" y="1737"/>
                </a:lnTo>
                <a:lnTo>
                  <a:pt x="2814" y="1832"/>
                </a:lnTo>
                <a:lnTo>
                  <a:pt x="2785" y="1926"/>
                </a:lnTo>
                <a:lnTo>
                  <a:pt x="2748" y="2017"/>
                </a:lnTo>
                <a:lnTo>
                  <a:pt x="2706" y="2104"/>
                </a:lnTo>
                <a:lnTo>
                  <a:pt x="2657" y="2188"/>
                </a:lnTo>
                <a:lnTo>
                  <a:pt x="2605" y="2268"/>
                </a:lnTo>
                <a:lnTo>
                  <a:pt x="2546" y="2345"/>
                </a:lnTo>
                <a:lnTo>
                  <a:pt x="2483" y="2417"/>
                </a:lnTo>
                <a:lnTo>
                  <a:pt x="2415" y="2484"/>
                </a:lnTo>
                <a:lnTo>
                  <a:pt x="2343" y="2547"/>
                </a:lnTo>
                <a:lnTo>
                  <a:pt x="2267" y="2606"/>
                </a:lnTo>
                <a:lnTo>
                  <a:pt x="2187" y="2659"/>
                </a:lnTo>
                <a:lnTo>
                  <a:pt x="2103" y="2707"/>
                </a:lnTo>
                <a:lnTo>
                  <a:pt x="2016" y="2749"/>
                </a:lnTo>
                <a:lnTo>
                  <a:pt x="1926" y="2786"/>
                </a:lnTo>
                <a:lnTo>
                  <a:pt x="1832" y="2815"/>
                </a:lnTo>
                <a:lnTo>
                  <a:pt x="1737" y="2840"/>
                </a:lnTo>
                <a:lnTo>
                  <a:pt x="1638" y="2857"/>
                </a:lnTo>
                <a:lnTo>
                  <a:pt x="1537" y="2868"/>
                </a:lnTo>
                <a:lnTo>
                  <a:pt x="1435" y="2872"/>
                </a:lnTo>
                <a:lnTo>
                  <a:pt x="1333" y="2868"/>
                </a:lnTo>
                <a:lnTo>
                  <a:pt x="1232" y="2857"/>
                </a:lnTo>
                <a:lnTo>
                  <a:pt x="1133" y="2840"/>
                </a:lnTo>
                <a:lnTo>
                  <a:pt x="1038" y="2815"/>
                </a:lnTo>
                <a:lnTo>
                  <a:pt x="944" y="2786"/>
                </a:lnTo>
                <a:lnTo>
                  <a:pt x="854" y="2749"/>
                </a:lnTo>
                <a:lnTo>
                  <a:pt x="767" y="2707"/>
                </a:lnTo>
                <a:lnTo>
                  <a:pt x="683" y="2659"/>
                </a:lnTo>
                <a:lnTo>
                  <a:pt x="603" y="2606"/>
                </a:lnTo>
                <a:lnTo>
                  <a:pt x="527" y="2547"/>
                </a:lnTo>
                <a:lnTo>
                  <a:pt x="455" y="2484"/>
                </a:lnTo>
                <a:lnTo>
                  <a:pt x="387" y="2417"/>
                </a:lnTo>
                <a:lnTo>
                  <a:pt x="324" y="2345"/>
                </a:lnTo>
                <a:lnTo>
                  <a:pt x="265" y="2268"/>
                </a:lnTo>
                <a:lnTo>
                  <a:pt x="213" y="2188"/>
                </a:lnTo>
                <a:lnTo>
                  <a:pt x="164" y="2104"/>
                </a:lnTo>
                <a:lnTo>
                  <a:pt x="122" y="2017"/>
                </a:lnTo>
                <a:lnTo>
                  <a:pt x="85" y="1926"/>
                </a:lnTo>
                <a:lnTo>
                  <a:pt x="56" y="1832"/>
                </a:lnTo>
                <a:lnTo>
                  <a:pt x="31" y="1737"/>
                </a:lnTo>
                <a:lnTo>
                  <a:pt x="14" y="1639"/>
                </a:lnTo>
                <a:lnTo>
                  <a:pt x="3" y="1538"/>
                </a:lnTo>
                <a:lnTo>
                  <a:pt x="0" y="1435"/>
                </a:lnTo>
                <a:lnTo>
                  <a:pt x="3" y="1333"/>
                </a:lnTo>
                <a:lnTo>
                  <a:pt x="14" y="1232"/>
                </a:lnTo>
                <a:lnTo>
                  <a:pt x="31" y="1133"/>
                </a:lnTo>
                <a:lnTo>
                  <a:pt x="56" y="1038"/>
                </a:lnTo>
                <a:lnTo>
                  <a:pt x="85" y="944"/>
                </a:lnTo>
                <a:lnTo>
                  <a:pt x="122" y="854"/>
                </a:lnTo>
                <a:lnTo>
                  <a:pt x="164" y="767"/>
                </a:lnTo>
                <a:lnTo>
                  <a:pt x="213" y="683"/>
                </a:lnTo>
                <a:lnTo>
                  <a:pt x="265" y="603"/>
                </a:lnTo>
                <a:lnTo>
                  <a:pt x="324" y="527"/>
                </a:lnTo>
                <a:lnTo>
                  <a:pt x="387" y="455"/>
                </a:lnTo>
                <a:lnTo>
                  <a:pt x="455" y="387"/>
                </a:lnTo>
                <a:lnTo>
                  <a:pt x="527" y="324"/>
                </a:lnTo>
                <a:lnTo>
                  <a:pt x="603" y="265"/>
                </a:lnTo>
                <a:lnTo>
                  <a:pt x="683" y="212"/>
                </a:lnTo>
                <a:lnTo>
                  <a:pt x="767" y="164"/>
                </a:lnTo>
                <a:lnTo>
                  <a:pt x="854" y="122"/>
                </a:lnTo>
                <a:lnTo>
                  <a:pt x="944" y="85"/>
                </a:lnTo>
                <a:lnTo>
                  <a:pt x="1038" y="56"/>
                </a:lnTo>
                <a:lnTo>
                  <a:pt x="1133" y="31"/>
                </a:lnTo>
                <a:lnTo>
                  <a:pt x="1232" y="14"/>
                </a:lnTo>
                <a:lnTo>
                  <a:pt x="1333" y="3"/>
                </a:lnTo>
                <a:lnTo>
                  <a:pt x="1435" y="0"/>
                </a:lnTo>
                <a:close/>
              </a:path>
            </a:pathLst>
          </a:custGeom>
          <a:solidFill>
            <a:srgbClr val="4a3128"/>
          </a:solidFill>
          <a:ln w="19080">
            <a:solidFill>
              <a:srgbClr val="ee8c69"/>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8" name="Freeform 9"/>
          <p:cNvSpPr/>
          <p:nvPr/>
        </p:nvSpPr>
        <p:spPr>
          <a:xfrm>
            <a:off x="1424160" y="3719520"/>
            <a:ext cx="2601720" cy="2603520"/>
          </a:xfrm>
          <a:custGeom>
            <a:avLst/>
            <a:gdLst/>
            <a:ahLst/>
            <a:rect l="l" t="t" r="r" b="b"/>
            <a:pathLst>
              <a:path w="1921" h="1921">
                <a:moveTo>
                  <a:pt x="960" y="0"/>
                </a:moveTo>
                <a:lnTo>
                  <a:pt x="1043" y="3"/>
                </a:lnTo>
                <a:lnTo>
                  <a:pt x="1124" y="13"/>
                </a:lnTo>
                <a:lnTo>
                  <a:pt x="1203" y="30"/>
                </a:lnTo>
                <a:lnTo>
                  <a:pt x="1279" y="54"/>
                </a:lnTo>
                <a:lnTo>
                  <a:pt x="1353" y="83"/>
                </a:lnTo>
                <a:lnTo>
                  <a:pt x="1423" y="118"/>
                </a:lnTo>
                <a:lnTo>
                  <a:pt x="1489" y="158"/>
                </a:lnTo>
                <a:lnTo>
                  <a:pt x="1553" y="203"/>
                </a:lnTo>
                <a:lnTo>
                  <a:pt x="1612" y="254"/>
                </a:lnTo>
                <a:lnTo>
                  <a:pt x="1667" y="309"/>
                </a:lnTo>
                <a:lnTo>
                  <a:pt x="1718" y="368"/>
                </a:lnTo>
                <a:lnTo>
                  <a:pt x="1763" y="431"/>
                </a:lnTo>
                <a:lnTo>
                  <a:pt x="1803" y="498"/>
                </a:lnTo>
                <a:lnTo>
                  <a:pt x="1838" y="568"/>
                </a:lnTo>
                <a:lnTo>
                  <a:pt x="1867" y="641"/>
                </a:lnTo>
                <a:lnTo>
                  <a:pt x="1891" y="718"/>
                </a:lnTo>
                <a:lnTo>
                  <a:pt x="1908" y="797"/>
                </a:lnTo>
                <a:lnTo>
                  <a:pt x="1918" y="877"/>
                </a:lnTo>
                <a:lnTo>
                  <a:pt x="1921" y="960"/>
                </a:lnTo>
                <a:lnTo>
                  <a:pt x="1918" y="1043"/>
                </a:lnTo>
                <a:lnTo>
                  <a:pt x="1908" y="1124"/>
                </a:lnTo>
                <a:lnTo>
                  <a:pt x="1891" y="1203"/>
                </a:lnTo>
                <a:lnTo>
                  <a:pt x="1867" y="1278"/>
                </a:lnTo>
                <a:lnTo>
                  <a:pt x="1838" y="1353"/>
                </a:lnTo>
                <a:lnTo>
                  <a:pt x="1803" y="1423"/>
                </a:lnTo>
                <a:lnTo>
                  <a:pt x="1763" y="1489"/>
                </a:lnTo>
                <a:lnTo>
                  <a:pt x="1718" y="1553"/>
                </a:lnTo>
                <a:lnTo>
                  <a:pt x="1667" y="1612"/>
                </a:lnTo>
                <a:lnTo>
                  <a:pt x="1612" y="1667"/>
                </a:lnTo>
                <a:lnTo>
                  <a:pt x="1553" y="1718"/>
                </a:lnTo>
                <a:lnTo>
                  <a:pt x="1489" y="1763"/>
                </a:lnTo>
                <a:lnTo>
                  <a:pt x="1423" y="1803"/>
                </a:lnTo>
                <a:lnTo>
                  <a:pt x="1353" y="1838"/>
                </a:lnTo>
                <a:lnTo>
                  <a:pt x="1279" y="1867"/>
                </a:lnTo>
                <a:lnTo>
                  <a:pt x="1203" y="1891"/>
                </a:lnTo>
                <a:lnTo>
                  <a:pt x="1124" y="1908"/>
                </a:lnTo>
                <a:lnTo>
                  <a:pt x="1043" y="1918"/>
                </a:lnTo>
                <a:lnTo>
                  <a:pt x="960" y="1921"/>
                </a:lnTo>
                <a:lnTo>
                  <a:pt x="877" y="1918"/>
                </a:lnTo>
                <a:lnTo>
                  <a:pt x="797" y="1908"/>
                </a:lnTo>
                <a:lnTo>
                  <a:pt x="718" y="1891"/>
                </a:lnTo>
                <a:lnTo>
                  <a:pt x="641" y="1867"/>
                </a:lnTo>
                <a:lnTo>
                  <a:pt x="568" y="1838"/>
                </a:lnTo>
                <a:lnTo>
                  <a:pt x="498" y="1803"/>
                </a:lnTo>
                <a:lnTo>
                  <a:pt x="431" y="1763"/>
                </a:lnTo>
                <a:lnTo>
                  <a:pt x="368" y="1718"/>
                </a:lnTo>
                <a:lnTo>
                  <a:pt x="309" y="1667"/>
                </a:lnTo>
                <a:lnTo>
                  <a:pt x="254" y="1612"/>
                </a:lnTo>
                <a:lnTo>
                  <a:pt x="204" y="1553"/>
                </a:lnTo>
                <a:lnTo>
                  <a:pt x="159" y="1489"/>
                </a:lnTo>
                <a:lnTo>
                  <a:pt x="118" y="1423"/>
                </a:lnTo>
                <a:lnTo>
                  <a:pt x="83" y="1353"/>
                </a:lnTo>
                <a:lnTo>
                  <a:pt x="54" y="1278"/>
                </a:lnTo>
                <a:lnTo>
                  <a:pt x="30" y="1203"/>
                </a:lnTo>
                <a:lnTo>
                  <a:pt x="13" y="1124"/>
                </a:lnTo>
                <a:lnTo>
                  <a:pt x="3" y="1043"/>
                </a:lnTo>
                <a:lnTo>
                  <a:pt x="0" y="960"/>
                </a:lnTo>
                <a:lnTo>
                  <a:pt x="3" y="877"/>
                </a:lnTo>
                <a:lnTo>
                  <a:pt x="13" y="797"/>
                </a:lnTo>
                <a:lnTo>
                  <a:pt x="30" y="718"/>
                </a:lnTo>
                <a:lnTo>
                  <a:pt x="54" y="641"/>
                </a:lnTo>
                <a:lnTo>
                  <a:pt x="83" y="568"/>
                </a:lnTo>
                <a:lnTo>
                  <a:pt x="118" y="498"/>
                </a:lnTo>
                <a:lnTo>
                  <a:pt x="159" y="431"/>
                </a:lnTo>
                <a:lnTo>
                  <a:pt x="204" y="368"/>
                </a:lnTo>
                <a:lnTo>
                  <a:pt x="254" y="309"/>
                </a:lnTo>
                <a:lnTo>
                  <a:pt x="309" y="254"/>
                </a:lnTo>
                <a:lnTo>
                  <a:pt x="368" y="203"/>
                </a:lnTo>
                <a:lnTo>
                  <a:pt x="431" y="158"/>
                </a:lnTo>
                <a:lnTo>
                  <a:pt x="498" y="118"/>
                </a:lnTo>
                <a:lnTo>
                  <a:pt x="568" y="83"/>
                </a:lnTo>
                <a:lnTo>
                  <a:pt x="641" y="54"/>
                </a:lnTo>
                <a:lnTo>
                  <a:pt x="718" y="30"/>
                </a:lnTo>
                <a:lnTo>
                  <a:pt x="797" y="13"/>
                </a:lnTo>
                <a:lnTo>
                  <a:pt x="877" y="3"/>
                </a:lnTo>
                <a:lnTo>
                  <a:pt x="960" y="0"/>
                </a:lnTo>
                <a:close/>
              </a:path>
            </a:pathLst>
          </a:custGeom>
          <a:solidFill>
            <a:srgbClr val="d34817"/>
          </a:solidFill>
          <a:ln w="19080">
            <a:solidFill>
              <a:srgbClr val="ee8c69"/>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9" name="Прямоугольник 9"/>
          <p:cNvSpPr/>
          <p:nvPr/>
        </p:nvSpPr>
        <p:spPr>
          <a:xfrm>
            <a:off x="1857240" y="484668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410" name="Прямоугольник 10"/>
          <p:cNvSpPr/>
          <p:nvPr/>
        </p:nvSpPr>
        <p:spPr>
          <a:xfrm>
            <a:off x="1796760" y="307332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411" name="Прямоугольник 11"/>
          <p:cNvSpPr/>
          <p:nvPr/>
        </p:nvSpPr>
        <p:spPr>
          <a:xfrm>
            <a:off x="1831680" y="188748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412" name="Rectangle 4"/>
          <p:cNvSpPr/>
          <p:nvPr/>
        </p:nvSpPr>
        <p:spPr>
          <a:xfrm>
            <a:off x="5576760" y="1644480"/>
            <a:ext cx="3203640" cy="1322640"/>
          </a:xfrm>
          <a:prstGeom prst="rect">
            <a:avLst/>
          </a:prstGeom>
          <a:solidFill>
            <a:srgbClr val="9b2d1f"/>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13" name="Rectangle 4"/>
          <p:cNvSpPr/>
          <p:nvPr/>
        </p:nvSpPr>
        <p:spPr>
          <a:xfrm>
            <a:off x="5568840" y="3146400"/>
            <a:ext cx="3203640" cy="1324080"/>
          </a:xfrm>
          <a:prstGeom prst="rect">
            <a:avLst/>
          </a:prstGeom>
          <a:solidFill>
            <a:srgbClr val="4a3128"/>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14" name="Rectangle 4"/>
          <p:cNvSpPr/>
          <p:nvPr/>
        </p:nvSpPr>
        <p:spPr>
          <a:xfrm>
            <a:off x="5551560" y="4606920"/>
            <a:ext cx="3203640" cy="132408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1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reeform 7"/>
          <p:cNvSpPr/>
          <p:nvPr/>
        </p:nvSpPr>
        <p:spPr>
          <a:xfrm>
            <a:off x="2201760" y="3514680"/>
            <a:ext cx="1916280" cy="2079720"/>
          </a:xfrm>
          <a:prstGeom prst="pie">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417" name="Freeform 8"/>
          <p:cNvSpPr/>
          <p:nvPr/>
        </p:nvSpPr>
        <p:spPr>
          <a:xfrm>
            <a:off x="2201760" y="3514680"/>
            <a:ext cx="1916280" cy="2079720"/>
          </a:xfrm>
          <a:custGeom>
            <a:avLst/>
            <a:gdLst/>
            <a:ahLst/>
            <a:rect l="l" t="t" r="r" b="b"/>
            <a:pathLst>
              <a:path w="1207" h="1310">
                <a:moveTo>
                  <a:pt x="727" y="206"/>
                </a:moveTo>
                <a:lnTo>
                  <a:pt x="773" y="221"/>
                </a:lnTo>
                <a:lnTo>
                  <a:pt x="816" y="241"/>
                </a:lnTo>
                <a:lnTo>
                  <a:pt x="858" y="264"/>
                </a:lnTo>
                <a:lnTo>
                  <a:pt x="897" y="292"/>
                </a:lnTo>
                <a:lnTo>
                  <a:pt x="932" y="324"/>
                </a:lnTo>
                <a:lnTo>
                  <a:pt x="1135" y="263"/>
                </a:lnTo>
                <a:lnTo>
                  <a:pt x="1207" y="387"/>
                </a:lnTo>
                <a:lnTo>
                  <a:pt x="1055" y="537"/>
                </a:lnTo>
                <a:lnTo>
                  <a:pt x="1063" y="575"/>
                </a:lnTo>
                <a:lnTo>
                  <a:pt x="1068" y="615"/>
                </a:lnTo>
                <a:lnTo>
                  <a:pt x="1070" y="656"/>
                </a:lnTo>
                <a:lnTo>
                  <a:pt x="1068" y="696"/>
                </a:lnTo>
                <a:lnTo>
                  <a:pt x="1062" y="736"/>
                </a:lnTo>
                <a:lnTo>
                  <a:pt x="1054" y="774"/>
                </a:lnTo>
                <a:lnTo>
                  <a:pt x="1207" y="918"/>
                </a:lnTo>
                <a:lnTo>
                  <a:pt x="1135" y="1042"/>
                </a:lnTo>
                <a:lnTo>
                  <a:pt x="931" y="986"/>
                </a:lnTo>
                <a:lnTo>
                  <a:pt x="896" y="1018"/>
                </a:lnTo>
                <a:lnTo>
                  <a:pt x="857" y="1046"/>
                </a:lnTo>
                <a:lnTo>
                  <a:pt x="816" y="1069"/>
                </a:lnTo>
                <a:lnTo>
                  <a:pt x="773" y="1089"/>
                </a:lnTo>
                <a:lnTo>
                  <a:pt x="727" y="1104"/>
                </a:lnTo>
                <a:lnTo>
                  <a:pt x="673" y="1310"/>
                </a:lnTo>
                <a:lnTo>
                  <a:pt x="531" y="1310"/>
                </a:lnTo>
                <a:lnTo>
                  <a:pt x="481" y="1104"/>
                </a:lnTo>
                <a:lnTo>
                  <a:pt x="435" y="1089"/>
                </a:lnTo>
                <a:lnTo>
                  <a:pt x="391" y="1069"/>
                </a:lnTo>
                <a:lnTo>
                  <a:pt x="350" y="1046"/>
                </a:lnTo>
                <a:lnTo>
                  <a:pt x="312" y="1018"/>
                </a:lnTo>
                <a:lnTo>
                  <a:pt x="277" y="986"/>
                </a:lnTo>
                <a:lnTo>
                  <a:pt x="72" y="1042"/>
                </a:lnTo>
                <a:lnTo>
                  <a:pt x="0" y="918"/>
                </a:lnTo>
                <a:lnTo>
                  <a:pt x="154" y="773"/>
                </a:lnTo>
                <a:lnTo>
                  <a:pt x="145" y="735"/>
                </a:lnTo>
                <a:lnTo>
                  <a:pt x="141" y="696"/>
                </a:lnTo>
                <a:lnTo>
                  <a:pt x="139" y="656"/>
                </a:lnTo>
                <a:lnTo>
                  <a:pt x="141" y="615"/>
                </a:lnTo>
                <a:lnTo>
                  <a:pt x="145" y="576"/>
                </a:lnTo>
                <a:lnTo>
                  <a:pt x="154" y="538"/>
                </a:lnTo>
                <a:lnTo>
                  <a:pt x="0" y="387"/>
                </a:lnTo>
                <a:lnTo>
                  <a:pt x="72" y="263"/>
                </a:lnTo>
                <a:lnTo>
                  <a:pt x="277" y="324"/>
                </a:lnTo>
                <a:lnTo>
                  <a:pt x="312" y="292"/>
                </a:lnTo>
                <a:lnTo>
                  <a:pt x="350" y="264"/>
                </a:lnTo>
                <a:lnTo>
                  <a:pt x="391" y="241"/>
                </a:lnTo>
                <a:lnTo>
                  <a:pt x="435" y="221"/>
                </a:lnTo>
                <a:lnTo>
                  <a:pt x="481" y="206"/>
                </a:lnTo>
                <a:lnTo>
                  <a:pt x="531" y="0"/>
                </a:lnTo>
                <a:lnTo>
                  <a:pt x="673" y="0"/>
                </a:lnTo>
                <a:lnTo>
                  <a:pt x="727" y="206"/>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18" name="Freeform 9"/>
          <p:cNvSpPr/>
          <p:nvPr/>
        </p:nvSpPr>
        <p:spPr>
          <a:xfrm>
            <a:off x="3333600" y="1839960"/>
            <a:ext cx="2086200" cy="2030400"/>
          </a:xfrm>
          <a:prstGeom prst="pie">
            <a:avLst/>
          </a:prstGeom>
          <a:solidFill>
            <a:srgbClr val="7b2a0d"/>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419" name="Freeform 10"/>
          <p:cNvSpPr/>
          <p:nvPr/>
        </p:nvSpPr>
        <p:spPr>
          <a:xfrm>
            <a:off x="3333600" y="1839960"/>
            <a:ext cx="2086200" cy="2030400"/>
          </a:xfrm>
          <a:custGeom>
            <a:avLst/>
            <a:gdLst/>
            <a:ahLst/>
            <a:rect l="l" t="t" r="r" b="b"/>
            <a:pathLst>
              <a:path w="1314" h="1279">
                <a:moveTo>
                  <a:pt x="620" y="175"/>
                </a:moveTo>
                <a:lnTo>
                  <a:pt x="668" y="173"/>
                </a:lnTo>
                <a:lnTo>
                  <a:pt x="716" y="176"/>
                </a:lnTo>
                <a:lnTo>
                  <a:pt x="763" y="184"/>
                </a:lnTo>
                <a:lnTo>
                  <a:pt x="809" y="197"/>
                </a:lnTo>
                <a:lnTo>
                  <a:pt x="853" y="215"/>
                </a:lnTo>
                <a:lnTo>
                  <a:pt x="1023" y="89"/>
                </a:lnTo>
                <a:lnTo>
                  <a:pt x="1133" y="181"/>
                </a:lnTo>
                <a:lnTo>
                  <a:pt x="1041" y="373"/>
                </a:lnTo>
                <a:lnTo>
                  <a:pt x="1062" y="406"/>
                </a:lnTo>
                <a:lnTo>
                  <a:pt x="1080" y="442"/>
                </a:lnTo>
                <a:lnTo>
                  <a:pt x="1096" y="479"/>
                </a:lnTo>
                <a:lnTo>
                  <a:pt x="1108" y="518"/>
                </a:lnTo>
                <a:lnTo>
                  <a:pt x="1117" y="557"/>
                </a:lnTo>
                <a:lnTo>
                  <a:pt x="1122" y="597"/>
                </a:lnTo>
                <a:lnTo>
                  <a:pt x="1314" y="680"/>
                </a:lnTo>
                <a:lnTo>
                  <a:pt x="1290" y="820"/>
                </a:lnTo>
                <a:lnTo>
                  <a:pt x="1079" y="837"/>
                </a:lnTo>
                <a:lnTo>
                  <a:pt x="1057" y="879"/>
                </a:lnTo>
                <a:lnTo>
                  <a:pt x="1030" y="919"/>
                </a:lnTo>
                <a:lnTo>
                  <a:pt x="1000" y="955"/>
                </a:lnTo>
                <a:lnTo>
                  <a:pt x="966" y="988"/>
                </a:lnTo>
                <a:lnTo>
                  <a:pt x="928" y="1018"/>
                </a:lnTo>
                <a:lnTo>
                  <a:pt x="948" y="1230"/>
                </a:lnTo>
                <a:lnTo>
                  <a:pt x="814" y="1279"/>
                </a:lnTo>
                <a:lnTo>
                  <a:pt x="697" y="1102"/>
                </a:lnTo>
                <a:lnTo>
                  <a:pt x="649" y="1104"/>
                </a:lnTo>
                <a:lnTo>
                  <a:pt x="602" y="1100"/>
                </a:lnTo>
                <a:lnTo>
                  <a:pt x="555" y="1092"/>
                </a:lnTo>
                <a:lnTo>
                  <a:pt x="509" y="1079"/>
                </a:lnTo>
                <a:lnTo>
                  <a:pt x="465" y="1062"/>
                </a:lnTo>
                <a:lnTo>
                  <a:pt x="292" y="1185"/>
                </a:lnTo>
                <a:lnTo>
                  <a:pt x="182" y="1093"/>
                </a:lnTo>
                <a:lnTo>
                  <a:pt x="276" y="904"/>
                </a:lnTo>
                <a:lnTo>
                  <a:pt x="255" y="871"/>
                </a:lnTo>
                <a:lnTo>
                  <a:pt x="237" y="835"/>
                </a:lnTo>
                <a:lnTo>
                  <a:pt x="221" y="798"/>
                </a:lnTo>
                <a:lnTo>
                  <a:pt x="209" y="760"/>
                </a:lnTo>
                <a:lnTo>
                  <a:pt x="201" y="722"/>
                </a:lnTo>
                <a:lnTo>
                  <a:pt x="195" y="684"/>
                </a:lnTo>
                <a:lnTo>
                  <a:pt x="0" y="594"/>
                </a:lnTo>
                <a:lnTo>
                  <a:pt x="24" y="454"/>
                </a:lnTo>
                <a:lnTo>
                  <a:pt x="237" y="440"/>
                </a:lnTo>
                <a:lnTo>
                  <a:pt x="260" y="398"/>
                </a:lnTo>
                <a:lnTo>
                  <a:pt x="286" y="360"/>
                </a:lnTo>
                <a:lnTo>
                  <a:pt x="316" y="322"/>
                </a:lnTo>
                <a:lnTo>
                  <a:pt x="350" y="289"/>
                </a:lnTo>
                <a:lnTo>
                  <a:pt x="389" y="259"/>
                </a:lnTo>
                <a:lnTo>
                  <a:pt x="365" y="49"/>
                </a:lnTo>
                <a:lnTo>
                  <a:pt x="499" y="0"/>
                </a:lnTo>
                <a:lnTo>
                  <a:pt x="620" y="175"/>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0" name="Freeform 11"/>
          <p:cNvSpPr/>
          <p:nvPr/>
        </p:nvSpPr>
        <p:spPr>
          <a:xfrm>
            <a:off x="4175280" y="3544920"/>
            <a:ext cx="2904840" cy="2860560"/>
          </a:xfrm>
          <a:prstGeom prst="pie">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421" name="Freeform 12"/>
          <p:cNvSpPr/>
          <p:nvPr/>
        </p:nvSpPr>
        <p:spPr>
          <a:xfrm>
            <a:off x="4175280" y="3544920"/>
            <a:ext cx="2904840" cy="2860560"/>
          </a:xfrm>
          <a:custGeom>
            <a:avLst/>
            <a:gdLst/>
            <a:ahLst/>
            <a:rect l="l" t="t" r="r" b="b"/>
            <a:pathLst>
              <a:path w="1830" h="1802">
                <a:moveTo>
                  <a:pt x="1272" y="257"/>
                </a:moveTo>
                <a:lnTo>
                  <a:pt x="1322" y="288"/>
                </a:lnTo>
                <a:lnTo>
                  <a:pt x="1369" y="323"/>
                </a:lnTo>
                <a:lnTo>
                  <a:pt x="1413" y="362"/>
                </a:lnTo>
                <a:lnTo>
                  <a:pt x="1453" y="404"/>
                </a:lnTo>
                <a:lnTo>
                  <a:pt x="1491" y="448"/>
                </a:lnTo>
                <a:lnTo>
                  <a:pt x="1678" y="388"/>
                </a:lnTo>
                <a:lnTo>
                  <a:pt x="1744" y="511"/>
                </a:lnTo>
                <a:lnTo>
                  <a:pt x="1592" y="634"/>
                </a:lnTo>
                <a:lnTo>
                  <a:pt x="1611" y="689"/>
                </a:lnTo>
                <a:lnTo>
                  <a:pt x="1623" y="744"/>
                </a:lnTo>
                <a:lnTo>
                  <a:pt x="1633" y="800"/>
                </a:lnTo>
                <a:lnTo>
                  <a:pt x="1637" y="858"/>
                </a:lnTo>
                <a:lnTo>
                  <a:pt x="1637" y="915"/>
                </a:lnTo>
                <a:lnTo>
                  <a:pt x="1830" y="996"/>
                </a:lnTo>
                <a:lnTo>
                  <a:pt x="1799" y="1132"/>
                </a:lnTo>
                <a:lnTo>
                  <a:pt x="1597" y="1127"/>
                </a:lnTo>
                <a:lnTo>
                  <a:pt x="1590" y="1146"/>
                </a:lnTo>
                <a:lnTo>
                  <a:pt x="1569" y="1197"/>
                </a:lnTo>
                <a:lnTo>
                  <a:pt x="1543" y="1245"/>
                </a:lnTo>
                <a:lnTo>
                  <a:pt x="1515" y="1291"/>
                </a:lnTo>
                <a:lnTo>
                  <a:pt x="1484" y="1333"/>
                </a:lnTo>
                <a:lnTo>
                  <a:pt x="1450" y="1373"/>
                </a:lnTo>
                <a:lnTo>
                  <a:pt x="1545" y="1551"/>
                </a:lnTo>
                <a:lnTo>
                  <a:pt x="1435" y="1637"/>
                </a:lnTo>
                <a:lnTo>
                  <a:pt x="1285" y="1509"/>
                </a:lnTo>
                <a:lnTo>
                  <a:pt x="1233" y="1536"/>
                </a:lnTo>
                <a:lnTo>
                  <a:pt x="1180" y="1560"/>
                </a:lnTo>
                <a:lnTo>
                  <a:pt x="1124" y="1579"/>
                </a:lnTo>
                <a:lnTo>
                  <a:pt x="1068" y="1594"/>
                </a:lnTo>
                <a:lnTo>
                  <a:pt x="1010" y="1605"/>
                </a:lnTo>
                <a:lnTo>
                  <a:pt x="970" y="1802"/>
                </a:lnTo>
                <a:lnTo>
                  <a:pt x="830" y="1799"/>
                </a:lnTo>
                <a:lnTo>
                  <a:pt x="795" y="1600"/>
                </a:lnTo>
                <a:lnTo>
                  <a:pt x="748" y="1591"/>
                </a:lnTo>
                <a:lnTo>
                  <a:pt x="701" y="1578"/>
                </a:lnTo>
                <a:lnTo>
                  <a:pt x="654" y="1562"/>
                </a:lnTo>
                <a:lnTo>
                  <a:pt x="610" y="1544"/>
                </a:lnTo>
                <a:lnTo>
                  <a:pt x="569" y="1524"/>
                </a:lnTo>
                <a:lnTo>
                  <a:pt x="529" y="1500"/>
                </a:lnTo>
                <a:lnTo>
                  <a:pt x="371" y="1622"/>
                </a:lnTo>
                <a:lnTo>
                  <a:pt x="265" y="1531"/>
                </a:lnTo>
                <a:lnTo>
                  <a:pt x="367" y="1361"/>
                </a:lnTo>
                <a:lnTo>
                  <a:pt x="329" y="1314"/>
                </a:lnTo>
                <a:lnTo>
                  <a:pt x="296" y="1265"/>
                </a:lnTo>
                <a:lnTo>
                  <a:pt x="267" y="1213"/>
                </a:lnTo>
                <a:lnTo>
                  <a:pt x="243" y="1159"/>
                </a:lnTo>
                <a:lnTo>
                  <a:pt x="222" y="1102"/>
                </a:lnTo>
                <a:lnTo>
                  <a:pt x="23" y="1096"/>
                </a:lnTo>
                <a:lnTo>
                  <a:pt x="0" y="957"/>
                </a:lnTo>
                <a:lnTo>
                  <a:pt x="189" y="892"/>
                </a:lnTo>
                <a:lnTo>
                  <a:pt x="192" y="826"/>
                </a:lnTo>
                <a:lnTo>
                  <a:pt x="201" y="758"/>
                </a:lnTo>
                <a:lnTo>
                  <a:pt x="216" y="692"/>
                </a:lnTo>
                <a:lnTo>
                  <a:pt x="237" y="627"/>
                </a:lnTo>
                <a:lnTo>
                  <a:pt x="244" y="610"/>
                </a:lnTo>
                <a:lnTo>
                  <a:pt x="96" y="473"/>
                </a:lnTo>
                <a:lnTo>
                  <a:pt x="169" y="353"/>
                </a:lnTo>
                <a:lnTo>
                  <a:pt x="354" y="426"/>
                </a:lnTo>
                <a:lnTo>
                  <a:pt x="393" y="382"/>
                </a:lnTo>
                <a:lnTo>
                  <a:pt x="436" y="342"/>
                </a:lnTo>
                <a:lnTo>
                  <a:pt x="481" y="305"/>
                </a:lnTo>
                <a:lnTo>
                  <a:pt x="529" y="273"/>
                </a:lnTo>
                <a:lnTo>
                  <a:pt x="579" y="244"/>
                </a:lnTo>
                <a:lnTo>
                  <a:pt x="554" y="44"/>
                </a:lnTo>
                <a:lnTo>
                  <a:pt x="687" y="0"/>
                </a:lnTo>
                <a:lnTo>
                  <a:pt x="782" y="174"/>
                </a:lnTo>
                <a:lnTo>
                  <a:pt x="854" y="164"/>
                </a:lnTo>
                <a:lnTo>
                  <a:pt x="927" y="162"/>
                </a:lnTo>
                <a:lnTo>
                  <a:pt x="999" y="167"/>
                </a:lnTo>
                <a:lnTo>
                  <a:pt x="1073" y="180"/>
                </a:lnTo>
                <a:lnTo>
                  <a:pt x="1175" y="9"/>
                </a:lnTo>
                <a:lnTo>
                  <a:pt x="1305" y="59"/>
                </a:lnTo>
                <a:lnTo>
                  <a:pt x="1272" y="25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2" name="Freeform 13"/>
          <p:cNvSpPr/>
          <p:nvPr/>
        </p:nvSpPr>
        <p:spPr>
          <a:xfrm>
            <a:off x="6289560" y="3363840"/>
            <a:ext cx="1128960" cy="1139760"/>
          </a:xfrm>
          <a:custGeom>
            <a:avLst/>
            <a:gdLst/>
            <a:ahLst/>
            <a:rect l="l" t="t" r="r" b="b"/>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3" name="Freeform 14"/>
          <p:cNvSpPr/>
          <p:nvPr/>
        </p:nvSpPr>
        <p:spPr>
          <a:xfrm>
            <a:off x="6289560" y="3363840"/>
            <a:ext cx="1128960" cy="1139760"/>
          </a:xfrm>
          <a:custGeom>
            <a:avLst/>
            <a:gdLst/>
            <a:ahLst/>
            <a:rect l="l" t="t" r="r" b="b"/>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path>
            </a:pathLst>
          </a:custGeom>
          <a:solidFill>
            <a:srgbClr val="d348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4" name="Freeform 15"/>
          <p:cNvSpPr/>
          <p:nvPr/>
        </p:nvSpPr>
        <p:spPr>
          <a:xfrm>
            <a:off x="3059280" y="1514520"/>
            <a:ext cx="1139760" cy="1130400"/>
          </a:xfrm>
          <a:custGeom>
            <a:avLst/>
            <a:gdLst/>
            <a:ahLst/>
            <a:rect l="l" t="t" r="r" b="b"/>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5" name="Freeform 16"/>
          <p:cNvSpPr/>
          <p:nvPr/>
        </p:nvSpPr>
        <p:spPr>
          <a:xfrm>
            <a:off x="3059280" y="1514520"/>
            <a:ext cx="1139760" cy="1130400"/>
          </a:xfrm>
          <a:custGeom>
            <a:avLst/>
            <a:gdLst/>
            <a:ahLst/>
            <a:rect l="l" t="t" r="r" b="b"/>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path>
            </a:pathLst>
          </a:custGeom>
          <a:solidFill>
            <a:srgbClr val="7b2a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6" name="Freeform 17"/>
          <p:cNvSpPr/>
          <p:nvPr/>
        </p:nvSpPr>
        <p:spPr>
          <a:xfrm>
            <a:off x="1851120" y="3365640"/>
            <a:ext cx="844560" cy="1365120"/>
          </a:xfrm>
          <a:custGeom>
            <a:avLst/>
            <a:gdLst/>
            <a:ahLst/>
            <a:rect l="l" t="t" r="r" b="b"/>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close/>
              </a:path>
            </a:pathLst>
          </a:custGeom>
          <a:solidFill>
            <a:srgbClr val="d348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7" name="Freeform 18"/>
          <p:cNvSpPr/>
          <p:nvPr/>
        </p:nvSpPr>
        <p:spPr>
          <a:xfrm>
            <a:off x="1851120" y="3365640"/>
            <a:ext cx="844560" cy="1365120"/>
          </a:xfrm>
          <a:custGeom>
            <a:avLst/>
            <a:gdLst/>
            <a:ahLst/>
            <a:rect l="l" t="t" r="r" b="b"/>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path>
            </a:pathLst>
          </a:custGeom>
          <a:solidFill>
            <a:srgbClr val="9b2d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8"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4"/>
          <p:cNvSpPr/>
          <p:nvPr/>
        </p:nvSpPr>
        <p:spPr>
          <a:xfrm>
            <a:off x="5545080" y="1727280"/>
            <a:ext cx="3203640" cy="132228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30" name="Rectangle 4"/>
          <p:cNvSpPr/>
          <p:nvPr/>
        </p:nvSpPr>
        <p:spPr>
          <a:xfrm>
            <a:off x="5537160" y="3208320"/>
            <a:ext cx="3203640" cy="132408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31" name="Rectangle 4"/>
          <p:cNvSpPr/>
          <p:nvPr/>
        </p:nvSpPr>
        <p:spPr>
          <a:xfrm>
            <a:off x="5519880" y="4689360"/>
            <a:ext cx="3203280" cy="1324080"/>
          </a:xfrm>
          <a:prstGeom prst="rect">
            <a:avLst/>
          </a:prstGeom>
          <a:solidFill>
            <a:srgbClr val="9b2d1f"/>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32" name="Овал 5"/>
          <p:cNvSpPr/>
          <p:nvPr/>
        </p:nvSpPr>
        <p:spPr>
          <a:xfrm>
            <a:off x="1332000" y="1444680"/>
            <a:ext cx="2803320" cy="2874960"/>
          </a:xfrm>
          <a:prstGeom prst="ellipse">
            <a:avLst/>
          </a:prstGeom>
          <a:solidFill>
            <a:srgbClr val="d348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433" name="Овал 6"/>
          <p:cNvSpPr/>
          <p:nvPr/>
        </p:nvSpPr>
        <p:spPr>
          <a:xfrm>
            <a:off x="306360" y="3360600"/>
            <a:ext cx="2803680" cy="2874960"/>
          </a:xfrm>
          <a:prstGeom prst="ellipse">
            <a:avLst/>
          </a:prstGeom>
          <a:solidFill>
            <a:srgbClr val="d348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434" name="Овал 7"/>
          <p:cNvSpPr/>
          <p:nvPr/>
        </p:nvSpPr>
        <p:spPr>
          <a:xfrm>
            <a:off x="2571840" y="3365640"/>
            <a:ext cx="2803320" cy="2874960"/>
          </a:xfrm>
          <a:prstGeom prst="ellipse">
            <a:avLst/>
          </a:prstGeom>
          <a:solidFill>
            <a:srgbClr val="9b2d1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43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
        <p:nvSpPr>
          <p:cNvPr id="436" name="文本框 8200"/>
          <p:cNvSpPr/>
          <p:nvPr/>
        </p:nvSpPr>
        <p:spPr>
          <a:xfrm>
            <a:off x="776160" y="1668600"/>
            <a:ext cx="4413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de6b5c"/>
                </a:solidFill>
                <a:uFillTx/>
                <a:latin typeface="Arial"/>
                <a:ea typeface="宋体"/>
                <a:hlinkClick r:id="rId1"/>
              </a:rPr>
              <a:t>免费ppt模板下载</a:t>
            </a:r>
            <a:r>
              <a:rPr b="1" lang="zh-CN" sz="1600" spc="-1" strike="noStrike">
                <a:solidFill>
                  <a:srgbClr val="69240b"/>
                </a:solidFill>
                <a:latin typeface="Arial"/>
                <a:ea typeface="宋体"/>
              </a:rPr>
              <a:t> </a:t>
            </a:r>
            <a:r>
              <a:rPr b="1" lang="zh-CN" sz="1600" spc="-1" strike="noStrike">
                <a:solidFill>
                  <a:srgbClr val="69240b"/>
                </a:solidFill>
                <a:latin typeface="Arial"/>
                <a:ea typeface="宋体"/>
              </a:rPr>
              <a:t>http://www.eeppt.com</a:t>
            </a:r>
            <a:endParaRPr b="1" lang="en-US" sz="1600" spc="-1" strike="noStrike">
              <a:solidFill>
                <a:srgbClr val="69240b"/>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4"/>
          <p:cNvSpPr/>
          <p:nvPr/>
        </p:nvSpPr>
        <p:spPr>
          <a:xfrm>
            <a:off x="5624640" y="1260360"/>
            <a:ext cx="3203280" cy="115596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38" name="Rectangle 4"/>
          <p:cNvSpPr/>
          <p:nvPr/>
        </p:nvSpPr>
        <p:spPr>
          <a:xfrm>
            <a:off x="5618160" y="2556000"/>
            <a:ext cx="3201840" cy="115560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39" name="Rectangle 4"/>
          <p:cNvSpPr/>
          <p:nvPr/>
        </p:nvSpPr>
        <p:spPr>
          <a:xfrm>
            <a:off x="5599080" y="3849840"/>
            <a:ext cx="3203640" cy="1157040"/>
          </a:xfrm>
          <a:prstGeom prst="rect">
            <a:avLst/>
          </a:prstGeom>
          <a:solidFill>
            <a:srgbClr val="9e3611"/>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40" name="Rectangle 4"/>
          <p:cNvSpPr/>
          <p:nvPr/>
        </p:nvSpPr>
        <p:spPr>
          <a:xfrm>
            <a:off x="5592600" y="5116680"/>
            <a:ext cx="3203640" cy="1157040"/>
          </a:xfrm>
          <a:prstGeom prst="rect">
            <a:avLst/>
          </a:prstGeom>
          <a:solidFill>
            <a:srgbClr val="9b2d1f"/>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41" name="Скругленный прямоугольник 7"/>
          <p:cNvSpPr/>
          <p:nvPr/>
        </p:nvSpPr>
        <p:spPr>
          <a:xfrm>
            <a:off x="338040" y="1328760"/>
            <a:ext cx="2349720" cy="2349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42" name="Скругленный прямоугольник 8"/>
          <p:cNvSpPr/>
          <p:nvPr/>
        </p:nvSpPr>
        <p:spPr>
          <a:xfrm>
            <a:off x="3009960" y="1332000"/>
            <a:ext cx="2349360" cy="2351160"/>
          </a:xfrm>
          <a:custGeom>
            <a:avLst/>
            <a:gdLst>
              <a:gd name="textAreaLeft" fmla="*/ 114480 w 2349360"/>
              <a:gd name="textAreaRight" fmla="*/ 2234880 w 2349360"/>
              <a:gd name="textAreaTop" fmla="*/ 114480 h 2351160"/>
              <a:gd name="textAreaBottom" fmla="*/ 2236680 h 2351160"/>
            </a:gdLst>
            <a:ahLst/>
            <a:rect l="textAreaLeft" t="textAreaTop" r="textAreaRight" b="textAreaBottom"/>
            <a:pathLst>
              <a:path w="21600" h="21617">
                <a:moveTo>
                  <a:pt x="3600" y="0"/>
                </a:moveTo>
                <a:arcTo wR="3600" hR="3600" stAng="16200000" swAng="-5400000"/>
                <a:lnTo>
                  <a:pt x="0" y="18017"/>
                </a:lnTo>
                <a:arcTo wR="3600" hR="3600" stAng="10800000" swAng="-5400000"/>
                <a:lnTo>
                  <a:pt x="18000" y="21617"/>
                </a:lnTo>
                <a:arcTo wR="3600" hR="3600" stAng="5400000" swAng="-5400000"/>
                <a:lnTo>
                  <a:pt x="21600" y="3600"/>
                </a:lnTo>
                <a:arcTo wR="3600" hR="3600" stAng="0" swAng="-5400000"/>
                <a:close/>
              </a:path>
            </a:pathLst>
          </a:cu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43" name="Скругленный прямоугольник 9"/>
          <p:cNvSpPr/>
          <p:nvPr/>
        </p:nvSpPr>
        <p:spPr>
          <a:xfrm>
            <a:off x="330120" y="4022640"/>
            <a:ext cx="2349720" cy="2349720"/>
          </a:xfrm>
          <a:prstGeom prst="roundRect">
            <a:avLst>
              <a:gd name="adj" fmla="val 16667"/>
            </a:avLst>
          </a:prstGeom>
          <a:solidFill>
            <a:srgbClr val="9e3611"/>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44" name="Скругленный прямоугольник 10"/>
          <p:cNvSpPr/>
          <p:nvPr/>
        </p:nvSpPr>
        <p:spPr>
          <a:xfrm>
            <a:off x="3003480" y="4025880"/>
            <a:ext cx="2349720" cy="2349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45" name="Двойная стрелка вверх/вниз 11"/>
          <p:cNvSpPr/>
          <p:nvPr/>
        </p:nvSpPr>
        <p:spPr>
          <a:xfrm>
            <a:off x="2687760" y="1244520"/>
            <a:ext cx="330120" cy="5337360"/>
          </a:xfrm>
          <a:prstGeom prst="upDownArrow">
            <a:avLst>
              <a:gd name="adj1" fmla="val 50000"/>
              <a:gd name="adj2" fmla="val 49851"/>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46" name="Двойная стрелка вверх/вниз 12"/>
          <p:cNvSpPr/>
          <p:nvPr/>
        </p:nvSpPr>
        <p:spPr>
          <a:xfrm rot="16200000">
            <a:off x="2649600" y="1204560"/>
            <a:ext cx="330120" cy="5337000"/>
          </a:xfrm>
          <a:prstGeom prst="upDownArrow">
            <a:avLst>
              <a:gd name="adj1" fmla="val 50000"/>
              <a:gd name="adj2" fmla="val 49848"/>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47"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4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9240b"/>
                </a:solidFill>
                <a:latin typeface="Arial"/>
                <a:ea typeface="宋体"/>
              </a:rPr>
              <a:t>www.eeppt.com</a:t>
            </a:r>
            <a:endParaRPr b="1" lang="en-US" sz="1400" spc="-1" strike="noStrike">
              <a:solidFill>
                <a:srgbClr val="69240b"/>
              </a:solidFill>
              <a:latin typeface="Arial"/>
            </a:endParaRPr>
          </a:p>
        </p:txBody>
      </p:sp>
      <p:sp>
        <p:nvSpPr>
          <p:cNvPr id="45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CFB3-B2E5-4B1D-ABF7-1F08A6C16AA4}" type="slidenum">
              <a:rPr b="0" lang="zh-CN" sz="1400" spc="-1" strike="noStrike">
                <a:solidFill>
                  <a:srgbClr val="69240b"/>
                </a:solidFill>
                <a:latin typeface="Arial"/>
                <a:ea typeface="宋体"/>
              </a:rPr>
              <a:t>&lt;number&gt;</a:t>
            </a:fld>
            <a:endParaRPr b="1" lang="en-US" sz="1400" spc="-1" strike="noStrike">
              <a:solidFill>
                <a:srgbClr val="69240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4"/>
          <p:cNvSpPr/>
          <p:nvPr/>
        </p:nvSpPr>
        <p:spPr>
          <a:xfrm>
            <a:off x="5133960" y="2795760"/>
            <a:ext cx="2776680" cy="149580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Arial"/>
              </a:rPr>
              <a:t>Lorem ipsum?</a:t>
            </a:r>
            <a:endParaRPr b="1" lang="en-US" sz="4600" spc="-1" strike="noStrike">
              <a:solidFill>
                <a:srgbClr val="69240b"/>
              </a:solidFill>
              <a:latin typeface="Arial"/>
            </a:endParaRPr>
          </a:p>
        </p:txBody>
      </p:sp>
      <p:pic>
        <p:nvPicPr>
          <p:cNvPr id="453" name="TextBox 7" descr=""/>
          <p:cNvPicPr/>
          <p:nvPr/>
        </p:nvPicPr>
        <p:blipFill>
          <a:blip r:embed="rId1"/>
          <a:stretch/>
        </p:blipFill>
        <p:spPr>
          <a:xfrm>
            <a:off x="-1233360" y="-623880"/>
            <a:ext cx="8681760" cy="7365960"/>
          </a:xfrm>
          <a:prstGeom prst="rect">
            <a:avLst/>
          </a:prstGeom>
          <a:ln w="0">
            <a:noFill/>
          </a:ln>
        </p:spPr>
      </p:pic>
      <p:sp>
        <p:nvSpPr>
          <p:cNvPr id="454"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98320" y="1665360"/>
            <a:ext cx="8088480" cy="4525920"/>
          </a:xfrm>
          <a:prstGeom prst="rect">
            <a:avLst/>
          </a:prstGeom>
          <a:noFill/>
          <a:ln w="0">
            <a:noFill/>
          </a:ln>
        </p:spPr>
        <p:txBody>
          <a:bodyPr lIns="90000" rIns="90000" tIns="46800" bIns="46800" anchor="t">
            <a:normAutofit/>
          </a:bodyPr>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r adipiscing elit.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nteger sed orci sed ante luctus convallis nec dignissim tellus.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n sapien dolor, vehicula sed ullamcorper sit amet, pellentesque vel metus.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Cras non massa arcu. Vestibulum auctor tellus sed sem dignissim commodo.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Nam orci metus, porta nec fringilla id, congue nec nunc. Etiam facilisis lacus adipiscing tellus hendrerit aliquet.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auris congue, justo at aliquet venenatis, lorem nisi luctus dui, sit amet euismod magna nisl et elit.</a:t>
            </a:r>
            <a:endParaRPr b="1" lang="en-US" sz="2000" spc="-1" strike="noStrike">
              <a:solidFill>
                <a:srgbClr val="69240b"/>
              </a:solidFill>
              <a:latin typeface="Arial"/>
            </a:endParaRPr>
          </a:p>
        </p:txBody>
      </p:sp>
      <p:sp>
        <p:nvSpPr>
          <p:cNvPr id="241"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
          <p:cNvGraphicFramePr/>
          <p:nvPr/>
        </p:nvGraphicFramePr>
        <p:xfrm>
          <a:off x="349200" y="2003400"/>
          <a:ext cx="4073400" cy="3387600"/>
        </p:xfrm>
        <a:graphic>
          <a:graphicData uri="http://schemas.openxmlformats.org/drawingml/2006/table">
            <a:tbl>
              <a:tblPr/>
              <a:tblGrid>
                <a:gridCol w="4073400"/>
              </a:tblGrid>
              <a:tr h="5904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2797200">
                <a:tc>
                  <a:txBody>
                    <a:bodyPr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graphicFrame>
        <p:nvGraphicFramePr>
          <p:cNvPr id="243" name=""/>
          <p:cNvGraphicFramePr/>
          <p:nvPr/>
        </p:nvGraphicFramePr>
        <p:xfrm>
          <a:off x="4672080" y="2013120"/>
          <a:ext cx="4052880" cy="3387600"/>
        </p:xfrm>
        <a:graphic>
          <a:graphicData uri="http://schemas.openxmlformats.org/drawingml/2006/table">
            <a:tbl>
              <a:tblPr/>
              <a:tblGrid>
                <a:gridCol w="4052880"/>
              </a:tblGrid>
              <a:tr h="5904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2797200">
                <a:tc>
                  <a:txBody>
                    <a:bodyPr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sp>
        <p:nvSpPr>
          <p:cNvPr id="244"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组合 11265"/>
          <p:cNvGrpSpPr/>
          <p:nvPr/>
        </p:nvGrpSpPr>
        <p:grpSpPr>
          <a:xfrm>
            <a:off x="328680" y="1420920"/>
            <a:ext cx="5754600" cy="1468440"/>
            <a:chOff x="328680" y="1420920"/>
            <a:chExt cx="5754600" cy="1468440"/>
          </a:xfrm>
        </p:grpSpPr>
        <p:pic>
          <p:nvPicPr>
            <p:cNvPr id="246" name="Скругленный прямоугольник 5" descr=""/>
            <p:cNvPicPr/>
            <p:nvPr/>
          </p:nvPicPr>
          <p:blipFill>
            <a:blip r:embed="rId1"/>
            <a:stretch/>
          </p:blipFill>
          <p:spPr>
            <a:xfrm>
              <a:off x="328680" y="1420920"/>
              <a:ext cx="5754600" cy="1468440"/>
            </a:xfrm>
            <a:prstGeom prst="rect">
              <a:avLst/>
            </a:prstGeom>
            <a:ln w="0">
              <a:noFill/>
            </a:ln>
          </p:spPr>
        </p:pic>
        <p:sp>
          <p:nvSpPr>
            <p:cNvPr id="247" name="文本框 11267"/>
            <p:cNvSpPr/>
            <p:nvPr/>
          </p:nvSpPr>
          <p:spPr>
            <a:xfrm>
              <a:off x="405000" y="1500120"/>
              <a:ext cx="5600520" cy="131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69240b"/>
                </a:solidFill>
                <a:latin typeface="Arial"/>
              </a:endParaRPr>
            </a:p>
          </p:txBody>
        </p:sp>
      </p:grpSp>
      <p:grpSp>
        <p:nvGrpSpPr>
          <p:cNvPr id="248" name="组合 11268"/>
          <p:cNvGrpSpPr/>
          <p:nvPr/>
        </p:nvGrpSpPr>
        <p:grpSpPr>
          <a:xfrm>
            <a:off x="1736640" y="3005280"/>
            <a:ext cx="5670720" cy="1500120"/>
            <a:chOff x="1736640" y="3005280"/>
            <a:chExt cx="5670720" cy="1500120"/>
          </a:xfrm>
        </p:grpSpPr>
        <p:pic>
          <p:nvPicPr>
            <p:cNvPr id="249" name="Скругленный прямоугольник 10" descr=""/>
            <p:cNvPicPr/>
            <p:nvPr/>
          </p:nvPicPr>
          <p:blipFill>
            <a:blip r:embed="rId2"/>
            <a:stretch/>
          </p:blipFill>
          <p:spPr>
            <a:xfrm>
              <a:off x="1736640" y="3005280"/>
              <a:ext cx="5670720" cy="1500120"/>
            </a:xfrm>
            <a:prstGeom prst="rect">
              <a:avLst/>
            </a:prstGeom>
            <a:ln w="0">
              <a:noFill/>
            </a:ln>
          </p:spPr>
        </p:pic>
        <p:sp>
          <p:nvSpPr>
            <p:cNvPr id="250" name="文本框 11270"/>
            <p:cNvSpPr/>
            <p:nvPr/>
          </p:nvSpPr>
          <p:spPr>
            <a:xfrm>
              <a:off x="1815840" y="3083040"/>
              <a:ext cx="5511960" cy="1341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69240b"/>
                </a:solidFill>
                <a:latin typeface="Arial"/>
              </a:endParaRPr>
            </a:p>
          </p:txBody>
        </p:sp>
      </p:grpSp>
      <p:grpSp>
        <p:nvGrpSpPr>
          <p:cNvPr id="251" name="组合 11271"/>
          <p:cNvGrpSpPr/>
          <p:nvPr/>
        </p:nvGrpSpPr>
        <p:grpSpPr>
          <a:xfrm>
            <a:off x="3090960" y="4614840"/>
            <a:ext cx="5638680" cy="1500120"/>
            <a:chOff x="3090960" y="4614840"/>
            <a:chExt cx="5638680" cy="1500120"/>
          </a:xfrm>
        </p:grpSpPr>
        <p:pic>
          <p:nvPicPr>
            <p:cNvPr id="252" name="Скругленный прямоугольник 11" descr=""/>
            <p:cNvPicPr/>
            <p:nvPr/>
          </p:nvPicPr>
          <p:blipFill>
            <a:blip r:embed="rId3"/>
            <a:stretch/>
          </p:blipFill>
          <p:spPr>
            <a:xfrm>
              <a:off x="3090960" y="4614840"/>
              <a:ext cx="5638680" cy="1500120"/>
            </a:xfrm>
            <a:prstGeom prst="rect">
              <a:avLst/>
            </a:prstGeom>
            <a:ln w="0">
              <a:noFill/>
            </a:ln>
          </p:spPr>
        </p:pic>
        <p:sp>
          <p:nvSpPr>
            <p:cNvPr id="253" name="文本框 11273"/>
            <p:cNvSpPr/>
            <p:nvPr/>
          </p:nvSpPr>
          <p:spPr>
            <a:xfrm>
              <a:off x="3168720" y="4692600"/>
              <a:ext cx="5483160" cy="1341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69240b"/>
                </a:solidFill>
                <a:latin typeface="Arial"/>
              </a:endParaRPr>
            </a:p>
          </p:txBody>
        </p:sp>
      </p:grpSp>
      <p:sp>
        <p:nvSpPr>
          <p:cNvPr id="254" name="Стрелка углом вверх 12"/>
          <p:cNvSpPr/>
          <p:nvPr/>
        </p:nvSpPr>
        <p:spPr>
          <a:xfrm flipH="1" rot="10800000">
            <a:off x="6305400" y="1999800"/>
            <a:ext cx="657360" cy="762120"/>
          </a:xfrm>
          <a:custGeom>
            <a:avLst/>
            <a:gdLst/>
            <a:ahLst/>
            <a:rect l="l" t="t" r="r" b="b"/>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close/>
              </a:path>
            </a:pathLst>
          </a:custGeom>
          <a:solidFill>
            <a:srgbClr val="a5a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55" name="Стрелка углом вверх 13"/>
          <p:cNvSpPr/>
          <p:nvPr/>
        </p:nvSpPr>
        <p:spPr>
          <a:xfrm flipH="1" rot="10800000">
            <a:off x="7591320" y="3619080"/>
            <a:ext cx="657360" cy="762120"/>
          </a:xfrm>
          <a:custGeom>
            <a:avLst/>
            <a:gdLst/>
            <a:ahLst/>
            <a:rect l="l" t="t" r="r" b="b"/>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close/>
              </a:path>
            </a:pathLst>
          </a:custGeom>
          <a:solidFill>
            <a:srgbClr val="a5a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56"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7" name=""/>
          <p:cNvGraphicFramePr/>
          <p:nvPr/>
        </p:nvGraphicFramePr>
        <p:xfrm>
          <a:off x="349200" y="1533600"/>
          <a:ext cx="5008680" cy="4367160"/>
        </p:xfrm>
        <a:graphic>
          <a:graphicData uri="http://schemas.openxmlformats.org/drawingml/2006/table">
            <a:tbl>
              <a:tblPr/>
              <a:tblGrid>
                <a:gridCol w="1670040"/>
                <a:gridCol w="1668600"/>
                <a:gridCol w="1670040"/>
              </a:tblGrid>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r h="544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bl>
          </a:graphicData>
        </a:graphic>
      </p:graphicFrame>
      <p:graphicFrame>
        <p:nvGraphicFramePr>
          <p:cNvPr id="258" name=""/>
          <p:cNvGraphicFramePr/>
          <p:nvPr/>
        </p:nvGraphicFramePr>
        <p:xfrm>
          <a:off x="5586480" y="1546200"/>
          <a:ext cx="3168720" cy="4371840"/>
        </p:xfrm>
        <a:graphic>
          <a:graphicData uri="http://schemas.openxmlformats.org/drawingml/2006/table">
            <a:tbl>
              <a:tblPr/>
              <a:tblGrid>
                <a:gridCol w="3168720"/>
              </a:tblGrid>
              <a:tr h="560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3811320">
                <a:tc>
                  <a:txBody>
                    <a:bodyPr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a:t>
                      </a:r>
                      <a:r>
                        <a:rPr b="0" lang="fi-FI" sz="1600" spc="-1" strike="noStrike">
                          <a:solidFill>
                            <a:srgbClr val="69240b"/>
                          </a:solidFill>
                          <a:latin typeface="Arial"/>
                        </a:rPr>
                        <a:t>. </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sp>
        <p:nvSpPr>
          <p:cNvPr id="259"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组合 13313"/>
          <p:cNvGrpSpPr/>
          <p:nvPr/>
        </p:nvGrpSpPr>
        <p:grpSpPr>
          <a:xfrm>
            <a:off x="1316160" y="1285920"/>
            <a:ext cx="2732040" cy="1573200"/>
            <a:chOff x="1316160" y="1285920"/>
            <a:chExt cx="2732040" cy="1573200"/>
          </a:xfrm>
        </p:grpSpPr>
        <p:pic>
          <p:nvPicPr>
            <p:cNvPr id="261" name="Freeform 7" descr=""/>
            <p:cNvPicPr/>
            <p:nvPr/>
          </p:nvPicPr>
          <p:blipFill>
            <a:blip r:embed="rId1"/>
            <a:stretch/>
          </p:blipFill>
          <p:spPr>
            <a:xfrm>
              <a:off x="1316160" y="1285920"/>
              <a:ext cx="2732040" cy="1573200"/>
            </a:xfrm>
            <a:prstGeom prst="rect">
              <a:avLst/>
            </a:prstGeom>
            <a:ln w="0">
              <a:noFill/>
            </a:ln>
          </p:spPr>
        </p:pic>
        <p:sp>
          <p:nvSpPr>
            <p:cNvPr id="262" name="文本框 13315"/>
            <p:cNvSpPr/>
            <p:nvPr/>
          </p:nvSpPr>
          <p:spPr>
            <a:xfrm>
              <a:off x="1325520" y="1293840"/>
              <a:ext cx="271620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63" name="组合 13316"/>
          <p:cNvGrpSpPr/>
          <p:nvPr/>
        </p:nvGrpSpPr>
        <p:grpSpPr>
          <a:xfrm>
            <a:off x="5138640" y="1285920"/>
            <a:ext cx="2871720" cy="1573200"/>
            <a:chOff x="5138640" y="1285920"/>
            <a:chExt cx="2871720" cy="1573200"/>
          </a:xfrm>
        </p:grpSpPr>
        <p:pic>
          <p:nvPicPr>
            <p:cNvPr id="264" name="Freeform 8" descr=""/>
            <p:cNvPicPr/>
            <p:nvPr/>
          </p:nvPicPr>
          <p:blipFill>
            <a:blip r:embed="rId2"/>
            <a:stretch/>
          </p:blipFill>
          <p:spPr>
            <a:xfrm>
              <a:off x="5138640" y="1285920"/>
              <a:ext cx="2871720" cy="1573200"/>
            </a:xfrm>
            <a:prstGeom prst="rect">
              <a:avLst/>
            </a:prstGeom>
            <a:ln w="0">
              <a:noFill/>
            </a:ln>
          </p:spPr>
        </p:pic>
        <p:sp>
          <p:nvSpPr>
            <p:cNvPr id="265" name="文本框 13318"/>
            <p:cNvSpPr/>
            <p:nvPr/>
          </p:nvSpPr>
          <p:spPr>
            <a:xfrm>
              <a:off x="5143320" y="1293840"/>
              <a:ext cx="285912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66" name="组合 13319"/>
          <p:cNvGrpSpPr/>
          <p:nvPr/>
        </p:nvGrpSpPr>
        <p:grpSpPr>
          <a:xfrm>
            <a:off x="1316160" y="4687920"/>
            <a:ext cx="2732040" cy="1573200"/>
            <a:chOff x="1316160" y="4687920"/>
            <a:chExt cx="2732040" cy="1573200"/>
          </a:xfrm>
        </p:grpSpPr>
        <p:pic>
          <p:nvPicPr>
            <p:cNvPr id="267" name="Freeform 9" descr=""/>
            <p:cNvPicPr/>
            <p:nvPr/>
          </p:nvPicPr>
          <p:blipFill>
            <a:blip r:embed="rId3"/>
            <a:stretch/>
          </p:blipFill>
          <p:spPr>
            <a:xfrm>
              <a:off x="1316160" y="4687920"/>
              <a:ext cx="2732040" cy="1573200"/>
            </a:xfrm>
            <a:prstGeom prst="rect">
              <a:avLst/>
            </a:prstGeom>
            <a:ln w="0">
              <a:noFill/>
            </a:ln>
          </p:spPr>
        </p:pic>
        <p:sp>
          <p:nvSpPr>
            <p:cNvPr id="268" name="文本框 13321"/>
            <p:cNvSpPr/>
            <p:nvPr/>
          </p:nvSpPr>
          <p:spPr>
            <a:xfrm>
              <a:off x="1325520" y="4695840"/>
              <a:ext cx="271620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69" name="组合 13322"/>
          <p:cNvGrpSpPr/>
          <p:nvPr/>
        </p:nvGrpSpPr>
        <p:grpSpPr>
          <a:xfrm>
            <a:off x="5138640" y="4687920"/>
            <a:ext cx="2871720" cy="1573200"/>
            <a:chOff x="5138640" y="4687920"/>
            <a:chExt cx="2871720" cy="1573200"/>
          </a:xfrm>
        </p:grpSpPr>
        <p:pic>
          <p:nvPicPr>
            <p:cNvPr id="270" name="Freeform 10" descr=""/>
            <p:cNvPicPr/>
            <p:nvPr/>
          </p:nvPicPr>
          <p:blipFill>
            <a:blip r:embed="rId4"/>
            <a:stretch/>
          </p:blipFill>
          <p:spPr>
            <a:xfrm>
              <a:off x="5138640" y="4687920"/>
              <a:ext cx="2871720" cy="1573200"/>
            </a:xfrm>
            <a:prstGeom prst="rect">
              <a:avLst/>
            </a:prstGeom>
            <a:ln w="0">
              <a:noFill/>
            </a:ln>
          </p:spPr>
        </p:pic>
        <p:sp>
          <p:nvSpPr>
            <p:cNvPr id="271" name="文本框 13324"/>
            <p:cNvSpPr/>
            <p:nvPr/>
          </p:nvSpPr>
          <p:spPr>
            <a:xfrm>
              <a:off x="5143320" y="4695840"/>
              <a:ext cx="285912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72" name="组合 13325"/>
          <p:cNvGrpSpPr/>
          <p:nvPr/>
        </p:nvGrpSpPr>
        <p:grpSpPr>
          <a:xfrm>
            <a:off x="4638600" y="2023920"/>
            <a:ext cx="1701720" cy="1706400"/>
            <a:chOff x="4638600" y="2023920"/>
            <a:chExt cx="1701720" cy="1706400"/>
          </a:xfrm>
        </p:grpSpPr>
        <p:pic>
          <p:nvPicPr>
            <p:cNvPr id="273" name="Freeform 11" descr=""/>
            <p:cNvPicPr/>
            <p:nvPr/>
          </p:nvPicPr>
          <p:blipFill>
            <a:blip r:embed="rId5"/>
            <a:stretch/>
          </p:blipFill>
          <p:spPr>
            <a:xfrm>
              <a:off x="4638600" y="2023920"/>
              <a:ext cx="1701720" cy="1706400"/>
            </a:xfrm>
            <a:prstGeom prst="rect">
              <a:avLst/>
            </a:prstGeom>
            <a:ln w="0">
              <a:noFill/>
            </a:ln>
          </p:spPr>
        </p:pic>
        <p:sp>
          <p:nvSpPr>
            <p:cNvPr id="274" name="文本框 13327"/>
            <p:cNvSpPr/>
            <p:nvPr/>
          </p:nvSpPr>
          <p:spPr>
            <a:xfrm>
              <a:off x="4645080" y="2031840"/>
              <a:ext cx="16905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grpSp>
        <p:nvGrpSpPr>
          <p:cNvPr id="275" name="组合 13328"/>
          <p:cNvGrpSpPr/>
          <p:nvPr/>
        </p:nvGrpSpPr>
        <p:grpSpPr>
          <a:xfrm>
            <a:off x="4638600" y="3822840"/>
            <a:ext cx="1701720" cy="1699920"/>
            <a:chOff x="4638600" y="3822840"/>
            <a:chExt cx="1701720" cy="1699920"/>
          </a:xfrm>
        </p:grpSpPr>
        <p:pic>
          <p:nvPicPr>
            <p:cNvPr id="276" name="Freeform 12" descr=""/>
            <p:cNvPicPr/>
            <p:nvPr/>
          </p:nvPicPr>
          <p:blipFill>
            <a:blip r:embed="rId6"/>
            <a:stretch/>
          </p:blipFill>
          <p:spPr>
            <a:xfrm>
              <a:off x="4638600" y="3822840"/>
              <a:ext cx="1701720" cy="1699920"/>
            </a:xfrm>
            <a:prstGeom prst="rect">
              <a:avLst/>
            </a:prstGeom>
            <a:ln w="0">
              <a:noFill/>
            </a:ln>
          </p:spPr>
        </p:pic>
        <p:sp>
          <p:nvSpPr>
            <p:cNvPr id="277" name="文本框 13330"/>
            <p:cNvSpPr/>
            <p:nvPr/>
          </p:nvSpPr>
          <p:spPr>
            <a:xfrm>
              <a:off x="4645080" y="3825720"/>
              <a:ext cx="1690560" cy="16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grpSp>
        <p:nvGrpSpPr>
          <p:cNvPr id="278" name="组合 13331"/>
          <p:cNvGrpSpPr/>
          <p:nvPr/>
        </p:nvGrpSpPr>
        <p:grpSpPr>
          <a:xfrm>
            <a:off x="2840040" y="2023920"/>
            <a:ext cx="1708200" cy="1706400"/>
            <a:chOff x="2840040" y="2023920"/>
            <a:chExt cx="1708200" cy="1706400"/>
          </a:xfrm>
        </p:grpSpPr>
        <p:pic>
          <p:nvPicPr>
            <p:cNvPr id="279" name="Freeform 13" descr=""/>
            <p:cNvPicPr/>
            <p:nvPr/>
          </p:nvPicPr>
          <p:blipFill>
            <a:blip r:embed="rId7"/>
            <a:stretch/>
          </p:blipFill>
          <p:spPr>
            <a:xfrm>
              <a:off x="2840040" y="2023920"/>
              <a:ext cx="1708200" cy="1706400"/>
            </a:xfrm>
            <a:prstGeom prst="rect">
              <a:avLst/>
            </a:prstGeom>
            <a:ln w="0">
              <a:noFill/>
            </a:ln>
          </p:spPr>
        </p:pic>
        <p:sp>
          <p:nvSpPr>
            <p:cNvPr id="280" name="文本框 13333"/>
            <p:cNvSpPr/>
            <p:nvPr/>
          </p:nvSpPr>
          <p:spPr>
            <a:xfrm>
              <a:off x="2847960" y="2031840"/>
              <a:ext cx="16923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grpSp>
        <p:nvGrpSpPr>
          <p:cNvPr id="281" name="组合 13334"/>
          <p:cNvGrpSpPr/>
          <p:nvPr/>
        </p:nvGrpSpPr>
        <p:grpSpPr>
          <a:xfrm>
            <a:off x="2840040" y="3822840"/>
            <a:ext cx="1708200" cy="1699920"/>
            <a:chOff x="2840040" y="3822840"/>
            <a:chExt cx="1708200" cy="1699920"/>
          </a:xfrm>
        </p:grpSpPr>
        <p:pic>
          <p:nvPicPr>
            <p:cNvPr id="282" name="Freeform 14" descr=""/>
            <p:cNvPicPr/>
            <p:nvPr/>
          </p:nvPicPr>
          <p:blipFill>
            <a:blip r:embed="rId8"/>
            <a:stretch/>
          </p:blipFill>
          <p:spPr>
            <a:xfrm>
              <a:off x="2840040" y="3822840"/>
              <a:ext cx="1708200" cy="1699920"/>
            </a:xfrm>
            <a:prstGeom prst="rect">
              <a:avLst/>
            </a:prstGeom>
            <a:ln w="0">
              <a:noFill/>
            </a:ln>
          </p:spPr>
        </p:pic>
        <p:sp>
          <p:nvSpPr>
            <p:cNvPr id="283" name="文本框 13336"/>
            <p:cNvSpPr/>
            <p:nvPr/>
          </p:nvSpPr>
          <p:spPr>
            <a:xfrm>
              <a:off x="2847960" y="3825720"/>
              <a:ext cx="1692360" cy="16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sp>
        <p:nvSpPr>
          <p:cNvPr id="284" name="Freeform 15"/>
          <p:cNvSpPr/>
          <p:nvPr/>
        </p:nvSpPr>
        <p:spPr>
          <a:xfrm>
            <a:off x="4146480" y="3193920"/>
            <a:ext cx="906480" cy="32868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e85b29"/>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85" name="Freeform 16"/>
          <p:cNvSpPr/>
          <p:nvPr/>
        </p:nvSpPr>
        <p:spPr>
          <a:xfrm>
            <a:off x="4146480" y="3986280"/>
            <a:ext cx="906480" cy="326880"/>
          </a:xfrm>
          <a:custGeom>
            <a:avLst/>
            <a:gdLst/>
            <a:ahLst/>
            <a:rect l="l" t="t" r="r" b="b"/>
            <a:pathLst>
              <a:path w="1143" h="412">
                <a:moveTo>
                  <a:pt x="97" y="270"/>
                </a:moveTo>
                <a:lnTo>
                  <a:pt x="169" y="315"/>
                </a:lnTo>
                <a:lnTo>
                  <a:pt x="245" y="353"/>
                </a:lnTo>
                <a:lnTo>
                  <a:pt x="323" y="380"/>
                </a:lnTo>
                <a:lnTo>
                  <a:pt x="403" y="401"/>
                </a:lnTo>
                <a:lnTo>
                  <a:pt x="485" y="411"/>
                </a:lnTo>
                <a:lnTo>
                  <a:pt x="567" y="412"/>
                </a:lnTo>
                <a:lnTo>
                  <a:pt x="646" y="407"/>
                </a:lnTo>
                <a:lnTo>
                  <a:pt x="726" y="390"/>
                </a:lnTo>
                <a:lnTo>
                  <a:pt x="804" y="367"/>
                </a:lnTo>
                <a:lnTo>
                  <a:pt x="880" y="334"/>
                </a:lnTo>
                <a:lnTo>
                  <a:pt x="952" y="295"/>
                </a:lnTo>
                <a:lnTo>
                  <a:pt x="1021" y="247"/>
                </a:lnTo>
                <a:lnTo>
                  <a:pt x="1084" y="190"/>
                </a:lnTo>
                <a:lnTo>
                  <a:pt x="1143" y="125"/>
                </a:lnTo>
                <a:lnTo>
                  <a:pt x="983" y="0"/>
                </a:lnTo>
                <a:lnTo>
                  <a:pt x="937" y="49"/>
                </a:lnTo>
                <a:lnTo>
                  <a:pt x="884" y="93"/>
                </a:lnTo>
                <a:lnTo>
                  <a:pt x="825" y="129"/>
                </a:lnTo>
                <a:lnTo>
                  <a:pt x="762" y="158"/>
                </a:lnTo>
                <a:lnTo>
                  <a:pt x="696" y="179"/>
                </a:lnTo>
                <a:lnTo>
                  <a:pt x="627" y="194"/>
                </a:lnTo>
                <a:lnTo>
                  <a:pt x="557" y="200"/>
                </a:lnTo>
                <a:lnTo>
                  <a:pt x="485" y="198"/>
                </a:lnTo>
                <a:lnTo>
                  <a:pt x="417" y="188"/>
                </a:lnTo>
                <a:lnTo>
                  <a:pt x="348" y="171"/>
                </a:lnTo>
                <a:lnTo>
                  <a:pt x="285" y="146"/>
                </a:lnTo>
                <a:lnTo>
                  <a:pt x="225" y="112"/>
                </a:lnTo>
                <a:lnTo>
                  <a:pt x="297" y="21"/>
                </a:lnTo>
                <a:lnTo>
                  <a:pt x="0" y="55"/>
                </a:lnTo>
                <a:lnTo>
                  <a:pt x="34" y="350"/>
                </a:lnTo>
                <a:lnTo>
                  <a:pt x="97" y="270"/>
                </a:lnTo>
                <a:close/>
              </a:path>
            </a:pathLst>
          </a:custGeom>
          <a:solidFill>
            <a:srgbClr val="e85b29"/>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86"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Загнутый угол 2"/>
          <p:cNvSpPr/>
          <p:nvPr/>
        </p:nvSpPr>
        <p:spPr>
          <a:xfrm>
            <a:off x="520560" y="2131920"/>
            <a:ext cx="2563920" cy="3413160"/>
          </a:xfrm>
          <a:prstGeom prst="foldedCorner">
            <a:avLst>
              <a:gd name="adj" fmla="val 16666"/>
            </a:avLst>
          </a:prstGeom>
          <a:solidFill>
            <a:srgbClr val="d34817"/>
          </a:solidFill>
          <a:ln w="19080">
            <a:solidFill>
              <a:srgbClr val="e85b29"/>
            </a:solidFill>
            <a:round/>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   • </a:t>
            </a:r>
            <a:r>
              <a:rPr b="1" lang="fi-FI" sz="1800" spc="-1" strike="noStrike">
                <a:solidFill>
                  <a:srgbClr val="ffffff"/>
                </a:solidFill>
                <a:latin typeface="Arial"/>
              </a:rPr>
              <a:t>Lorem ipsum</a:t>
            </a:r>
            <a:br>
              <a:rPr sz="1800"/>
            </a:br>
            <a:r>
              <a:rPr b="1" lang="fi-FI" sz="1800" spc="-1" strike="noStrike">
                <a:solidFill>
                  <a:srgbClr val="ffffff"/>
                </a:solidFill>
                <a:latin typeface="Arial"/>
              </a:rPr>
              <a:t>   • Lorem ipsum</a:t>
            </a:r>
            <a:endParaRPr b="1" lang="en-US" sz="1800" spc="-1" strike="noStrike">
              <a:solidFill>
                <a:srgbClr val="69240b"/>
              </a:solidFill>
              <a:latin typeface="Arial"/>
            </a:endParaRPr>
          </a:p>
        </p:txBody>
      </p:sp>
      <p:sp>
        <p:nvSpPr>
          <p:cNvPr id="288" name="Загнутый угол 3"/>
          <p:cNvSpPr/>
          <p:nvPr/>
        </p:nvSpPr>
        <p:spPr>
          <a:xfrm>
            <a:off x="3298680" y="2114640"/>
            <a:ext cx="2562480" cy="3413160"/>
          </a:xfrm>
          <a:prstGeom prst="foldedCorner">
            <a:avLst>
              <a:gd name="adj" fmla="val 16666"/>
            </a:avLst>
          </a:prstGeom>
          <a:solidFill>
            <a:srgbClr val="d34817"/>
          </a:solidFill>
          <a:ln w="19080">
            <a:solidFill>
              <a:srgbClr val="e85b29"/>
            </a:solidFill>
            <a:round/>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   • </a:t>
            </a:r>
            <a:r>
              <a:rPr b="1" lang="fi-FI" sz="1800" spc="-1" strike="noStrike">
                <a:solidFill>
                  <a:srgbClr val="ffffff"/>
                </a:solidFill>
                <a:latin typeface="Arial"/>
              </a:rPr>
              <a:t>Lorem ipsum</a:t>
            </a:r>
            <a:br>
              <a:rPr sz="1800"/>
            </a:br>
            <a:r>
              <a:rPr b="1" lang="fi-FI" sz="1800" spc="-1" strike="noStrike">
                <a:solidFill>
                  <a:srgbClr val="ffffff"/>
                </a:solidFill>
                <a:latin typeface="Arial"/>
              </a:rPr>
              <a:t>   • Lorem ipsum</a:t>
            </a:r>
            <a:endParaRPr b="1" lang="en-US" sz="1800" spc="-1" strike="noStrike">
              <a:solidFill>
                <a:srgbClr val="69240b"/>
              </a:solidFill>
              <a:latin typeface="Arial"/>
            </a:endParaRPr>
          </a:p>
        </p:txBody>
      </p:sp>
      <p:sp>
        <p:nvSpPr>
          <p:cNvPr id="289" name="Загнутый угол 4"/>
          <p:cNvSpPr/>
          <p:nvPr/>
        </p:nvSpPr>
        <p:spPr>
          <a:xfrm>
            <a:off x="6016680" y="2117880"/>
            <a:ext cx="2562120" cy="3412800"/>
          </a:xfrm>
          <a:prstGeom prst="foldedCorner">
            <a:avLst>
              <a:gd name="adj" fmla="val 16666"/>
            </a:avLst>
          </a:prstGeom>
          <a:solidFill>
            <a:srgbClr val="d34817"/>
          </a:solidFill>
          <a:ln w="19080">
            <a:solidFill>
              <a:srgbClr val="e85b29"/>
            </a:solidFill>
            <a:round/>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   • </a:t>
            </a:r>
            <a:r>
              <a:rPr b="1" lang="fi-FI" sz="1800" spc="-1" strike="noStrike">
                <a:solidFill>
                  <a:srgbClr val="ffffff"/>
                </a:solidFill>
                <a:latin typeface="Arial"/>
              </a:rPr>
              <a:t>Lorem ipsum</a:t>
            </a:r>
            <a:br>
              <a:rPr sz="1800"/>
            </a:br>
            <a:r>
              <a:rPr b="1" lang="fi-FI" sz="1800" spc="-1" strike="noStrike">
                <a:solidFill>
                  <a:srgbClr val="ffffff"/>
                </a:solidFill>
                <a:latin typeface="Arial"/>
              </a:rPr>
              <a:t>   • Lorem ipsum</a:t>
            </a:r>
            <a:endParaRPr b="1" lang="en-US" sz="1800" spc="-1" strike="noStrike">
              <a:solidFill>
                <a:srgbClr val="69240b"/>
              </a:solidFill>
              <a:latin typeface="Arial"/>
            </a:endParaRPr>
          </a:p>
        </p:txBody>
      </p:sp>
      <p:sp>
        <p:nvSpPr>
          <p:cNvPr id="290" name="Пятиугольник 6"/>
          <p:cNvSpPr/>
          <p:nvPr/>
        </p:nvSpPr>
        <p:spPr>
          <a:xfrm>
            <a:off x="2635200" y="3301920"/>
            <a:ext cx="862200" cy="776520"/>
          </a:xfrm>
          <a:custGeom>
            <a:avLst/>
            <a:gdLst>
              <a:gd name="textAreaLeft" fmla="*/ 0 w 862200"/>
              <a:gd name="textAreaRight" fmla="*/ 862560 w 862200"/>
              <a:gd name="textAreaTop" fmla="*/ 0 h 776520"/>
              <a:gd name="textAreaBottom" fmla="*/ 776880 h 776520"/>
            </a:gdLst>
            <a:ahLst/>
            <a:rect l="textAreaLeft" t="textAreaTop" r="textAreaRight" b="textAreaBottom"/>
            <a:pathLst>
              <a:path w="21600" h="21600">
                <a:moveTo>
                  <a:pt x="0" y="0"/>
                </a:moveTo>
                <a:lnTo>
                  <a:pt x="11876" y="0"/>
                </a:lnTo>
                <a:lnTo>
                  <a:pt x="21600" y="10800"/>
                </a:lnTo>
                <a:lnTo>
                  <a:pt x="11876" y="21600"/>
                </a:lnTo>
                <a:lnTo>
                  <a:pt x="0" y="21600"/>
                </a:lnTo>
                <a:close/>
              </a:path>
            </a:pathLst>
          </a:custGeom>
          <a:solidFill>
            <a:srgbClr val="9b2d1f"/>
          </a:solidFill>
          <a:ln w="28440">
            <a:solidFill>
              <a:srgbClr val="ee8c69"/>
            </a:solidFill>
            <a:miter/>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91" name="Пятиугольник 7"/>
          <p:cNvSpPr/>
          <p:nvPr/>
        </p:nvSpPr>
        <p:spPr>
          <a:xfrm>
            <a:off x="5353200" y="3305160"/>
            <a:ext cx="861840" cy="776160"/>
          </a:xfrm>
          <a:custGeom>
            <a:avLst/>
            <a:gdLst>
              <a:gd name="textAreaLeft" fmla="*/ 0 w 861840"/>
              <a:gd name="textAreaRight" fmla="*/ 862200 w 861840"/>
              <a:gd name="textAreaTop" fmla="*/ 0 h 776160"/>
              <a:gd name="textAreaBottom" fmla="*/ 776520 h 776160"/>
            </a:gdLst>
            <a:ahLst/>
            <a:rect l="textAreaLeft" t="textAreaTop" r="textAreaRight" b="textAreaBottom"/>
            <a:pathLst>
              <a:path w="21600" h="21600">
                <a:moveTo>
                  <a:pt x="0" y="0"/>
                </a:moveTo>
                <a:lnTo>
                  <a:pt x="11876" y="0"/>
                </a:lnTo>
                <a:lnTo>
                  <a:pt x="21600" y="10800"/>
                </a:lnTo>
                <a:lnTo>
                  <a:pt x="11876" y="21600"/>
                </a:lnTo>
                <a:lnTo>
                  <a:pt x="0" y="21600"/>
                </a:lnTo>
                <a:close/>
              </a:path>
            </a:pathLst>
          </a:custGeom>
          <a:solidFill>
            <a:srgbClr val="9b2d1f"/>
          </a:solidFill>
          <a:ln w="28440">
            <a:solidFill>
              <a:srgbClr val="ee8c69"/>
            </a:solidFill>
            <a:miter/>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92"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3" name=""/>
          <p:cNvGraphicFramePr/>
          <p:nvPr/>
        </p:nvGraphicFramePr>
        <p:xfrm>
          <a:off x="378000" y="3836880"/>
          <a:ext cx="8350200" cy="2128680"/>
        </p:xfrm>
        <a:graphic>
          <a:graphicData uri="http://schemas.openxmlformats.org/drawingml/2006/table">
            <a:tbl>
              <a:tblPr/>
              <a:tblGrid>
                <a:gridCol w="2782800"/>
                <a:gridCol w="2784600"/>
                <a:gridCol w="2782800"/>
              </a:tblGrid>
              <a:tr h="42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42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r h="426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42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42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bl>
          </a:graphicData>
        </a:graphic>
      </p:graphicFrame>
      <p:graphicFrame>
        <p:nvGraphicFramePr>
          <p:cNvPr id="294" name=""/>
          <p:cNvGraphicFramePr/>
          <p:nvPr/>
        </p:nvGraphicFramePr>
        <p:xfrm>
          <a:off x="382680" y="1600200"/>
          <a:ext cx="8348400" cy="2014560"/>
        </p:xfrm>
        <a:graphic>
          <a:graphicData uri="http://schemas.openxmlformats.org/drawingml/2006/table">
            <a:tbl>
              <a:tblPr/>
              <a:tblGrid>
                <a:gridCol w="8348400"/>
              </a:tblGrid>
              <a:tr h="390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1623960">
                <a:tc>
                  <a:txBody>
                    <a:bodyPr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sp>
        <p:nvSpPr>
          <p:cNvPr id="29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
        <p:nvSpPr>
          <p:cNvPr id="296" name="文本框 8200"/>
          <p:cNvSpPr/>
          <p:nvPr/>
        </p:nvSpPr>
        <p:spPr>
          <a:xfrm>
            <a:off x="2022480" y="1144440"/>
            <a:ext cx="4413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de6b5c"/>
                </a:solidFill>
                <a:uFillTx/>
                <a:latin typeface="Arial"/>
                <a:ea typeface="宋体"/>
                <a:hlinkClick r:id="rId1"/>
              </a:rPr>
              <a:t>免费ppt模板下载</a:t>
            </a:r>
            <a:r>
              <a:rPr b="1" lang="zh-CN" sz="1600" spc="-1" strike="noStrike">
                <a:solidFill>
                  <a:srgbClr val="69240b"/>
                </a:solidFill>
                <a:latin typeface="Arial"/>
                <a:ea typeface="宋体"/>
              </a:rPr>
              <a:t> </a:t>
            </a:r>
            <a:r>
              <a:rPr b="1" lang="zh-CN" sz="1600" spc="-1" strike="noStrike">
                <a:solidFill>
                  <a:srgbClr val="69240b"/>
                </a:solidFill>
                <a:latin typeface="Arial"/>
                <a:ea typeface="宋体"/>
              </a:rPr>
              <a:t>http://www.eeppt.com</a:t>
            </a:r>
            <a:endParaRPr b="1" lang="en-US" sz="1600" spc="-1" strike="noStrike">
              <a:solidFill>
                <a:srgbClr val="69240b"/>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幻灯片之家：www.eeppt.com</dc:creator>
  <dc:description>幻灯片之家：www.eeppt.com</dc:description>
  <cp:keywords>幻灯片之家：www.eeppt.com</cp:keywords>
  <dc:language>en-US</dc:language>
  <cp:lastModifiedBy>pc</cp:lastModifiedBy>
  <dcterms:modified xsi:type="dcterms:W3CDTF">2016-05-19T06:41:35Z</dcterms:modified>
  <cp:revision>103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