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00E17-7F5B-4CA1-B8FA-D988A64C7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AEB06-034D-4114-BB6C-7373B60C0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1F1BC-D9B4-4A79-8278-94C07F96D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076AD-5FA1-4300-8EDE-543C2A435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10CDA1-20CE-4A9F-8864-66B5A85AE4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64405-F4FE-41CE-9B56-1C95BFBF8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E44CD-1B62-4575-883D-8C477208B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65A75-B9B0-44B3-B9C9-AF75EFFDA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055A8-9046-4FF9-8AE9-760168DA0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27417-C5A4-4E88-9792-1F7251E46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72971-10EB-4074-B85D-78B4A11A0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42017-7A60-4D55-9F4A-BE0EE3CD9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1E8D4-CCC6-4DC8-954A-139B20EDB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D0958-CA5A-43A7-998E-3BA8619B4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72659-DB3C-450E-A6C2-8DC297382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4115CE-9F3A-4199-A4EF-2B77F575AA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1A67E0-FD90-4485-8502-F46F9D6302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DA8969-B2D8-4BFB-BE98-16D4A49E7F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8"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ED95A2-E327-4425-87AE-A3C11289C3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0"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827071-E22C-4C7D-8FFC-F3B1C59F04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2"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B41E2D-8156-4BFF-80B1-48F98A4817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492FC2-C317-4420-B9CC-549C78F7EC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392DF-099C-4B0B-A916-F62813B6C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17E22C-3DA5-4D46-9309-4AF0F08FA7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7"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8D7D48-A0E7-4AE8-8721-D20268EAB2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1"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609E98-8D33-4AFE-AC95-E4BF2EBDFC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5"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385892-4C0B-409A-B0E7-339B146630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9"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59D08F-0F7F-482A-A422-E644BBE386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2"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6B8A98-1F2E-44A4-81C3-D714342102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7"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48084C-6033-48C7-B6EB-8BE1819FF3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7FA65-AD81-49E4-BDB4-43CC099F2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2F00F-B1FE-4687-9EEF-17C187119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C07F1-1018-4996-8B2F-1E2FA10EF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0FD3D-55D5-4D83-88ED-DB4E5C51A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959EE-66B1-4067-99EE-9C840CD48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F5D8D-E4E2-4463-BB39-4B4354347C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0979-5087-4212-AB00-0D16370EE47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ED40-BEE0-4F5A-A64D-27C9BB275453}"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D64F0-4E5A-43E1-9678-BF7E412A7E9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83"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34701-CF3B-4640-BCB6-6A5E259E8D3B}"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28240"/>
            <a:ext cx="5486400" cy="66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esentation Title</a:t>
            </a:r>
            <a:endParaRPr b="1" lang="en-US" sz="3200" spc="-1" strike="noStrike">
              <a:solidFill>
                <a:srgbClr val="000000"/>
              </a:solidFill>
              <a:latin typeface="Tahoma"/>
            </a:endParaRPr>
          </a:p>
        </p:txBody>
      </p:sp>
      <p:sp>
        <p:nvSpPr>
          <p:cNvPr id="124" name="PlaceHolder 2"/>
          <p:cNvSpPr>
            <a:spLocks noGrp="1"/>
          </p:cNvSpPr>
          <p:nvPr>
            <p:ph type="subTitle"/>
          </p:nvPr>
        </p:nvSpPr>
        <p:spPr>
          <a:xfrm>
            <a:off x="228600" y="914040"/>
            <a:ext cx="5029200" cy="609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a:rPr>
              <a:t>Presentation Subtitle</a:t>
            </a:r>
            <a:endParaRPr b="0" lang="en-US" sz="2000" spc="-1" strike="noStrike">
              <a:solidFill>
                <a:srgbClr val="000000"/>
              </a:solidFill>
              <a:latin typeface="Calibri"/>
            </a:endParaRPr>
          </a:p>
        </p:txBody>
      </p:sp>
      <p:sp>
        <p:nvSpPr>
          <p:cNvPr id="125" name="文本框 6155"/>
          <p:cNvSpPr/>
          <p:nvPr/>
        </p:nvSpPr>
        <p:spPr>
          <a:xfrm>
            <a:off x="152280" y="6400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6f1df"/>
                </a:solidFill>
                <a:latin typeface="宋体"/>
                <a:ea typeface="宋体"/>
              </a:rPr>
              <a:t>幻灯片之家 </a:t>
            </a:r>
            <a:r>
              <a:rPr b="0" lang="en-US" sz="1600" spc="-1" strike="noStrike">
                <a:solidFill>
                  <a:srgbClr val="f6f1df"/>
                </a:solidFill>
                <a:latin typeface="宋体"/>
                <a:ea typeface="宋体"/>
              </a:rPr>
              <a:t>http://www.eeppt.com</a:t>
            </a:r>
            <a:endParaRPr b="0" lang="en-US" sz="1600" spc="-1" strike="noStrike">
              <a:solidFill>
                <a:srgbClr val="000000"/>
              </a:solidFill>
              <a:latin typeface="Calibri"/>
            </a:endParaRPr>
          </a:p>
        </p:txBody>
      </p:sp>
      <p:sp>
        <p:nvSpPr>
          <p:cNvPr id="126" name="文本框 1"/>
          <p:cNvSpPr/>
          <p:nvPr/>
        </p:nvSpPr>
        <p:spPr>
          <a:xfrm>
            <a:off x="1771560" y="1371600"/>
            <a:ext cx="5622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工商管理专业毕业答辩</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模板下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80520" y="990360"/>
            <a:ext cx="6782040" cy="5135400"/>
          </a:xfrm>
          <a:prstGeom prst="rect">
            <a:avLst/>
          </a:prstGeom>
          <a:noFill/>
          <a:ln w="0">
            <a:noFill/>
          </a:ln>
        </p:spPr>
        <p:txBody>
          <a:bodyPr anchor="t">
            <a:normAutofit/>
          </a:bodyPr>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Your Text here</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1"/>
          <p:cNvSpPr>
            <a:spLocks noGrp="1"/>
          </p:cNvSpPr>
          <p:nvPr>
            <p:ph type="title"/>
          </p:nvPr>
        </p:nvSpPr>
        <p:spPr>
          <a:xfrm>
            <a:off x="380520" y="147240"/>
            <a:ext cx="678204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lide Master</a:t>
            </a:r>
            <a:endParaRPr b="1" lang="en-US" sz="3200" spc="-1" strike="noStrike">
              <a:solidFill>
                <a:srgbClr val="000000"/>
              </a:solidFill>
              <a:latin typeface="Tahoma"/>
            </a:endParaRPr>
          </a:p>
        </p:txBody>
      </p:sp>
      <p:sp>
        <p:nvSpPr>
          <p:cNvPr id="129"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2b2b2"/>
                </a:solidFill>
                <a:uFillTx/>
                <a:latin typeface="Arial"/>
                <a:ea typeface="宋体"/>
                <a:hlinkClick r:id="rId1"/>
              </a:rPr>
              <a:t>ppt</a:t>
            </a:r>
            <a:r>
              <a:rPr b="0" lang="zh-CN" sz="1600" spc="-1" strike="noStrike" u="sng">
                <a:solidFill>
                  <a:srgbClr val="b2b2b2"/>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3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Calibri"/>
            </a:endParaRPr>
          </a:p>
        </p:txBody>
      </p:sp>
      <p:sp>
        <p:nvSpPr>
          <p:cNvPr id="13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A7F92-4BEF-49E5-B36A-5970859F2CD1}"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int Master</a:t>
            </a:r>
            <a:endParaRPr b="1" lang="en-US" sz="3200" spc="-1" strike="noStrike">
              <a:solidFill>
                <a:srgbClr val="000000"/>
              </a:solidFill>
              <a:latin typeface="Tahoma"/>
            </a:endParaRPr>
          </a:p>
        </p:txBody>
      </p:sp>
      <p:sp>
        <p:nvSpPr>
          <p:cNvPr id="135" name=""/>
          <p:cNvSpPr txBox="1"/>
          <p:nvPr/>
        </p:nvSpPr>
        <p:spPr>
          <a:xfrm>
            <a:off x="2133360" y="1600200"/>
            <a:ext cx="65530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5:26:56Z</dcterms:created>
  <dc:creator>幻灯片之家：www.eeppt.com</dc:creator>
  <dc:description>幻灯片之家：www.eeppt.com</dc:description>
  <cp:keywords>幻灯片之家：www.eeppt.com</cp:keywords>
  <dc:language>en-US</dc:language>
  <cp:lastModifiedBy>pc</cp:lastModifiedBy>
  <dcterms:modified xsi:type="dcterms:W3CDTF">2016-05-19T06:42:13Z</dcterms:modified>
  <cp:revision>3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