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9E8-1FB1-4FC9-96E9-36916879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349-D751-49E4-9676-6BE51E7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2AF-D401-4F50-AC2B-BDC0CA63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736-3368-4A59-827F-98D010EF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713B-FE15-4277-BDFC-574BDF2E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F2C-A149-4658-BFD0-0FCEE47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DC5-C465-454B-993D-EB0E686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281-1F24-47F5-8E84-5A5492D6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38B-7B6B-4674-930A-11B96D6D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F078-2C29-49A4-976E-045CFF4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169-D85E-4222-A17F-75735B4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025-198E-4F11-AB65-180389C7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0ABF-3416-49C5-AA0C-4746DE7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4BE1-4A40-4CE7-87AE-482623C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5448-D090-4663-900D-361908F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30E-BF09-4291-B062-F0630864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C93C-DC95-4176-B0BC-D67A1EB4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15D-6C6C-4AD8-A227-9A0B84C1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F91-C626-45C0-8095-523587B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01F-3244-4760-91BD-D9D009F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88F-F031-4179-9512-954DFAA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1AA-292F-46B1-9A2F-4C7725A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84C-5509-44FF-A380-8CCF97E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633-C424-45B5-81BD-7FBB086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B62-5D15-41F6-883C-F681E5AC6830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B3CA-0C84-4535-98E0-E2F10CA0A1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4A5-B54C-41AA-B5CC-83209D4864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3" descr=""/>
          <p:cNvPicPr/>
          <p:nvPr/>
        </p:nvPicPr>
        <p:blipFill>
          <a:blip r:embed="rId2"/>
          <a:stretch/>
        </p:blipFill>
        <p:spPr>
          <a:xfrm>
            <a:off x="3911760" y="2470320"/>
            <a:ext cx="3108240" cy="8445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27160" y="44280"/>
            <a:ext cx="84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校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 rot="21403800">
            <a:off x="7408440" y="107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1707480" y="1573920"/>
            <a:ext cx="6300000" cy="961200"/>
            <a:chOff x="1707480" y="1573920"/>
            <a:chExt cx="6300000" cy="961200"/>
          </a:xfrm>
        </p:grpSpPr>
        <p:sp>
          <p:nvSpPr>
            <p:cNvPr id="87" name="矩形 11"/>
            <p:cNvSpPr/>
            <p:nvPr/>
          </p:nvSpPr>
          <p:spPr>
            <a:xfrm rot="311400">
              <a:off x="1722960" y="1589400"/>
              <a:ext cx="36000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2"/>
            <p:cNvSpPr/>
            <p:nvPr/>
          </p:nvSpPr>
          <p:spPr>
            <a:xfrm rot="311400">
              <a:off x="2143440" y="187200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646280" y="2535840"/>
            <a:ext cx="6224760" cy="965160"/>
            <a:chOff x="1646280" y="2535840"/>
            <a:chExt cx="6224760" cy="965160"/>
          </a:xfrm>
        </p:grpSpPr>
        <p:sp>
          <p:nvSpPr>
            <p:cNvPr id="90" name="矩形 14"/>
            <p:cNvSpPr/>
            <p:nvPr/>
          </p:nvSpPr>
          <p:spPr>
            <a:xfrm rot="311400">
              <a:off x="1661400" y="2551320"/>
              <a:ext cx="360000" cy="3582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5"/>
            <p:cNvSpPr/>
            <p:nvPr/>
          </p:nvSpPr>
          <p:spPr>
            <a:xfrm rot="311400">
              <a:off x="2009520" y="2837880"/>
              <a:ext cx="58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1562400" y="3429720"/>
            <a:ext cx="6224400" cy="965160"/>
            <a:chOff x="1562400" y="3429720"/>
            <a:chExt cx="6224400" cy="965160"/>
          </a:xfrm>
        </p:grpSpPr>
        <p:sp>
          <p:nvSpPr>
            <p:cNvPr id="93" name="矩形 16"/>
            <p:cNvSpPr/>
            <p:nvPr/>
          </p:nvSpPr>
          <p:spPr>
            <a:xfrm rot="311400">
              <a:off x="1577520" y="3445200"/>
              <a:ext cx="360000" cy="3582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7"/>
            <p:cNvSpPr/>
            <p:nvPr/>
          </p:nvSpPr>
          <p:spPr>
            <a:xfrm rot="311400">
              <a:off x="1925640" y="3731760"/>
              <a:ext cx="58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432800" y="4286160"/>
            <a:ext cx="6220800" cy="1058760"/>
            <a:chOff x="1432800" y="4286160"/>
            <a:chExt cx="6220800" cy="1058760"/>
          </a:xfrm>
        </p:grpSpPr>
        <p:sp>
          <p:nvSpPr>
            <p:cNvPr id="96" name="矩形 18"/>
            <p:cNvSpPr/>
            <p:nvPr/>
          </p:nvSpPr>
          <p:spPr>
            <a:xfrm rot="365400">
              <a:off x="1450800" y="4304160"/>
              <a:ext cx="36000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 rot="365400">
              <a:off x="1793520" y="4636440"/>
              <a:ext cx="58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9"/>
          <p:cNvSpPr/>
          <p:nvPr/>
        </p:nvSpPr>
        <p:spPr>
          <a:xfrm>
            <a:off x="7467120" y="121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 rot="436800">
            <a:off x="1945080" y="18014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 rot="436800">
            <a:off x="1557720" y="295056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 rot="436800">
            <a:off x="1465560" y="406188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8"/>
          <p:cNvSpPr/>
          <p:nvPr/>
        </p:nvSpPr>
        <p:spPr>
          <a:xfrm rot="436800">
            <a:off x="3856320" y="29394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0"/>
          <p:cNvSpPr/>
          <p:nvPr/>
        </p:nvSpPr>
        <p:spPr>
          <a:xfrm rot="436800">
            <a:off x="4019400" y="225864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3"/>
          <p:cNvSpPr/>
          <p:nvPr/>
        </p:nvSpPr>
        <p:spPr>
          <a:xfrm rot="436800">
            <a:off x="3784680" y="36316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 rot="436800">
            <a:off x="3616560" y="42969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5"/>
          <p:cNvSpPr/>
          <p:nvPr/>
        </p:nvSpPr>
        <p:spPr>
          <a:xfrm rot="436800">
            <a:off x="3498840" y="49784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147636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04C-D526-4E05-BEE8-96156FCE2A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9"/>
          <p:cNvSpPr/>
          <p:nvPr/>
        </p:nvSpPr>
        <p:spPr>
          <a:xfrm>
            <a:off x="746712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1729080" y="1159560"/>
            <a:ext cx="1627920" cy="666360"/>
            <a:chOff x="1729080" y="1159560"/>
            <a:chExt cx="1627920" cy="666360"/>
          </a:xfrm>
        </p:grpSpPr>
        <p:sp>
          <p:nvSpPr>
            <p:cNvPr id="114" name="矩形 11"/>
            <p:cNvSpPr/>
            <p:nvPr/>
          </p:nvSpPr>
          <p:spPr>
            <a:xfrm rot="760800">
              <a:off x="1764360" y="1194480"/>
              <a:ext cx="35964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 rot="760800">
              <a:off x="2118240" y="129888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1713600" y="2191680"/>
            <a:ext cx="1487520" cy="626040"/>
            <a:chOff x="1713600" y="2191680"/>
            <a:chExt cx="1487520" cy="626040"/>
          </a:xfrm>
        </p:grpSpPr>
        <p:sp>
          <p:nvSpPr>
            <p:cNvPr id="117" name="矩形 14"/>
            <p:cNvSpPr/>
            <p:nvPr/>
          </p:nvSpPr>
          <p:spPr>
            <a:xfrm rot="760800">
              <a:off x="1748880" y="2226600"/>
              <a:ext cx="35964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 rot="760800">
              <a:off x="2106720" y="2306880"/>
              <a:ext cx="10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1571400" y="3129120"/>
            <a:ext cx="1486440" cy="645840"/>
            <a:chOff x="1571400" y="3129120"/>
            <a:chExt cx="1486440" cy="645840"/>
          </a:xfrm>
        </p:grpSpPr>
        <p:sp>
          <p:nvSpPr>
            <p:cNvPr id="120" name="矩形 16"/>
            <p:cNvSpPr/>
            <p:nvPr/>
          </p:nvSpPr>
          <p:spPr>
            <a:xfrm rot="760800">
              <a:off x="1606680" y="3164040"/>
              <a:ext cx="360000" cy="36288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 rot="760800">
              <a:off x="1958400" y="326376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1575000" y="3905280"/>
            <a:ext cx="1408680" cy="664920"/>
            <a:chOff x="1575000" y="3905280"/>
            <a:chExt cx="1408680" cy="664920"/>
          </a:xfrm>
        </p:grpSpPr>
        <p:sp>
          <p:nvSpPr>
            <p:cNvPr id="123" name="矩形 18"/>
            <p:cNvSpPr/>
            <p:nvPr/>
          </p:nvSpPr>
          <p:spPr>
            <a:xfrm rot="760800">
              <a:off x="1609920" y="3940200"/>
              <a:ext cx="35964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9"/>
            <p:cNvSpPr/>
            <p:nvPr/>
          </p:nvSpPr>
          <p:spPr>
            <a:xfrm rot="760800">
              <a:off x="1955880" y="4066920"/>
              <a:ext cx="99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圆角矩形 21"/>
          <p:cNvSpPr/>
          <p:nvPr/>
        </p:nvSpPr>
        <p:spPr>
          <a:xfrm rot="760800">
            <a:off x="3398760" y="171900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2"/>
          <p:cNvSpPr/>
          <p:nvPr/>
        </p:nvSpPr>
        <p:spPr>
          <a:xfrm rot="760800">
            <a:off x="3244680" y="2649240"/>
            <a:ext cx="39294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3"/>
          <p:cNvSpPr/>
          <p:nvPr/>
        </p:nvSpPr>
        <p:spPr>
          <a:xfrm rot="760800">
            <a:off x="3041640" y="363672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24"/>
          <p:cNvSpPr/>
          <p:nvPr/>
        </p:nvSpPr>
        <p:spPr>
          <a:xfrm rot="760800">
            <a:off x="2887560" y="450648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