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3438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9FD8-F885-4DE5-98BF-CCDFD7DF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875052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539160"/>
            <a:ext cx="875052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B5CD-64BE-4B95-9DEE-09237E18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9080" y="142884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53916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9080" y="353916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D43B-A7FB-4F8C-8262-5B0F1035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28173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3760" y="1428840"/>
            <a:ext cx="28173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600" y="1428840"/>
            <a:ext cx="28173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539160"/>
            <a:ext cx="28173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3760" y="3539160"/>
            <a:ext cx="28173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600" y="3539160"/>
            <a:ext cx="28173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20F9-1B39-411A-8C4D-660AF03A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7C23-C858-4907-B67F-19B8CF3B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85280" y="1428840"/>
            <a:ext cx="87505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0E45-B7F9-4E00-BC87-E59076E4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875052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EBA7-4988-4577-9D33-A8F777EA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426996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9080" y="1428840"/>
            <a:ext cx="426996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086F-5383-4474-AB8F-791050AB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E223-D897-4D5C-97AF-4D5DCE14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85280" y="244440"/>
            <a:ext cx="875052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83FC-7C4D-4CE6-BA45-A0A11FC5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9080" y="1428840"/>
            <a:ext cx="426996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5280" y="353916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5748-8DFA-4502-B7CA-55D8875E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428840"/>
            <a:ext cx="87505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C6A4-1D06-4071-BCAE-DE1C7340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426996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9080" y="142884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9080" y="353916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28C9-795B-47AE-9980-8FE3AA20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9080" y="142884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5280" y="3539160"/>
            <a:ext cx="875052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5E01-7FB4-4274-BD13-CB9C8612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875052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280" y="3539160"/>
            <a:ext cx="875052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F7C7-3B93-437C-B321-705FB460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9080" y="142884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5280" y="353916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9080" y="353916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E7E8-31D1-4457-8880-1BC578E2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28173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43760" y="1428840"/>
            <a:ext cx="28173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2600" y="1428840"/>
            <a:ext cx="28173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5280" y="3539160"/>
            <a:ext cx="28173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43760" y="3539160"/>
            <a:ext cx="28173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2600" y="3539160"/>
            <a:ext cx="28173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D99C-374A-42F0-A5BD-54F02E04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875052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AAF2-CE85-468C-A0A0-6494A397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426996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9080" y="1428840"/>
            <a:ext cx="426996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8FA5-BA43-437C-AB85-6F14637C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14BE-1955-4BFA-87CE-77773B37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44440"/>
            <a:ext cx="875052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1226-BBDC-4D72-B356-F8A9C625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9080" y="1428840"/>
            <a:ext cx="426996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53916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05EA-23F0-43A1-9D00-19BD7FE0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426996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9080" y="142884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9080" y="353916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0D82-8EE1-436C-B54D-8D00D826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42884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9080" y="1428840"/>
            <a:ext cx="426996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539160"/>
            <a:ext cx="875052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0E45-691E-42F8-8943-C7BBD38A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428840"/>
            <a:ext cx="875052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673600"/>
            <a:ext cx="2268720" cy="3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0640" y="5673600"/>
            <a:ext cx="3079800" cy="3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7440" y="5673600"/>
            <a:ext cx="2268720" cy="3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D2C7-F524-4FB9-8408-4162A00497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DB3E-E15E-4832-A27E-41DAD5F4F47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24E2-B541-4151-B047-B6AEA84B2B8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85280" y="1428840"/>
            <a:ext cx="875052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C:\Users\Administrator\Desktop\2336783_093354051868_2.jpg"/>
          <p:cNvPicPr/>
          <p:nvPr/>
        </p:nvPicPr>
        <p:blipFill>
          <a:blip r:embed="rId1"/>
          <a:srcRect l="0" t="0" r="0" b="7572"/>
          <a:stretch/>
        </p:blipFill>
        <p:spPr>
          <a:xfrm>
            <a:off x="-34920" y="12600"/>
            <a:ext cx="9756720" cy="6108840"/>
          </a:xfrm>
          <a:prstGeom prst="rect">
            <a:avLst/>
          </a:prstGeom>
          <a:ln w="0">
            <a:noFill/>
          </a:ln>
        </p:spPr>
      </p:pic>
      <p:sp>
        <p:nvSpPr>
          <p:cNvPr id="85" name="标题 1"/>
          <p:cNvSpPr/>
          <p:nvPr/>
        </p:nvSpPr>
        <p:spPr>
          <a:xfrm>
            <a:off x="1332000" y="684360"/>
            <a:ext cx="732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黑板背景论文答辩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副标题 2"/>
          <p:cNvSpPr/>
          <p:nvPr/>
        </p:nvSpPr>
        <p:spPr>
          <a:xfrm>
            <a:off x="4789440" y="3060720"/>
            <a:ext cx="297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汇报人：</a:t>
            </a:r>
            <a:r>
              <a:rPr b="1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3487320" y="1620720"/>
            <a:ext cx="34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——</a:t>
            </a:r>
            <a:r>
              <a:rPr b="1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标题字体为华文新魏，其余字体为华文细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6155"/>
          <p:cNvSpPr/>
          <p:nvPr/>
        </p:nvSpPr>
        <p:spPr>
          <a:xfrm>
            <a:off x="36360" y="5653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cfbf9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cfbf9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C:\Users\Administrator\Desktop\GHS7418Q6151.jpg"/>
          <p:cNvPicPr/>
          <p:nvPr/>
        </p:nvPicPr>
        <p:blipFill>
          <a:blip r:embed="rId1"/>
          <a:srcRect l="0" t="63907" r="0" b="0"/>
          <a:stretch/>
        </p:blipFill>
        <p:spPr>
          <a:xfrm>
            <a:off x="-20520" y="4140360"/>
            <a:ext cx="9742320" cy="19810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7388280" y="3465360"/>
            <a:ext cx="166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d9d9d9"/>
                </a:solidFill>
                <a:latin typeface="微软雅黑"/>
                <a:ea typeface="微软雅黑"/>
              </a:rPr>
              <a:t>目 录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197080" y="396720"/>
            <a:ext cx="3949560" cy="64260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题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4"/>
          <p:cNvSpPr/>
          <p:nvPr/>
        </p:nvSpPr>
        <p:spPr>
          <a:xfrm>
            <a:off x="2197080" y="1301760"/>
            <a:ext cx="3949560" cy="64260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题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2197080" y="2263680"/>
            <a:ext cx="3949560" cy="64260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题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6"/>
          <p:cNvSpPr/>
          <p:nvPr/>
        </p:nvSpPr>
        <p:spPr>
          <a:xfrm>
            <a:off x="2197080" y="3206880"/>
            <a:ext cx="3949560" cy="64260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题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128680" y="-25236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e46c0a"/>
                </a:solidFill>
                <a:latin typeface="Calibri"/>
                <a:ea typeface="宋体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8"/>
          <p:cNvSpPr/>
          <p:nvPr/>
        </p:nvSpPr>
        <p:spPr>
          <a:xfrm>
            <a:off x="2128680" y="68436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e46c0a"/>
                </a:solidFill>
                <a:latin typeface="Calibri"/>
                <a:ea typeface="宋体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9"/>
          <p:cNvSpPr/>
          <p:nvPr/>
        </p:nvSpPr>
        <p:spPr>
          <a:xfrm>
            <a:off x="2128680" y="162072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e46c0a"/>
                </a:solidFill>
                <a:latin typeface="Calibri"/>
                <a:ea typeface="宋体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0"/>
          <p:cNvSpPr/>
          <p:nvPr/>
        </p:nvSpPr>
        <p:spPr>
          <a:xfrm>
            <a:off x="2128680" y="2556000"/>
            <a:ext cx="747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e46c0a"/>
                </a:solidFill>
                <a:latin typeface="Calibri"/>
                <a:ea typeface="宋体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8" descr="C:\Users\Administrator\Desktop\图片1.png"/>
          <p:cNvPicPr/>
          <p:nvPr/>
        </p:nvPicPr>
        <p:blipFill>
          <a:blip r:embed="rId2"/>
          <a:srcRect l="0" t="0" r="0" b="58285"/>
          <a:stretch/>
        </p:blipFill>
        <p:spPr>
          <a:xfrm>
            <a:off x="6407280" y="3205080"/>
            <a:ext cx="363852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85280" y="1428840"/>
            <a:ext cx="875052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组合 1"/>
          <p:cNvGrpSpPr/>
          <p:nvPr/>
        </p:nvGrpSpPr>
        <p:grpSpPr>
          <a:xfrm>
            <a:off x="-20520" y="-34920"/>
            <a:ext cx="9742320" cy="6156360"/>
            <a:chOff x="-20520" y="-34920"/>
            <a:chExt cx="9742320" cy="6156360"/>
          </a:xfrm>
        </p:grpSpPr>
        <p:pic>
          <p:nvPicPr>
            <p:cNvPr id="103" name="Picture 7" descr="C:\Users\Administrator\Desktop\GHS7418Q6151.jpg"/>
            <p:cNvPicPr/>
            <p:nvPr/>
          </p:nvPicPr>
          <p:blipFill>
            <a:blip r:embed="rId1"/>
            <a:srcRect l="0" t="57373" r="0" b="0"/>
            <a:stretch/>
          </p:blipFill>
          <p:spPr>
            <a:xfrm>
              <a:off x="-20520" y="3782520"/>
              <a:ext cx="9742320" cy="233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7" descr="C:\Users\Administrator\Desktop\GHS7418Q6151.jpg"/>
            <p:cNvPicPr/>
            <p:nvPr/>
          </p:nvPicPr>
          <p:blipFill>
            <a:blip r:embed="rId2"/>
            <a:srcRect l="0" t="0" r="0" b="66335"/>
            <a:stretch/>
          </p:blipFill>
          <p:spPr>
            <a:xfrm>
              <a:off x="-20520" y="-34920"/>
              <a:ext cx="9742320" cy="381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组合 4"/>
          <p:cNvGrpSpPr/>
          <p:nvPr/>
        </p:nvGrpSpPr>
        <p:grpSpPr>
          <a:xfrm>
            <a:off x="7864560" y="-35640"/>
            <a:ext cx="1892160" cy="1916280"/>
            <a:chOff x="7864560" y="-35640"/>
            <a:chExt cx="1892160" cy="1916280"/>
          </a:xfrm>
        </p:grpSpPr>
        <p:sp>
          <p:nvSpPr>
            <p:cNvPr id="106" name="椭圆 28"/>
            <p:cNvSpPr/>
            <p:nvPr/>
          </p:nvSpPr>
          <p:spPr>
            <a:xfrm flipH="1" flipV="1" rot="10800000">
              <a:off x="7864560" y="-36000"/>
              <a:ext cx="1892160" cy="1916280"/>
            </a:xfrm>
            <a:custGeom>
              <a:avLst/>
              <a:gdLst/>
              <a:ahLst/>
              <a:rect l="l" t="t" r="r" b="b"/>
              <a:pathLst>
                <a:path w="2457614" h="2755484">
                  <a:moveTo>
                    <a:pt x="362260" y="0"/>
                  </a:moveTo>
                  <a:lnTo>
                    <a:pt x="2457614" y="0"/>
                  </a:lnTo>
                  <a:lnTo>
                    <a:pt x="2457614" y="2579605"/>
                  </a:lnTo>
                  <a:cubicBezTo>
                    <a:pt x="2231646" y="2692866"/>
                    <a:pt x="1976447" y="2755484"/>
                    <a:pt x="1706622" y="2755484"/>
                  </a:cubicBezTo>
                  <a:cubicBezTo>
                    <a:pt x="764081" y="2755484"/>
                    <a:pt x="0" y="1991403"/>
                    <a:pt x="0" y="1048862"/>
                  </a:cubicBezTo>
                  <a:cubicBezTo>
                    <a:pt x="0" y="652966"/>
                    <a:pt x="134804" y="288555"/>
                    <a:pt x="36226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椭圆 28"/>
            <p:cNvSpPr/>
            <p:nvPr/>
          </p:nvSpPr>
          <p:spPr>
            <a:xfrm flipH="1" flipV="1" rot="10800000">
              <a:off x="7939080" y="31680"/>
              <a:ext cx="1741680" cy="1764000"/>
            </a:xfrm>
            <a:custGeom>
              <a:avLst/>
              <a:gdLst/>
              <a:ahLst/>
              <a:rect l="l" t="t" r="r" b="b"/>
              <a:pathLst>
                <a:path w="2457614" h="2755484">
                  <a:moveTo>
                    <a:pt x="362260" y="0"/>
                  </a:moveTo>
                  <a:lnTo>
                    <a:pt x="2457614" y="0"/>
                  </a:lnTo>
                  <a:lnTo>
                    <a:pt x="2457614" y="2579605"/>
                  </a:lnTo>
                  <a:cubicBezTo>
                    <a:pt x="2231646" y="2692866"/>
                    <a:pt x="1976447" y="2755484"/>
                    <a:pt x="1706622" y="2755484"/>
                  </a:cubicBezTo>
                  <a:cubicBezTo>
                    <a:pt x="764081" y="2755484"/>
                    <a:pt x="0" y="1991403"/>
                    <a:pt x="0" y="1048862"/>
                  </a:cubicBezTo>
                  <a:cubicBezTo>
                    <a:pt x="0" y="652966"/>
                    <a:pt x="134804" y="288555"/>
                    <a:pt x="362260" y="0"/>
                  </a:cubicBezTo>
                  <a:close/>
                </a:path>
              </a:pathLst>
            </a:custGeom>
            <a:solidFill>
              <a:srgbClr val="a6a6a6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TextBox 12"/>
          <p:cNvSpPr/>
          <p:nvPr/>
        </p:nvSpPr>
        <p:spPr>
          <a:xfrm>
            <a:off x="8531640" y="3636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imes New Roman"/>
                <a:ea typeface="微软雅黑"/>
              </a:rPr>
              <a:t>输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imes New Roman"/>
                <a:ea typeface="微软雅黑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圆角矩形 2"/>
          <p:cNvSpPr/>
          <p:nvPr/>
        </p:nvSpPr>
        <p:spPr>
          <a:xfrm>
            <a:off x="2268360" y="3036960"/>
            <a:ext cx="1998720" cy="1031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微软雅黑"/>
                <a:ea typeface="微软雅黑"/>
              </a:rPr>
              <a:t>文本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圆角矩形 21"/>
          <p:cNvSpPr/>
          <p:nvPr/>
        </p:nvSpPr>
        <p:spPr>
          <a:xfrm>
            <a:off x="1405080" y="1262160"/>
            <a:ext cx="2846160" cy="1366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微软雅黑"/>
                <a:ea typeface="微软雅黑"/>
              </a:rPr>
              <a:t>文本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圆角矩形 22"/>
          <p:cNvSpPr/>
          <p:nvPr/>
        </p:nvSpPr>
        <p:spPr>
          <a:xfrm>
            <a:off x="4659480" y="1547640"/>
            <a:ext cx="2145960" cy="1030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微软雅黑"/>
                <a:ea typeface="微软雅黑"/>
              </a:rPr>
              <a:t>文本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圆角矩形 27"/>
          <p:cNvSpPr/>
          <p:nvPr/>
        </p:nvSpPr>
        <p:spPr>
          <a:xfrm>
            <a:off x="4645080" y="3038400"/>
            <a:ext cx="2146320" cy="1030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微软雅黑"/>
                <a:ea typeface="微软雅黑"/>
              </a:rPr>
              <a:t>文本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椭圆 28"/>
          <p:cNvSpPr/>
          <p:nvPr/>
        </p:nvSpPr>
        <p:spPr>
          <a:xfrm>
            <a:off x="3997440" y="2340000"/>
            <a:ext cx="863640" cy="8650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ffff66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85280" y="1428840"/>
            <a:ext cx="875052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组合 1"/>
          <p:cNvGrpSpPr/>
          <p:nvPr/>
        </p:nvGrpSpPr>
        <p:grpSpPr>
          <a:xfrm>
            <a:off x="-20520" y="-34920"/>
            <a:ext cx="9742320" cy="6156360"/>
            <a:chOff x="-20520" y="-34920"/>
            <a:chExt cx="9742320" cy="6156360"/>
          </a:xfrm>
        </p:grpSpPr>
        <p:pic>
          <p:nvPicPr>
            <p:cNvPr id="117" name="Picture 7" descr="C:\Users\Administrator\Desktop\GHS7418Q6151.jpg"/>
            <p:cNvPicPr/>
            <p:nvPr/>
          </p:nvPicPr>
          <p:blipFill>
            <a:blip r:embed="rId1"/>
            <a:srcRect l="0" t="57373" r="0" b="0"/>
            <a:stretch/>
          </p:blipFill>
          <p:spPr>
            <a:xfrm>
              <a:off x="-20520" y="3782520"/>
              <a:ext cx="9742320" cy="233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7" descr="C:\Users\Administrator\Desktop\GHS7418Q6151.jpg"/>
            <p:cNvPicPr/>
            <p:nvPr/>
          </p:nvPicPr>
          <p:blipFill>
            <a:blip r:embed="rId2"/>
            <a:srcRect l="0" t="0" r="0" b="66335"/>
            <a:stretch/>
          </p:blipFill>
          <p:spPr>
            <a:xfrm>
              <a:off x="-20520" y="-34920"/>
              <a:ext cx="9742320" cy="381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圆角矩形 18"/>
          <p:cNvSpPr/>
          <p:nvPr/>
        </p:nvSpPr>
        <p:spPr>
          <a:xfrm>
            <a:off x="396720" y="922320"/>
            <a:ext cx="8064720" cy="3672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组合 4"/>
          <p:cNvGrpSpPr/>
          <p:nvPr/>
        </p:nvGrpSpPr>
        <p:grpSpPr>
          <a:xfrm>
            <a:off x="7864560" y="-35640"/>
            <a:ext cx="1892160" cy="1916280"/>
            <a:chOff x="7864560" y="-35640"/>
            <a:chExt cx="1892160" cy="1916280"/>
          </a:xfrm>
        </p:grpSpPr>
        <p:sp>
          <p:nvSpPr>
            <p:cNvPr id="121" name="椭圆 28"/>
            <p:cNvSpPr/>
            <p:nvPr/>
          </p:nvSpPr>
          <p:spPr>
            <a:xfrm flipH="1" flipV="1" rot="10800000">
              <a:off x="7864560" y="-36000"/>
              <a:ext cx="1892160" cy="1916280"/>
            </a:xfrm>
            <a:custGeom>
              <a:avLst/>
              <a:gdLst/>
              <a:ahLst/>
              <a:rect l="l" t="t" r="r" b="b"/>
              <a:pathLst>
                <a:path w="2457614" h="2755484">
                  <a:moveTo>
                    <a:pt x="362260" y="0"/>
                  </a:moveTo>
                  <a:lnTo>
                    <a:pt x="2457614" y="0"/>
                  </a:lnTo>
                  <a:lnTo>
                    <a:pt x="2457614" y="2579605"/>
                  </a:lnTo>
                  <a:cubicBezTo>
                    <a:pt x="2231646" y="2692866"/>
                    <a:pt x="1976447" y="2755484"/>
                    <a:pt x="1706622" y="2755484"/>
                  </a:cubicBezTo>
                  <a:cubicBezTo>
                    <a:pt x="764081" y="2755484"/>
                    <a:pt x="0" y="1991403"/>
                    <a:pt x="0" y="1048862"/>
                  </a:cubicBezTo>
                  <a:cubicBezTo>
                    <a:pt x="0" y="652966"/>
                    <a:pt x="134804" y="288555"/>
                    <a:pt x="36226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椭圆 28"/>
            <p:cNvSpPr/>
            <p:nvPr/>
          </p:nvSpPr>
          <p:spPr>
            <a:xfrm flipH="1" flipV="1" rot="10800000">
              <a:off x="7939080" y="31680"/>
              <a:ext cx="1741680" cy="1764000"/>
            </a:xfrm>
            <a:custGeom>
              <a:avLst/>
              <a:gdLst/>
              <a:ahLst/>
              <a:rect l="l" t="t" r="r" b="b"/>
              <a:pathLst>
                <a:path w="2457614" h="2755484">
                  <a:moveTo>
                    <a:pt x="362260" y="0"/>
                  </a:moveTo>
                  <a:lnTo>
                    <a:pt x="2457614" y="0"/>
                  </a:lnTo>
                  <a:lnTo>
                    <a:pt x="2457614" y="2579605"/>
                  </a:lnTo>
                  <a:cubicBezTo>
                    <a:pt x="2231646" y="2692866"/>
                    <a:pt x="1976447" y="2755484"/>
                    <a:pt x="1706622" y="2755484"/>
                  </a:cubicBezTo>
                  <a:cubicBezTo>
                    <a:pt x="764081" y="2755484"/>
                    <a:pt x="0" y="1991403"/>
                    <a:pt x="0" y="1048862"/>
                  </a:cubicBezTo>
                  <a:cubicBezTo>
                    <a:pt x="0" y="652966"/>
                    <a:pt x="134804" y="288555"/>
                    <a:pt x="362260" y="0"/>
                  </a:cubicBezTo>
                  <a:close/>
                </a:path>
              </a:pathLst>
            </a:custGeom>
            <a:solidFill>
              <a:srgbClr val="a6a6a6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Box 12"/>
          <p:cNvSpPr/>
          <p:nvPr/>
        </p:nvSpPr>
        <p:spPr>
          <a:xfrm>
            <a:off x="8531640" y="3636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imes New Roman"/>
                <a:ea typeface="微软雅黑"/>
              </a:rPr>
              <a:t>输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imes New Roman"/>
                <a:ea typeface="微软雅黑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20"/>
          <p:cNvSpPr/>
          <p:nvPr/>
        </p:nvSpPr>
        <p:spPr>
          <a:xfrm>
            <a:off x="1116000" y="1189080"/>
            <a:ext cx="6913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文本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请输入文本请输入文本请输入文本请输入文本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3"/>
          <p:cNvSpPr/>
          <p:nvPr/>
        </p:nvSpPr>
        <p:spPr>
          <a:xfrm>
            <a:off x="480600" y="993600"/>
            <a:ext cx="646920" cy="1099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b0f0"/>
                </a:solidFill>
                <a:latin typeface="Arial"/>
                <a:ea typeface="宋体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4"/>
          <p:cNvSpPr/>
          <p:nvPr/>
        </p:nvSpPr>
        <p:spPr>
          <a:xfrm>
            <a:off x="472680" y="2073240"/>
            <a:ext cx="646920" cy="1099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b0f0"/>
                </a:solidFill>
                <a:latin typeface="Arial"/>
                <a:ea typeface="宋体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5"/>
          <p:cNvSpPr/>
          <p:nvPr/>
        </p:nvSpPr>
        <p:spPr>
          <a:xfrm>
            <a:off x="472680" y="3225960"/>
            <a:ext cx="646920" cy="1099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b0f0"/>
                </a:solidFill>
                <a:latin typeface="Arial"/>
                <a:ea typeface="宋体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19"/>
          <p:cNvSpPr/>
          <p:nvPr/>
        </p:nvSpPr>
        <p:spPr>
          <a:xfrm>
            <a:off x="1116000" y="2260440"/>
            <a:ext cx="6913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文本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请输入文本请输入文本请输入文本请输入文本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26"/>
          <p:cNvSpPr/>
          <p:nvPr/>
        </p:nvSpPr>
        <p:spPr>
          <a:xfrm>
            <a:off x="1116000" y="3413160"/>
            <a:ext cx="6913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文本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微软雅黑"/>
                <a:ea typeface="微软雅黑"/>
              </a:rPr>
              <a:t>请输入文本请输入文本请输入文本请输入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85280" y="1428840"/>
            <a:ext cx="875052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C:\Users\Administrator\Desktop\2336783_093354051868_2.jpg"/>
          <p:cNvPicPr/>
          <p:nvPr/>
        </p:nvPicPr>
        <p:blipFill>
          <a:blip r:embed="rId1"/>
          <a:srcRect l="0" t="0" r="0" b="7572"/>
          <a:stretch/>
        </p:blipFill>
        <p:spPr>
          <a:xfrm>
            <a:off x="-34920" y="12600"/>
            <a:ext cx="9756720" cy="6108840"/>
          </a:xfrm>
          <a:prstGeom prst="rect">
            <a:avLst/>
          </a:prstGeom>
          <a:ln w="0">
            <a:noFill/>
          </a:ln>
        </p:spPr>
      </p:pic>
      <p:grpSp>
        <p:nvGrpSpPr>
          <p:cNvPr id="133" name="组合 14"/>
          <p:cNvGrpSpPr/>
          <p:nvPr/>
        </p:nvGrpSpPr>
        <p:grpSpPr>
          <a:xfrm>
            <a:off x="-35640" y="12960"/>
            <a:ext cx="1916280" cy="1893960"/>
            <a:chOff x="-35640" y="12960"/>
            <a:chExt cx="1916280" cy="1893960"/>
          </a:xfrm>
        </p:grpSpPr>
        <p:sp>
          <p:nvSpPr>
            <p:cNvPr id="134" name="椭圆 28"/>
            <p:cNvSpPr/>
            <p:nvPr/>
          </p:nvSpPr>
          <p:spPr>
            <a:xfrm flipH="1" flipV="1" rot="5400000">
              <a:off x="-24840" y="1440"/>
              <a:ext cx="1893960" cy="1916280"/>
            </a:xfrm>
            <a:custGeom>
              <a:avLst/>
              <a:gdLst/>
              <a:ahLst/>
              <a:rect l="l" t="t" r="r" b="b"/>
              <a:pathLst>
                <a:path w="2457614" h="2755484">
                  <a:moveTo>
                    <a:pt x="362260" y="0"/>
                  </a:moveTo>
                  <a:lnTo>
                    <a:pt x="2457614" y="0"/>
                  </a:lnTo>
                  <a:lnTo>
                    <a:pt x="2457614" y="2579605"/>
                  </a:lnTo>
                  <a:cubicBezTo>
                    <a:pt x="2231646" y="2692866"/>
                    <a:pt x="1976447" y="2755484"/>
                    <a:pt x="1706622" y="2755484"/>
                  </a:cubicBezTo>
                  <a:cubicBezTo>
                    <a:pt x="764081" y="2755484"/>
                    <a:pt x="0" y="1991403"/>
                    <a:pt x="0" y="1048862"/>
                  </a:cubicBezTo>
                  <a:cubicBezTo>
                    <a:pt x="0" y="652966"/>
                    <a:pt x="134804" y="288555"/>
                    <a:pt x="36226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椭圆 28"/>
            <p:cNvSpPr/>
            <p:nvPr/>
          </p:nvSpPr>
          <p:spPr>
            <a:xfrm flipH="1" flipV="1" rot="5400000">
              <a:off x="42120" y="86040"/>
              <a:ext cx="1743120" cy="1764000"/>
            </a:xfrm>
            <a:custGeom>
              <a:avLst/>
              <a:gdLst/>
              <a:ahLst/>
              <a:rect l="l" t="t" r="r" b="b"/>
              <a:pathLst>
                <a:path w="2457614" h="2755484">
                  <a:moveTo>
                    <a:pt x="362260" y="0"/>
                  </a:moveTo>
                  <a:lnTo>
                    <a:pt x="2457614" y="0"/>
                  </a:lnTo>
                  <a:lnTo>
                    <a:pt x="2457614" y="2579605"/>
                  </a:lnTo>
                  <a:cubicBezTo>
                    <a:pt x="2231646" y="2692866"/>
                    <a:pt x="1976447" y="2755484"/>
                    <a:pt x="1706622" y="2755484"/>
                  </a:cubicBezTo>
                  <a:cubicBezTo>
                    <a:pt x="764081" y="2755484"/>
                    <a:pt x="0" y="1991403"/>
                    <a:pt x="0" y="1048862"/>
                  </a:cubicBezTo>
                  <a:cubicBezTo>
                    <a:pt x="0" y="652966"/>
                    <a:pt x="134804" y="288555"/>
                    <a:pt x="362260" y="0"/>
                  </a:cubicBezTo>
                  <a:close/>
                </a:path>
              </a:pathLst>
            </a:custGeom>
            <a:solidFill>
              <a:srgbClr val="a6a6a6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TextBox 17"/>
          <p:cNvSpPr/>
          <p:nvPr/>
        </p:nvSpPr>
        <p:spPr>
          <a:xfrm>
            <a:off x="394200" y="889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53735"/>
                </a:solidFill>
                <a:latin typeface="Times New Roman"/>
                <a:ea typeface="微软雅黑"/>
              </a:rPr>
              <a:t>输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53735"/>
                </a:solidFill>
                <a:latin typeface="Times New Roman"/>
                <a:ea typeface="微软雅黑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2413080" y="900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请输入文本请输入文本请输入文本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49"/>
          <p:cNvSpPr/>
          <p:nvPr/>
        </p:nvSpPr>
        <p:spPr>
          <a:xfrm>
            <a:off x="1908000" y="215424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请输入文本请输入文本请输入文本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50"/>
          <p:cNvSpPr/>
          <p:nvPr/>
        </p:nvSpPr>
        <p:spPr>
          <a:xfrm>
            <a:off x="1405080" y="34113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本请输入文本请输入文本请输入文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2882880" y="511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微软雅黑"/>
                <a:ea typeface="微软雅黑"/>
              </a:rPr>
              <a:t>文本一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2"/>
          <p:cNvSpPr/>
          <p:nvPr/>
        </p:nvSpPr>
        <p:spPr>
          <a:xfrm>
            <a:off x="2160000" y="176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微软雅黑"/>
                <a:ea typeface="微软雅黑"/>
              </a:rPr>
              <a:t>文本二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53"/>
          <p:cNvSpPr/>
          <p:nvPr/>
        </p:nvSpPr>
        <p:spPr>
          <a:xfrm>
            <a:off x="1656720" y="3021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微软雅黑"/>
                <a:ea typeface="微软雅黑"/>
              </a:rPr>
              <a:t>文本三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85280" y="244440"/>
            <a:ext cx="8750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85280" y="1428840"/>
            <a:ext cx="875052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1"/>
          <p:cNvGrpSpPr/>
          <p:nvPr/>
        </p:nvGrpSpPr>
        <p:grpSpPr>
          <a:xfrm>
            <a:off x="-20520" y="-34920"/>
            <a:ext cx="9742320" cy="6156360"/>
            <a:chOff x="-20520" y="-34920"/>
            <a:chExt cx="9742320" cy="6156360"/>
          </a:xfrm>
        </p:grpSpPr>
        <p:pic>
          <p:nvPicPr>
            <p:cNvPr id="147" name="Picture 7" descr="C:\Users\Administrator\Desktop\GHS7418Q6151.jpg"/>
            <p:cNvPicPr/>
            <p:nvPr/>
          </p:nvPicPr>
          <p:blipFill>
            <a:blip r:embed="rId1"/>
            <a:srcRect l="0" t="57373" r="0" b="0"/>
            <a:stretch/>
          </p:blipFill>
          <p:spPr>
            <a:xfrm>
              <a:off x="-20520" y="3782520"/>
              <a:ext cx="9742320" cy="233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C:\Users\Administrator\Desktop\GHS7418Q6151.jpg"/>
            <p:cNvPicPr/>
            <p:nvPr/>
          </p:nvPicPr>
          <p:blipFill>
            <a:blip r:embed="rId2"/>
            <a:srcRect l="0" t="0" r="0" b="66335"/>
            <a:stretch/>
          </p:blipFill>
          <p:spPr>
            <a:xfrm>
              <a:off x="-20520" y="-34920"/>
              <a:ext cx="9742320" cy="381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圆角矩形 27"/>
          <p:cNvSpPr/>
          <p:nvPr/>
        </p:nvSpPr>
        <p:spPr>
          <a:xfrm>
            <a:off x="2268360" y="1547640"/>
            <a:ext cx="6193080" cy="2376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lnSpc>
                <a:spcPct val="100000"/>
              </a:lnSpc>
              <a:buClr>
                <a:srgbClr val="ffff66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微软雅黑"/>
                <a:ea typeface="微软雅黑"/>
              </a:rPr>
              <a:t>请输入文本请输入文本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buClr>
                <a:srgbClr val="ffff66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微软雅黑"/>
                <a:ea typeface="微软雅黑"/>
              </a:rPr>
              <a:t>请输入文本请输入文本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buClr>
                <a:srgbClr val="ffff66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微软雅黑"/>
                <a:ea typeface="微软雅黑"/>
              </a:rPr>
              <a:t>请输入文本请输入文本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buClr>
                <a:srgbClr val="ffff66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微软雅黑"/>
                <a:ea typeface="微软雅黑"/>
              </a:rPr>
              <a:t>请输入文本请输入文本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组合 4"/>
          <p:cNvGrpSpPr/>
          <p:nvPr/>
        </p:nvGrpSpPr>
        <p:grpSpPr>
          <a:xfrm>
            <a:off x="7864560" y="-35640"/>
            <a:ext cx="1892160" cy="1916280"/>
            <a:chOff x="7864560" y="-35640"/>
            <a:chExt cx="1892160" cy="1916280"/>
          </a:xfrm>
        </p:grpSpPr>
        <p:sp>
          <p:nvSpPr>
            <p:cNvPr id="151" name="椭圆 28"/>
            <p:cNvSpPr/>
            <p:nvPr/>
          </p:nvSpPr>
          <p:spPr>
            <a:xfrm flipH="1" flipV="1" rot="10800000">
              <a:off x="7864560" y="-36000"/>
              <a:ext cx="1892160" cy="1916280"/>
            </a:xfrm>
            <a:custGeom>
              <a:avLst/>
              <a:gdLst/>
              <a:ahLst/>
              <a:rect l="l" t="t" r="r" b="b"/>
              <a:pathLst>
                <a:path w="2457614" h="2755484">
                  <a:moveTo>
                    <a:pt x="362260" y="0"/>
                  </a:moveTo>
                  <a:lnTo>
                    <a:pt x="2457614" y="0"/>
                  </a:lnTo>
                  <a:lnTo>
                    <a:pt x="2457614" y="2579605"/>
                  </a:lnTo>
                  <a:cubicBezTo>
                    <a:pt x="2231646" y="2692866"/>
                    <a:pt x="1976447" y="2755484"/>
                    <a:pt x="1706622" y="2755484"/>
                  </a:cubicBezTo>
                  <a:cubicBezTo>
                    <a:pt x="764081" y="2755484"/>
                    <a:pt x="0" y="1991403"/>
                    <a:pt x="0" y="1048862"/>
                  </a:cubicBezTo>
                  <a:cubicBezTo>
                    <a:pt x="0" y="652966"/>
                    <a:pt x="134804" y="288555"/>
                    <a:pt x="36226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椭圆 28"/>
            <p:cNvSpPr/>
            <p:nvPr/>
          </p:nvSpPr>
          <p:spPr>
            <a:xfrm flipH="1" flipV="1" rot="10800000">
              <a:off x="7939080" y="31680"/>
              <a:ext cx="1741680" cy="1764000"/>
            </a:xfrm>
            <a:custGeom>
              <a:avLst/>
              <a:gdLst/>
              <a:ahLst/>
              <a:rect l="l" t="t" r="r" b="b"/>
              <a:pathLst>
                <a:path w="2457614" h="2755484">
                  <a:moveTo>
                    <a:pt x="362260" y="0"/>
                  </a:moveTo>
                  <a:lnTo>
                    <a:pt x="2457614" y="0"/>
                  </a:lnTo>
                  <a:lnTo>
                    <a:pt x="2457614" y="2579605"/>
                  </a:lnTo>
                  <a:cubicBezTo>
                    <a:pt x="2231646" y="2692866"/>
                    <a:pt x="1976447" y="2755484"/>
                    <a:pt x="1706622" y="2755484"/>
                  </a:cubicBezTo>
                  <a:cubicBezTo>
                    <a:pt x="764081" y="2755484"/>
                    <a:pt x="0" y="1991403"/>
                    <a:pt x="0" y="1048862"/>
                  </a:cubicBezTo>
                  <a:cubicBezTo>
                    <a:pt x="0" y="652966"/>
                    <a:pt x="134804" y="288555"/>
                    <a:pt x="362260" y="0"/>
                  </a:cubicBezTo>
                  <a:close/>
                </a:path>
              </a:pathLst>
            </a:custGeom>
            <a:solidFill>
              <a:srgbClr val="a6a6a6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TextBox 12"/>
          <p:cNvSpPr/>
          <p:nvPr/>
        </p:nvSpPr>
        <p:spPr>
          <a:xfrm>
            <a:off x="8531640" y="3636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imes New Roman"/>
                <a:ea typeface="微软雅黑"/>
              </a:rPr>
              <a:t>输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imes New Roman"/>
                <a:ea typeface="微软雅黑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圆角矩形 21"/>
          <p:cNvSpPr/>
          <p:nvPr/>
        </p:nvSpPr>
        <p:spPr>
          <a:xfrm>
            <a:off x="324000" y="684360"/>
            <a:ext cx="2305080" cy="1104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微软雅黑"/>
                <a:ea typeface="微软雅黑"/>
              </a:rPr>
              <a:t>输入文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DC79-2EE1-446B-AADE-8B6CFF02B8A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20091213181609864"/>
          <p:cNvPicPr/>
          <p:nvPr/>
        </p:nvPicPr>
        <p:blipFill>
          <a:blip r:embed="rId1"/>
          <a:srcRect l="0" t="0" r="0" b="19459"/>
          <a:stretch/>
        </p:blipFill>
        <p:spPr>
          <a:xfrm>
            <a:off x="0" y="468360"/>
            <a:ext cx="9721800" cy="52401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9280" y="1460160"/>
            <a:ext cx="817380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华文细黑"/>
                <a:ea typeface="华文细黑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2197080" y="2324160"/>
            <a:ext cx="44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2015.08.3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1:47:2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5:57Z</dcterms:modified>
  <cp:revision>6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