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772C-A216-413A-ABB7-C1B8EED8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885-71D2-4747-B9BF-A7B6B132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F24-C7ED-4C1E-9CB6-B4DF11AC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1CE3-5B07-486B-8212-5700BFBC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50C9-53CA-4B8F-9ACE-493EBB20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810B-A2CE-4F2D-B8E1-A7906EA2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9DFB-4AA0-4F33-91DA-53BFB53B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A18F-CAE1-418A-9671-83E982FC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929D-C761-462B-A560-F545B448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DBC7-5F5A-4992-B65E-C3BDEB75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9254-9928-4605-A0F5-224E143C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266B-2240-4937-8399-28DC834A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D995-9266-41F3-ABBE-CC92D86E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A41D-C406-4F02-BA42-05C17855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95FB-9D5F-4F6C-A113-B3127299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1A54-2454-474D-95B7-0D2AAB94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ACFC-623A-4068-A0E7-DA0144EC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2B7C-A9D0-42EF-95C3-51A3F01F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386A-F7C4-485B-BF03-FC6A4F1F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27EB-F9AF-48F2-B828-C86B0DCB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1F6-5326-4233-9F53-50F07D54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3B7-E268-4F58-8FA0-FF2BF8C2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71E8-69B5-4D96-A104-9C66E0B5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1FD-7FC2-450E-98ED-20B4B9A1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75BD-4EEA-4FCF-9929-B5168A9B61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1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E0D8-D34E-4DB3-983F-4DAA369AB5A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99C8-5368-440E-A60A-B447A32975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图片 1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1"/>
          <p:cNvSpPr/>
          <p:nvPr/>
        </p:nvSpPr>
        <p:spPr>
          <a:xfrm>
            <a:off x="434880" y="476280"/>
            <a:ext cx="86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环保专业论文答辩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2B64-A7D7-4BB0-8DCD-D4A32167FC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5:12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3:03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