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268F-0425-4701-A059-C85EE8BB6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327E-6294-4A5F-99A1-335C3216A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E4BD-AFCF-4714-8242-6AC1C6706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A140-B4BB-434D-9F31-B9659AE8A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723C-809C-41BB-A11B-A301937D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1EE50-6380-4CB0-9A3E-2249EA2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C7A03-FF38-45F3-90A4-FA8ACAE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AAFAE-7CFC-480E-9B84-40BB450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8781F-552C-4F86-B3AB-91C81538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70C3B-891A-47C3-9AC2-E0D27D52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AAF93-ABE3-4D38-9381-1DB6F16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CE02-AD81-48E7-A674-33210B72B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CE9BB-7CCD-434A-B5B1-ADA26DD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6F91-9D82-4FB8-B2FC-2FB5235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0B02-BAD7-4F47-BB65-D62A85B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B5B6-4A71-479A-A30A-3F6C49CA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A46D-4687-4DEC-8942-9BB6255C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F9955-CD4F-4F1C-BBB0-AFFA69675E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0A0A1-0440-4D43-8C1F-413ECB232C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719B2-2611-48BC-864A-A377C1BF0B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4C85A-5444-45D3-B18D-736FDEB3D3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A3665-53E5-469B-82D4-6632EBF66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752-56AF-45BA-940A-0B2563D13D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27DAA-093C-4618-9CF4-DC2885E1C3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CFD47-898A-45A8-875D-74C37AF291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B1504-B245-4E27-8E38-C94B4BEC31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95CBF-B3F3-4895-8F95-1086B6247A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EE2FC-CF1B-4506-92C2-01BC2C98FE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D624A-CAEE-416C-B6F2-205C37EDFF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4224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356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112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4224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356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74EA1-82E1-4A41-8352-81274F61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CA51-15E4-46EB-873A-337FEF45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2030-1BF2-49B6-A693-626355A57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37476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ED2D-C38C-46C6-87AE-B76A622E3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1209-D724-458E-A7F4-1D583CDD0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9840" y="40676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04BF-857E-489C-A277-9677B9775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5998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40676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B177-320F-4923-B2EC-6F2FA6F20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933960" y="75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5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6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84360" y="644832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11D-3D26-4888-84BB-1A25C9F232F0}" type="slidenum">
              <a:rPr b="1" lang="ko-KR" sz="1400" spc="-1" strike="noStrike">
                <a:solidFill>
                  <a:srgbClr val="ff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9F94-1B38-4867-BE07-9FA869B9B2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96F-0A19-42CD-8D27-2A0552FC12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5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6" marL="1828800" indent="-914400">
              <a:spcBef>
                <a:spcPts val="700"/>
              </a:spcBef>
              <a:buClr>
                <a:srgbClr val="ff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933960" y="75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4284360" y="644832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66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CD8-8402-448B-AA86-9C5B6B0C6B4C}" type="slidenum">
              <a:rPr b="1" lang="ko-KR" sz="1400" spc="-1" strike="noStrike">
                <a:solidFill>
                  <a:srgbClr val="ff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99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179280" y="2421000"/>
            <a:ext cx="873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f1f4"/>
                </a:solidFill>
                <a:latin typeface="宋体"/>
                <a:ea typeface="宋体"/>
              </a:rPr>
              <a:t>黑橙计算机专业毕业答辩</a:t>
            </a:r>
            <a:r>
              <a:rPr b="0" lang="en-US" sz="4000" spc="-1" strike="noStrike">
                <a:solidFill>
                  <a:srgbClr val="eef1f4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eef1f4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Related Documents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128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Competitors 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slide per competito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Strengths 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r strengths relativ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competitors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ulim"/>
              </a:rPr>
              <a:t>Weaknesses</a:t>
            </a:r>
            <a:endParaRPr b="0" lang="en-US" sz="2800" spc="-1" strike="noStrike">
              <a:solidFill>
                <a:srgbClr val="ffcc00"/>
              </a:solidFill>
              <a:latin typeface="Gulim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Your weaknesses relativ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ulim"/>
              </a:rPr>
              <a:t> competitor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826920" y="14130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999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99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278-D3E3-4D6D-84B8-2D92DDF2FAD8}" type="slidenum">
              <a:rPr b="0" lang="zh-CN" sz="1400" spc="-1" strike="noStrike">
                <a:solidFill>
                  <a:srgbClr val="ff99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37476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ulim"/>
              </a:rPr>
              <a:t>Chart Documents</a:t>
            </a:r>
            <a:endParaRPr b="1" lang="en-US" sz="3200" spc="-1" strike="noStrike">
              <a:solidFill>
                <a:srgbClr val="ff6600"/>
              </a:solidFill>
              <a:latin typeface="Gulim"/>
            </a:endParaRPr>
          </a:p>
        </p:txBody>
      </p:sp>
      <p:pic>
        <p:nvPicPr>
          <p:cNvPr id="133" name="内容占位符 12290" descr=""/>
          <p:cNvPicPr/>
          <p:nvPr/>
        </p:nvPicPr>
        <p:blipFill>
          <a:blip r:embed="rId1"/>
          <a:stretch/>
        </p:blipFill>
        <p:spPr>
          <a:xfrm>
            <a:off x="2016000" y="1676520"/>
            <a:ext cx="557388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1"/>
          <p:cNvSpPr/>
          <p:nvPr/>
        </p:nvSpPr>
        <p:spPr>
          <a:xfrm>
            <a:off x="6934320" y="763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9999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8:3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8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