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E4A-3F18-4E02-9731-BE98E487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B83-0434-4639-9F49-BFB78A0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0F8-3BE0-4859-854E-1F1A54AA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CD1-6C6B-461C-AF36-0FF53814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5DE-210D-44F1-B819-6D828CC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620-792D-4A55-BFD0-BA927470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0114-BBB3-40C3-9066-E3B6ABB8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BDD1-C397-4BFF-9C30-D1DDDD2F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4D96-F2B9-42E2-B06C-8A23B3C4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6062-5BB4-4AD2-A50A-9580713A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493-E590-4CE8-BD76-EBA1273D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F929-5777-4A81-B465-7D0E362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4ADF-EEB8-44DB-96EA-7CF059E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5D7D-3F7D-4EDA-BF1E-24495E92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E0B8-47C5-4913-A709-5083CA5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083-09D7-4CF7-997C-49FDD7D0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EA89-0904-4B1D-9CF7-92455F0A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B8E1-534D-4DC8-9916-270FC96B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879-F893-442B-B9EA-259DE6DE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F1A-EFE6-4155-A2A2-C519DBE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3FB-E554-4179-8BD3-90B38E6B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903-DC5C-4603-B0A4-2137C14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680-A2E5-4645-91CD-7557F56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804-122D-4E6E-8830-3598CB7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703-C440-4C5E-9468-1D67828B4F8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7207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0764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143496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1434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1434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479B-0877-43B2-AC18-AFD58F28526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DCE-BDAC-4F2F-8DC4-9D42E35AC5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矩形 4"/>
          <p:cNvSpPr/>
          <p:nvPr/>
        </p:nvSpPr>
        <p:spPr>
          <a:xfrm>
            <a:off x="0" y="1628640"/>
            <a:ext cx="9144000" cy="1295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792520" y="4359240"/>
            <a:ext cx="338436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9528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黄色背景论文毕业答辩</a:t>
            </a:r>
            <a:r>
              <a:rPr b="1" lang="en-US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0" y="2318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科生毕业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9" descr=""/>
          <p:cNvPicPr/>
          <p:nvPr/>
        </p:nvPicPr>
        <p:blipFill>
          <a:blip r:embed="rId2"/>
          <a:stretch/>
        </p:blipFill>
        <p:spPr>
          <a:xfrm>
            <a:off x="2482920" y="4221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矩形 14"/>
          <p:cNvSpPr/>
          <p:nvPr/>
        </p:nvSpPr>
        <p:spPr>
          <a:xfrm>
            <a:off x="2771640" y="5079960"/>
            <a:ext cx="3384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5" descr=""/>
          <p:cNvPicPr/>
          <p:nvPr/>
        </p:nvPicPr>
        <p:blipFill>
          <a:blip r:embed="rId3"/>
          <a:stretch/>
        </p:blipFill>
        <p:spPr>
          <a:xfrm>
            <a:off x="2462040" y="4940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2987640" y="422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汇报人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宝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6"/>
          <p:cNvSpPr/>
          <p:nvPr/>
        </p:nvSpPr>
        <p:spPr>
          <a:xfrm>
            <a:off x="3102120" y="50576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导师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1332000" y="148428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289080" y="189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14"/>
          <p:cNvSpPr/>
          <p:nvPr/>
        </p:nvSpPr>
        <p:spPr>
          <a:xfrm>
            <a:off x="1332000" y="246852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5" descr=""/>
          <p:cNvPicPr/>
          <p:nvPr/>
        </p:nvPicPr>
        <p:blipFill>
          <a:blip r:embed="rId3"/>
          <a:stretch/>
        </p:blipFill>
        <p:spPr>
          <a:xfrm>
            <a:off x="826920" y="23972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1619280" y="1413000"/>
            <a:ext cx="504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1332000" y="345276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"/>
          <p:cNvPicPr/>
          <p:nvPr/>
        </p:nvPicPr>
        <p:blipFill>
          <a:blip r:embed="rId4"/>
          <a:stretch/>
        </p:blipFill>
        <p:spPr>
          <a:xfrm>
            <a:off x="826920" y="338148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42" name="矩形 17"/>
          <p:cNvSpPr/>
          <p:nvPr/>
        </p:nvSpPr>
        <p:spPr>
          <a:xfrm>
            <a:off x="1332000" y="443700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8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792360" cy="790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9"/>
          <p:cNvSpPr/>
          <p:nvPr/>
        </p:nvSpPr>
        <p:spPr>
          <a:xfrm>
            <a:off x="1619280" y="240660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谷歌就写不了英语摘要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1619280" y="3357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宝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做不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619280" y="4365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知网就写不了论文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6E4E-5F8E-4D36-8DCD-3F4299FEBD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755640" y="1147680"/>
            <a:ext cx="4500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9080" y="18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 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9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574560" cy="576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920880" y="1008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标题在此闹个眼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611280" y="17161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  <a:ea typeface="宋体"/>
              </a:rPr>
              <a:t>不是说大家，大家搞科研是不是抱个百度搜啊搜，搞个知网抄啊抄，翻译不是有道就是谷歌翻译，那有些人尼玛大段大段翻译，那出来的英语，我靠，中式英语</a:t>
            </a:r>
            <a:r>
              <a:rPr b="0" lang="en-US" sz="2000" spc="-1" strike="noStrike">
                <a:solidFill>
                  <a:srgbClr val="0c0c0c"/>
                </a:solidFill>
                <a:latin typeface="Calibri"/>
                <a:ea typeface="Arial"/>
              </a:rPr>
              <a:t>enough</a:t>
            </a:r>
            <a:r>
              <a:rPr b="0" lang="zh-CN" sz="2000" spc="-1" strike="noStrike">
                <a:solidFill>
                  <a:srgbClr val="0c0c0c"/>
                </a:solidFill>
                <a:latin typeface="Calibri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  <a:ea typeface="宋体"/>
              </a:rPr>
              <a:t>同样那句话，休得放肆无聊所做，喜欢拿下，不喜欢下下来痛骂一番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3" descr=""/>
          <p:cNvPicPr/>
          <p:nvPr/>
        </p:nvPicPr>
        <p:blipFill>
          <a:blip r:embed="rId3"/>
          <a:stretch/>
        </p:blipFill>
        <p:spPr>
          <a:xfrm>
            <a:off x="7308720" y="509436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2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