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16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508-18EF-42A4-94B0-1B109D54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29D-3022-45DB-9B79-DEED81F9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786-F59B-4BD6-B496-B5BA529D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C65-9B66-42B4-8F5A-15DDA8B6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5440-2FC7-4506-9140-8B35D6FB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2DEB-97F8-4FD2-8F91-099703AD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D4B8-D4CF-430A-BDEA-3C24CA7F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F435-B04C-4FF3-AE11-CB8E3126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3439-1B78-4D35-A8A1-3FC847F1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F404-1A4C-4660-9053-79506DF8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87C2-D79D-480B-B281-A30DE81C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098-1CFD-4B7D-B788-49EB3578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9110-BDFE-42E0-B95B-04358D0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C9A1-EAFD-4E33-804B-B58DD55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BB16-0FA7-4D9F-B2B1-04F5750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D04D-C216-4F3F-B7BD-84400270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E7F3-9595-4FDC-B3B8-EF168222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72501-3C1D-4774-86E6-FD41AF46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36DE2-ECFD-4B4C-98F4-3C6357B5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CD91B-0A95-4C01-9773-4BCE9346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87AFC-4CA2-433B-886B-186B233E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C70A2-1ACC-442B-9E9E-0043BC43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C8F-5856-46FB-88A2-42E369B1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DEA80-AF9E-4209-AFE6-173F49FC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DD407-4EBB-45A4-B3B1-72E58336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B8730-CAD8-454D-B48F-60FA5FF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FE832-AE24-487B-A847-87833E32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2C4BA-F9A0-43BA-8DF6-48078A57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EE526-6D63-48A2-BE6D-56964AF8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CB481-A67F-4CA8-93DD-4579D0FA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FE5-C7B4-484B-8AD7-2C1FEA00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27B-68FF-4963-B5B6-BE595EB6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505-0107-497F-96EB-1CFEF2BA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BC4-9AB5-42E1-9F3E-5AAFFE58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B2B-7B0E-4093-B8E0-D8ABA894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6B0-FD0E-4063-AB4B-0F1A6555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229F-FAF4-46E8-A608-31275DC21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ACE1-DE31-4659-9A97-3CF83719FC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4D15-CB4A-4970-B090-2503D51A5B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Unit6 In a Nature Park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3318120" y="3795840"/>
            <a:ext cx="255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Lesson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685800" y="5805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1386360" y="2943360"/>
            <a:ext cx="68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InANaturePark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 play a game!</a:t>
            </a:r>
            <a:br>
              <a:rPr sz="4000"/>
            </a:b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What</a:t>
            </a:r>
            <a:r>
              <a:rPr b="1" lang="en-US" sz="4400" spc="-1" strike="noStrike">
                <a:solidFill>
                  <a:srgbClr val="00c6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s missing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410080" y="19051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600200" y="49528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066680" y="205740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uild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6200" y="41911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ou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248520" y="434340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it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3276720" y="266688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 play a game!</a:t>
            </a:r>
            <a:br>
              <a:rPr sz="4000"/>
            </a:b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What</a:t>
            </a:r>
            <a:r>
              <a:rPr b="1" lang="en-US" sz="4400" spc="-1" strike="noStrike">
                <a:solidFill>
                  <a:srgbClr val="00c6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s missing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600200" y="19810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villa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819520" y="518148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4267080" y="28954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uild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5486400" y="44197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ou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334120" y="160020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it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838080" y="388620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863C-4960-411C-BDA7-EAFCA5BA2886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文本框 8199"/>
          <p:cNvSpPr/>
          <p:nvPr/>
        </p:nvSpPr>
        <p:spPr>
          <a:xfrm>
            <a:off x="603360" y="758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7"/>
          <p:cNvSpPr/>
          <p:nvPr/>
        </p:nvSpPr>
        <p:spPr>
          <a:xfrm>
            <a:off x="5052960" y="990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pic_163483"/>
          <p:cNvPicPr/>
          <p:nvPr/>
        </p:nvPicPr>
        <p:blipFill>
          <a:blip r:embed="rId2"/>
          <a:stretch/>
        </p:blipFill>
        <p:spPr>
          <a:xfrm rot="545400">
            <a:off x="4238640" y="320760"/>
            <a:ext cx="4121280" cy="6019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 rot="522000">
            <a:off x="4038480" y="5105160"/>
            <a:ext cx="33530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 rot="565200">
            <a:off x="4289400" y="4952880"/>
            <a:ext cx="320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villag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pic_163473"/>
          <p:cNvPicPr/>
          <p:nvPr/>
        </p:nvPicPr>
        <p:blipFill>
          <a:blip r:embed="rId2"/>
          <a:stretch/>
        </p:blipFill>
        <p:spPr>
          <a:xfrm>
            <a:off x="380880" y="22860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4343400"/>
            <a:ext cx="259056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pic_163475"/>
          <p:cNvPicPr/>
          <p:nvPr/>
        </p:nvPicPr>
        <p:blipFill>
          <a:blip r:embed="rId2"/>
          <a:stretch/>
        </p:blipFill>
        <p:spPr>
          <a:xfrm>
            <a:off x="2514600" y="1143000"/>
            <a:ext cx="4191120" cy="5486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9520" y="5486040"/>
            <a:ext cx="25909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1012680" y="466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pic_163485"/>
          <p:cNvPicPr/>
          <p:nvPr/>
        </p:nvPicPr>
        <p:blipFill>
          <a:blip r:embed="rId2"/>
          <a:stretch/>
        </p:blipFill>
        <p:spPr>
          <a:xfrm>
            <a:off x="1676520" y="762120"/>
            <a:ext cx="5695920" cy="5667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00400" y="5029200"/>
            <a:ext cx="236232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ity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pic_163477"/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51814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886200" y="5334120"/>
            <a:ext cx="2133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oa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pic_163479"/>
          <p:cNvPicPr/>
          <p:nvPr/>
        </p:nvPicPr>
        <p:blipFill>
          <a:blip r:embed="rId2"/>
          <a:stretch/>
        </p:blipFill>
        <p:spPr>
          <a:xfrm>
            <a:off x="1600200" y="914400"/>
            <a:ext cx="4038480" cy="5257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8120" y="5028840"/>
            <a:ext cx="213336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 play a game!</a:t>
            </a:r>
            <a:br>
              <a:rPr sz="4000"/>
            </a:b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What</a:t>
            </a:r>
            <a:r>
              <a:rPr b="1" lang="en-US" sz="4400" spc="-1" strike="noStrike">
                <a:solidFill>
                  <a:srgbClr val="00c6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s missing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600200" y="19810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villa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562720" y="152388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819520" y="518148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67080" y="28954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uild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6200" y="41911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ou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248520" y="434340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it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371600" y="396252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 play a game!</a:t>
            </a:r>
            <a:br>
              <a:rPr sz="4000"/>
            </a:b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What</a:t>
            </a:r>
            <a:r>
              <a:rPr b="1" lang="en-US" sz="4400" spc="-1" strike="noStrike">
                <a:solidFill>
                  <a:srgbClr val="00c6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s missing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600200" y="19810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villa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343400" y="274320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124080" y="47242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us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5486400" y="44956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ou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562720" y="167652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it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838080" y="388620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2:48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07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