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171-407D-4756-92DA-940B7D37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C36-CF8B-4C8B-9340-E498BF39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E1B7-21E8-40C0-823A-1CC2D052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2E0-FF99-44AE-AA57-96637AF4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00BB-CE3B-47B4-9DE5-6B6AB2CD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1105-866D-43CE-9BEC-76B81115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B65D-BDD8-452E-BFDC-1B95B62B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43CA-5C5B-4ADF-BD7D-D0328D2F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C8C5-0D68-4C87-8219-1EBC30F7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BA6E-10D5-4FC4-8E65-2159EEB3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3513-28E3-4A41-AC4B-154C9D49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5759-AB26-416E-9223-3916815A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A237-F584-4859-998B-66A06695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EA9F-9DDC-4AF5-8BDF-8364FEA4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E13C-94F6-4036-9485-4E3D1DAE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3EC4-9591-494E-97BF-7E4FCE6A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CE47-97DA-498C-9036-06A8BEB2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9F7-0594-4CF2-8022-E2E00543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A57-A372-4BB5-83F4-7E376217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506-B187-4A51-BB49-2EDDD227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A91-DAB5-4AB1-9B91-2FCE81CC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200-CFBF-4555-B7B2-C609013B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9FA-A8D4-480B-92E0-17CA7ACB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0D0-CEBA-446B-98DE-92B052AD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3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3d69b"/>
              </a:buClr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799"/>
              </a:spcBef>
              <a:buClr>
                <a:srgbClr val="c3d69b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799"/>
              </a:spcBef>
              <a:buClr>
                <a:srgbClr val="c3d69b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799"/>
              </a:spcBef>
              <a:buClr>
                <a:srgbClr val="c3d69b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799"/>
              </a:spcBef>
              <a:buClr>
                <a:srgbClr val="c3d69b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www.wondershar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59A4-FAC4-4FA2-A834-055CBE9157B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6DB9-25AC-4890-9101-6C8CED2A3E7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414D-26B4-4AE9-AA06-DBD22C63B3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00080" y="1714320"/>
            <a:ext cx="5214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9bbb59"/>
                </a:solidFill>
                <a:latin typeface="Arial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副标题 2"/>
          <p:cNvSpPr/>
          <p:nvPr/>
        </p:nvSpPr>
        <p:spPr>
          <a:xfrm>
            <a:off x="928800" y="3571920"/>
            <a:ext cx="4500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f3f3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024200" y="423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6"/>
          <p:cNvSpPr/>
          <p:nvPr/>
        </p:nvSpPr>
        <p:spPr>
          <a:xfrm>
            <a:off x="352440" y="84132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经济管理毕业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9bbb59"/>
                </a:solidFill>
                <a:latin typeface="Arial"/>
              </a:rPr>
              <a:t>Marketing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14280" y="785880"/>
            <a:ext cx="6715440" cy="54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9bbb59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43000" y="1643040"/>
            <a:ext cx="6095880" cy="39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200"/>
          <p:cNvSpPr/>
          <p:nvPr/>
        </p:nvSpPr>
        <p:spPr>
          <a:xfrm>
            <a:off x="776160" y="1668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9A71-6FF0-42BF-9DE5-4245AE9A82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4200" y="2071800"/>
            <a:ext cx="61437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9bbb59"/>
                </a:solidFill>
                <a:latin typeface="Arial"/>
                <a:ea typeface="宋体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85560" y="3500280"/>
            <a:ext cx="45003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f3f3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9:0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57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