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3F24E-4C20-4AB2-B114-CD182D9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94934-1F93-4B1A-A141-2D7EACD8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A78B-EAD2-496A-8DAF-BABD6B3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3BC06-687A-4A75-8A63-565F341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A9BE5-BD14-4D7F-8029-58BFB8E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2497-C8FC-458C-B0E0-7F6B5FE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3ACBD-4EE0-4F50-8711-C7240D85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D64E8-9556-4001-9C24-21428A36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BEBB0-C806-4BFF-9372-6ABEF715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7DCDC-AFCD-4C67-8D21-ECB851D1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F080A-AED3-43C9-BB91-225C877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EE4F-B054-49D5-806A-BF2A88C1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B7A84-21FE-4AB1-9D27-FD5E8E1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0B1CE-647F-485A-BD38-7DEBA9C7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9F139-FD4A-4345-98D3-45571AE4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DD884-E66F-4C05-B285-76F2B18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BEFF2-5E14-4EA4-BCB4-345AF8D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2936C-5866-48F2-9D6B-5FE7A7D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5822E-C7F3-4B43-94ED-E945A00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FB80-2C01-4B6D-BDE4-158E50D4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45C25-D94A-4F1C-9656-12784BE8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F9F9C-CAF5-4222-8E4F-FD2A2D77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1E13E-83EC-4CD2-8443-78B57F1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FE8E2-F621-4E65-A033-E76C9393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EACBB-D921-471C-B933-41D762B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CC1C7-9078-40DB-A8D1-0386F16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4FEB5-2065-4EA0-8959-62D85D8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A4764-C070-4652-8165-F7083E4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19FA1-96F3-4A60-BAD0-2DCC966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2E5EA-BA62-4766-9D7B-75C2623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447-D68A-4B45-809E-5209B648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712F6-A4C3-4B23-9695-92F5B1C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4D842-2030-4318-AA60-5C683396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8178D-FC76-4F45-81EA-BDF06054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D5DD3-BFE1-4D2C-919C-2402FB42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F4237-DA66-4BF4-A54E-874C2095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B23BE-B366-4E3C-A6E0-D267347B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0045-4661-4F89-9C1C-EFC7DAF7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573DC-DD51-4C9F-90E5-C7127F5C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5EEE8-A420-47C9-AD64-BA71357C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32EE-DEC8-45DF-99B6-FD055116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1F9-1920-4B73-AEE1-968D4FDF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17635-40B2-46C2-9E6C-869ABDA2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9D162-6D70-4AC9-92ED-ACC5CE4F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661D5-FB01-4EDB-B74D-8DD4ACBB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4F333-459D-4D12-9538-F0A48E8E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499B0-6D1D-48C2-BC5E-EE9BBDA3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C8331-40D3-4F59-91FF-233BEFDA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4F6DD-5862-4B8E-8D4A-61E086E6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0E3F8-4158-4CE3-BADA-2F06640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687F2-8F56-4011-8E54-463C7F3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39873-5FB0-4E14-A2D7-5DE9436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5D0-39A6-482D-B02C-00CB3EF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242A6-C248-49D3-8C04-9931000E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F3CE2-8156-451B-B7BA-89F3C9D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306E6-6D48-4C79-8471-9B55967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9A6AD-A81A-4358-8DF2-343E1E9A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692EF-AFFF-49AF-8C51-C13F9FE1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2D603-E959-476F-AFA3-409D2DCA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77985-B649-4DCC-A910-84DE3E3B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012-E9C8-4896-96E1-E1A6D89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362-6F7F-408B-B57F-8A68417F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8A2-09AC-404F-B14E-168D0002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295-509D-40A1-80EA-999A056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744-4E9D-4133-B345-0A11A3F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23C-3801-4343-A0FE-05ED7E93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4D3-FB40-4E43-829B-C2286B32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9A2-488E-4CCA-BD46-9E0BA2F8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74B-52DF-496A-A233-0A5EC5E4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326-D36E-413C-A085-1B3B6354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EAD7-7E27-4E0A-8604-8C96BB81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45BD-A6C6-4FC4-90DB-423F1FA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139-E965-4470-BB1C-1BC29DE5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B0C4-CAC2-4E28-BF6D-8F47ABD0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F2FF-79AC-4F7F-A75B-E18DCC3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DF8F-4F18-4144-AA95-281BC8A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4647-A24B-4AF5-9E01-D6E3C982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206A-6396-4F3C-8BAF-545B765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757E-9883-4755-B496-29D8421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CEB9-BB17-4637-B56F-CD445FC8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DDCB-0E70-435D-8572-F74F119C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57C6-0211-464E-A29C-7AF02CCA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83F3D-FF36-4244-BA96-DD3A365C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5B75-F3EC-40EC-A55D-3024865C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86C4-5627-4672-BBAB-B509C5BA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4751-3274-4E3A-B05F-EEBDEBF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0102-CE02-4D6B-887E-6660D812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B684-DF22-4F4C-9A66-0DDCB61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D1D2-F26D-41E5-B831-A2EAC54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F6CB-57C4-4A67-A9BC-1FBF889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3233-3B89-4AD5-9552-6069B90A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82DE-FF63-4A40-80CE-1A663FE9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09D3-3FF8-48C7-8181-3590A3D4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497A-BA8F-4945-AD90-01459B77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A570-AC68-4008-8300-6F1D1A85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BA6D-EC4E-4376-88A9-5B938856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0965-2ECA-4F50-AF47-F88B597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EA99-51DE-4685-BB80-C0A6CF90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441B-4D45-4166-A2F4-1976D10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2174-5745-4D7D-B982-93756AC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6D1A-70D1-4791-88A1-D73A0EB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3CFD-162D-41B4-B1BE-6CF167D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15C9-B759-4396-8049-FAC45523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CFEB-9D39-411C-AADC-A87F0A04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0FEC-26F5-4EA3-AA6B-FAB1E46C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C9F1B-7FA2-41B1-8D8D-AE4F9335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DE07-7618-4645-9A11-E3F9A78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D409-ED02-49A8-9D73-0C79BA3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5ABEA-08AF-4311-B82B-6C47CDF3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A9896-0243-494D-BE9C-D71FAC5B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00F5-6D3E-4FA6-99A3-77CE40DB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8755E-83A4-4DF4-A65F-D95FC88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7661B-BB4D-4252-A321-485B975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15717-7625-4619-A3FB-2332B6E2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9599F-C930-44E2-89BC-9BA09CE8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4EE9F-02F3-4D7C-9BC1-549556EB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616F-5AA7-45FC-AB06-0E93DEC4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57209-ACDC-42BA-828B-E54837D7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93E5-47EE-4AA3-B5C2-662B8DE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2CE41-7A8A-4508-86D5-C493B64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23281-D6FF-4873-9B56-ECE96CCB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EF7B-179B-4D77-A167-417D22F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942F-F509-41E8-9BA5-C69D0DD5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5C03A-B06A-48CC-8192-62D7E8F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E987-D1D5-44F9-8E8A-B956E78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0393-B7A2-458D-9C4B-0F71261D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CB904-B83B-4D3A-890C-DF74EA2E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5B15-8B0D-4DDF-852E-22DB4F83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71B0-9F03-4E5E-8033-77375FDF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728C-333A-4EC1-8935-D226A698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55423-A4F5-46C4-BA17-A824092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51B79-E74B-4837-AF44-85772820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2E0BC-49EC-4437-A571-AAE85F37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53D3F-D5BC-4D98-916E-F1B02655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F8D76-346C-443F-84F9-687165D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A2F8-8A86-4927-8C5E-8C59D77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D7BF-BD88-4C03-AAF6-E39DC5B4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D94A-E3DD-4583-8D7C-22225A9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B71B-9924-4131-8683-B844687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D2667-0DDF-4BF4-A765-90B2228D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02060-6060-41D0-9285-D9E59713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0A477-B183-4018-A8A5-17C2827A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BCF43-9444-4E34-AB8E-AE34249F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80253-8EA8-4B74-9E6A-7E079E81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85DA-2EE2-43C0-AC9F-34AE3FF1F65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DFB-5899-49E9-AD45-1726275BD2A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3200-E1F4-44B3-B58F-AF98F4ADA7B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46E6-FEDB-455F-8403-A1DA099D314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4646-BF94-41F2-B820-9B74288BEE6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98BB-7DCA-428B-8F8B-E8ED9408AE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5D4A-60E3-4447-9B80-EF84F50C4A4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75F5-B8E6-427F-8876-F58EF6C3D4C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0474-F6AC-4EB7-92C8-FA273618B08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4C0-37D5-48E1-9507-1C5AFB99E78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876-8493-4D95-AF98-08EE1EDEED9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9F1E-BABA-4E1A-82FC-38EA6A1452A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B966-744E-43CA-88CE-E755AABD9CE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8800" y="1628280"/>
            <a:ext cx="7137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25198"/>
                </a:solidFill>
                <a:latin typeface="宋体"/>
                <a:ea typeface="宋体"/>
              </a:rPr>
              <a:t>精品蓝色毕业答辩</a:t>
            </a:r>
            <a:r>
              <a:rPr b="1" lang="en-US" sz="4000" spc="-1" strike="noStrike">
                <a:solidFill>
                  <a:srgbClr val="025198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25198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"/>
          <p:cNvSpPr/>
          <p:nvPr/>
        </p:nvSpPr>
        <p:spPr>
          <a:xfrm>
            <a:off x="302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8199"/>
          <p:cNvSpPr/>
          <p:nvPr/>
        </p:nvSpPr>
        <p:spPr>
          <a:xfrm>
            <a:off x="898560" y="26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D8D4-9177-4654-9719-7BE79B95EB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47Z</dcterms:modified>
  <cp:revision>6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