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D4A2-F159-4122-B969-198546F1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A88-718A-4F3C-846C-72C1A35E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E427-62F5-468D-93B2-8531FFAC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CFC0-DFB6-44AE-85AF-6C506342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331-2BC7-4691-85B0-9B904BD9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711-672F-4A84-B823-E31B3C23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D25F-C9F4-4DD2-9272-39DBD706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D5C0-C7DF-42C0-87F1-6EBC5AFC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E91-D4A0-4794-AC40-177725BF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0FE-30A3-461C-8877-41B64C11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DC2-8124-4F6C-A3F8-CBA5E376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BE1-809A-4F6C-84C7-3904D174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762120"/>
            <a:ext cx="9163080" cy="360"/>
            <a:chOff x="0" y="762120"/>
            <a:chExt cx="9163080" cy="360"/>
          </a:xfrm>
        </p:grpSpPr>
        <p:sp>
          <p:nvSpPr>
            <p:cNvPr id="1" name="Line 155"/>
            <p:cNvSpPr/>
            <p:nvPr/>
          </p:nvSpPr>
          <p:spPr>
            <a:xfrm>
              <a:off x="0" y="762120"/>
              <a:ext cx="91630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0" y="762120"/>
              <a:ext cx="916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91CE-6053-4CAB-8CDC-58E3B4BB502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D7D1-18D6-4516-9856-82B6871CC5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149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3"/>
          <p:cNvSpPr/>
          <p:nvPr/>
        </p:nvSpPr>
        <p:spPr>
          <a:xfrm>
            <a:off x="3708360" y="5084640"/>
            <a:ext cx="478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答辩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指导教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075"/>
          <p:cNvSpPr/>
          <p:nvPr/>
        </p:nvSpPr>
        <p:spPr>
          <a:xfrm>
            <a:off x="246240" y="3068640"/>
            <a:ext cx="872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教育类专业论文答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4097"/>
          <p:cNvSpPr/>
          <p:nvPr/>
        </p:nvSpPr>
        <p:spPr>
          <a:xfrm>
            <a:off x="3267720" y="3246480"/>
            <a:ext cx="24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ak 1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3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8198"/>
          <p:cNvSpPr/>
          <p:nvPr/>
        </p:nvSpPr>
        <p:spPr>
          <a:xfrm>
            <a:off x="755640" y="10526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AA30-B9DD-47D8-A812-603AC45DB2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ak 12"/>
          <p:cNvSpPr/>
          <p:nvPr/>
        </p:nvSpPr>
        <p:spPr>
          <a:xfrm>
            <a:off x="714240" y="5157720"/>
            <a:ext cx="8429760" cy="1800"/>
          </a:xfrm>
          <a:prstGeom prst="line">
            <a:avLst/>
          </a:prstGeom>
          <a:ln w="3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"/>
          <p:cNvPicPr/>
          <p:nvPr/>
        </p:nvPicPr>
        <p:blipFill>
          <a:blip r:embed="rId1"/>
          <a:stretch/>
        </p:blipFill>
        <p:spPr>
          <a:xfrm>
            <a:off x="1835280" y="3035160"/>
            <a:ext cx="2232000" cy="1833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podcampbc-090919133506-phpapp01-18.jpg"/>
          <p:cNvPicPr/>
          <p:nvPr/>
        </p:nvPicPr>
        <p:blipFill>
          <a:blip r:embed="rId2"/>
          <a:stretch/>
        </p:blipFill>
        <p:spPr>
          <a:xfrm>
            <a:off x="4788000" y="1773360"/>
            <a:ext cx="3047760" cy="3071520"/>
          </a:xfrm>
          <a:prstGeom prst="rect">
            <a:avLst/>
          </a:prstGeom>
          <a:ln w="0">
            <a:noFill/>
          </a:ln>
        </p:spPr>
      </p:pic>
      <p:sp>
        <p:nvSpPr>
          <p:cNvPr id="94" name="矩形 5124"/>
          <p:cNvSpPr/>
          <p:nvPr/>
        </p:nvSpPr>
        <p:spPr>
          <a:xfrm>
            <a:off x="6301440" y="4797360"/>
            <a:ext cx="24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3:15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2:15Z</dcterms:modified>
  <cp:revision>23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