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191-2CB8-408F-AFA9-A2FA0EED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917-7DFF-4092-8ABC-4CF5B1DD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446-3C00-45D8-8F3D-1D5758AC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97C-FC4F-4CBB-A65F-D6DD6BE9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01E2-00BC-4AB7-8976-D8986FEC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9D96-6238-4668-A4AA-9C062B1D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3E0E-D0BB-4C59-8BD5-DE50150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D66A-4AAA-4B25-BE2B-346303D3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BA9-5E62-4DD7-975B-F426B9A7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B9C5-7494-4674-8562-2F59C52C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0470-1764-4702-B380-90B0DCE7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EB7-6014-466B-9DE3-88942B2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5BF5-9A9A-4895-B846-26B1A3F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7D7B-9334-4E10-B7A1-C562041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8EC7-209F-42E9-BBDD-58809AA4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9C4F-ADFB-4AC0-8ACB-9675539E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5CC1-E645-4513-8BCA-CE90DE54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186-B448-4A4B-A3CE-DFB156C2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DDC-FAA9-4264-97AF-930D06C9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883-2389-4D8A-A179-6A9A739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663-9F4C-49AD-A016-F41A1E8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808-E796-42C1-99EF-17C2E0E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44C-A95C-4240-A9F1-848DA91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B3F-F954-4F3D-A032-4A5D01E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F564-E997-4B8A-BDF7-F09C921E63D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3BD8-4D5D-4E78-B451-0C41B02C24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2F03-0296-4221-871D-B216CC954E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1"/>
          <p:cNvSpPr/>
          <p:nvPr/>
        </p:nvSpPr>
        <p:spPr>
          <a:xfrm>
            <a:off x="-12600" y="1289160"/>
            <a:ext cx="9793080" cy="3276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44360" y="3778200"/>
            <a:ext cx="9732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afa"/>
                </a:solidFill>
                <a:latin typeface="Arial"/>
                <a:ea typeface="Arial Unicode MS"/>
              </a:rPr>
              <a:t>The Graduation Thesis Plea of XXX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6735600" y="4641840"/>
            <a:ext cx="14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指导老师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075120" y="4641840"/>
            <a:ext cx="127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答辩人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474840" y="1847880"/>
            <a:ext cx="91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afafa"/>
                </a:solidFill>
                <a:latin typeface="宋体"/>
                <a:ea typeface="宋体"/>
              </a:rPr>
              <a:t>绿色大气论文答辩</a:t>
            </a:r>
            <a:r>
              <a:rPr b="0" lang="zh-CN" sz="4000" spc="-1" strike="noStrike">
                <a:solidFill>
                  <a:srgbClr val="fafafa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afafa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平行四边形 10"/>
          <p:cNvSpPr/>
          <p:nvPr/>
        </p:nvSpPr>
        <p:spPr>
          <a:xfrm rot="5400000">
            <a:off x="8618400" y="5472000"/>
            <a:ext cx="1216080" cy="914400"/>
          </a:xfrm>
          <a:prstGeom prst="parallelogram">
            <a:avLst>
              <a:gd name="adj" fmla="val 24998"/>
            </a:avLst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主要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2292"/>
          <p:cNvGrpSpPr/>
          <p:nvPr/>
        </p:nvGrpSpPr>
        <p:grpSpPr>
          <a:xfrm>
            <a:off x="549360" y="1000080"/>
            <a:ext cx="8128080" cy="5419800"/>
            <a:chOff x="549360" y="1000080"/>
            <a:chExt cx="8128080" cy="5419800"/>
          </a:xfrm>
        </p:grpSpPr>
        <p:sp>
          <p:nvSpPr>
            <p:cNvPr id="225" name="右箭头 12293"/>
            <p:cNvSpPr/>
            <p:nvPr/>
          </p:nvSpPr>
          <p:spPr>
            <a:xfrm>
              <a:off x="549360" y="1000080"/>
              <a:ext cx="8128080" cy="1624680"/>
            </a:xfrm>
            <a:prstGeom prst="rightArrow">
              <a:avLst>
                <a:gd name="adj1" fmla="val 50000"/>
                <a:gd name="adj2" fmla="val 36364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2294"/>
            <p:cNvSpPr/>
            <p:nvPr/>
          </p:nvSpPr>
          <p:spPr>
            <a:xfrm>
              <a:off x="549360" y="1406160"/>
              <a:ext cx="78321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分析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2295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2296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This is a sample tex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Insert your desired text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右箭头 12297"/>
            <p:cNvSpPr/>
            <p:nvPr/>
          </p:nvSpPr>
          <p:spPr>
            <a:xfrm>
              <a:off x="3052800" y="1541520"/>
              <a:ext cx="5624640" cy="1624680"/>
            </a:xfrm>
            <a:prstGeom prst="rightArrow">
              <a:avLst>
                <a:gd name="adj1" fmla="val 50000"/>
                <a:gd name="adj2" fmla="val 36383"/>
              </a:avLst>
            </a:prstGeom>
            <a:solidFill>
              <a:srgbClr val="548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12298"/>
            <p:cNvSpPr/>
            <p:nvPr/>
          </p:nvSpPr>
          <p:spPr>
            <a:xfrm>
              <a:off x="3052800" y="1947600"/>
              <a:ext cx="5328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分析</a:t>
              </a: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12299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12300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This is a sample tex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a3838"/>
                  </a:solidFill>
                  <a:latin typeface="Century Gothic"/>
                  <a:ea typeface="Arial Unicode MS"/>
                </a:rPr>
                <a:t>Insert your desired text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右箭头 12301"/>
            <p:cNvSpPr/>
            <p:nvPr/>
          </p:nvSpPr>
          <p:spPr>
            <a:xfrm>
              <a:off x="5556240" y="2082960"/>
              <a:ext cx="3121200" cy="1624680"/>
            </a:xfrm>
            <a:prstGeom prst="rightArrow">
              <a:avLst>
                <a:gd name="adj1" fmla="val 50000"/>
                <a:gd name="adj2" fmla="val 36412"/>
              </a:avLst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12302"/>
            <p:cNvSpPr/>
            <p:nvPr/>
          </p:nvSpPr>
          <p:spPr>
            <a:xfrm>
              <a:off x="5556240" y="2489400"/>
              <a:ext cx="282528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2303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12304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e79"/>
                  </a:solidFill>
                  <a:latin typeface="Century Gothic"/>
                  <a:ea typeface="Arial Unicode MS"/>
                </a:rPr>
                <a:t>This is a sample tex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e79"/>
                  </a:solidFill>
                  <a:latin typeface="Century Gothic"/>
                  <a:ea typeface="Arial Unicode MS"/>
                </a:rPr>
                <a:t>Insert your desired text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7"/>
          <p:cNvSpPr/>
          <p:nvPr/>
        </p:nvSpPr>
        <p:spPr>
          <a:xfrm>
            <a:off x="8769240" y="1228680"/>
            <a:ext cx="3048120" cy="503244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8"/>
          <p:cNvSpPr/>
          <p:nvPr/>
        </p:nvSpPr>
        <p:spPr>
          <a:xfrm>
            <a:off x="9048600" y="3359160"/>
            <a:ext cx="296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你的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4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6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13315"/>
          <p:cNvGrpSpPr/>
          <p:nvPr/>
        </p:nvGrpSpPr>
        <p:grpSpPr>
          <a:xfrm>
            <a:off x="3213000" y="1555920"/>
            <a:ext cx="5693040" cy="4120920"/>
            <a:chOff x="3213000" y="1555920"/>
            <a:chExt cx="5693040" cy="4120920"/>
          </a:xfrm>
        </p:grpSpPr>
        <p:sp>
          <p:nvSpPr>
            <p:cNvPr id="245" name="任意多边形 13316"/>
            <p:cNvSpPr/>
            <p:nvPr/>
          </p:nvSpPr>
          <p:spPr>
            <a:xfrm>
              <a:off x="3492000" y="1555920"/>
              <a:ext cx="5414040" cy="3981600"/>
            </a:xfrm>
            <a:custGeom>
              <a:avLst/>
              <a:gdLst/>
              <a:ahLst/>
              <a:rect l="l" t="t" r="r" b="b"/>
              <a:pathLst>
                <a:path w="3461763" h="3461763">
                  <a:moveTo>
                    <a:pt x="1730881" y="0"/>
                  </a:moveTo>
                  <a:cubicBezTo>
                    <a:pt x="2686820" y="0"/>
                    <a:pt x="3461762" y="774942"/>
                    <a:pt x="3461762" y="1730881"/>
                  </a:cubicBezTo>
                  <a:cubicBezTo>
                    <a:pt x="3461762" y="2046275"/>
                    <a:pt x="3377406" y="2341967"/>
                    <a:pt x="3230080" y="2596531"/>
                  </a:cubicBezTo>
                  <a:lnTo>
                    <a:pt x="1730881" y="1730881"/>
                  </a:ln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3317"/>
            <p:cNvSpPr/>
            <p:nvPr/>
          </p:nvSpPr>
          <p:spPr>
            <a:xfrm>
              <a:off x="6435720" y="2290320"/>
              <a:ext cx="18367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13318"/>
            <p:cNvSpPr/>
            <p:nvPr/>
          </p:nvSpPr>
          <p:spPr>
            <a:xfrm>
              <a:off x="3219120" y="1653120"/>
              <a:ext cx="5401800" cy="4023720"/>
            </a:xfrm>
            <a:custGeom>
              <a:avLst/>
              <a:gdLst/>
              <a:ahLst/>
              <a:rect l="l" t="t" r="r" b="b"/>
              <a:pathLst>
                <a:path w="3453905" h="3498319">
                  <a:moveTo>
                    <a:pt x="3227276" y="2615371"/>
                  </a:moveTo>
                  <a:cubicBezTo>
                    <a:pt x="2929986" y="3142950"/>
                    <a:pt x="2369443" y="3498318"/>
                    <a:pt x="1726952" y="3498318"/>
                  </a:cubicBezTo>
                  <a:cubicBezTo>
                    <a:pt x="1084421" y="3498318"/>
                    <a:pt x="523847" y="3142905"/>
                    <a:pt x="226467" y="2615690"/>
                  </a:cubicBezTo>
                  <a:lnTo>
                    <a:pt x="1726952" y="1749159"/>
                  </a:lnTo>
                  <a:close/>
                </a:path>
              </a:pathLst>
            </a:custGeom>
            <a:solidFill>
              <a:srgbClr val="3856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3319"/>
            <p:cNvSpPr/>
            <p:nvPr/>
          </p:nvSpPr>
          <p:spPr>
            <a:xfrm>
              <a:off x="4698000" y="4192200"/>
              <a:ext cx="244368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13320"/>
            <p:cNvSpPr/>
            <p:nvPr/>
          </p:nvSpPr>
          <p:spPr>
            <a:xfrm>
              <a:off x="3213000" y="1674360"/>
              <a:ext cx="5414040" cy="3981600"/>
            </a:xfrm>
            <a:custGeom>
              <a:avLst/>
              <a:gdLst/>
              <a:ahLst/>
              <a:rect l="l" t="t" r="r" b="b"/>
              <a:pathLst>
                <a:path w="3461763" h="3461763">
                  <a:moveTo>
                    <a:pt x="231894" y="2596322"/>
                  </a:moveTo>
                  <a:cubicBezTo>
                    <a:pt x="84335" y="2341894"/>
                    <a:pt x="0" y="2046236"/>
                    <a:pt x="0" y="1730881"/>
                  </a:cubicBezTo>
                  <a:cubicBezTo>
                    <a:pt x="0" y="774942"/>
                    <a:pt x="774942" y="0"/>
                    <a:pt x="1730881" y="0"/>
                  </a:cubicBezTo>
                  <a:lnTo>
                    <a:pt x="1730881" y="1730881"/>
                  </a:lnTo>
                  <a:close/>
                </a:path>
              </a:pathLst>
            </a:custGeom>
            <a:solidFill>
              <a:srgbClr val="c4e0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321"/>
            <p:cNvSpPr/>
            <p:nvPr/>
          </p:nvSpPr>
          <p:spPr>
            <a:xfrm>
              <a:off x="3792960" y="2456280"/>
              <a:ext cx="183672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1" name="肘形连接符 8"/>
          <p:cNvCxnSpPr/>
          <p:nvPr/>
        </p:nvCxnSpPr>
        <p:spPr>
          <a:xfrm flipV="1">
            <a:off x="7338600" y="1640880"/>
            <a:ext cx="1360800" cy="773640"/>
          </a:xfrm>
          <a:prstGeom prst="straightConnector1">
            <a:avLst/>
          </a:prstGeom>
          <a:ln w="6480">
            <a:solidFill>
              <a:srgbClr val="1e4e79"/>
            </a:solidFill>
            <a:bevel/>
          </a:ln>
        </p:spPr>
      </p:cxnSp>
      <p:cxnSp>
        <p:nvCxnSpPr>
          <p:cNvPr id="252" name="肘形连接符 10"/>
          <p:cNvCxnSpPr/>
          <p:nvPr/>
        </p:nvCxnSpPr>
        <p:spPr>
          <a:xfrm>
            <a:off x="6059160" y="5416200"/>
            <a:ext cx="2158200" cy="469080"/>
          </a:xfrm>
          <a:prstGeom prst="straightConnector1">
            <a:avLst/>
          </a:prstGeom>
          <a:ln w="6480">
            <a:solidFill>
              <a:srgbClr val="1e4e79"/>
            </a:solidFill>
            <a:bevel/>
          </a:ln>
        </p:spPr>
      </p:cxnSp>
      <p:cxnSp>
        <p:nvCxnSpPr>
          <p:cNvPr id="253" name="肘形连接符 12"/>
          <p:cNvCxnSpPr/>
          <p:nvPr/>
        </p:nvCxnSpPr>
        <p:spPr>
          <a:xfrm flipH="1" flipV="1">
            <a:off x="2579040" y="2766600"/>
            <a:ext cx="1878840" cy="699120"/>
          </a:xfrm>
          <a:prstGeom prst="straightConnector1">
            <a:avLst/>
          </a:prstGeom>
          <a:ln w="6480">
            <a:solidFill>
              <a:srgbClr val="1e4e79"/>
            </a:solidFill>
            <a:bevel/>
          </a:ln>
        </p:spPr>
      </p:cxnSp>
      <p:sp>
        <p:nvSpPr>
          <p:cNvPr id="254" name="文本框 13"/>
          <p:cNvSpPr/>
          <p:nvPr/>
        </p:nvSpPr>
        <p:spPr>
          <a:xfrm>
            <a:off x="8697960" y="1441440"/>
            <a:ext cx="349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输入你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"/>
          <p:cNvSpPr/>
          <p:nvPr/>
        </p:nvSpPr>
        <p:spPr>
          <a:xfrm>
            <a:off x="8217000" y="5684760"/>
            <a:ext cx="354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输入你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5"/>
          <p:cNvSpPr/>
          <p:nvPr/>
        </p:nvSpPr>
        <p:spPr>
          <a:xfrm>
            <a:off x="1339920" y="2241720"/>
            <a:ext cx="2990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输入你的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7"/>
          <p:cNvSpPr/>
          <p:nvPr/>
        </p:nvSpPr>
        <p:spPr>
          <a:xfrm>
            <a:off x="252360" y="4765680"/>
            <a:ext cx="521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ad47"/>
                </a:solidFill>
                <a:latin typeface="Segoe UI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8"/>
          <p:cNvSpPr/>
          <p:nvPr/>
        </p:nvSpPr>
        <p:spPr>
          <a:xfrm>
            <a:off x="279360" y="5343480"/>
            <a:ext cx="6095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Segoe UI"/>
                <a:ea typeface="Arial Unicode MS"/>
              </a:rPr>
              <a:t>This is a 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Segoe UI"/>
                <a:ea typeface="Arial Unicode MS"/>
              </a:rPr>
              <a:t>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6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23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4339"/>
          <p:cNvGrpSpPr/>
          <p:nvPr/>
        </p:nvGrpSpPr>
        <p:grpSpPr>
          <a:xfrm>
            <a:off x="1895040" y="1633680"/>
            <a:ext cx="8401320" cy="5418000"/>
            <a:chOff x="1895040" y="1633680"/>
            <a:chExt cx="8401320" cy="5418000"/>
          </a:xfrm>
        </p:grpSpPr>
        <p:sp>
          <p:nvSpPr>
            <p:cNvPr id="265" name="任意多边形 14340"/>
            <p:cNvSpPr/>
            <p:nvPr/>
          </p:nvSpPr>
          <p:spPr>
            <a:xfrm rot="5400000">
              <a:off x="1916280" y="42098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341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342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等腰三角形 14343"/>
            <p:cNvSpPr/>
            <p:nvPr/>
          </p:nvSpPr>
          <p:spPr>
            <a:xfrm>
              <a:off x="3513600" y="336672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4344"/>
            <p:cNvSpPr/>
            <p:nvPr/>
          </p:nvSpPr>
          <p:spPr>
            <a:xfrm rot="5400000">
              <a:off x="4066560" y="33440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4345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4346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4347"/>
            <p:cNvSpPr/>
            <p:nvPr/>
          </p:nvSpPr>
          <p:spPr>
            <a:xfrm>
              <a:off x="5663880" y="25005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14348"/>
            <p:cNvSpPr/>
            <p:nvPr/>
          </p:nvSpPr>
          <p:spPr>
            <a:xfrm rot="5400000">
              <a:off x="6217200" y="24778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4349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4350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等腰三角形 14351"/>
            <p:cNvSpPr/>
            <p:nvPr/>
          </p:nvSpPr>
          <p:spPr>
            <a:xfrm>
              <a:off x="7814520" y="16347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14352"/>
            <p:cNvSpPr/>
            <p:nvPr/>
          </p:nvSpPr>
          <p:spPr>
            <a:xfrm rot="5400000">
              <a:off x="8367840" y="16120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4353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4354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12"/>
          <p:cNvSpPr/>
          <p:nvPr/>
        </p:nvSpPr>
        <p:spPr>
          <a:xfrm>
            <a:off x="5205240" y="5295960"/>
            <a:ext cx="6531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ad47"/>
                </a:solidFill>
                <a:latin typeface="微软雅黑"/>
                <a:ea typeface="微软雅黑"/>
              </a:rPr>
              <a:t>输入你的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27"/>
          <p:cNvGrpSpPr/>
          <p:nvPr/>
        </p:nvGrpSpPr>
        <p:grpSpPr>
          <a:xfrm>
            <a:off x="8943840" y="909720"/>
            <a:ext cx="966960" cy="1533600"/>
            <a:chOff x="8943840" y="909720"/>
            <a:chExt cx="966960" cy="1533600"/>
          </a:xfrm>
        </p:grpSpPr>
        <p:sp>
          <p:nvSpPr>
            <p:cNvPr id="282" name="Freeform 5"/>
            <p:cNvSpPr/>
            <p:nvPr/>
          </p:nvSpPr>
          <p:spPr>
            <a:xfrm>
              <a:off x="8943840" y="10033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9200880" y="9097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9073800" y="15573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6681960" y="1557360"/>
            <a:ext cx="966600" cy="1533600"/>
            <a:chOff x="6681960" y="1557360"/>
            <a:chExt cx="966600" cy="1533600"/>
          </a:xfrm>
        </p:grpSpPr>
        <p:sp>
          <p:nvSpPr>
            <p:cNvPr id="286" name="Freeform 5"/>
            <p:cNvSpPr/>
            <p:nvPr/>
          </p:nvSpPr>
          <p:spPr>
            <a:xfrm>
              <a:off x="6681960" y="1650960"/>
              <a:ext cx="96660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6939000" y="155736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6811920" y="220500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33"/>
          <p:cNvGrpSpPr/>
          <p:nvPr/>
        </p:nvGrpSpPr>
        <p:grpSpPr>
          <a:xfrm>
            <a:off x="4413240" y="2038320"/>
            <a:ext cx="966960" cy="1533600"/>
            <a:chOff x="4413240" y="2038320"/>
            <a:chExt cx="966960" cy="1533600"/>
          </a:xfrm>
        </p:grpSpPr>
        <p:sp>
          <p:nvSpPr>
            <p:cNvPr id="290" name="Freeform 5"/>
            <p:cNvSpPr/>
            <p:nvPr/>
          </p:nvSpPr>
          <p:spPr>
            <a:xfrm>
              <a:off x="4413240" y="21319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4670280" y="20383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4543200" y="26859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37"/>
          <p:cNvGrpSpPr/>
          <p:nvPr/>
        </p:nvGrpSpPr>
        <p:grpSpPr>
          <a:xfrm>
            <a:off x="2292480" y="2625840"/>
            <a:ext cx="966600" cy="1533240"/>
            <a:chOff x="2292480" y="2625840"/>
            <a:chExt cx="966600" cy="1533240"/>
          </a:xfrm>
        </p:grpSpPr>
        <p:sp>
          <p:nvSpPr>
            <p:cNvPr id="294" name="Freeform 5"/>
            <p:cNvSpPr/>
            <p:nvPr/>
          </p:nvSpPr>
          <p:spPr>
            <a:xfrm>
              <a:off x="2292480" y="2719440"/>
              <a:ext cx="966600" cy="143964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2549520" y="262584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2422440" y="327348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98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42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5363"/>
          <p:cNvGrpSpPr/>
          <p:nvPr/>
        </p:nvGrpSpPr>
        <p:grpSpPr>
          <a:xfrm>
            <a:off x="2708280" y="1593720"/>
            <a:ext cx="6700680" cy="4467240"/>
            <a:chOff x="2708280" y="1593720"/>
            <a:chExt cx="6700680" cy="4467240"/>
          </a:xfrm>
        </p:grpSpPr>
        <p:sp>
          <p:nvSpPr>
            <p:cNvPr id="303" name="椭圆 15364"/>
            <p:cNvSpPr/>
            <p:nvPr/>
          </p:nvSpPr>
          <p:spPr>
            <a:xfrm>
              <a:off x="5082480" y="159372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5365"/>
            <p:cNvSpPr/>
            <p:nvPr/>
          </p:nvSpPr>
          <p:spPr>
            <a:xfrm>
              <a:off x="5368320" y="17910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右箭头 15366"/>
            <p:cNvSpPr/>
            <p:nvPr/>
          </p:nvSpPr>
          <p:spPr>
            <a:xfrm rot="2160000">
              <a:off x="6973560" y="262980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5367"/>
            <p:cNvSpPr/>
            <p:nvPr/>
          </p:nvSpPr>
          <p:spPr>
            <a:xfrm>
              <a:off x="6988320" y="26892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15368"/>
            <p:cNvSpPr/>
            <p:nvPr/>
          </p:nvSpPr>
          <p:spPr>
            <a:xfrm>
              <a:off x="7456680" y="27849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5369"/>
            <p:cNvSpPr/>
            <p:nvPr/>
          </p:nvSpPr>
          <p:spPr>
            <a:xfrm>
              <a:off x="774288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右箭头 15370"/>
            <p:cNvSpPr/>
            <p:nvPr/>
          </p:nvSpPr>
          <p:spPr>
            <a:xfrm rot="6480000">
              <a:off x="7803720" y="408384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5371"/>
            <p:cNvSpPr/>
            <p:nvPr/>
          </p:nvSpPr>
          <p:spPr>
            <a:xfrm rot="10800000">
              <a:off x="7826040" y="422568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 15372"/>
            <p:cNvSpPr/>
            <p:nvPr/>
          </p:nvSpPr>
          <p:spPr>
            <a:xfrm>
              <a:off x="6549840" y="47127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15373"/>
            <p:cNvSpPr/>
            <p:nvPr/>
          </p:nvSpPr>
          <p:spPr>
            <a:xfrm>
              <a:off x="683568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右箭头 15374"/>
            <p:cNvSpPr/>
            <p:nvPr/>
          </p:nvSpPr>
          <p:spPr>
            <a:xfrm rot="10800000">
              <a:off x="5812920" y="515952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5375"/>
            <p:cNvSpPr/>
            <p:nvPr/>
          </p:nvSpPr>
          <p:spPr>
            <a:xfrm rot="10800000">
              <a:off x="5969160" y="525024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5376"/>
            <p:cNvSpPr/>
            <p:nvPr/>
          </p:nvSpPr>
          <p:spPr>
            <a:xfrm>
              <a:off x="3615120" y="47127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15377"/>
            <p:cNvSpPr/>
            <p:nvPr/>
          </p:nvSpPr>
          <p:spPr>
            <a:xfrm>
              <a:off x="390096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右箭头 15378"/>
            <p:cNvSpPr/>
            <p:nvPr/>
          </p:nvSpPr>
          <p:spPr>
            <a:xfrm rot="15120000">
              <a:off x="3962160" y="410292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5379"/>
            <p:cNvSpPr/>
            <p:nvPr/>
          </p:nvSpPr>
          <p:spPr>
            <a:xfrm rot="10800000">
              <a:off x="3984120" y="434736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15380"/>
            <p:cNvSpPr/>
            <p:nvPr/>
          </p:nvSpPr>
          <p:spPr>
            <a:xfrm>
              <a:off x="2708280" y="2784960"/>
              <a:ext cx="1952280" cy="134820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5381"/>
            <p:cNvSpPr/>
            <p:nvPr/>
          </p:nvSpPr>
          <p:spPr>
            <a:xfrm>
              <a:off x="299412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右箭头 15382"/>
            <p:cNvSpPr/>
            <p:nvPr/>
          </p:nvSpPr>
          <p:spPr>
            <a:xfrm rot="19440000">
              <a:off x="4599000" y="264204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5383"/>
            <p:cNvSpPr/>
            <p:nvPr/>
          </p:nvSpPr>
          <p:spPr>
            <a:xfrm>
              <a:off x="4614120" y="27648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矩形 14"/>
          <p:cNvSpPr/>
          <p:nvPr/>
        </p:nvSpPr>
        <p:spPr>
          <a:xfrm>
            <a:off x="7988400" y="5097600"/>
            <a:ext cx="29210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19"/>
          <p:cNvGrpSpPr/>
          <p:nvPr/>
        </p:nvGrpSpPr>
        <p:grpSpPr>
          <a:xfrm>
            <a:off x="1203480" y="2384280"/>
            <a:ext cx="2920680" cy="963720"/>
            <a:chOff x="1203480" y="2384280"/>
            <a:chExt cx="2920680" cy="963720"/>
          </a:xfrm>
        </p:grpSpPr>
        <p:sp>
          <p:nvSpPr>
            <p:cNvPr id="325" name="矩形 20"/>
            <p:cNvSpPr/>
            <p:nvPr/>
          </p:nvSpPr>
          <p:spPr>
            <a:xfrm>
              <a:off x="1203480" y="2384280"/>
              <a:ext cx="292068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21"/>
            <p:cNvSpPr/>
            <p:nvPr/>
          </p:nvSpPr>
          <p:spPr>
            <a:xfrm>
              <a:off x="1203480" y="2384280"/>
              <a:ext cx="292068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25"/>
          <p:cNvGrpSpPr/>
          <p:nvPr/>
        </p:nvGrpSpPr>
        <p:grpSpPr>
          <a:xfrm>
            <a:off x="1633680" y="5248440"/>
            <a:ext cx="2920680" cy="961920"/>
            <a:chOff x="1633680" y="5248440"/>
            <a:chExt cx="2920680" cy="961920"/>
          </a:xfrm>
        </p:grpSpPr>
        <p:sp>
          <p:nvSpPr>
            <p:cNvPr id="328" name="矩形 26"/>
            <p:cNvSpPr/>
            <p:nvPr/>
          </p:nvSpPr>
          <p:spPr>
            <a:xfrm>
              <a:off x="1633680" y="5248440"/>
              <a:ext cx="29206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27"/>
            <p:cNvSpPr/>
            <p:nvPr/>
          </p:nvSpPr>
          <p:spPr>
            <a:xfrm>
              <a:off x="1633680" y="5248440"/>
              <a:ext cx="29206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28"/>
          <p:cNvGrpSpPr/>
          <p:nvPr/>
        </p:nvGrpSpPr>
        <p:grpSpPr>
          <a:xfrm>
            <a:off x="4635360" y="609480"/>
            <a:ext cx="2921040" cy="962280"/>
            <a:chOff x="4635360" y="609480"/>
            <a:chExt cx="2921040" cy="962280"/>
          </a:xfrm>
        </p:grpSpPr>
        <p:sp>
          <p:nvSpPr>
            <p:cNvPr id="331" name="矩形 29"/>
            <p:cNvSpPr/>
            <p:nvPr/>
          </p:nvSpPr>
          <p:spPr>
            <a:xfrm>
              <a:off x="4635360" y="609480"/>
              <a:ext cx="29210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0"/>
            <p:cNvSpPr/>
            <p:nvPr/>
          </p:nvSpPr>
          <p:spPr>
            <a:xfrm>
              <a:off x="4635360" y="609480"/>
              <a:ext cx="29210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31"/>
          <p:cNvGrpSpPr/>
          <p:nvPr/>
        </p:nvGrpSpPr>
        <p:grpSpPr>
          <a:xfrm>
            <a:off x="7988400" y="2362320"/>
            <a:ext cx="2921040" cy="961920"/>
            <a:chOff x="7988400" y="2362320"/>
            <a:chExt cx="2921040" cy="961920"/>
          </a:xfrm>
        </p:grpSpPr>
        <p:sp>
          <p:nvSpPr>
            <p:cNvPr id="334" name="矩形 32"/>
            <p:cNvSpPr/>
            <p:nvPr/>
          </p:nvSpPr>
          <p:spPr>
            <a:xfrm>
              <a:off x="7988400" y="236232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33"/>
            <p:cNvSpPr/>
            <p:nvPr/>
          </p:nvSpPr>
          <p:spPr>
            <a:xfrm>
              <a:off x="7988400" y="236232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34"/>
          <p:cNvGrpSpPr/>
          <p:nvPr/>
        </p:nvGrpSpPr>
        <p:grpSpPr>
          <a:xfrm>
            <a:off x="7556400" y="5248440"/>
            <a:ext cx="2921040" cy="961920"/>
            <a:chOff x="7556400" y="5248440"/>
            <a:chExt cx="2921040" cy="961920"/>
          </a:xfrm>
        </p:grpSpPr>
        <p:sp>
          <p:nvSpPr>
            <p:cNvPr id="337" name="矩形 35"/>
            <p:cNvSpPr/>
            <p:nvPr/>
          </p:nvSpPr>
          <p:spPr>
            <a:xfrm>
              <a:off x="7556400" y="5248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36"/>
            <p:cNvSpPr/>
            <p:nvPr/>
          </p:nvSpPr>
          <p:spPr>
            <a:xfrm>
              <a:off x="7556400" y="5248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e4e79"/>
                  </a:solidFill>
                  <a:latin typeface="微软雅黑"/>
                  <a:ea typeface="微软雅黑"/>
                </a:rPr>
                <a:t>输入讨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34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39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16387"/>
          <p:cNvGrpSpPr/>
          <p:nvPr/>
        </p:nvGrpSpPr>
        <p:grpSpPr>
          <a:xfrm>
            <a:off x="1995480" y="1619280"/>
            <a:ext cx="8128080" cy="5418000"/>
            <a:chOff x="1995480" y="1619280"/>
            <a:chExt cx="8128080" cy="5418000"/>
          </a:xfrm>
        </p:grpSpPr>
        <p:sp>
          <p:nvSpPr>
            <p:cNvPr id="345" name="矩形 16388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6389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6390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391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16392"/>
            <p:cNvSpPr/>
            <p:nvPr/>
          </p:nvSpPr>
          <p:spPr>
            <a:xfrm>
              <a:off x="2159280" y="24508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16393"/>
            <p:cNvSpPr/>
            <p:nvPr/>
          </p:nvSpPr>
          <p:spPr>
            <a:xfrm>
              <a:off x="2323080" y="20890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16394"/>
            <p:cNvSpPr/>
            <p:nvPr/>
          </p:nvSpPr>
          <p:spPr>
            <a:xfrm>
              <a:off x="2716200" y="2161440"/>
              <a:ext cx="367560" cy="4057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6395"/>
            <p:cNvSpPr/>
            <p:nvPr/>
          </p:nvSpPr>
          <p:spPr>
            <a:xfrm>
              <a:off x="3043800" y="176364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6396"/>
            <p:cNvSpPr/>
            <p:nvPr/>
          </p:nvSpPr>
          <p:spPr>
            <a:xfrm>
              <a:off x="3469680" y="16192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6397"/>
            <p:cNvSpPr/>
            <p:nvPr/>
          </p:nvSpPr>
          <p:spPr>
            <a:xfrm>
              <a:off x="3994200" y="187236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16398"/>
            <p:cNvSpPr/>
            <p:nvPr/>
          </p:nvSpPr>
          <p:spPr>
            <a:xfrm>
              <a:off x="4321800" y="2053080"/>
              <a:ext cx="367560" cy="4057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16399"/>
            <p:cNvSpPr/>
            <p:nvPr/>
          </p:nvSpPr>
          <p:spPr>
            <a:xfrm>
              <a:off x="4780440" y="24508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6400"/>
            <p:cNvSpPr/>
            <p:nvPr/>
          </p:nvSpPr>
          <p:spPr>
            <a:xfrm>
              <a:off x="4977000" y="2848680"/>
              <a:ext cx="234000" cy="25812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6401"/>
            <p:cNvSpPr/>
            <p:nvPr/>
          </p:nvSpPr>
          <p:spPr>
            <a:xfrm>
              <a:off x="3273120" y="2089080"/>
              <a:ext cx="601560" cy="663840"/>
            </a:xfrm>
            <a:prstGeom prst="ellipse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16402"/>
            <p:cNvSpPr/>
            <p:nvPr/>
          </p:nvSpPr>
          <p:spPr>
            <a:xfrm>
              <a:off x="1995480" y="3463200"/>
              <a:ext cx="234000" cy="2581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16403"/>
            <p:cNvSpPr/>
            <p:nvPr/>
          </p:nvSpPr>
          <p:spPr>
            <a:xfrm>
              <a:off x="2192040" y="3788640"/>
              <a:ext cx="367560" cy="4057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16404"/>
            <p:cNvSpPr/>
            <p:nvPr/>
          </p:nvSpPr>
          <p:spPr>
            <a:xfrm>
              <a:off x="2683440" y="4078080"/>
              <a:ext cx="534960" cy="59004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16405"/>
            <p:cNvSpPr/>
            <p:nvPr/>
          </p:nvSpPr>
          <p:spPr>
            <a:xfrm>
              <a:off x="3371400" y="4548240"/>
              <a:ext cx="234000" cy="2581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16406"/>
            <p:cNvSpPr/>
            <p:nvPr/>
          </p:nvSpPr>
          <p:spPr>
            <a:xfrm>
              <a:off x="3502440" y="4078080"/>
              <a:ext cx="367560" cy="4057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16407"/>
            <p:cNvSpPr/>
            <p:nvPr/>
          </p:nvSpPr>
          <p:spPr>
            <a:xfrm>
              <a:off x="3830400" y="4584240"/>
              <a:ext cx="234000" cy="2581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16408"/>
            <p:cNvSpPr/>
            <p:nvPr/>
          </p:nvSpPr>
          <p:spPr>
            <a:xfrm>
              <a:off x="4125240" y="4005720"/>
              <a:ext cx="534960" cy="59004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16409"/>
            <p:cNvSpPr/>
            <p:nvPr/>
          </p:nvSpPr>
          <p:spPr>
            <a:xfrm>
              <a:off x="4845960" y="3861000"/>
              <a:ext cx="367560" cy="40572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燕尾形 16410"/>
            <p:cNvSpPr/>
            <p:nvPr/>
          </p:nvSpPr>
          <p:spPr>
            <a:xfrm>
              <a:off x="52138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548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燕尾形 16411"/>
            <p:cNvSpPr/>
            <p:nvPr/>
          </p:nvSpPr>
          <p:spPr>
            <a:xfrm>
              <a:off x="60976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6412"/>
            <p:cNvSpPr/>
            <p:nvPr/>
          </p:nvSpPr>
          <p:spPr>
            <a:xfrm>
              <a:off x="7398720" y="1999440"/>
              <a:ext cx="2503800" cy="2763360"/>
            </a:xfrm>
            <a:prstGeom prst="ellipse">
              <a:avLst/>
            </a:prstGeom>
            <a:solidFill>
              <a:srgbClr val="a8d08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6413"/>
            <p:cNvSpPr/>
            <p:nvPr/>
          </p:nvSpPr>
          <p:spPr>
            <a:xfrm>
              <a:off x="7765560" y="2404080"/>
              <a:ext cx="177048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6414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6415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374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3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2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7411"/>
          <p:cNvGrpSpPr/>
          <p:nvPr/>
        </p:nvGrpSpPr>
        <p:grpSpPr>
          <a:xfrm>
            <a:off x="1633680" y="1373040"/>
            <a:ext cx="9204120" cy="5037120"/>
            <a:chOff x="1633680" y="1373040"/>
            <a:chExt cx="9204120" cy="5037120"/>
          </a:xfrm>
        </p:grpSpPr>
        <p:sp>
          <p:nvSpPr>
            <p:cNvPr id="380" name="矩形 17412"/>
            <p:cNvSpPr/>
            <p:nvPr/>
          </p:nvSpPr>
          <p:spPr>
            <a:xfrm>
              <a:off x="1633680" y="1973880"/>
              <a:ext cx="9204120" cy="9644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圆角矩形 17413"/>
            <p:cNvSpPr/>
            <p:nvPr/>
          </p:nvSpPr>
          <p:spPr>
            <a:xfrm>
              <a:off x="2895840" y="1373040"/>
              <a:ext cx="6442920" cy="11296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7414"/>
            <p:cNvSpPr/>
            <p:nvPr/>
          </p:nvSpPr>
          <p:spPr>
            <a:xfrm>
              <a:off x="2950560" y="1428120"/>
              <a:ext cx="6333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结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edit titl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7415"/>
            <p:cNvSpPr/>
            <p:nvPr/>
          </p:nvSpPr>
          <p:spPr>
            <a:xfrm>
              <a:off x="1633680" y="3709800"/>
              <a:ext cx="9204120" cy="9644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圆角矩形 17416"/>
            <p:cNvSpPr/>
            <p:nvPr/>
          </p:nvSpPr>
          <p:spPr>
            <a:xfrm>
              <a:off x="2863800" y="3144960"/>
              <a:ext cx="6442920" cy="11296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7417"/>
            <p:cNvSpPr/>
            <p:nvPr/>
          </p:nvSpPr>
          <p:spPr>
            <a:xfrm>
              <a:off x="2918520" y="3200040"/>
              <a:ext cx="6333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结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edit titl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7418"/>
            <p:cNvSpPr/>
            <p:nvPr/>
          </p:nvSpPr>
          <p:spPr>
            <a:xfrm>
              <a:off x="1633680" y="5445720"/>
              <a:ext cx="9204120" cy="9644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圆角矩形 17419"/>
            <p:cNvSpPr/>
            <p:nvPr/>
          </p:nvSpPr>
          <p:spPr>
            <a:xfrm>
              <a:off x="2880000" y="4864680"/>
              <a:ext cx="6442920" cy="1129680"/>
            </a:xfrm>
            <a:prstGeom prst="roundRect">
              <a:avLst>
                <a:gd name="adj" fmla="val 16667"/>
              </a:avLst>
            </a:prstGeom>
            <a:solidFill>
              <a:srgbClr val="70ad4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7420"/>
            <p:cNvSpPr/>
            <p:nvPr/>
          </p:nvSpPr>
          <p:spPr>
            <a:xfrm>
              <a:off x="2934720" y="4920120"/>
              <a:ext cx="633348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结论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lick to edit titl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39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9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5"/>
          <p:cNvSpPr/>
          <p:nvPr/>
        </p:nvSpPr>
        <p:spPr>
          <a:xfrm>
            <a:off x="1339920" y="-334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11"/>
          <p:cNvGrpSpPr/>
          <p:nvPr/>
        </p:nvGrpSpPr>
        <p:grpSpPr>
          <a:xfrm>
            <a:off x="6059520" y="1228680"/>
            <a:ext cx="4653000" cy="4753080"/>
            <a:chOff x="6059520" y="1228680"/>
            <a:chExt cx="4653000" cy="4753080"/>
          </a:xfrm>
        </p:grpSpPr>
        <p:sp>
          <p:nvSpPr>
            <p:cNvPr id="395" name="流程图: 数据 12"/>
            <p:cNvSpPr/>
            <p:nvPr/>
          </p:nvSpPr>
          <p:spPr>
            <a:xfrm rot="16200000">
              <a:off x="5469120" y="2994480"/>
              <a:ext cx="3577680" cy="239688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13"/>
            <p:cNvSpPr/>
            <p:nvPr/>
          </p:nvSpPr>
          <p:spPr>
            <a:xfrm>
              <a:off x="6059520" y="1228680"/>
              <a:ext cx="4653000" cy="406800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16"/>
          <p:cNvSpPr/>
          <p:nvPr/>
        </p:nvSpPr>
        <p:spPr>
          <a:xfrm>
            <a:off x="6448320" y="146376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8"/>
          <p:cNvSpPr/>
          <p:nvPr/>
        </p:nvSpPr>
        <p:spPr>
          <a:xfrm>
            <a:off x="6448320" y="20160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9"/>
          <p:cNvSpPr/>
          <p:nvPr/>
        </p:nvSpPr>
        <p:spPr>
          <a:xfrm>
            <a:off x="6448320" y="26478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20"/>
          <p:cNvSpPr/>
          <p:nvPr/>
        </p:nvSpPr>
        <p:spPr>
          <a:xfrm>
            <a:off x="6448320" y="32130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1"/>
          <p:cNvSpPr/>
          <p:nvPr/>
        </p:nvSpPr>
        <p:spPr>
          <a:xfrm>
            <a:off x="6448320" y="379584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2"/>
          <p:cNvSpPr/>
          <p:nvPr/>
        </p:nvSpPr>
        <p:spPr>
          <a:xfrm>
            <a:off x="6448320" y="4411800"/>
            <a:ext cx="4637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31"/>
          <p:cNvGrpSpPr/>
          <p:nvPr/>
        </p:nvGrpSpPr>
        <p:grpSpPr>
          <a:xfrm>
            <a:off x="2022480" y="1177920"/>
            <a:ext cx="2457360" cy="3587760"/>
            <a:chOff x="2022480" y="1177920"/>
            <a:chExt cx="2457360" cy="3587760"/>
          </a:xfrm>
        </p:grpSpPr>
        <p:sp>
          <p:nvSpPr>
            <p:cNvPr id="404" name="Freeform 5"/>
            <p:cNvSpPr/>
            <p:nvPr/>
          </p:nvSpPr>
          <p:spPr>
            <a:xfrm>
              <a:off x="2022480" y="1494000"/>
              <a:ext cx="2457360" cy="3271680"/>
            </a:xfrm>
            <a:custGeom>
              <a:avLst/>
              <a:gdLst/>
              <a:ahLst/>
              <a:rect l="l" t="t" r="r" b="b"/>
              <a:pathLst>
                <a:path w="1115" h="1486">
                  <a:moveTo>
                    <a:pt x="1065" y="0"/>
                  </a:moveTo>
                  <a:cubicBezTo>
                    <a:pt x="827" y="0"/>
                    <a:pt x="827" y="0"/>
                    <a:pt x="827" y="0"/>
                  </a:cubicBezTo>
                  <a:cubicBezTo>
                    <a:pt x="826" y="42"/>
                    <a:pt x="791" y="77"/>
                    <a:pt x="748" y="77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23" y="77"/>
                    <a:pt x="288" y="42"/>
                    <a:pt x="28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36"/>
                    <a:pt x="0" y="1436"/>
                    <a:pt x="0" y="1436"/>
                  </a:cubicBezTo>
                  <a:cubicBezTo>
                    <a:pt x="0" y="1463"/>
                    <a:pt x="22" y="1486"/>
                    <a:pt x="50" y="1486"/>
                  </a:cubicBezTo>
                  <a:cubicBezTo>
                    <a:pt x="1065" y="1486"/>
                    <a:pt x="1065" y="1486"/>
                    <a:pt x="1065" y="1486"/>
                  </a:cubicBezTo>
                  <a:cubicBezTo>
                    <a:pt x="1092" y="1486"/>
                    <a:pt x="1115" y="1463"/>
                    <a:pt x="1115" y="1436"/>
                  </a:cubicBezTo>
                  <a:cubicBezTo>
                    <a:pt x="1115" y="49"/>
                    <a:pt x="1115" y="49"/>
                    <a:pt x="1115" y="49"/>
                  </a:cubicBezTo>
                  <a:cubicBezTo>
                    <a:pt x="1115" y="22"/>
                    <a:pt x="1092" y="0"/>
                    <a:pt x="1065" y="0"/>
                  </a:cubicBezTo>
                  <a:close/>
                  <a:moveTo>
                    <a:pt x="1011" y="1382"/>
                  </a:moveTo>
                  <a:cubicBezTo>
                    <a:pt x="103" y="1382"/>
                    <a:pt x="103" y="1382"/>
                    <a:pt x="103" y="1382"/>
                  </a:cubicBezTo>
                  <a:cubicBezTo>
                    <a:pt x="103" y="103"/>
                    <a:pt x="103" y="103"/>
                    <a:pt x="103" y="103"/>
                  </a:cubicBezTo>
                  <a:cubicBezTo>
                    <a:pt x="1011" y="103"/>
                    <a:pt x="1011" y="103"/>
                    <a:pt x="1011" y="103"/>
                  </a:cubicBezTo>
                  <a:lnTo>
                    <a:pt x="1011" y="1382"/>
                  </a:ln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2740320" y="1177920"/>
              <a:ext cx="1018440" cy="391680"/>
            </a:xfrm>
            <a:custGeom>
              <a:avLst/>
              <a:gdLst/>
              <a:ahLst/>
              <a:rect l="l" t="t" r="r" b="b"/>
              <a:pathLst>
                <a:path w="462" h="178">
                  <a:moveTo>
                    <a:pt x="415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1"/>
                    <a:pt x="0" y="4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7"/>
                    <a:pt x="22" y="178"/>
                    <a:pt x="48" y="178"/>
                  </a:cubicBezTo>
                  <a:cubicBezTo>
                    <a:pt x="415" y="178"/>
                    <a:pt x="415" y="178"/>
                    <a:pt x="415" y="178"/>
                  </a:cubicBezTo>
                  <a:cubicBezTo>
                    <a:pt x="441" y="178"/>
                    <a:pt x="462" y="157"/>
                    <a:pt x="462" y="131"/>
                  </a:cubicBezTo>
                  <a:cubicBezTo>
                    <a:pt x="462" y="47"/>
                    <a:pt x="462" y="47"/>
                    <a:pt x="462" y="47"/>
                  </a:cubicBezTo>
                  <a:cubicBezTo>
                    <a:pt x="462" y="21"/>
                    <a:pt x="441" y="0"/>
                    <a:pt x="415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2423160" y="206028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2423160" y="237492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2423160" y="26640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423160" y="295020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2423160" y="32508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2423160" y="356868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3"/>
            <p:cNvSpPr/>
            <p:nvPr/>
          </p:nvSpPr>
          <p:spPr>
            <a:xfrm>
              <a:off x="2419200" y="3865320"/>
              <a:ext cx="803880" cy="8424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55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8"/>
                    <a:pt x="0" y="19"/>
                  </a:cubicBezTo>
                  <a:cubicBezTo>
                    <a:pt x="0" y="30"/>
                    <a:pt x="4" y="38"/>
                    <a:pt x="10" y="38"/>
                  </a:cubicBezTo>
                  <a:cubicBezTo>
                    <a:pt x="355" y="38"/>
                    <a:pt x="355" y="38"/>
                    <a:pt x="355" y="38"/>
                  </a:cubicBezTo>
                  <a:cubicBezTo>
                    <a:pt x="360" y="38"/>
                    <a:pt x="365" y="30"/>
                    <a:pt x="365" y="19"/>
                  </a:cubicBezTo>
                  <a:cubicBezTo>
                    <a:pt x="365" y="8"/>
                    <a:pt x="360" y="0"/>
                    <a:pt x="355" y="0"/>
                  </a:cubicBezTo>
                  <a:close/>
                </a:path>
              </a:pathLst>
            </a:cu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32"/>
          <p:cNvSpPr/>
          <p:nvPr/>
        </p:nvSpPr>
        <p:spPr>
          <a:xfrm>
            <a:off x="1960560" y="5037120"/>
            <a:ext cx="2798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e4e79"/>
                </a:solidFill>
                <a:latin typeface="微软雅黑"/>
                <a:ea typeface="微软雅黑"/>
              </a:rPr>
              <a:t>参考文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415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35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E8E-AA24-4003-8764-A599798E55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5"/>
          <p:cNvSpPr/>
          <p:nvPr/>
        </p:nvSpPr>
        <p:spPr>
          <a:xfrm>
            <a:off x="0" y="1289160"/>
            <a:ext cx="9793440" cy="3276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8"/>
          <p:cNvSpPr/>
          <p:nvPr/>
        </p:nvSpPr>
        <p:spPr>
          <a:xfrm>
            <a:off x="144360" y="1422360"/>
            <a:ext cx="948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afafa"/>
                </a:solidFill>
                <a:latin typeface="微软雅黑"/>
                <a:ea typeface="微软雅黑"/>
              </a:rPr>
              <a:t>感谢聆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9"/>
          <p:cNvSpPr/>
          <p:nvPr/>
        </p:nvSpPr>
        <p:spPr>
          <a:xfrm>
            <a:off x="144360" y="3778200"/>
            <a:ext cx="9732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afa"/>
                </a:solidFill>
                <a:latin typeface="Arial"/>
                <a:ea typeface="Arial Unicode MS"/>
              </a:rPr>
              <a:t>The Graduation Thesis Plea of XXX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0"/>
          <p:cNvSpPr/>
          <p:nvPr/>
        </p:nvSpPr>
        <p:spPr>
          <a:xfrm>
            <a:off x="6735600" y="4641840"/>
            <a:ext cx="14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指导老师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2"/>
          <p:cNvSpPr/>
          <p:nvPr/>
        </p:nvSpPr>
        <p:spPr>
          <a:xfrm>
            <a:off x="3075120" y="4641840"/>
            <a:ext cx="127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答辩人：</a:t>
            </a:r>
            <a:r>
              <a:rPr b="0" lang="zh-CN" sz="2000" spc="-1" strike="noStrike">
                <a:solidFill>
                  <a:srgbClr val="1e4e79"/>
                </a:solidFill>
                <a:latin typeface="微软雅黑"/>
                <a:ea typeface="微软雅黑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0" y="-235080"/>
            <a:ext cx="12192120" cy="7329600"/>
          </a:xfrm>
          <a:prstGeom prst="rect">
            <a:avLst/>
          </a:prstGeom>
          <a:ln w="0">
            <a:noFill/>
          </a:ln>
        </p:spPr>
      </p:pic>
      <p:sp>
        <p:nvSpPr>
          <p:cNvPr id="89" name="矩形 15"/>
          <p:cNvSpPr/>
          <p:nvPr/>
        </p:nvSpPr>
        <p:spPr>
          <a:xfrm>
            <a:off x="0" y="-235080"/>
            <a:ext cx="12192120" cy="7329600"/>
          </a:xfrm>
          <a:prstGeom prst="rect">
            <a:avLst/>
          </a:prstGeom>
          <a:solidFill>
            <a:srgbClr val="70ad47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"/>
          <p:cNvGrpSpPr/>
          <p:nvPr/>
        </p:nvGrpSpPr>
        <p:grpSpPr>
          <a:xfrm>
            <a:off x="1216440" y="1846440"/>
            <a:ext cx="2480400" cy="2788920"/>
            <a:chOff x="1216440" y="1846440"/>
            <a:chExt cx="2480400" cy="2788920"/>
          </a:xfrm>
        </p:grpSpPr>
        <p:sp>
          <p:nvSpPr>
            <p:cNvPr id="91" name="文本框 7"/>
            <p:cNvSpPr/>
            <p:nvPr/>
          </p:nvSpPr>
          <p:spPr>
            <a:xfrm>
              <a:off x="1963800" y="184644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8"/>
            <p:cNvSpPr/>
            <p:nvPr/>
          </p:nvSpPr>
          <p:spPr>
            <a:xfrm>
              <a:off x="1216440" y="3810240"/>
              <a:ext cx="248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onten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529320" y="561960"/>
            <a:ext cx="15840" cy="5692680"/>
            <a:chOff x="6529320" y="561960"/>
            <a:chExt cx="15840" cy="5692680"/>
          </a:xfrm>
        </p:grpSpPr>
        <p:sp>
          <p:nvSpPr>
            <p:cNvPr id="94" name="直接连接符 2"/>
            <p:cNvSpPr/>
            <p:nvPr/>
          </p:nvSpPr>
          <p:spPr>
            <a:xfrm>
              <a:off x="6529320" y="561960"/>
              <a:ext cx="15840" cy="5692680"/>
            </a:xfrm>
            <a:prstGeom prst="line">
              <a:avLst/>
            </a:prstGeom>
            <a:ln w="63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6529320" y="561960"/>
              <a:ext cx="158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5"/>
          <p:cNvSpPr/>
          <p:nvPr/>
        </p:nvSpPr>
        <p:spPr>
          <a:xfrm>
            <a:off x="7110360" y="504720"/>
            <a:ext cx="334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"/>
          <p:cNvSpPr/>
          <p:nvPr/>
        </p:nvSpPr>
        <p:spPr>
          <a:xfrm>
            <a:off x="7110360" y="1539720"/>
            <a:ext cx="334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1"/>
          <p:cNvSpPr/>
          <p:nvPr/>
        </p:nvSpPr>
        <p:spPr>
          <a:xfrm>
            <a:off x="7110360" y="2536920"/>
            <a:ext cx="334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7140600" y="3565440"/>
            <a:ext cx="334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7140600" y="4562640"/>
            <a:ext cx="334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与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4"/>
          <p:cNvSpPr/>
          <p:nvPr/>
        </p:nvSpPr>
        <p:spPr>
          <a:xfrm>
            <a:off x="7140600" y="5649840"/>
            <a:ext cx="334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C21B-E8C3-4933-9BA9-BBC369FE20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5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05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4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1781280" y="1346040"/>
            <a:ext cx="8535960" cy="22035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1746360" y="3978360"/>
            <a:ext cx="8535960" cy="22032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5"/>
          <p:cNvSpPr/>
          <p:nvPr/>
        </p:nvSpPr>
        <p:spPr>
          <a:xfrm>
            <a:off x="3102120" y="2155680"/>
            <a:ext cx="5987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6"/>
          <p:cNvSpPr/>
          <p:nvPr/>
        </p:nvSpPr>
        <p:spPr>
          <a:xfrm>
            <a:off x="2192400" y="4788000"/>
            <a:ext cx="780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流程图: 过程 6"/>
          <p:cNvSpPr/>
          <p:nvPr/>
        </p:nvSpPr>
        <p:spPr>
          <a:xfrm>
            <a:off x="6059520" y="0"/>
            <a:ext cx="6132600" cy="6858000"/>
          </a:xfrm>
          <a:prstGeom prst="flowChartProcess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15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11"/>
          <p:cNvSpPr/>
          <p:nvPr/>
        </p:nvSpPr>
        <p:spPr>
          <a:xfrm>
            <a:off x="1781280" y="1262160"/>
            <a:ext cx="35398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1592640" y="1198080"/>
            <a:ext cx="8946360" cy="5034960"/>
            <a:chOff x="1592640" y="1198080"/>
            <a:chExt cx="8946360" cy="5034960"/>
          </a:xfrm>
        </p:grpSpPr>
        <p:sp>
          <p:nvSpPr>
            <p:cNvPr id="119" name="矩形 14"/>
            <p:cNvSpPr/>
            <p:nvPr/>
          </p:nvSpPr>
          <p:spPr>
            <a:xfrm rot="344400">
              <a:off x="1584000" y="5547240"/>
              <a:ext cx="8569080" cy="25776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流程图: 联系 27"/>
            <p:cNvSpPr/>
            <p:nvPr/>
          </p:nvSpPr>
          <p:spPr>
            <a:xfrm rot="344400">
              <a:off x="1819080" y="1372680"/>
              <a:ext cx="3680640" cy="3682440"/>
            </a:xfrm>
            <a:prstGeom prst="flowChartConnector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流程图: 联系 29"/>
            <p:cNvSpPr/>
            <p:nvPr/>
          </p:nvSpPr>
          <p:spPr>
            <a:xfrm rot="344400">
              <a:off x="6683040" y="1861560"/>
              <a:ext cx="3680640" cy="368244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31"/>
          <p:cNvSpPr/>
          <p:nvPr/>
        </p:nvSpPr>
        <p:spPr>
          <a:xfrm>
            <a:off x="2698920" y="2003400"/>
            <a:ext cx="2976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564320" y="2525760"/>
            <a:ext cx="2976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e75b5"/>
                </a:solidFill>
                <a:latin typeface="微软雅黑"/>
                <a:ea typeface="微软雅黑"/>
              </a:rPr>
              <a:t>国外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15"/>
          <p:cNvSpPr/>
          <p:nvPr/>
        </p:nvSpPr>
        <p:spPr>
          <a:xfrm>
            <a:off x="5673600" y="5815080"/>
            <a:ext cx="844560" cy="72684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7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流程图: 数据 6"/>
          <p:cNvSpPr/>
          <p:nvPr/>
        </p:nvSpPr>
        <p:spPr>
          <a:xfrm rot="16200000">
            <a:off x="48240" y="3382200"/>
            <a:ext cx="3011760" cy="2016000"/>
          </a:xfrm>
          <a:prstGeom prst="flowChartInputOutput">
            <a:avLst/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549360" y="1898640"/>
            <a:ext cx="3914640" cy="342432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11"/>
          <p:cNvGrpSpPr/>
          <p:nvPr/>
        </p:nvGrpSpPr>
        <p:grpSpPr>
          <a:xfrm>
            <a:off x="4924440" y="1898640"/>
            <a:ext cx="6775560" cy="3424320"/>
            <a:chOff x="4924440" y="1898640"/>
            <a:chExt cx="6775560" cy="3424320"/>
          </a:xfrm>
        </p:grpSpPr>
        <p:sp>
          <p:nvSpPr>
            <p:cNvPr id="130" name="矩形 8"/>
            <p:cNvSpPr/>
            <p:nvPr/>
          </p:nvSpPr>
          <p:spPr>
            <a:xfrm>
              <a:off x="4924440" y="1898640"/>
              <a:ext cx="6775560" cy="105624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9"/>
            <p:cNvSpPr/>
            <p:nvPr/>
          </p:nvSpPr>
          <p:spPr>
            <a:xfrm>
              <a:off x="4924440" y="3095280"/>
              <a:ext cx="6775560" cy="105624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0"/>
            <p:cNvSpPr/>
            <p:nvPr/>
          </p:nvSpPr>
          <p:spPr>
            <a:xfrm>
              <a:off x="4924440" y="4266720"/>
              <a:ext cx="6775560" cy="105624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12"/>
          <p:cNvSpPr/>
          <p:nvPr/>
        </p:nvSpPr>
        <p:spPr>
          <a:xfrm>
            <a:off x="-200160" y="2822400"/>
            <a:ext cx="536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4"/>
          <p:cNvSpPr/>
          <p:nvPr/>
        </p:nvSpPr>
        <p:spPr>
          <a:xfrm>
            <a:off x="5168880" y="2297160"/>
            <a:ext cx="653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分论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5"/>
          <p:cNvSpPr/>
          <p:nvPr/>
        </p:nvSpPr>
        <p:spPr>
          <a:xfrm>
            <a:off x="5168880" y="3489480"/>
            <a:ext cx="653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分论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6"/>
          <p:cNvSpPr/>
          <p:nvPr/>
        </p:nvSpPr>
        <p:spPr>
          <a:xfrm>
            <a:off x="5168880" y="4616280"/>
            <a:ext cx="6531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分论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0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39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1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7"/>
          <p:cNvSpPr/>
          <p:nvPr/>
        </p:nvSpPr>
        <p:spPr>
          <a:xfrm>
            <a:off x="865080" y="1898640"/>
            <a:ext cx="1733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输入分论点</a:t>
            </a:r>
            <a:r>
              <a:rPr b="0" lang="en-US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10"/>
          <p:cNvSpPr/>
          <p:nvPr/>
        </p:nvSpPr>
        <p:spPr>
          <a:xfrm>
            <a:off x="4735440" y="1228680"/>
            <a:ext cx="335304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close/>
              </a:path>
            </a:pathLst>
          </a:cu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11"/>
          <p:cNvSpPr/>
          <p:nvPr/>
        </p:nvSpPr>
        <p:spPr>
          <a:xfrm>
            <a:off x="8088480" y="1228680"/>
            <a:ext cx="335268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close/>
              </a:path>
            </a:pathLst>
          </a:cu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49360" y="2738520"/>
            <a:ext cx="3916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Arial"/>
                <a:ea typeface="Arial Unicode MS"/>
              </a:rPr>
              <a:t>This is a sample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4e79"/>
                </a:solidFill>
                <a:latin typeface="Arial"/>
                <a:ea typeface="Arial Unicode MS"/>
              </a:rPr>
              <a:t>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268960" y="254304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7070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6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8505720" y="2543040"/>
            <a:ext cx="115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57070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50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5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9217"/>
          <p:cNvGrpSpPr/>
          <p:nvPr/>
        </p:nvGrpSpPr>
        <p:grpSpPr>
          <a:xfrm>
            <a:off x="3133800" y="1000080"/>
            <a:ext cx="8128080" cy="5419800"/>
            <a:chOff x="3133800" y="1000080"/>
            <a:chExt cx="8128080" cy="5419800"/>
          </a:xfrm>
        </p:grpSpPr>
        <p:sp>
          <p:nvSpPr>
            <p:cNvPr id="153" name="任意多边形 9218"/>
            <p:cNvSpPr/>
            <p:nvPr/>
          </p:nvSpPr>
          <p:spPr>
            <a:xfrm>
              <a:off x="3133800" y="1000080"/>
              <a:ext cx="4181040" cy="5419800"/>
            </a:xfrm>
            <a:custGeom>
              <a:avLst/>
              <a:gdLst/>
              <a:ahLst/>
              <a:rect l="l" t="t" r="r" b="b"/>
              <a:pathLst>
                <a:path w="18437" h="3207">
                  <a:moveTo>
                    <a:pt x="18392" y="3207"/>
                  </a:moveTo>
                  <a:cubicBezTo>
                    <a:pt x="16449" y="1264"/>
                    <a:pt x="13765" y="62"/>
                    <a:pt x="10800" y="62"/>
                  </a:cubicBezTo>
                  <a:cubicBezTo>
                    <a:pt x="7835" y="62"/>
                    <a:pt x="5151" y="1264"/>
                    <a:pt x="3208" y="3207"/>
                  </a:cubicBezTo>
                  <a:lnTo>
                    <a:pt x="3163" y="3163"/>
                  </a:lnTo>
                  <a:cubicBezTo>
                    <a:pt x="5118" y="1209"/>
                    <a:pt x="7818" y="0"/>
                    <a:pt x="10800" y="0"/>
                  </a:cubicBezTo>
                  <a:cubicBezTo>
                    <a:pt x="13782" y="0"/>
                    <a:pt x="16482" y="1209"/>
                    <a:pt x="18437" y="3163"/>
                  </a:cubicBezTo>
                  <a:close/>
                </a:path>
              </a:pathLst>
            </a:custGeom>
            <a:noFill/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9219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9220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4068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9221"/>
            <p:cNvSpPr/>
            <p:nvPr/>
          </p:nvSpPr>
          <p:spPr>
            <a:xfrm>
              <a:off x="6688080" y="204588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9222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9223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4068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9224"/>
            <p:cNvSpPr/>
            <p:nvPr/>
          </p:nvSpPr>
          <p:spPr>
            <a:xfrm>
              <a:off x="6913800" y="32540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9225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9226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40680" tIns="40680" bIns="406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9227"/>
            <p:cNvSpPr/>
            <p:nvPr/>
          </p:nvSpPr>
          <p:spPr>
            <a:xfrm>
              <a:off x="6688080" y="44618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15"/>
          <p:cNvSpPr/>
          <p:nvPr/>
        </p:nvSpPr>
        <p:spPr>
          <a:xfrm>
            <a:off x="1060200" y="2933640"/>
            <a:ext cx="1733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输入分论点</a:t>
            </a:r>
            <a:r>
              <a:rPr b="0" lang="en-US" sz="3200" spc="-1" strike="noStrike">
                <a:solidFill>
                  <a:srgbClr val="1e4e79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8199"/>
          <p:cNvSpPr/>
          <p:nvPr/>
        </p:nvSpPr>
        <p:spPr>
          <a:xfrm>
            <a:off x="3029040" y="860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0241"/>
          <p:cNvGrpSpPr/>
          <p:nvPr/>
        </p:nvGrpSpPr>
        <p:grpSpPr>
          <a:xfrm>
            <a:off x="1428840" y="612720"/>
            <a:ext cx="9261360" cy="6402600"/>
            <a:chOff x="1428840" y="612720"/>
            <a:chExt cx="9261360" cy="6402600"/>
          </a:xfrm>
        </p:grpSpPr>
        <p:sp>
          <p:nvSpPr>
            <p:cNvPr id="168" name="圆角矩形 10242"/>
            <p:cNvSpPr/>
            <p:nvPr/>
          </p:nvSpPr>
          <p:spPr>
            <a:xfrm>
              <a:off x="1428840" y="5094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e1e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0243"/>
            <p:cNvSpPr/>
            <p:nvPr/>
          </p:nvSpPr>
          <p:spPr>
            <a:xfrm>
              <a:off x="1428840" y="5094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27520" tIns="227520" bIns="22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10244"/>
            <p:cNvSpPr/>
            <p:nvPr/>
          </p:nvSpPr>
          <p:spPr>
            <a:xfrm>
              <a:off x="1428840" y="2853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e1e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0245"/>
            <p:cNvSpPr/>
            <p:nvPr/>
          </p:nvSpPr>
          <p:spPr>
            <a:xfrm>
              <a:off x="1428840" y="2853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27520" tIns="227520" bIns="22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二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圆角矩形 10246"/>
            <p:cNvSpPr/>
            <p:nvPr/>
          </p:nvSpPr>
          <p:spPr>
            <a:xfrm>
              <a:off x="1428840" y="612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e1e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0247"/>
            <p:cNvSpPr/>
            <p:nvPr/>
          </p:nvSpPr>
          <p:spPr>
            <a:xfrm>
              <a:off x="1428840" y="612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27520" tIns="227520" bIns="22752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圆角矩形 10248"/>
            <p:cNvSpPr/>
            <p:nvPr/>
          </p:nvSpPr>
          <p:spPr>
            <a:xfrm>
              <a:off x="6714000" y="772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0249"/>
            <p:cNvSpPr/>
            <p:nvPr/>
          </p:nvSpPr>
          <p:spPr>
            <a:xfrm>
              <a:off x="6739200" y="819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论点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0250"/>
            <p:cNvSpPr/>
            <p:nvPr/>
          </p:nvSpPr>
          <p:spPr>
            <a:xfrm>
              <a:off x="568656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1669459" y="0"/>
                  </a:moveTo>
                  <a:lnTo>
                    <a:pt x="166945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圆角矩形 10251"/>
            <p:cNvSpPr/>
            <p:nvPr/>
          </p:nvSpPr>
          <p:spPr>
            <a:xfrm>
              <a:off x="504432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0252"/>
            <p:cNvSpPr/>
            <p:nvPr/>
          </p:nvSpPr>
          <p:spPr>
            <a:xfrm>
              <a:off x="506952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0253"/>
            <p:cNvSpPr/>
            <p:nvPr/>
          </p:nvSpPr>
          <p:spPr>
            <a:xfrm>
              <a:off x="48517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圆角矩形 10254"/>
            <p:cNvSpPr/>
            <p:nvPr/>
          </p:nvSpPr>
          <p:spPr>
            <a:xfrm>
              <a:off x="420948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0255"/>
            <p:cNvSpPr/>
            <p:nvPr/>
          </p:nvSpPr>
          <p:spPr>
            <a:xfrm>
              <a:off x="423468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0256"/>
            <p:cNvSpPr/>
            <p:nvPr/>
          </p:nvSpPr>
          <p:spPr>
            <a:xfrm>
              <a:off x="568656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圆角矩形 10257"/>
            <p:cNvSpPr/>
            <p:nvPr/>
          </p:nvSpPr>
          <p:spPr>
            <a:xfrm>
              <a:off x="587916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0258"/>
            <p:cNvSpPr/>
            <p:nvPr/>
          </p:nvSpPr>
          <p:spPr>
            <a:xfrm>
              <a:off x="5904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0259"/>
            <p:cNvSpPr/>
            <p:nvPr/>
          </p:nvSpPr>
          <p:spPr>
            <a:xfrm>
              <a:off x="735624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0" y="0"/>
                  </a:moveTo>
                  <a:lnTo>
                    <a:pt x="0" y="171226"/>
                  </a:lnTo>
                  <a:lnTo>
                    <a:pt x="1669459" y="171226"/>
                  </a:lnTo>
                  <a:lnTo>
                    <a:pt x="1669459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 10260"/>
            <p:cNvSpPr/>
            <p:nvPr/>
          </p:nvSpPr>
          <p:spPr>
            <a:xfrm>
              <a:off x="838368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0261"/>
            <p:cNvSpPr/>
            <p:nvPr/>
          </p:nvSpPr>
          <p:spPr>
            <a:xfrm>
              <a:off x="840888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10262"/>
            <p:cNvSpPr/>
            <p:nvPr/>
          </p:nvSpPr>
          <p:spPr>
            <a:xfrm>
              <a:off x="819108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圆角矩形 10263"/>
            <p:cNvSpPr/>
            <p:nvPr/>
          </p:nvSpPr>
          <p:spPr>
            <a:xfrm>
              <a:off x="754884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0264"/>
            <p:cNvSpPr/>
            <p:nvPr/>
          </p:nvSpPr>
          <p:spPr>
            <a:xfrm>
              <a:off x="757404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0265"/>
            <p:cNvSpPr/>
            <p:nvPr/>
          </p:nvSpPr>
          <p:spPr>
            <a:xfrm>
              <a:off x="90259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10266"/>
            <p:cNvSpPr/>
            <p:nvPr/>
          </p:nvSpPr>
          <p:spPr>
            <a:xfrm>
              <a:off x="921852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0267"/>
            <p:cNvSpPr/>
            <p:nvPr/>
          </p:nvSpPr>
          <p:spPr>
            <a:xfrm>
              <a:off x="9243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7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197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5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0" y="-11160"/>
            <a:ext cx="12192120" cy="60156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1266"/>
          <p:cNvGrpSpPr/>
          <p:nvPr/>
        </p:nvGrpSpPr>
        <p:grpSpPr>
          <a:xfrm>
            <a:off x="92160" y="1685880"/>
            <a:ext cx="6316560" cy="4243320"/>
            <a:chOff x="92160" y="1685880"/>
            <a:chExt cx="6316560" cy="4243320"/>
          </a:xfrm>
        </p:grpSpPr>
        <p:sp>
          <p:nvSpPr>
            <p:cNvPr id="201" name="任意多边形 11267"/>
            <p:cNvSpPr/>
            <p:nvPr/>
          </p:nvSpPr>
          <p:spPr>
            <a:xfrm>
              <a:off x="2437200" y="3561480"/>
              <a:ext cx="3300120" cy="2097360"/>
            </a:xfrm>
            <a:custGeom>
              <a:avLst/>
              <a:gdLst/>
              <a:ahLst/>
              <a:rect l="l" t="t" r="r" b="b"/>
              <a:pathLst>
                <a:path w="2334344" h="2334344">
                  <a:moveTo>
                    <a:pt x="1656927" y="372184"/>
                  </a:moveTo>
                  <a:lnTo>
                    <a:pt x="1838502" y="219816"/>
                  </a:lnTo>
                  <a:lnTo>
                    <a:pt x="1983559" y="341534"/>
                  </a:lnTo>
                  <a:lnTo>
                    <a:pt x="1865036" y="546808"/>
                  </a:lnTo>
                  <a:cubicBezTo>
                    <a:pt x="1948385" y="640488"/>
                    <a:pt x="2013146" y="751069"/>
                    <a:pt x="2053484" y="872574"/>
                  </a:cubicBezTo>
                  <a:lnTo>
                    <a:pt x="2290389" y="872978"/>
                  </a:lnTo>
                  <a:lnTo>
                    <a:pt x="2323270" y="1059460"/>
                  </a:lnTo>
                  <a:lnTo>
                    <a:pt x="2100529" y="1140525"/>
                  </a:lnTo>
                  <a:cubicBezTo>
                    <a:pt x="2100784" y="1149371"/>
                    <a:pt x="2100909" y="1158256"/>
                    <a:pt x="2100909" y="1167171"/>
                  </a:cubicBezTo>
                  <a:cubicBezTo>
                    <a:pt x="2100909" y="1288886"/>
                    <a:pt x="2077621" y="1405161"/>
                    <a:pt x="2035313" y="1511643"/>
                  </a:cubicBezTo>
                  <a:lnTo>
                    <a:pt x="2216710" y="1663796"/>
                  </a:lnTo>
                  <a:lnTo>
                    <a:pt x="2122030" y="1827786"/>
                  </a:lnTo>
                  <a:lnTo>
                    <a:pt x="1899293" y="1746709"/>
                  </a:lnTo>
                  <a:cubicBezTo>
                    <a:pt x="1820859" y="1845716"/>
                    <a:pt x="1722760" y="1928412"/>
                    <a:pt x="1610972" y="1988902"/>
                  </a:cubicBezTo>
                  <a:lnTo>
                    <a:pt x="1651940" y="2222238"/>
                  </a:lnTo>
                  <a:lnTo>
                    <a:pt x="1474001" y="2287003"/>
                  </a:lnTo>
                  <a:lnTo>
                    <a:pt x="1355489" y="2081722"/>
                  </a:lnTo>
                  <a:cubicBezTo>
                    <a:pt x="1294790" y="2094354"/>
                    <a:pt x="1231747" y="2100909"/>
                    <a:pt x="1167172" y="2100909"/>
                  </a:cubicBezTo>
                  <a:cubicBezTo>
                    <a:pt x="1102499" y="2100909"/>
                    <a:pt x="1039361" y="2094334"/>
                    <a:pt x="978670" y="2081873"/>
                  </a:cubicBezTo>
                  <a:lnTo>
                    <a:pt x="860342" y="2287003"/>
                  </a:lnTo>
                  <a:lnTo>
                    <a:pt x="682403" y="2222238"/>
                  </a:lnTo>
                  <a:lnTo>
                    <a:pt x="723569" y="1988806"/>
                  </a:lnTo>
                  <a:cubicBezTo>
                    <a:pt x="611542" y="1928380"/>
                    <a:pt x="513462" y="1845694"/>
                    <a:pt x="435028" y="1746743"/>
                  </a:cubicBezTo>
                  <a:lnTo>
                    <a:pt x="212313" y="1827786"/>
                  </a:lnTo>
                  <a:lnTo>
                    <a:pt x="117633" y="1663796"/>
                  </a:lnTo>
                  <a:lnTo>
                    <a:pt x="299216" y="1511438"/>
                  </a:lnTo>
                  <a:cubicBezTo>
                    <a:pt x="256702" y="1405059"/>
                    <a:pt x="233434" y="1288833"/>
                    <a:pt x="233434" y="1167172"/>
                  </a:cubicBezTo>
                  <a:cubicBezTo>
                    <a:pt x="233434" y="1158216"/>
                    <a:pt x="233560" y="1149290"/>
                    <a:pt x="233807" y="1140517"/>
                  </a:cubicBezTo>
                  <a:lnTo>
                    <a:pt x="11073" y="1059460"/>
                  </a:lnTo>
                  <a:lnTo>
                    <a:pt x="43954" y="872978"/>
                  </a:lnTo>
                  <a:lnTo>
                    <a:pt x="280989" y="872984"/>
                  </a:lnTo>
                  <a:cubicBezTo>
                    <a:pt x="321263" y="750954"/>
                    <a:pt x="386001" y="640438"/>
                    <a:pt x="469299" y="546802"/>
                  </a:cubicBezTo>
                  <a:lnTo>
                    <a:pt x="350784" y="341534"/>
                  </a:lnTo>
                  <a:lnTo>
                    <a:pt x="495841" y="219816"/>
                  </a:lnTo>
                  <a:lnTo>
                    <a:pt x="677416" y="372184"/>
                  </a:lnTo>
                  <a:cubicBezTo>
                    <a:pt x="783118" y="306770"/>
                    <a:pt x="902931" y="261976"/>
                    <a:pt x="1030910" y="243306"/>
                  </a:cubicBezTo>
                  <a:lnTo>
                    <a:pt x="1072492" y="9932"/>
                  </a:lnTo>
                  <a:lnTo>
                    <a:pt x="1261851" y="9932"/>
                  </a:lnTo>
                  <a:lnTo>
                    <a:pt x="1303005" y="243367"/>
                  </a:lnTo>
                  <a:cubicBezTo>
                    <a:pt x="1431611" y="262046"/>
                    <a:pt x="1551334" y="306830"/>
                    <a:pt x="1657019" y="372087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1268"/>
            <p:cNvSpPr/>
            <p:nvPr/>
          </p:nvSpPr>
          <p:spPr>
            <a:xfrm>
              <a:off x="3101040" y="4052880"/>
              <a:ext cx="1973160" cy="10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Century Gothic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1269"/>
            <p:cNvSpPr/>
            <p:nvPr/>
          </p:nvSpPr>
          <p:spPr>
            <a:xfrm>
              <a:off x="516960" y="3065760"/>
              <a:ext cx="2400120" cy="1525320"/>
            </a:xfrm>
            <a:custGeom>
              <a:avLst/>
              <a:gdLst/>
              <a:ahLst/>
              <a:rect l="l" t="t" r="r" b="b"/>
              <a:pathLst>
                <a:path w="1697705" h="1697705">
                  <a:moveTo>
                    <a:pt x="1270302" y="429985"/>
                  </a:moveTo>
                  <a:lnTo>
                    <a:pt x="1520771" y="354498"/>
                  </a:lnTo>
                  <a:lnTo>
                    <a:pt x="1612934" y="514130"/>
                  </a:lnTo>
                  <a:lnTo>
                    <a:pt x="1422327" y="693299"/>
                  </a:lnTo>
                  <a:cubicBezTo>
                    <a:pt x="1435880" y="742782"/>
                    <a:pt x="1443049" y="794979"/>
                    <a:pt x="1443049" y="848851"/>
                  </a:cubicBezTo>
                  <a:cubicBezTo>
                    <a:pt x="1443049" y="902777"/>
                    <a:pt x="1435865" y="955025"/>
                    <a:pt x="1422443" y="1004541"/>
                  </a:cubicBezTo>
                  <a:lnTo>
                    <a:pt x="1612934" y="1183574"/>
                  </a:lnTo>
                  <a:lnTo>
                    <a:pt x="1520771" y="1343206"/>
                  </a:lnTo>
                  <a:lnTo>
                    <a:pt x="1270302" y="1267719"/>
                  </a:lnTo>
                  <a:cubicBezTo>
                    <a:pt x="1197035" y="1341434"/>
                    <a:pt x="1104560" y="1396035"/>
                    <a:pt x="1001166" y="1423346"/>
                  </a:cubicBezTo>
                  <a:lnTo>
                    <a:pt x="941015" y="1677928"/>
                  </a:lnTo>
                  <a:lnTo>
                    <a:pt x="756689" y="1677928"/>
                  </a:lnTo>
                  <a:lnTo>
                    <a:pt x="696828" y="1423272"/>
                  </a:lnTo>
                  <a:cubicBezTo>
                    <a:pt x="593053" y="1395982"/>
                    <a:pt x="500633" y="1341398"/>
                    <a:pt x="427402" y="1267720"/>
                  </a:cubicBezTo>
                  <a:lnTo>
                    <a:pt x="176933" y="1343206"/>
                  </a:lnTo>
                  <a:lnTo>
                    <a:pt x="84770" y="1183574"/>
                  </a:lnTo>
                  <a:lnTo>
                    <a:pt x="275377" y="1004405"/>
                  </a:lnTo>
                  <a:cubicBezTo>
                    <a:pt x="261824" y="954922"/>
                    <a:pt x="254655" y="902725"/>
                    <a:pt x="254655" y="848853"/>
                  </a:cubicBezTo>
                  <a:cubicBezTo>
                    <a:pt x="254655" y="794927"/>
                    <a:pt x="261839" y="742679"/>
                    <a:pt x="275261" y="693163"/>
                  </a:cubicBezTo>
                  <a:lnTo>
                    <a:pt x="84770" y="514130"/>
                  </a:lnTo>
                  <a:lnTo>
                    <a:pt x="176933" y="354498"/>
                  </a:lnTo>
                  <a:lnTo>
                    <a:pt x="427402" y="429985"/>
                  </a:lnTo>
                  <a:cubicBezTo>
                    <a:pt x="500669" y="356270"/>
                    <a:pt x="593144" y="301668"/>
                    <a:pt x="696539" y="274358"/>
                  </a:cubicBezTo>
                  <a:lnTo>
                    <a:pt x="756689" y="19776"/>
                  </a:lnTo>
                  <a:lnTo>
                    <a:pt x="941015" y="19776"/>
                  </a:lnTo>
                  <a:lnTo>
                    <a:pt x="1000876" y="274432"/>
                  </a:lnTo>
                  <a:cubicBezTo>
                    <a:pt x="1104651" y="301722"/>
                    <a:pt x="1197071" y="356306"/>
                    <a:pt x="1270302" y="429984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1270"/>
            <p:cNvSpPr/>
            <p:nvPr/>
          </p:nvSpPr>
          <p:spPr>
            <a:xfrm>
              <a:off x="1121400" y="3452040"/>
              <a:ext cx="11916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</a:t>
              </a: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  <a:ea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1271"/>
            <p:cNvSpPr/>
            <p:nvPr/>
          </p:nvSpPr>
          <p:spPr>
            <a:xfrm rot="20700000">
              <a:off x="1861200" y="2012760"/>
              <a:ext cx="2351520" cy="1494360"/>
            </a:xfrm>
            <a:custGeom>
              <a:avLst/>
              <a:gdLst/>
              <a:ahLst/>
              <a:rect l="l" t="t" r="r" b="b"/>
              <a:pathLst>
                <a:path w="1663404" h="1663404">
                  <a:moveTo>
                    <a:pt x="1244637" y="421297"/>
                  </a:moveTo>
                  <a:lnTo>
                    <a:pt x="1490045" y="347336"/>
                  </a:lnTo>
                  <a:lnTo>
                    <a:pt x="1580346" y="503742"/>
                  </a:lnTo>
                  <a:lnTo>
                    <a:pt x="1393589" y="679291"/>
                  </a:lnTo>
                  <a:cubicBezTo>
                    <a:pt x="1406869" y="727774"/>
                    <a:pt x="1413893" y="778917"/>
                    <a:pt x="1413893" y="831701"/>
                  </a:cubicBezTo>
                  <a:cubicBezTo>
                    <a:pt x="1413893" y="884538"/>
                    <a:pt x="1406854" y="935731"/>
                    <a:pt x="1393704" y="984246"/>
                  </a:cubicBezTo>
                  <a:lnTo>
                    <a:pt x="1580346" y="1159661"/>
                  </a:lnTo>
                  <a:lnTo>
                    <a:pt x="1490045" y="1316067"/>
                  </a:lnTo>
                  <a:lnTo>
                    <a:pt x="1244637" y="1242106"/>
                  </a:lnTo>
                  <a:cubicBezTo>
                    <a:pt x="1172851" y="1314332"/>
                    <a:pt x="1082244" y="1367830"/>
                    <a:pt x="980938" y="1394589"/>
                  </a:cubicBezTo>
                  <a:lnTo>
                    <a:pt x="922003" y="1644026"/>
                  </a:lnTo>
                  <a:lnTo>
                    <a:pt x="741400" y="1644026"/>
                  </a:lnTo>
                  <a:lnTo>
                    <a:pt x="682749" y="1394516"/>
                  </a:lnTo>
                  <a:cubicBezTo>
                    <a:pt x="581070" y="1367778"/>
                    <a:pt x="490517" y="1314296"/>
                    <a:pt x="418766" y="1242106"/>
                  </a:cubicBezTo>
                  <a:lnTo>
                    <a:pt x="173358" y="1316067"/>
                  </a:lnTo>
                  <a:lnTo>
                    <a:pt x="83057" y="1159661"/>
                  </a:lnTo>
                  <a:lnTo>
                    <a:pt x="269814" y="984112"/>
                  </a:lnTo>
                  <a:cubicBezTo>
                    <a:pt x="256534" y="935629"/>
                    <a:pt x="249510" y="884486"/>
                    <a:pt x="249510" y="831702"/>
                  </a:cubicBezTo>
                  <a:cubicBezTo>
                    <a:pt x="249510" y="778865"/>
                    <a:pt x="256549" y="727672"/>
                    <a:pt x="269699" y="679157"/>
                  </a:cubicBezTo>
                  <a:lnTo>
                    <a:pt x="83057" y="503742"/>
                  </a:lnTo>
                  <a:lnTo>
                    <a:pt x="173358" y="347336"/>
                  </a:lnTo>
                  <a:lnTo>
                    <a:pt x="418766" y="421297"/>
                  </a:lnTo>
                  <a:cubicBezTo>
                    <a:pt x="490552" y="349071"/>
                    <a:pt x="581159" y="295573"/>
                    <a:pt x="682465" y="268814"/>
                  </a:cubicBezTo>
                  <a:lnTo>
                    <a:pt x="741400" y="19377"/>
                  </a:lnTo>
                  <a:lnTo>
                    <a:pt x="922003" y="19377"/>
                  </a:lnTo>
                  <a:lnTo>
                    <a:pt x="980654" y="268887"/>
                  </a:lnTo>
                  <a:cubicBezTo>
                    <a:pt x="1082333" y="295625"/>
                    <a:pt x="1172886" y="349107"/>
                    <a:pt x="1244637" y="421297"/>
                  </a:cubicBezTo>
                  <a:close/>
                </a:path>
              </a:pathLst>
            </a:custGeom>
            <a:solidFill>
              <a:srgbClr val="70ad4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1272"/>
            <p:cNvSpPr/>
            <p:nvPr/>
          </p:nvSpPr>
          <p:spPr>
            <a:xfrm rot="900000">
              <a:off x="2377440" y="2340720"/>
              <a:ext cx="1320120" cy="8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entury Gothic"/>
                  <a:ea typeface="Century Gothic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1273"/>
            <p:cNvSpPr/>
            <p:nvPr/>
          </p:nvSpPr>
          <p:spPr>
            <a:xfrm>
              <a:off x="2184480" y="3244680"/>
              <a:ext cx="4224240" cy="2684520"/>
            </a:xfrm>
            <a:custGeom>
              <a:avLst/>
              <a:gdLst/>
              <a:ahLst/>
              <a:rect l="l" t="t" r="r" b="b"/>
              <a:pathLst>
                <a:path w="21600" h="20066">
                  <a:moveTo>
                    <a:pt x="18078" y="17343"/>
                  </a:moveTo>
                  <a:cubicBezTo>
                    <a:pt x="19638" y="15609"/>
                    <a:pt x="20587" y="13315"/>
                    <a:pt x="20587" y="10799"/>
                  </a:cubicBezTo>
                  <a:cubicBezTo>
                    <a:pt x="20587" y="5393"/>
                    <a:pt x="16205" y="1011"/>
                    <a:pt x="10799" y="1011"/>
                  </a:cubicBezTo>
                  <a:cubicBezTo>
                    <a:pt x="10470" y="1011"/>
                    <a:pt x="10145" y="1027"/>
                    <a:pt x="9825" y="1059"/>
                  </a:cubicBezTo>
                  <a:lnTo>
                    <a:pt x="9729" y="53"/>
                  </a:lnTo>
                  <a:cubicBezTo>
                    <a:pt x="10081" y="18"/>
                    <a:pt x="10438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3576"/>
                    <a:pt x="20553" y="16107"/>
                    <a:pt x="18831" y="18021"/>
                  </a:cubicBezTo>
                  <a:lnTo>
                    <a:pt x="20839" y="19825"/>
                  </a:lnTo>
                  <a:lnTo>
                    <a:pt x="16311" y="20066"/>
                  </a:lnTo>
                  <a:lnTo>
                    <a:pt x="16070" y="15538"/>
                  </a:lnTo>
                  <a:lnTo>
                    <a:pt x="18078" y="17343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1274"/>
            <p:cNvSpPr/>
            <p:nvPr/>
          </p:nvSpPr>
          <p:spPr>
            <a:xfrm>
              <a:off x="92160" y="2728080"/>
              <a:ext cx="3069360" cy="1950480"/>
            </a:xfrm>
            <a:custGeom>
              <a:avLst/>
              <a:gdLst/>
              <a:ahLst/>
              <a:rect l="l" t="t" r="r" b="b"/>
              <a:pathLst>
                <a:path w="24243" h="21600">
                  <a:moveTo>
                    <a:pt x="1431" y="11649"/>
                  </a:moveTo>
                  <a:cubicBezTo>
                    <a:pt x="1862" y="16448"/>
                    <a:pt x="5892" y="20206"/>
                    <a:pt x="10800" y="20206"/>
                  </a:cubicBezTo>
                  <a:cubicBezTo>
                    <a:pt x="15995" y="20206"/>
                    <a:pt x="20207" y="15994"/>
                    <a:pt x="20207" y="10799"/>
                  </a:cubicBezTo>
                  <a:cubicBezTo>
                    <a:pt x="20207" y="5604"/>
                    <a:pt x="15995" y="1392"/>
                    <a:pt x="10800" y="1392"/>
                  </a:cubicBezTo>
                  <a:cubicBezTo>
                    <a:pt x="9512" y="1392"/>
                    <a:pt x="8284" y="1651"/>
                    <a:pt x="7166" y="2120"/>
                  </a:cubicBezTo>
                  <a:lnTo>
                    <a:pt x="6631" y="836"/>
                  </a:lnTo>
                  <a:cubicBezTo>
                    <a:pt x="7912" y="296"/>
                    <a:pt x="9321" y="-1"/>
                    <a:pt x="10799" y="-1"/>
                  </a:cubicBezTo>
                  <a:cubicBezTo>
                    <a:pt x="16764" y="-1"/>
                    <a:pt x="21599" y="4834"/>
                    <a:pt x="21599" y="10799"/>
                  </a:cubicBezTo>
                  <a:cubicBezTo>
                    <a:pt x="21599" y="16764"/>
                    <a:pt x="16764" y="21599"/>
                    <a:pt x="10799" y="21599"/>
                  </a:cubicBezTo>
                  <a:cubicBezTo>
                    <a:pt x="5163" y="21599"/>
                    <a:pt x="536" y="17282"/>
                    <a:pt x="43" y="11778"/>
                  </a:cubicBezTo>
                  <a:lnTo>
                    <a:pt x="-2644" y="12019"/>
                  </a:lnTo>
                  <a:lnTo>
                    <a:pt x="431" y="8329"/>
                  </a:lnTo>
                  <a:lnTo>
                    <a:pt x="4120" y="11405"/>
                  </a:lnTo>
                  <a:lnTo>
                    <a:pt x="1431" y="11649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1275"/>
            <p:cNvSpPr/>
            <p:nvPr/>
          </p:nvSpPr>
          <p:spPr>
            <a:xfrm>
              <a:off x="1317600" y="1685880"/>
              <a:ext cx="3309120" cy="2103120"/>
            </a:xfrm>
            <a:custGeom>
              <a:avLst/>
              <a:gdLst/>
              <a:ahLst/>
              <a:rect l="l" t="t" r="r" b="b"/>
              <a:pathLst>
                <a:path w="5733" h="11715">
                  <a:moveTo>
                    <a:pt x="3722" y="4450"/>
                  </a:moveTo>
                  <a:cubicBezTo>
                    <a:pt x="2210" y="6133"/>
                    <a:pt x="1291" y="8359"/>
                    <a:pt x="1291" y="10799"/>
                  </a:cubicBezTo>
                  <a:cubicBezTo>
                    <a:pt x="1291" y="11072"/>
                    <a:pt x="1302" y="11341"/>
                    <a:pt x="1325" y="11608"/>
                  </a:cubicBezTo>
                  <a:lnTo>
                    <a:pt x="38" y="11715"/>
                  </a:lnTo>
                  <a:cubicBezTo>
                    <a:pt x="12" y="11413"/>
                    <a:pt x="-1" y="11108"/>
                    <a:pt x="-1" y="10799"/>
                  </a:cubicBezTo>
                  <a:cubicBezTo>
                    <a:pt x="-1" y="8027"/>
                    <a:pt x="1043" y="5499"/>
                    <a:pt x="2760" y="3587"/>
                  </a:cubicBezTo>
                  <a:lnTo>
                    <a:pt x="751" y="1784"/>
                  </a:lnTo>
                  <a:lnTo>
                    <a:pt x="5476" y="1528"/>
                  </a:lnTo>
                  <a:lnTo>
                    <a:pt x="5732" y="6253"/>
                  </a:lnTo>
                  <a:lnTo>
                    <a:pt x="3722" y="4450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7"/>
          <p:cNvGrpSpPr/>
          <p:nvPr/>
        </p:nvGrpSpPr>
        <p:grpSpPr>
          <a:xfrm>
            <a:off x="6016680" y="2319480"/>
            <a:ext cx="5521320" cy="2954160"/>
            <a:chOff x="6016680" y="2319480"/>
            <a:chExt cx="5521320" cy="2954160"/>
          </a:xfrm>
        </p:grpSpPr>
        <p:sp>
          <p:nvSpPr>
            <p:cNvPr id="211" name="矩形 9"/>
            <p:cNvSpPr/>
            <p:nvPr/>
          </p:nvSpPr>
          <p:spPr>
            <a:xfrm>
              <a:off x="6016680" y="2319480"/>
              <a:ext cx="5521320" cy="91116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0"/>
            <p:cNvSpPr/>
            <p:nvPr/>
          </p:nvSpPr>
          <p:spPr>
            <a:xfrm>
              <a:off x="6016680" y="3351960"/>
              <a:ext cx="5521320" cy="91116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1"/>
            <p:cNvSpPr/>
            <p:nvPr/>
          </p:nvSpPr>
          <p:spPr>
            <a:xfrm>
              <a:off x="6016680" y="4362480"/>
              <a:ext cx="5521320" cy="91116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12"/>
          <p:cNvSpPr/>
          <p:nvPr/>
        </p:nvSpPr>
        <p:spPr>
          <a:xfrm>
            <a:off x="6408720" y="2622600"/>
            <a:ext cx="4944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理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3"/>
          <p:cNvSpPr/>
          <p:nvPr/>
        </p:nvSpPr>
        <p:spPr>
          <a:xfrm>
            <a:off x="6378480" y="3627360"/>
            <a:ext cx="4943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理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6408720" y="4626000"/>
            <a:ext cx="4944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理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1339920" y="-58680"/>
            <a:ext cx="311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微软雅黑"/>
                <a:ea typeface="微软雅黑"/>
              </a:rPr>
              <a:t>研究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549360" y="-11520"/>
            <a:ext cx="1266480" cy="1241640"/>
            <a:chOff x="549360" y="-11520"/>
            <a:chExt cx="1266480" cy="1241640"/>
          </a:xfrm>
        </p:grpSpPr>
        <p:sp>
          <p:nvSpPr>
            <p:cNvPr id="219" name="流程图: 数据 1"/>
            <p:cNvSpPr/>
            <p:nvPr/>
          </p:nvSpPr>
          <p:spPr>
            <a:xfrm rot="10800000">
              <a:off x="862200" y="590040"/>
              <a:ext cx="953640" cy="639720"/>
            </a:xfrm>
            <a:prstGeom prst="flowChartInputOutput">
              <a:avLst/>
            </a:pr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21"/>
            <p:cNvSpPr/>
            <p:nvPr/>
          </p:nvSpPr>
          <p:spPr>
            <a:xfrm rot="16200000">
              <a:off x="470520" y="66960"/>
              <a:ext cx="1241640" cy="1084320"/>
            </a:xfrm>
            <a:prstGeom prst="rect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59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