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1D14-14B1-4CE3-8F7F-326CC3B3D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A01C-1C94-433E-B655-725F4A3A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A168-7CBB-455B-BC21-60811A58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97E9-9583-4861-BB42-0C691586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99BB-13A9-4A40-8361-19065E80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6B38-B9E8-455F-85BE-7D92B97E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C288-23F3-405C-8CE5-B0E335F9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4A6D-4821-4FAC-9A86-557A698E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6292-80E8-4B17-B58B-98C709B3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D2CC-226C-4074-AAB5-12B75BBA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D10C-5328-4C43-9D5F-8DBD58EB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C8E3-3F66-4041-913E-A9477ED14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3C42-8505-4092-B875-ED61D835040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9F78-4A84-4051-8866-B0ACC81A8F7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4104"/>
          <p:cNvSpPr/>
          <p:nvPr/>
        </p:nvSpPr>
        <p:spPr>
          <a:xfrm>
            <a:off x="38160" y="3286080"/>
            <a:ext cx="9283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Impact"/>
                <a:ea typeface="宋体"/>
              </a:rPr>
              <a:t>四色配置—论文答辩项目</a:t>
            </a:r>
            <a:r>
              <a:rPr b="1" lang="en-US" sz="4800" spc="-1" strike="noStrike">
                <a:solidFill>
                  <a:srgbClr val="ffffff"/>
                </a:solidFill>
                <a:latin typeface="Impact"/>
                <a:ea typeface="宋体"/>
              </a:rPr>
              <a:t>PPT</a:t>
            </a:r>
            <a:r>
              <a:rPr b="1" lang="en-US" sz="4800" spc="-1" strike="noStrike">
                <a:solidFill>
                  <a:srgbClr val="ffffff"/>
                </a:solidFill>
                <a:latin typeface="Impact"/>
                <a:ea typeface="宋体"/>
              </a:rPr>
              <a:t>模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0200" y="533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act"/>
                <a:ea typeface="宋体"/>
              </a:rPr>
              <a:t>YOUR TITLE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43000" y="14479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Impact"/>
                <a:ea typeface="宋体"/>
              </a:rPr>
              <a:t>YOUR SUBTOPIC 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14600" y="75960"/>
            <a:ext cx="4038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act"/>
                <a:ea typeface="宋体"/>
              </a:rPr>
              <a:t>TRANSI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8200"/>
          <p:cNvSpPr/>
          <p:nvPr/>
        </p:nvSpPr>
        <p:spPr>
          <a:xfrm>
            <a:off x="776160" y="1668600"/>
            <a:ext cx="4413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4313-66A1-4221-815E-A9684A8D080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76212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Impact"/>
                <a:ea typeface="宋体"/>
              </a:rPr>
              <a:t>YOUR TITLE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219320" y="1523880"/>
            <a:ext cx="6781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Impact"/>
                <a:ea typeface="宋体"/>
              </a:rPr>
              <a:t>YOUR SUBTOPIC 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02:57:0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1:34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