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B70A-AC1D-4DEA-AD37-EDABD591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C93-7716-4D0D-8BA5-B3246FEF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54D6-9734-4B86-8083-2E946F8C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5C03-FBF6-4F07-84CB-D8139D64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64C3-86C3-4DE3-BE7E-70187A21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4065-4302-43DB-B67B-E479A1F4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AE42-940B-4383-8B8A-3D3AAE00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D830-54D4-4698-8241-BD9E65EB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635A-4C27-4156-A5B9-5C9C75DE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DB42-4F72-4757-B38F-6962BF61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4E1C-4D22-4196-BD9A-8A95C2E6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761-021F-4C56-8913-951D00E9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7E62-CDF8-4DED-8D76-B92576F4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DA89-41EA-4409-8349-6EFD55DB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95E5-4B9C-4B28-979A-9BACE850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96F9-7759-46B1-BE32-A04F3F30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9810-FAF7-448E-B630-CAA3E242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895D-F2EB-4AAA-9E2A-296C6AA6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6B7-B1FC-4272-B35A-FC3AC4AD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9319-10B8-4B48-B73A-E6BC610A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6FA-8729-4309-924D-0473AF18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16EC-5526-4452-956A-935A8BAF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9FB2-1250-4A49-B5EA-6FD5E2A0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2B5-C984-4DE0-95BC-DE449205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A15C-FF0F-4449-8A97-A1667A355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624C-4FA5-4F2C-96A3-5FB6A2248E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9640" y="1341360"/>
            <a:ext cx="831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Unit 5 My New Room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3360240" y="3664080"/>
            <a:ext cx="245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896040" y="2438280"/>
            <a:ext cx="69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宋体"/>
              </a:rPr>
              <a:t>MyNewRoom</a:t>
            </a:r>
            <a:r>
              <a:rPr b="1" i="1" lang="zh-CN" sz="4000" spc="-1" strike="noStrike">
                <a:solidFill>
                  <a:srgbClr val="ff9900"/>
                </a:solidFill>
                <a:latin typeface="宋体"/>
              </a:rPr>
              <a:t>六课时</a:t>
            </a:r>
            <a:r>
              <a:rPr b="1" i="1" lang="en-US" sz="4000" spc="-1" strike="noStrike">
                <a:solidFill>
                  <a:srgbClr val="ff9900"/>
                </a:solidFill>
                <a:latin typeface="宋体"/>
              </a:rPr>
              <a:t>PPT</a:t>
            </a:r>
            <a:r>
              <a:rPr b="1" i="1" lang="zh-CN" sz="4000" spc="-1" strike="noStrike">
                <a:solidFill>
                  <a:srgbClr val="ff9900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1466640" cy="1800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2411280" y="549360"/>
            <a:ext cx="1454400" cy="180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4716360" y="476280"/>
            <a:ext cx="1505160" cy="187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7020000" y="476280"/>
            <a:ext cx="157320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5"/>
          <a:stretch/>
        </p:blipFill>
        <p:spPr>
          <a:xfrm>
            <a:off x="1116000" y="3500280"/>
            <a:ext cx="1643040" cy="2035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6"/>
          <a:stretch/>
        </p:blipFill>
        <p:spPr>
          <a:xfrm>
            <a:off x="3564000" y="3500280"/>
            <a:ext cx="1506600" cy="1952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7"/>
          <a:stretch/>
        </p:blipFill>
        <p:spPr>
          <a:xfrm>
            <a:off x="6300720" y="3429000"/>
            <a:ext cx="1527120" cy="197640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9"/>
          <p:cNvSpPr/>
          <p:nvPr/>
        </p:nvSpPr>
        <p:spPr>
          <a:xfrm>
            <a:off x="324000" y="2565360"/>
            <a:ext cx="136836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2484360" y="2565360"/>
            <a:ext cx="136836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4761000" y="2565360"/>
            <a:ext cx="14396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6975360" y="2565360"/>
            <a:ext cx="172908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h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1332000" y="5661000"/>
            <a:ext cx="129528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3652920" y="5661000"/>
            <a:ext cx="136836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5724360" y="5589720"/>
            <a:ext cx="273528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front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639000" y="0"/>
            <a:ext cx="82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is the mouse?    It’s ____  the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723960" cy="904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MCj04123140000[1]"/>
          <p:cNvPicPr/>
          <p:nvPr/>
        </p:nvPicPr>
        <p:blipFill>
          <a:blip r:embed="rId3"/>
          <a:stretch/>
        </p:blipFill>
        <p:spPr>
          <a:xfrm>
            <a:off x="6732720" y="1019160"/>
            <a:ext cx="2284200" cy="133344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6854760" y="2216160"/>
            <a:ext cx="432000" cy="692280"/>
            <a:chOff x="6854760" y="2216160"/>
            <a:chExt cx="432000" cy="692280"/>
          </a:xfrm>
        </p:grpSpPr>
        <p:sp>
          <p:nvSpPr>
            <p:cNvPr id="159" name="Line 5"/>
            <p:cNvSpPr/>
            <p:nvPr/>
          </p:nvSpPr>
          <p:spPr>
            <a:xfrm>
              <a:off x="6854760" y="2216160"/>
              <a:ext cx="432000" cy="692280"/>
            </a:xfrm>
            <a:prstGeom prst="line">
              <a:avLst/>
            </a:prstGeom>
            <a:ln w="57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6854760" y="2216160"/>
              <a:ext cx="432000" cy="69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235640" y="2863800"/>
            <a:ext cx="28800" cy="1285920"/>
            <a:chOff x="7235640" y="2863800"/>
            <a:chExt cx="28800" cy="1285920"/>
          </a:xfrm>
        </p:grpSpPr>
        <p:sp>
          <p:nvSpPr>
            <p:cNvPr id="162" name="Line 6"/>
            <p:cNvSpPr/>
            <p:nvPr/>
          </p:nvSpPr>
          <p:spPr>
            <a:xfrm flipH="1">
              <a:off x="7235640" y="2863800"/>
              <a:ext cx="28440" cy="1285920"/>
            </a:xfrm>
            <a:prstGeom prst="line">
              <a:avLst/>
            </a:prstGeom>
            <a:ln w="57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7236000" y="2863800"/>
              <a:ext cx="28440" cy="12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Picture 7" descr="MCj01925130000[1]"/>
          <p:cNvPicPr/>
          <p:nvPr/>
        </p:nvPicPr>
        <p:blipFill>
          <a:blip r:embed="rId4"/>
          <a:stretch/>
        </p:blipFill>
        <p:spPr>
          <a:xfrm>
            <a:off x="34920" y="331920"/>
            <a:ext cx="17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MCj04338330000[1]"/>
          <p:cNvPicPr/>
          <p:nvPr/>
        </p:nvPicPr>
        <p:blipFill>
          <a:blip r:embed="rId5"/>
          <a:stretch/>
        </p:blipFill>
        <p:spPr>
          <a:xfrm>
            <a:off x="5005440" y="2319480"/>
            <a:ext cx="1295280" cy="1541160"/>
          </a:xfrm>
          <a:prstGeom prst="rect">
            <a:avLst/>
          </a:prstGeom>
          <a:ln w="0">
            <a:noFill/>
          </a:ln>
        </p:spPr>
      </p:pic>
      <p:sp>
        <p:nvSpPr>
          <p:cNvPr id="166" name="Oval 9"/>
          <p:cNvSpPr/>
          <p:nvPr/>
        </p:nvSpPr>
        <p:spPr>
          <a:xfrm>
            <a:off x="4788000" y="4653000"/>
            <a:ext cx="280836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1187280" y="5229360"/>
            <a:ext cx="316872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5148360" y="472428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near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1476360" y="537372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is the trash b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72B1-0570-4100-8948-66A711CB91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2"/>
          <p:cNvSpPr txBox="1"/>
          <p:nvPr/>
        </p:nvSpPr>
        <p:spPr>
          <a:xfrm>
            <a:off x="1979640" y="3645000"/>
            <a:ext cx="49388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Thank you!</a:t>
            </a:r>
            <a:endParaRPr b="0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6" name="WordArt 3"/>
          <p:cNvSpPr txBox="1"/>
          <p:nvPr/>
        </p:nvSpPr>
        <p:spPr>
          <a:xfrm>
            <a:off x="2050920" y="1413000"/>
            <a:ext cx="49388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good bye!</a:t>
            </a:r>
            <a:endParaRPr b="0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3348000" y="2133720"/>
            <a:ext cx="1368360" cy="609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908000" y="1268280"/>
            <a:ext cx="53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is the mous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465360" y="3213000"/>
            <a:ext cx="1467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"/>
          <p:cNvSpPr/>
          <p:nvPr/>
        </p:nvSpPr>
        <p:spPr>
          <a:xfrm>
            <a:off x="3276720" y="1916280"/>
            <a:ext cx="1368360" cy="609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050920" y="1052640"/>
            <a:ext cx="49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is the mous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the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3549600" y="2924280"/>
            <a:ext cx="14540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419640" y="3357720"/>
            <a:ext cx="1504800" cy="187308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3"/>
          <p:cNvSpPr/>
          <p:nvPr/>
        </p:nvSpPr>
        <p:spPr>
          <a:xfrm>
            <a:off x="3348000" y="2022480"/>
            <a:ext cx="1440000" cy="609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95280" y="1154160"/>
            <a:ext cx="849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is the mou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the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8199"/>
          <p:cNvSpPr/>
          <p:nvPr/>
        </p:nvSpPr>
        <p:spPr>
          <a:xfrm>
            <a:off x="1268280" y="547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359160" y="3068640"/>
            <a:ext cx="1573200" cy="19447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3"/>
          <p:cNvSpPr/>
          <p:nvPr/>
        </p:nvSpPr>
        <p:spPr>
          <a:xfrm>
            <a:off x="2916360" y="2060640"/>
            <a:ext cx="1728720" cy="609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eh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332000" y="1197000"/>
            <a:ext cx="625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is the mous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case.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360600" y="3141720"/>
            <a:ext cx="1643040" cy="203508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"/>
          <p:cNvSpPr/>
          <p:nvPr/>
        </p:nvSpPr>
        <p:spPr>
          <a:xfrm>
            <a:off x="3203640" y="2011320"/>
            <a:ext cx="1295280" cy="609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n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116000" y="112536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is the mous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419640" y="3357720"/>
            <a:ext cx="1506240" cy="19526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3"/>
          <p:cNvSpPr/>
          <p:nvPr/>
        </p:nvSpPr>
        <p:spPr>
          <a:xfrm>
            <a:off x="3014640" y="2138400"/>
            <a:ext cx="1368360" cy="609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71640" y="1268280"/>
            <a:ext cx="616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is the mous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the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3708360" y="3068640"/>
            <a:ext cx="1527120" cy="19764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"/>
          <p:cNvSpPr/>
          <p:nvPr/>
        </p:nvSpPr>
        <p:spPr>
          <a:xfrm>
            <a:off x="2557440" y="1916280"/>
            <a:ext cx="2735280" cy="609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in front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332000" y="105264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is the mous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the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1466640" cy="1800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2541600" y="549360"/>
            <a:ext cx="1454040" cy="1800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tretch/>
        </p:blipFill>
        <p:spPr>
          <a:xfrm>
            <a:off x="3635280" y="3429000"/>
            <a:ext cx="1584360" cy="1944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4"/>
          <a:stretch/>
        </p:blipFill>
        <p:spPr>
          <a:xfrm>
            <a:off x="766800" y="3429000"/>
            <a:ext cx="1573200" cy="194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5"/>
          <a:stretch/>
        </p:blipFill>
        <p:spPr>
          <a:xfrm>
            <a:off x="6889680" y="549360"/>
            <a:ext cx="1643040" cy="180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6"/>
          <a:stretch/>
        </p:blipFill>
        <p:spPr>
          <a:xfrm>
            <a:off x="4721400" y="549360"/>
            <a:ext cx="150624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7"/>
          <a:stretch/>
        </p:blipFill>
        <p:spPr>
          <a:xfrm>
            <a:off x="6516720" y="3429000"/>
            <a:ext cx="1527120" cy="19764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9"/>
          <p:cNvSpPr/>
          <p:nvPr/>
        </p:nvSpPr>
        <p:spPr>
          <a:xfrm>
            <a:off x="0" y="2492280"/>
            <a:ext cx="2124000" cy="609840"/>
          </a:xfrm>
          <a:prstGeom prst="flowChart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re is the mouse?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he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2195640" y="2492280"/>
            <a:ext cx="2124000" cy="609840"/>
          </a:xfrm>
          <a:prstGeom prst="flowChart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re is the mouse?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he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4427640" y="2492280"/>
            <a:ext cx="2124000" cy="609840"/>
          </a:xfrm>
          <a:prstGeom prst="flowChart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re is the mouse?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he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6659640" y="2492280"/>
            <a:ext cx="2124000" cy="609840"/>
          </a:xfrm>
          <a:prstGeom prst="flowChart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re is the mouse?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he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179280" y="5589720"/>
            <a:ext cx="2737080" cy="609480"/>
          </a:xfrm>
          <a:prstGeom prst="flowChart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re is the mouse?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he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168720" y="5589720"/>
            <a:ext cx="2627280" cy="609480"/>
          </a:xfrm>
          <a:prstGeom prst="flowChart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re is the mouse?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he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6119640" y="5589720"/>
            <a:ext cx="2556000" cy="609480"/>
          </a:xfrm>
          <a:prstGeom prst="flowChart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re is the mouse?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he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611280" y="2752560"/>
            <a:ext cx="50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2771640" y="2759040"/>
            <a:ext cx="5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5003640" y="2747880"/>
            <a:ext cx="5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7246800" y="2759040"/>
            <a:ext cx="5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1004760" y="5854680"/>
            <a:ext cx="64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beh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4033800" y="5854680"/>
            <a:ext cx="50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u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6937200" y="5854680"/>
            <a:ext cx="5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 fron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8199"/>
          <p:cNvSpPr/>
          <p:nvPr/>
        </p:nvSpPr>
        <p:spPr>
          <a:xfrm>
            <a:off x="1116000" y="128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6:44:1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1:09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