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2A6-9CA1-4A8F-96A2-EED5A0CD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A95-0E65-4DF8-B70B-C5CC292C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0C6-BB83-437C-917A-DA6405DA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735-72D2-4FBD-80FD-D474550C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30A-FC7D-46C0-BA07-197C759B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D23E-C936-417A-9FED-22781D71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0F98-C023-43CF-A157-67312F59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5877-255D-4F4B-B1FF-77C9419F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86F7-0AC2-4F2E-B059-C098497D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78A2-88D2-48FD-89F8-7A54FA1E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3EA-4A52-45E6-A05B-5E1B06A4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9ECA-826F-4F47-B980-5E191CB2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435F-F7AE-4E89-BBEA-F9082AA2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8EB3-DB94-4F3F-8A5F-3B303A6A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5B45-BBEE-4891-870F-B774F5C0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EDB3-BD98-49E1-8160-727F2B17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C7F0-0F8C-458D-9D12-DDCC2D5E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C73F-E0A3-42DD-BCB6-425A1BF4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B80-BD55-48AB-A28E-78C420D2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0BB-8487-4059-B046-1D3FB53B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34B-43ED-4AD4-8A10-9399E25F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80F-16F0-425B-B874-42872C30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335-D3F7-4E7E-89F9-373CB1C5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6DD-C7D4-4A0C-B9DF-DC0088D1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A8D1-2B34-46B8-B09A-4ED11F376A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3413-D91D-4DFD-9695-B09E6BBB302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759A-4FD0-4B01-A167-C1C595ACA8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4"/>
          <p:cNvSpPr/>
          <p:nvPr/>
        </p:nvSpPr>
        <p:spPr>
          <a:xfrm>
            <a:off x="17640" y="3691080"/>
            <a:ext cx="9126360" cy="8650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3"/>
          <p:cNvSpPr/>
          <p:nvPr/>
        </p:nvSpPr>
        <p:spPr>
          <a:xfrm>
            <a:off x="0" y="2058840"/>
            <a:ext cx="9144000" cy="23767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xcb.njupt.edu.cn/picture/article/4/dc/0f/ee00742f47c4b34b08503f6a2c22/ebe38335-0d9d-4b4b-8e2c-8ace70c1c411.jpg"/>
          <p:cNvPicPr/>
          <p:nvPr/>
        </p:nvPicPr>
        <p:blipFill>
          <a:blip r:embed="rId1"/>
          <a:stretch/>
        </p:blipFill>
        <p:spPr>
          <a:xfrm>
            <a:off x="222120" y="250920"/>
            <a:ext cx="4421160" cy="117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353880" y="1573200"/>
            <a:ext cx="3541680" cy="23162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4921560" y="237024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地铁列车中无线监测通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系统的研究与实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6616800" y="47847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张  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6566040" y="5245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李 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6249600" y="5680080"/>
            <a:ext cx="19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2134440" y="119700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南京邮电大学论文答辩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" descr=""/>
          <p:cNvPicPr/>
          <p:nvPr/>
        </p:nvPicPr>
        <p:blipFill>
          <a:blip r:embed="rId1"/>
          <a:srcRect l="23125" t="23443" r="22988" b="0"/>
          <a:stretch/>
        </p:blipFill>
        <p:spPr>
          <a:xfrm>
            <a:off x="611280" y="1628640"/>
            <a:ext cx="4973400" cy="4335480"/>
          </a:xfrm>
          <a:prstGeom prst="rect">
            <a:avLst/>
          </a:prstGeom>
          <a:ln w="0">
            <a:noFill/>
          </a:ln>
        </p:spPr>
      </p:pic>
      <p:sp>
        <p:nvSpPr>
          <p:cNvPr id="226" name="矩形 2"/>
          <p:cNvSpPr/>
          <p:nvPr/>
        </p:nvSpPr>
        <p:spPr>
          <a:xfrm>
            <a:off x="5576760" y="1825560"/>
            <a:ext cx="10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3"/>
          <p:cNvSpPr/>
          <p:nvPr/>
        </p:nvSpPr>
        <p:spPr>
          <a:xfrm>
            <a:off x="5576760" y="236520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6147720" y="2484360"/>
            <a:ext cx="17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中心频率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椭圆 5"/>
          <p:cNvSpPr/>
          <p:nvPr/>
        </p:nvSpPr>
        <p:spPr>
          <a:xfrm>
            <a:off x="5803920" y="2538360"/>
            <a:ext cx="183960" cy="185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椭圆 6"/>
          <p:cNvSpPr/>
          <p:nvPr/>
        </p:nvSpPr>
        <p:spPr>
          <a:xfrm>
            <a:off x="5803920" y="2927520"/>
            <a:ext cx="183960" cy="185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椭圆 7"/>
          <p:cNvSpPr/>
          <p:nvPr/>
        </p:nvSpPr>
        <p:spPr>
          <a:xfrm>
            <a:off x="5803920" y="3317760"/>
            <a:ext cx="183960" cy="1843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6180120" y="2835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通带波纹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6148440" y="32259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阻带衰减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接连接符 10"/>
          <p:cNvSpPr/>
          <p:nvPr/>
        </p:nvSpPr>
        <p:spPr>
          <a:xfrm>
            <a:off x="5576760" y="4005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5967360" y="4089240"/>
            <a:ext cx="17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优化之后满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了指标，但由于原理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仿真和版图仿真采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是不同的算法，所以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图仿真时依然会出现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符合指标的情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6005520" y="1908000"/>
            <a:ext cx="139212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之后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5724360" y="3573360"/>
            <a:ext cx="197496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 果 分 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4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5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直接连接符 18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0" y="11160"/>
            <a:ext cx="3059280" cy="6846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517040" y="1515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355400" y="26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enci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635280" y="1461960"/>
          <a:ext cx="5184720" cy="3178080"/>
        </p:xfrm>
        <a:graphic>
          <a:graphicData uri="http://schemas.openxmlformats.org/drawingml/2006/table">
            <a:tbl>
              <a:tblPr/>
              <a:tblGrid>
                <a:gridCol w="647640"/>
                <a:gridCol w="453708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选题背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设计理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仿真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4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结论分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2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803240" y="1808280"/>
            <a:ext cx="1500480" cy="4316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接连接符 10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接连接符 12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接连接符 13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2683080" y="17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f"/>
                </a:solidFill>
                <a:uFillTx/>
                <a:latin typeface="Calibri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f"/>
                </a:solidFill>
                <a:uFillTx/>
                <a:latin typeface="Calibri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接连接符 15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2831400" y="17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发展方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1227240" y="2990880"/>
            <a:ext cx="11127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技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3378960" y="1935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高温超导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HTS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、低温共烧陶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341440" y="4229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S HFSS CS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636000" y="299556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单片微波集成电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MMIC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、微电子机械系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ME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416600" y="419112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1418760" y="187308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材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23"/>
          <p:cNvSpPr/>
          <p:nvPr/>
        </p:nvSpPr>
        <p:spPr>
          <a:xfrm>
            <a:off x="2340000" y="2541600"/>
            <a:ext cx="56880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24"/>
          <p:cNvSpPr/>
          <p:nvPr/>
        </p:nvSpPr>
        <p:spPr>
          <a:xfrm>
            <a:off x="2446200" y="3549600"/>
            <a:ext cx="54738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接连接符 25"/>
          <p:cNvSpPr/>
          <p:nvPr/>
        </p:nvSpPr>
        <p:spPr>
          <a:xfrm flipV="1">
            <a:off x="2446200" y="4653000"/>
            <a:ext cx="5488200" cy="3024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接连接符 5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流程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779400" y="1952640"/>
            <a:ext cx="351144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72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给定的指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确定滤波器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779400" y="1405080"/>
            <a:ext cx="35258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滤波器参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5278320" y="1952640"/>
            <a:ext cx="324180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设计好低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转化为带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779400" y="4627440"/>
            <a:ext cx="351144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带通原型设计分布参数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利用微带线实现交指型滤波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22"/>
          <p:cNvSpPr/>
          <p:nvPr/>
        </p:nvSpPr>
        <p:spPr>
          <a:xfrm>
            <a:off x="4357800" y="2440080"/>
            <a:ext cx="920520" cy="649080"/>
          </a:xfrm>
          <a:prstGeom prst="rightArrow">
            <a:avLst>
              <a:gd name="adj1" fmla="val 50000"/>
              <a:gd name="adj2" fmla="val 30314"/>
            </a:avLst>
          </a:prstGeom>
          <a:solidFill>
            <a:srgbClr val="8bab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组合 18" descr=""/>
          <p:cNvPicPr/>
          <p:nvPr/>
        </p:nvPicPr>
        <p:blipFill>
          <a:blip r:embed="rId1"/>
          <a:stretch/>
        </p:blipFill>
        <p:spPr>
          <a:xfrm>
            <a:off x="5869080" y="4292640"/>
            <a:ext cx="1390680" cy="1359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6"/>
          <p:cNvSpPr/>
          <p:nvPr/>
        </p:nvSpPr>
        <p:spPr>
          <a:xfrm>
            <a:off x="5278320" y="1422360"/>
            <a:ext cx="324180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低通原型转变成带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93800" y="4038480"/>
            <a:ext cx="35114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转变成分布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下箭头 6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3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4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16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5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8199"/>
          <p:cNvSpPr/>
          <p:nvPr/>
        </p:nvSpPr>
        <p:spPr>
          <a:xfrm>
            <a:off x="75564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f"/>
                </a:solidFill>
                <a:uFillTx/>
                <a:latin typeface="Calibri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b0ff"/>
                </a:solidFill>
                <a:uFillTx/>
                <a:latin typeface="Calibri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534280" cy="11811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下箭头 4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205" name="矩形 7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9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1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接连接符 13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4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5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17" descr=""/>
          <p:cNvPicPr/>
          <p:nvPr/>
        </p:nvPicPr>
        <p:blipFill>
          <a:blip r:embed="rId3"/>
          <a:stretch/>
        </p:blipFill>
        <p:spPr>
          <a:xfrm>
            <a:off x="1976400" y="3753000"/>
            <a:ext cx="1257480" cy="257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3" descr=""/>
          <p:cNvPicPr/>
          <p:nvPr/>
        </p:nvPicPr>
        <p:blipFill>
          <a:blip r:embed="rId4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  <p:sp>
        <p:nvSpPr>
          <p:cNvPr id="216" name="矩形 18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9"/>
          <p:cNvSpPr/>
          <p:nvPr/>
        </p:nvSpPr>
        <p:spPr>
          <a:xfrm>
            <a:off x="-4680" y="0"/>
            <a:ext cx="914868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宋体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21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4299480" y="189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0ADD-41A3-4764-B25B-848B4185FF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05:10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1:2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