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0FC-9798-41B8-94EC-1C833938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046-C6A5-4796-8913-9E9771A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DD1-91CB-4BDF-8CAC-4A4BE03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7A2-724E-4FDB-8699-A318631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A98-0124-466A-9178-D27BB91E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82E-88F3-44A4-8EBC-B40AF39F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93D-AE87-48E9-B799-8805CB8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0EE-3872-427E-81C4-BB12175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893-903E-46DB-87CC-0A07561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1A1-A9AF-4F9A-B57F-17F1B7A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161-F948-42C9-AC5D-8FA4AA5D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62C-14F1-439C-9DCB-ABA052A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图形3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AEA-2843-4A7A-B655-606FE5B35F2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B7F-C5A7-4EE8-BC21-8C890B5966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形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351000" y="800280"/>
            <a:ext cx="86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师范大学精美毕业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8199"/>
          <p:cNvSpPr/>
          <p:nvPr/>
        </p:nvSpPr>
        <p:spPr>
          <a:xfrm>
            <a:off x="4032360" y="64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EED-2942-45EB-AE0A-69F6E5BD7D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>
            <a:off x="685800" y="914400"/>
            <a:ext cx="4419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迎批评指正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27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4Z</dcterms:modified>
  <cp:revision>5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