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C89-1064-40D7-B1B2-4A9B561F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254-0049-4275-AF9D-C75AF5FE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435-7015-4BB3-9F5F-709BEFFB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81A-FC16-4BF4-BE3A-6F9FB532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AFF-6940-4116-814F-551DE0DA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69B-37FE-4FD9-93CE-A91C6294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F2B-55F5-4FFD-91BA-EA8559A9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5BE-EEA1-49C5-A120-00CF25E7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C3C-4EB9-47E8-98C7-A3C19D18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72B-8212-4AD3-A302-8841141E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8BA-8834-4A6A-B547-06849621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71E-3F0A-488A-98BF-B4AF6896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CE16-B21B-43DE-BDAA-492CC8559FE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7559-33B4-4979-96D6-215D24C82A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149360"/>
            <a:ext cx="7772400" cy="1035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室内设计专业毕业论文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文本框 8198"/>
          <p:cNvSpPr/>
          <p:nvPr/>
        </p:nvSpPr>
        <p:spPr>
          <a:xfrm>
            <a:off x="755640" y="2276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e66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ee6600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8000" y="274680"/>
            <a:ext cx="67788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6D57-F332-4BC7-9C51-8A0674D0B112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12:15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12Z</dcterms:modified>
  <cp:revision>8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