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E90-3EB4-4554-9975-1E06DBA9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97A-1F05-4175-A20C-642423E4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5C4-DACD-42CC-B2FF-9A084C6E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756-7412-4822-A114-EE2BF7B7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3AC9-CE2F-485B-9725-D4D95459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2FE7-B6F7-4BA9-9565-75F0396E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316A-8ED4-41D9-868D-7D550F64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FD61-2C44-414F-8FFF-612DB966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6E3E-73FF-4D1D-A923-1C9AF36F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D4F8-765B-404B-AFF2-327CD651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4674-816E-47F1-9E2C-1FA017B9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6CF-BFAF-4DAA-A41C-E500FA14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2275-D855-46B6-A015-EEA7D3DB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9E4D-72D7-47F1-8AEE-E3085D3B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1F9F-BC66-4A67-9444-EBD51687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C578-7E15-4763-85F2-608B3829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4721-AEE4-4EA8-8DE3-BCA917CE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8F1-C82A-403A-839E-FB846909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568-67D4-42BC-9511-AE54DF70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0A2-6239-41AF-8975-1E4BA79D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DE8-4433-41EC-A3A2-F02D7C29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B09-22E9-4FA0-99E7-A8A99DAC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678-AA85-4D95-B864-8ED35B0A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ADD-30C5-4F9D-85D6-5AD95E8E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5B64-1C1A-412D-ACC3-20F0BBA4AE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AB9A-A69C-4F1F-9A87-7118E09B10B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E073-1BEA-4D86-94F7-8D8DF83FF9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标题 1" descr=""/>
          <p:cNvPicPr/>
          <p:nvPr/>
        </p:nvPicPr>
        <p:blipFill>
          <a:blip r:embed="rId2"/>
          <a:stretch/>
        </p:blipFill>
        <p:spPr>
          <a:xfrm>
            <a:off x="685800" y="2130480"/>
            <a:ext cx="7772400" cy="146988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DD27-F5D3-46BA-BECC-71F0BDF6F0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0:08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5:50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