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99520" y="41076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1F98B-C5D7-4F4A-ABC8-1CC7341E2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8133A4-373A-4205-A979-36B15C2B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5014A-3F08-43CD-8BB3-6153C3D7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FC1CF-201F-4654-8623-DD074D80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31980-4E08-4DFA-87B2-A3142C88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299520" y="41076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86D33-A127-4A01-8725-E1E7762E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F567B-F0E2-4FD7-93F9-E8DD5977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36F8E9-CBA0-419B-A314-33B2ECB7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77CC9-1A62-4C2E-AC94-11B0DAC7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C9118-DC91-4370-8B30-F994EF30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17F572-9175-475B-BF6B-5F33BEFCD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EE1CA-3B6D-4837-8460-4F7A30ADD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99520" y="41076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73188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46040" indent="468360">
              <a:spcAft>
                <a:spcPts val="1001"/>
              </a:spcAft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22160" indent="19224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88920" indent="-745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88920" indent="-745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88920" indent="-745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219240" y="6365880"/>
            <a:ext cx="1342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7901A93C-A7FD-4DB1-A109-634CE6492D35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73188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46040" indent="468360">
              <a:spcAft>
                <a:spcPts val="1001"/>
              </a:spcAft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22160" indent="19224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88920" indent="-745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88920" indent="-745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88920" indent="-745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E0C4-9DD1-46D0-9F5B-3F6A15303A8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8EED-A910-48AC-8782-135B9B679B4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8"/>
          <p:cNvSpPr/>
          <p:nvPr/>
        </p:nvSpPr>
        <p:spPr>
          <a:xfrm>
            <a:off x="1961640" y="4861080"/>
            <a:ext cx="558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同济大学毕业答辩</a:t>
            </a:r>
            <a:r>
              <a:rPr b="0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51" descr="C:\Documents and Settings\Administrator\My Documents\My Pictures\未标题-1 拷贝.png"/>
          <p:cNvPicPr/>
          <p:nvPr/>
        </p:nvPicPr>
        <p:blipFill>
          <a:blip r:embed="rId1"/>
          <a:stretch/>
        </p:blipFill>
        <p:spPr>
          <a:xfrm>
            <a:off x="1954080" y="1833480"/>
            <a:ext cx="1516320" cy="14414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96"/>
          <p:cNvSpPr/>
          <p:nvPr/>
        </p:nvSpPr>
        <p:spPr>
          <a:xfrm>
            <a:off x="4122720" y="179388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舒体"/>
                <a:ea typeface="方正舒体"/>
              </a:rPr>
              <a:t>同济大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2"/>
          <p:cNvSpPr/>
          <p:nvPr/>
        </p:nvSpPr>
        <p:spPr>
          <a:xfrm>
            <a:off x="3651120" y="2835360"/>
            <a:ext cx="32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宋体"/>
              </a:rPr>
              <a:t>TONGJI 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9"/>
          <p:cNvSpPr/>
          <p:nvPr/>
        </p:nvSpPr>
        <p:spPr>
          <a:xfrm>
            <a:off x="1916640" y="289080"/>
            <a:ext cx="317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创艺简中圆"/>
              </a:rPr>
              <a:t>点击此处添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创艺简中圆"/>
              </a:rPr>
              <a:t>PP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创艺简中圆"/>
              </a:rPr>
              <a:t>模板名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51" descr="C:\Documents and Settings\Administrator\My Documents\My Pictures\未标题-1 拷贝.png"/>
          <p:cNvPicPr/>
          <p:nvPr/>
        </p:nvPicPr>
        <p:blipFill>
          <a:blip r:embed="rId1"/>
          <a:stretch/>
        </p:blipFill>
        <p:spPr>
          <a:xfrm>
            <a:off x="331920" y="133200"/>
            <a:ext cx="901440" cy="858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774720" y="1479600"/>
            <a:ext cx="792648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配色方案在【格式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--&g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【幻灯片设计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--&g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【配色方案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--&g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【编辑配色方案】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LOG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添加修改在【视图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--&g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【母版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--&g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【幻灯片母版】下调整。直接选择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括标题和文本格式的设置在【视图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--&g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【母版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--&g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黑体"/>
              </a:rPr>
              <a:t>【幻灯片母版】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40505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40505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77B5-910E-4092-B132-2D27CF1FDB4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51" descr="C:\Documents and Settings\Administrator\My Documents\My Pictures\未标题-1 拷贝.png"/>
          <p:cNvPicPr/>
          <p:nvPr/>
        </p:nvPicPr>
        <p:blipFill>
          <a:blip r:embed="rId1"/>
          <a:stretch/>
        </p:blipFill>
        <p:spPr>
          <a:xfrm>
            <a:off x="1954080" y="1833480"/>
            <a:ext cx="1516320" cy="1441440"/>
          </a:xfrm>
          <a:prstGeom prst="rect">
            <a:avLst/>
          </a:prstGeom>
          <a:ln w="0">
            <a:noFill/>
          </a:ln>
        </p:spPr>
      </p:pic>
      <p:sp>
        <p:nvSpPr>
          <p:cNvPr id="134" name="TextBox 96"/>
          <p:cNvSpPr/>
          <p:nvPr/>
        </p:nvSpPr>
        <p:spPr>
          <a:xfrm>
            <a:off x="4122720" y="179388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舒体"/>
                <a:ea typeface="方正舒体"/>
              </a:rPr>
              <a:t>同济大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2"/>
          <p:cNvSpPr/>
          <p:nvPr/>
        </p:nvSpPr>
        <p:spPr>
          <a:xfrm>
            <a:off x="3651120" y="2835360"/>
            <a:ext cx="32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ONGJI 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7"/>
          <p:cNvSpPr/>
          <p:nvPr/>
        </p:nvSpPr>
        <p:spPr>
          <a:xfrm>
            <a:off x="3618360" y="4576680"/>
            <a:ext cx="287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感谢同济大学对我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年的培养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感谢各位老师、同学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感谢我的导师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**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老师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感谢我的父母、家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3"/>
          <p:cNvSpPr/>
          <p:nvPr/>
        </p:nvSpPr>
        <p:spPr>
          <a:xfrm>
            <a:off x="3147840" y="6275520"/>
            <a:ext cx="25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3:54:2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1:33Z</dcterms:modified>
  <cp:revision>7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