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413-E543-4B3B-8849-601AAB42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CAE-5F77-4184-83A4-1CC86F3D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727-5ED0-49B8-A2E1-A3F39E1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58A-54C9-4047-93DE-76799D7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CF0-9971-4BC5-A7C3-15BE105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010-D0CC-4D4F-9A0E-CD3C46C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81C-8EFC-43FC-B0E0-8256A75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72-A7C7-4AF6-93BB-17FBF77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771-476B-49B2-ADAF-6CC9A76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3B3-4D03-45A1-864B-7206679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DE6-E1FE-49BB-9B4D-A5A70BE6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035-71CA-402E-A48E-1EC2FF38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54C-1F14-4BC9-9336-0C1E8CD4F5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16E2-A926-46A3-A56C-7C840A3860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539640" y="250920"/>
            <a:ext cx="848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育专业论文答辩精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8200"/>
          <p:cNvSpPr/>
          <p:nvPr/>
        </p:nvSpPr>
        <p:spPr>
          <a:xfrm>
            <a:off x="898560" y="334656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C8B8-635A-4945-A280-38F19A4030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0:3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