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D3A-0608-4BD7-843B-E6AE6CB8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1FB-AD25-4CE9-B61D-56E4B196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EFE-DB25-4F2F-AA62-30701C11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D17-BBE9-4E1C-921C-018BC36B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BA8-3B89-4B26-BCF7-F1A066F9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A4C-B4ED-41BB-961C-CD61FF7C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E90-01BC-4D1E-B48A-C930E49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38D-BBF5-4FA6-A378-8082FFF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05E-083A-455A-93A9-DEE698B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1E3-5D16-4003-B828-07986AE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A3C-44C4-4384-9F7C-AABA0F62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39D-2164-484C-9F2B-3624A917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2120"/>
            <a:ext cx="9163080" cy="360"/>
            <a:chOff x="0" y="762120"/>
            <a:chExt cx="9163080" cy="360"/>
          </a:xfrm>
        </p:grpSpPr>
        <p:sp>
          <p:nvSpPr>
            <p:cNvPr id="1" name="Line 155"/>
            <p:cNvSpPr/>
            <p:nvPr/>
          </p:nvSpPr>
          <p:spPr>
            <a:xfrm>
              <a:off x="0" y="762120"/>
              <a:ext cx="9163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0" y="762120"/>
              <a:ext cx="916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A688-940A-4AE1-8641-818A26FC3A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3113-DCCC-4A11-B95C-768FB05009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4643280" y="4869000"/>
            <a:ext cx="478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答辩人：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指导教师：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172"/>
          <p:cNvSpPr/>
          <p:nvPr/>
        </p:nvSpPr>
        <p:spPr>
          <a:xfrm>
            <a:off x="611280" y="1844640"/>
            <a:ext cx="8315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新闻专业论文答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5" descr="flipboard_ipad"/>
          <p:cNvPicPr/>
          <p:nvPr/>
        </p:nvPicPr>
        <p:blipFill>
          <a:blip r:embed="rId1"/>
          <a:stretch/>
        </p:blipFill>
        <p:spPr>
          <a:xfrm>
            <a:off x="395280" y="2781360"/>
            <a:ext cx="320040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ak 1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3A6-963B-43D8-8E1C-7E19B6580D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ak 12"/>
          <p:cNvSpPr/>
          <p:nvPr/>
        </p:nvSpPr>
        <p:spPr>
          <a:xfrm>
            <a:off x="714240" y="5157720"/>
            <a:ext cx="8429760" cy="1800"/>
          </a:xfrm>
          <a:prstGeom prst="line">
            <a:avLst/>
          </a:prstGeom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1835280" y="3035160"/>
            <a:ext cx="2232000" cy="1833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podcampbc-090919133506-phpapp01-18.jpg"/>
          <p:cNvPicPr/>
          <p:nvPr/>
        </p:nvPicPr>
        <p:blipFill>
          <a:blip r:embed="rId2"/>
          <a:stretch/>
        </p:blipFill>
        <p:spPr>
          <a:xfrm>
            <a:off x="4788000" y="1773360"/>
            <a:ext cx="3047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1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6Z</dcterms:modified>
  <cp:revision>2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