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12.gif" ContentType="image/gi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DBC-3A79-4D84-BCB5-4ECEAEE0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269-7DAF-4245-91BA-0B3B2D8D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6B0D1-4A7F-48A3-B612-BDC666D3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27FAD-1BCD-4E46-BAD6-D0F86D0D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C23FB-E62A-450D-8FD3-1835497E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94016-565B-4991-8471-2528243F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E1C35-A07E-4C35-A7B5-15CD7F8B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13C07-2FCC-4278-BD4D-81D33234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FABF9-7164-447A-8301-FEDD56C4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8B639-19C0-4BE5-A1D0-02D4736F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A5816-AB46-4332-BAA3-0AF319D7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015BC-ADB4-4C94-85FC-8687BD1D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73B-0D46-469D-883B-91B595CF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BDF29-E809-464A-BAE2-5861074B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BCBE1-40DF-46F0-843F-D2510BF8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3F8DB-D181-48AC-938E-CD2691B9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8FAC0-EEB5-4293-8261-52853028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368EF-8A65-4A57-9F5A-BC24E80D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3ED6D-67B6-4DF1-BFE6-CBCED0D8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BEF4E-B239-4C8F-A2A5-F01D3B5D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27A92-84DE-4109-9C6C-49C17302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F426B-B5B0-4C36-A572-79E49494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3F817-8287-40DD-A8BD-F19DCA74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E25-896B-4D15-AD65-D0D28D11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A8FCB-D2F7-4051-A161-073804E8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C7BA0-92A7-4306-B7A8-2AF35555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C36AD-D2A3-4750-A5DD-D36F64BB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D0E1D-7D05-4452-9E9C-AC211091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9682C-565F-483A-BCF5-9FE2D060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F6C2B-7ADE-4000-8EE5-CD65DC98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F43FB-8560-43F8-8374-2B89C41B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85E43-CF31-429C-B311-7CF2E4D9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333BA-C6A2-4BAD-A8DE-AB4C4131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E8222-4672-486C-AF1A-84E92832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F760-85F2-4616-810B-C0D4E991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84D52-AE43-4FF1-A7DD-0593C8C0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067C9-896E-4BB9-8067-C8CE9587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C85B1-3757-443C-BD02-2EDD92C2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33F8-C575-4F24-90FE-18D1D877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0FA2-C7C6-4FFE-89BF-BF317CC8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1928-E7B0-4226-B573-F39E4014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087E-99C0-4A5D-8892-CE6ED17B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C894-A283-4C8C-BACF-14AD00A2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62B3-B9D2-4F76-B204-85E97613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D86-1B9A-4EE4-8264-5DDC08C0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3F16-0E87-4AF7-AAC1-C65D3E66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5F6F-BE6A-4168-B812-ABD0D29D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A264-4B04-4FB4-9638-085D65CB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9A33-574F-4DE0-9855-5CA2EE11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AAEA-34DB-4168-AD8B-74D9003B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1C813-AC69-4706-B11D-2E8AB4A3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2B59-D272-4FA2-ACC9-F5194CE2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D1707-6578-4E5C-A77D-446A09AB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C1EA0-7EFD-4854-BE08-D28F5482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1FFD1-5FBC-45DA-944A-B94BD9AC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2F9-9C17-4BD2-9D67-8E91AB86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47F6-6427-4D63-AAB6-C2B47D59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C0C09-996F-41A4-A742-AA478555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A5FA-0C3F-4174-A3C4-6E310072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BFBE8-1F3E-4EDB-A2B2-15CDF65D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F641-7769-4A9B-8C3E-0CF74482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A73D-3641-49B5-8FA6-F478A144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7B677-4495-453A-A08E-15039814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D6E9F-AC95-4DB7-9120-F42C3876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183BA-9629-4D01-86DE-3271C955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B7545-80F0-4ACD-BB7B-67F677CD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CB8-D751-456D-AD24-CCEADBDB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66FF-F95C-4353-BFE8-A56A38C7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DA678-435A-4105-ABA6-DFFA8EF6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9E8F-4578-476D-8769-28C85047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0EAE-C9B2-46BE-9F83-6EE364ED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86818-080F-4DDC-9374-E7F0F887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71EC9-24FB-4E99-9D67-BFDBE301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0AA0E-6BD5-4FA0-9582-91933262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1C5E-759F-4A2F-A1E9-3E855B1F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174B7-0897-4752-8825-CA96481A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CAF57-7B59-44CD-B986-22DE6432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DDB-9BDA-4481-BF5C-951A96E2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75D60-AF8C-4DFA-8C04-D4A4606B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5F720-F2D3-403E-B39E-CBDD8B69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50A75-0E6F-49A2-B556-3329C982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82AA1-3AA1-4A4F-87B3-5EC3A48A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924F5-88B2-47F4-828D-6029BA2D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791D-C369-478B-9176-3C6C658D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53D5E-24C5-443B-8AB2-EF2B4FFB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655E-8E1B-4F61-98C5-84386097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EC5E-8189-4DDF-A330-67E07F10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DC63B-0439-4F6E-BD19-FDBCB6EC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1D4-D7AE-4E9E-A924-1C1995BA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D6813-A60F-40A5-9981-6629E3B8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644CF-A8A1-4A50-8922-EE7B597B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62CFC-76AE-4672-8A1A-37118B7E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42F24-E414-4A9D-A41B-EF38F72E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6A1BC-AF86-4F89-A0A9-E5012034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AE33A-A08F-4896-89E8-E95927C0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CC562-BE4B-408E-B16A-AA67F4C3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46342-2403-4EF5-B6FC-C220E4AA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4BB7D-8A82-4875-9D1B-D2E82FB5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AF794-8CAE-4566-B381-DEE87823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E7B-F246-4E0E-B76F-2CA47F16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46B0C-BCD4-4359-B603-0BFEFB5B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81EC6-E0A7-4449-8993-D753993B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8CC6-A8C2-4AA6-B484-46EB85C5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E4AB5-84C3-4037-A872-829556E4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87DE1-DDF3-422D-9190-39A4A2BE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0DF86-6330-4D12-AB31-B8F43651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3EE29-AAC5-4415-B742-79839917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B5DD3-9566-4317-8DA9-6C15DD46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25BA0-CA3E-4290-9872-AF555D3A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C49C0-75FF-4771-8169-3324FEBB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D1B-8ADE-44A0-8D9B-BD838DBC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EF893-E89D-4E77-BF3F-E0443051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52DE3-1FDC-46CD-BAB6-7275524B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DD715-8E48-488C-8944-FFEB5848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5DB71-A5F8-40DC-AC28-9A8D731B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025D9-6DD5-4492-BF95-500E0F95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BF552-8323-4126-B130-809BBE16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05FAB-39D8-42A9-90E9-877B30FE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04105-6D18-424E-9F5B-93C2BD35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9F1EC-55E7-46FA-959A-0C3B345B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C8C1B-AD09-4E53-95D3-4103CB04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17E-A74F-4AC9-9916-268FE9FB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C7867-621E-42F7-8764-127C479F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49019-98B4-415C-A18C-26422525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A930E-C0DC-4412-9EEA-79C7B54D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DC698-91DF-4305-8B80-31F0E6FF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92C82-AF84-4E7B-B510-1CA90566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6A463-E640-4BEB-8988-D838FF95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91626-7CAE-460F-A63A-60E30251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F22FD-8EAA-4D94-A97F-ED97347F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4124B-15B8-4F04-909E-2506C649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97DC4-B864-4C2A-B2D6-1DFAEBB7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AD1C-4C85-43AD-8C4E-EF0D4DF54F2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7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55B1-EB1F-4CEA-859C-E66D434411C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21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22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29FC-D2C6-442D-80A6-83A79D2B0FD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212E-8C51-4CCD-A056-27441692D5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直接连接符 12" descr=""/>
          <p:cNvPicPr/>
          <p:nvPr/>
        </p:nvPicPr>
        <p:blipFill>
          <a:blip r:embed="rId3"/>
          <a:stretch/>
        </p:blipFill>
        <p:spPr>
          <a:xfrm>
            <a:off x="514440" y="534528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A3EB-0B02-4402-87E3-7D6C2A9B93F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8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9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4B25-95B3-4A10-BA4F-8A9A17B4080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直接连接符 12" descr=""/>
          <p:cNvPicPr/>
          <p:nvPr/>
        </p:nvPicPr>
        <p:blipFill>
          <a:blip r:embed="rId3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1BD5-DE4D-4BC4-9953-D8D0AF52025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直接连接符 12" descr=""/>
          <p:cNvPicPr/>
          <p:nvPr/>
        </p:nvPicPr>
        <p:blipFill>
          <a:blip r:embed="rId3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63D7-771C-4A37-AA1B-9894142F88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7260-1F9B-467B-804E-12723985AD0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直接连接符 12" descr=""/>
          <p:cNvPicPr/>
          <p:nvPr/>
        </p:nvPicPr>
        <p:blipFill>
          <a:blip r:embed="rId3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A69F-E984-4082-9BAA-7F8F3D52074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54B6-385A-4C67-A691-A844328B253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5" descr="200G04L1-12"/>
          <p:cNvPicPr/>
          <p:nvPr/>
        </p:nvPicPr>
        <p:blipFill>
          <a:blip r:embed="rId1"/>
          <a:srcRect l="0" t="0" r="0" b="13273"/>
          <a:stretch/>
        </p:blipFill>
        <p:spPr>
          <a:xfrm>
            <a:off x="971640" y="3429000"/>
            <a:ext cx="3456000" cy="2238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20100412202028672"/>
          <p:cNvPicPr/>
          <p:nvPr/>
        </p:nvPicPr>
        <p:blipFill>
          <a:blip r:embed="rId2"/>
          <a:stretch/>
        </p:blipFill>
        <p:spPr>
          <a:xfrm>
            <a:off x="4572000" y="3429000"/>
            <a:ext cx="4176720" cy="2228760"/>
          </a:xfrm>
          <a:prstGeom prst="rect">
            <a:avLst/>
          </a:prstGeom>
          <a:ln w="0">
            <a:noFill/>
          </a:ln>
        </p:spPr>
      </p:pic>
      <p:sp>
        <p:nvSpPr>
          <p:cNvPr id="466" name="WordArt 12"/>
          <p:cNvSpPr txBox="1"/>
          <p:nvPr/>
        </p:nvSpPr>
        <p:spPr>
          <a:xfrm>
            <a:off x="1365120" y="1484280"/>
            <a:ext cx="64818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运动的描述课件</a:t>
            </a:r>
            <a:r>
              <a:rPr b="1" lang="en-US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ff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467" name="矩形 1"/>
          <p:cNvSpPr/>
          <p:nvPr/>
        </p:nvSpPr>
        <p:spPr>
          <a:xfrm>
            <a:off x="3587040" y="83808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一章　机械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79280" y="1125360"/>
            <a:ext cx="8569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三、运用参照物，判断物体的运动情况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具体方法如下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① 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确定研究对象，即明确要判断哪个物体是否运动；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选定参照物，即假定一个物体不动；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③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看被研究的对象相对于参照物的位置是否变化，若位置有变化，则被研究的物体是运动的，若位置无变化，则被研究的物体是静止的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24000" y="26028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、 下列说法中各是以什么作参照物的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坐在船上的乘客是静止的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参照物是船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 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2.“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小小竹排江中游，巍巍青山两岸走”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竹排在江中游</a:t>
            </a:r>
            <a:r>
              <a:rPr b="1" lang="en-US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以青山作参照物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青山在走</a:t>
            </a:r>
            <a:r>
              <a:rPr b="1" lang="en-US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以竹排为参照物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 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月亮从云中钻了出来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             </a:t>
            </a:r>
            <a:r>
              <a:rPr b="1" lang="en-US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参照物是云。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250920" y="980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例题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、“红日从东方冉冉升起，我坐在奔驰的车里，静靠在椅背上，欣赏着窗外的景物，只见路旁的树木急速的向后退去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… …”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请写出上文中的描述各选择了什么作为参照物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升起</a:t>
            </a:r>
            <a:r>
              <a:rPr b="1" lang="zh-CN" sz="3200" spc="-1" strike="noStrike" u="sng">
                <a:solidFill>
                  <a:srgbClr val="4e3b30"/>
                </a:solidFill>
                <a:uFillTx/>
                <a:latin typeface="Franklin Gothic Book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；奔驰</a:t>
            </a:r>
            <a:r>
              <a:rPr b="1" lang="zh-CN" sz="3200" spc="-1" strike="noStrike" u="sng">
                <a:solidFill>
                  <a:srgbClr val="4e3b30"/>
                </a:solidFill>
                <a:uFillTx/>
                <a:latin typeface="Franklin Gothic Book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；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静靠</a:t>
            </a:r>
            <a:r>
              <a:rPr b="1" lang="zh-CN" sz="3200" spc="-1" strike="noStrike" u="sng">
                <a:solidFill>
                  <a:srgbClr val="4e3b30"/>
                </a:solidFill>
                <a:uFillTx/>
                <a:latin typeface="Franklin Gothic Book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；后退</a:t>
            </a:r>
            <a:r>
              <a:rPr b="1" lang="zh-CN" sz="3200" spc="-1" strike="noStrike" u="sng">
                <a:solidFill>
                  <a:srgbClr val="4e3b30"/>
                </a:solidFill>
                <a:uFillTx/>
                <a:latin typeface="Franklin Gothic Book"/>
                <a:ea typeface="楷体_GB2312"/>
              </a:rPr>
              <a:t>           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1908000" y="342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地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6084720" y="3357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地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2195640" y="4005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156360" y="4005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24000" y="549000"/>
            <a:ext cx="85406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四、运动和静止的相对性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物体的运动和静止是相对的。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判断一个物体是运动还是静止，取决于所选的参照物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324000" y="278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在第一次世界大战的空战中，一名飞行员发现自己的机舱有一只“小虫”在飞来，于是一把抓住，一看才发现是一粒正在飞行的子弹！，我们知道徒手抓住正在飞行的子弹一般是不可能的，那么这位飞行员为什么能抓住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826920" y="580536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为子弹相对于飞机的飞行速度很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178920" y="90756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、 某车向东行驶，车上的人看到路旁的树怎样运动”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树以跟车相同的速度，向西运动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．物理学里把</a:t>
            </a:r>
            <a:r>
              <a:rPr b="0" lang="zh-CN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                      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的变化叫机械运动。同一个物体是运动还是静止的取决于所选的</a:t>
            </a:r>
            <a:r>
              <a:rPr b="0" lang="zh-CN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               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，这就是运动和静止的 </a:t>
            </a:r>
            <a:r>
              <a:rPr b="0" lang="zh-CN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              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3492360" y="1484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物体位置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3924360" y="2492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参照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3203640" y="2997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相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8"/>
          <p:cNvSpPr txBox="1"/>
          <p:nvPr/>
        </p:nvSpPr>
        <p:spPr>
          <a:xfrm>
            <a:off x="395280" y="189000"/>
            <a:ext cx="182880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随堂练习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．下列有关运动的说法中，错误的是：（        ）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 宇宙里一切物质的运动是绝对的、永恒的；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  宇宙里绝对不动的物体是没有的；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  我们日常说的运动和静止都是相对的，是相对于参照物而言的；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 我们把一切机械的各种运动总称为机械运动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7524720" y="1557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50560" y="1341000"/>
            <a:ext cx="79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以下几种说法中正确的是：（     ）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， 汽车经过一座桥，汽车是运动的而桥是决对不动的；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，  宇宙是由运动着的物体组成的，绝对不动的物体是不存在的；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，  地球和行星都绕太阳运动，太阳在宇宙中是绝对不动的；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， 一座房屋造好后，它就固定在原来的位置上不会移动，所以固定在地球上的物体是绝对不动的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5796000" y="1125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8194"/>
          <p:cNvSpPr/>
          <p:nvPr/>
        </p:nvSpPr>
        <p:spPr>
          <a:xfrm>
            <a:off x="1035000" y="52275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．以地面作为参照物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一个人由西向东运动，一辆汽车从后面赶上，如果以这辆汽车作为参照物，则此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____________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运动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5219640" y="2492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由东往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．两辆汽车同向行驶，描述汽车的运动是以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________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作为参照物，坐在甲车里的乘客看到乙车在向后退，该乘客是以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________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作为参照物。这两辆汽车相比较，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________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车开得快。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1619280" y="198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1081080" y="293220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219564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68360" y="1196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巴黎的报纸一则广告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您只要给我们寄来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角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分钱就可以得到又经济又没有丝毫危险和疲劳的旅行方法。试试吧！”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有人按地址寄了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角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分钱去。这些人每人得到一封回信。内容是怎样的呢？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8B08-F64E-46FA-B25E-9917C7159E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2a67f6f97657c050a9d311e5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4495680"/>
          </a:xfrm>
          <a:prstGeom prst="rect">
            <a:avLst/>
          </a:prstGeom>
          <a:ln w="0">
            <a:noFill/>
          </a:ln>
        </p:spPr>
      </p:pic>
      <p:sp>
        <p:nvSpPr>
          <p:cNvPr id="523" name="WordArt 3"/>
          <p:cNvSpPr txBox="1"/>
          <p:nvPr/>
        </p:nvSpPr>
        <p:spPr>
          <a:xfrm>
            <a:off x="1332000" y="3213000"/>
            <a:ext cx="34560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250560" y="1052640"/>
            <a:ext cx="8893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先生，请您安静地躺在您的床上，并且请您记牢：我们的地球是在旋转着的。在巴黎的纬度－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49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度上，您每昼夜要跑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2500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公里以上。假如您喜欢看看沿路美好的景致，就请您打开窗帘，尽情地欣赏星空的美景吧！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广告者被以欺诈罪带上了法庭，判决时他郑重地复述了伽利略的话：“可是，</a:t>
            </a:r>
            <a:r>
              <a:rPr b="1" lang="zh-CN" sz="3200" spc="-1" strike="noStrike">
                <a:solidFill>
                  <a:srgbClr val="cc00cc"/>
                </a:solidFill>
                <a:latin typeface="Franklin Gothic Book"/>
                <a:ea typeface="楷体_GB2312"/>
              </a:rPr>
              <a:t>无论如何地球确实是在转着的呀！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”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运动是绝对的、永恒的，而静止只是相对的、暂时的。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95280" y="1197000"/>
            <a:ext cx="8540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、运动的意义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运动就是变化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、运动的形式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社会变化；生命变化；有化学变化；有原子核的变化；思维变化；位置变化</a:t>
            </a:r>
            <a:r>
              <a:rPr b="1" lang="en-US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、最简单的运动形式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物体位置的变化</a:t>
            </a:r>
            <a:r>
              <a:rPr b="1" lang="en-US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机械运动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971640" y="1123920"/>
            <a:ext cx="2128680" cy="752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24000" y="191628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你们肯定见到过许多静止的和运动的物体，请各举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例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静止的物体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运动的物体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-13320" y="1268280"/>
            <a:ext cx="3987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幅图中的观光电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里的人是静止还是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3" descr="cpa9ah1"/>
          <p:cNvPicPr/>
          <p:nvPr/>
        </p:nvPicPr>
        <p:blipFill>
          <a:blip r:embed="rId1"/>
          <a:stretch/>
        </p:blipFill>
        <p:spPr>
          <a:xfrm>
            <a:off x="5076720" y="620640"/>
            <a:ext cx="3430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64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8" name="Picture 4" descr="Tw02"/>
          <p:cNvPicPr/>
          <p:nvPr/>
        </p:nvPicPr>
        <p:blipFill>
          <a:blip r:embed="rId2"/>
          <a:stretch/>
        </p:blipFill>
        <p:spPr>
          <a:xfrm>
            <a:off x="838080" y="2057400"/>
            <a:ext cx="7620120" cy="4267080"/>
          </a:xfrm>
          <a:prstGeom prst="rect">
            <a:avLst/>
          </a:prstGeom>
          <a:ln w="0">
            <a:noFill/>
          </a:ln>
        </p:spPr>
      </p:pic>
      <p:sp>
        <p:nvSpPr>
          <p:cNvPr id="479" name="文本框 8194"/>
          <p:cNvSpPr/>
          <p:nvPr/>
        </p:nvSpPr>
        <p:spPr>
          <a:xfrm>
            <a:off x="838080" y="1722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1657440" y="425520"/>
            <a:ext cx="5364000" cy="936720"/>
          </a:xfrm>
          <a:prstGeom prst="rect">
            <a:avLst/>
          </a:prstGeom>
          <a:ln w="0">
            <a:noFill/>
          </a:ln>
        </p:spPr>
      </p:pic>
      <p:grpSp>
        <p:nvGrpSpPr>
          <p:cNvPr id="481" name="Group 3"/>
          <p:cNvGrpSpPr/>
          <p:nvPr/>
        </p:nvGrpSpPr>
        <p:grpSpPr>
          <a:xfrm>
            <a:off x="755640" y="1628640"/>
            <a:ext cx="7704000" cy="2625480"/>
            <a:chOff x="755640" y="1628640"/>
            <a:chExt cx="7704000" cy="2625480"/>
          </a:xfrm>
        </p:grpSpPr>
        <p:grpSp>
          <p:nvGrpSpPr>
            <p:cNvPr id="482" name=""/>
            <p:cNvGrpSpPr/>
            <p:nvPr/>
          </p:nvGrpSpPr>
          <p:grpSpPr>
            <a:xfrm>
              <a:off x="2556000" y="1628640"/>
              <a:ext cx="1296720" cy="1800360"/>
              <a:chOff x="2556000" y="1628640"/>
              <a:chExt cx="1296720" cy="1800360"/>
            </a:xfrm>
          </p:grpSpPr>
          <p:sp>
            <p:nvSpPr>
              <p:cNvPr id="483" name="Line 4"/>
              <p:cNvSpPr/>
              <p:nvPr/>
            </p:nvSpPr>
            <p:spPr>
              <a:xfrm flipH="1">
                <a:off x="2556000" y="1628640"/>
                <a:ext cx="1296720" cy="1800360"/>
              </a:xfrm>
              <a:prstGeom prst="line">
                <a:avLst/>
              </a:prstGeom>
              <a:ln w="228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 txBox="1"/>
              <p:nvPr/>
            </p:nvSpPr>
            <p:spPr>
              <a:xfrm>
                <a:off x="2556000" y="1628640"/>
                <a:ext cx="1296720" cy="180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Text Box 5"/>
            <p:cNvSpPr/>
            <p:nvPr/>
          </p:nvSpPr>
          <p:spPr>
            <a:xfrm>
              <a:off x="755640" y="3429000"/>
              <a:ext cx="3456000" cy="82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是否在动？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6"/>
            <p:cNvSpPr/>
            <p:nvPr/>
          </p:nvSpPr>
          <p:spPr>
            <a:xfrm>
              <a:off x="4716360" y="3429000"/>
              <a:ext cx="3743280" cy="82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  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怎样运动？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隶书"/>
                </a:rPr>
                <a:t>（运动快慢、方向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4572000" y="1628640"/>
              <a:ext cx="1368360" cy="1729080"/>
              <a:chOff x="4572000" y="1628640"/>
              <a:chExt cx="1368360" cy="1729080"/>
            </a:xfrm>
          </p:grpSpPr>
          <p:sp>
            <p:nvSpPr>
              <p:cNvPr id="488" name="Line 7"/>
              <p:cNvSpPr/>
              <p:nvPr/>
            </p:nvSpPr>
            <p:spPr>
              <a:xfrm>
                <a:off x="4572000" y="1628640"/>
                <a:ext cx="1368360" cy="1729080"/>
              </a:xfrm>
              <a:prstGeom prst="line">
                <a:avLst/>
              </a:prstGeom>
              <a:ln w="228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4572000" y="1628640"/>
                <a:ext cx="1368360" cy="172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250920" y="1052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一、机械运动的定义：物体位置的相对变化就是机械运动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二、参照物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在判断物体是否运动时，事先选作标准、假定为不动的物体就是参照物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6T11:14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04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