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AAA1-3421-4037-8664-356B1514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C596-0426-4F6E-B4BB-18144C27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97A1-8497-401A-9B0D-99A97EA0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376A-8691-413D-95C3-9F840980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10BB-259E-40E6-9F24-DC3C7CEE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FB60-3EF8-4BBF-BBF0-DE3DD3B3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2786-7205-45C2-8E87-1FE20C70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F781-43EF-4BB8-8516-7BD2CC41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C806-32EA-4FF0-9ACB-88985B8D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5CC5-71E8-4DF3-99AB-D888E0E2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F868-40AA-4167-A2DC-84980070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FC8A-A411-4F87-A4F9-5D2976E5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B038-FD37-4E93-BCCD-F57B0B5D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D48F-842E-45CA-8F26-A8E81975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5C89-483F-4BCC-83E3-E4E7EF7C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796C-CB41-4F47-AE8E-85AD7E6D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4475-94B3-4886-A653-CE047059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6DF9-B99F-4A13-9AAC-7253AC06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D799-49D8-4BA4-966F-7C94A433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7938-675D-4025-83DC-1BF8E306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EDA3-2887-4ED3-B8C7-590DB41D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D8E3-B3F5-474E-8D60-62C8C843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51A8-6950-4E7C-9D86-A6277931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9369-5528-4B7B-B94E-027CFFF5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C1E6-F47B-4447-A169-48362ED8608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337D-9C14-4DE1-9B29-7A12B4BB00C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DDB4-9183-4B40-A3F0-6D2ABEA32F0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1" descr="1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3276720" y="2925720"/>
            <a:ext cx="57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音乐教育专业毕业论文</a:t>
            </a:r>
            <a:r>
              <a:rPr b="0" lang="en-US" sz="4000" spc="-1" strike="noStrike">
                <a:solidFill>
                  <a:srgbClr val="ffffff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11160" y="716040"/>
            <a:ext cx="8985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8e8e8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8e8e8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edada"/>
          </a:soli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11" descr="bg3_03.png"/>
          <p:cNvPicPr/>
          <p:nvPr/>
        </p:nvPicPr>
        <p:blipFill>
          <a:blip r:embed="rId1"/>
          <a:stretch/>
        </p:blipFill>
        <p:spPr>
          <a:xfrm>
            <a:off x="0" y="5210280"/>
            <a:ext cx="2467080" cy="16477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2" descr="bg3_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50804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857160" y="584280"/>
            <a:ext cx="5715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Elephant"/>
              </a:rPr>
              <a:t>Enter you tex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5794-CCF7-46FC-BC4F-0308BB048F7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9825-8036-4068-98A6-1AB14A70D50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1" descr="1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8"/>
          <p:cNvSpPr/>
          <p:nvPr/>
        </p:nvSpPr>
        <p:spPr>
          <a:xfrm>
            <a:off x="4113360" y="3068640"/>
            <a:ext cx="5715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Elephant"/>
              </a:rPr>
              <a:t>Thanks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A724-FA6F-4DC3-B356-7B028E82E83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03:28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5:54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