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EEBE3-2776-47C8-B04D-7356F327CE4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AFBE3-57CF-4821-9A16-91CA59E2C0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85423-95D1-4069-A07C-BB958643E02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698B6-5E15-480A-91E5-D78FB95036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58B682-B555-4EB3-85A7-50FBFDEBF9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E36A61-67BD-4F80-B587-0D92C1D91F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066B05-A4B8-4D85-95F7-2AD7D5F874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D17F36-89AA-43E0-9F93-98D59AF52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2B3DD8-D4C0-43F6-A383-CC53F6869B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9BAF2B-7DE2-4EA6-85A8-A6372E6F08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44991F-5BF9-495C-B419-53675A1B8D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A3A0D-B950-462A-BDF3-58C4A3734F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CC0483-64AD-4C76-B9E3-07BA26520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98BFEE9-B40B-41F5-B3F9-EF1169F9F5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6C9555-30BF-496A-BEC2-B0CC4A29C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6A7EC-668D-4632-B551-58AC9523DA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E7EDCB-41CD-4C1F-B714-E056AF8672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7EC13-CC8F-4D8A-95DD-C8BACC6445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8C2D-056D-4F41-9510-A2A365B5758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733E1-1739-4383-914B-5717B87E74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C8F9C-F6F3-45FB-8B92-C888169882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EA2242-C347-4874-A15A-03C1E114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DE8AC-91CC-4627-865B-E3B3B86126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DCC03-DAC8-41BB-9B8A-0656BC91D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BC339F-8B43-4F0D-9578-3572045B504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FD1B2-8090-4E8E-B7FA-FD11A7D862CA}" type="datetime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339BDE-E89F-4D63-A102-E5E739792DAF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www.eeppt.com" TargetMode="External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5694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优美洁白毕业论文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华文新魏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华文新魏"/>
              </a:rPr>
              <a:t>模板打包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联机映像占位符 4100" descr="XR_001"/>
          <p:cNvPicPr/>
          <p:nvPr/>
        </p:nvPicPr>
        <p:blipFill>
          <a:blip r:embed="rId2"/>
          <a:stretch/>
        </p:blipFill>
        <p:spPr>
          <a:xfrm>
            <a:off x="609480" y="1143000"/>
            <a:ext cx="8077320" cy="573408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人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指导导师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答辩日期：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文本框 6155"/>
          <p:cNvSpPr/>
          <p:nvPr/>
        </p:nvSpPr>
        <p:spPr>
          <a:xfrm>
            <a:off x="3492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7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A7A4AD-F09C-4191-9FB7-5777778AB686}" type="slidenum">
              <a:rPr b="0" lang="zh-CN" sz="1400" spc="-1" strike="noStrike">
                <a:solidFill>
                  <a:srgbClr val="000000"/>
                </a:solidFill>
                <a:latin typeface="Arial"/>
                <a:ea typeface="宋体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628880" y="1825200"/>
            <a:ext cx="38862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vert="eaVer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8199"/>
          <p:cNvSpPr/>
          <p:nvPr/>
        </p:nvSpPr>
        <p:spPr>
          <a:xfrm>
            <a:off x="755640" y="1341360"/>
            <a:ext cx="453708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1"/>
              </a:rPr>
              <a:t>ppt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ea typeface="宋体"/>
                <a:hlinkClick r:id="rId2"/>
              </a:rPr>
              <a:t>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5-18T02:08:52Z</dcterms:created>
  <dc:creator>幻灯片之家：www.eeppt.com</dc:creator>
  <dc:description>幻灯片之家：www.eeppt.com</dc:description>
  <cp:keywords>幻灯片之家：www.eeppt.com</cp:keywords>
  <dc:language>en-US</dc:language>
  <cp:lastModifiedBy>pc</cp:lastModifiedBy>
  <dcterms:modified xsi:type="dcterms:W3CDTF">2016-05-19T06:40:35Z</dcterms:modified>
  <cp:revision>4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559</vt:lpwstr>
  </property>
  <property fmtid="{D5CDD505-2E9C-101B-9397-08002B2CF9AE}" pid="3" name="Version">
    <vt:r8>1</vt:r8>
  </property>
</Properties>
</file>