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C41-05E6-4A25-B54C-6F6F60CF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D3D-AB32-4A04-A198-8834EC80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167-6A5A-4A70-A638-1EE1159D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D7D-5DC2-48BF-8F27-666B5978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12F2-2BC4-4D85-A3C6-8546EC8F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6D3B-7480-4050-8728-204EA9BF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B70B-B8F6-406B-8F60-C0876AFB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CA6D-7BB9-42A9-B16D-6C88C0A9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53FE-ED17-44A2-A9A4-FEEC06C7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8407-C20C-436B-8A5F-FA5FF282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2FCD-0626-4876-AF74-11559DFA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C6A-AF62-424A-BF79-D142D615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5A11-BD25-434B-8D01-E7065CBB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5685-0024-44EA-8DAE-3FD27499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4065-AEF9-4697-89D7-762C5B65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1AAB-42BC-44AD-81DB-1030630E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E883-C849-47C9-8ED9-274CF4B8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FC9A1-5BBD-47DE-8076-8600BD30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79519-C7D6-4984-89B9-8DDDA612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3E18-7307-486F-A403-49C8B6D3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D37A-76ED-4FB0-A65A-23D85640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DBC1-39FA-4018-A1F8-0DD671FE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554-ADEB-40D2-BFE7-318D2953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5F83-3785-4E7B-812B-E63F5D89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851A6-6572-4BF1-A6B2-CE770507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44F38-23F5-405D-8B4E-925417E6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64497-2E8E-4F35-B95E-5E4F8515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B831-1FB5-4DE0-BAA7-64721219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DEBF1-C62B-46A8-9274-2CA1278A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183E-E98B-45C6-B536-D26957AE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8ED-1988-4B51-8B64-2BBBCBE2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DBB-CB24-4784-AABA-6FB13EFC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5DD-A805-4852-ABC4-1F53512C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D59-5243-4DD0-9527-D72770BD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CA1-1CE2-416A-8D35-57B914A8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2D8-BE05-4130-878A-B2A21161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440F-858F-4726-B31F-D62AAE170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35FB-6382-40EC-84EA-A44EE3D244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BECD-1368-4196-8D74-16439AC446DC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宋体"/>
                <a:ea typeface="宋体"/>
              </a:rPr>
              <a:t>与朱元思书语文</a:t>
            </a:r>
            <a:r>
              <a:rPr b="1" lang="en-US" sz="4000" spc="-1" strike="noStrike">
                <a:solidFill>
                  <a:srgbClr val="0039ac"/>
                </a:solidFill>
                <a:latin typeface="宋体"/>
                <a:ea typeface="宋体"/>
              </a:rPr>
              <a:t>	</a:t>
            </a:r>
            <a:r>
              <a:rPr b="1" lang="en-US" sz="4000" spc="-1" strike="noStrike">
                <a:solidFill>
                  <a:srgbClr val="0039a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39ac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3933720"/>
            <a:ext cx="64008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吴均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80808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9ac"/>
                </a:solidFill>
                <a:latin typeface="Arial"/>
              </a:rPr>
              <a:t>文中哪句话概括了课文描写的山水的特征？为什么？ 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440" y="243828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9ac"/>
                </a:solidFill>
                <a:latin typeface="Arial"/>
                <a:ea typeface="华文行楷"/>
              </a:rPr>
              <a:t>“</a:t>
            </a:r>
            <a:r>
              <a:rPr b="1" lang="zh-CN" sz="5400" spc="-1" strike="noStrike">
                <a:solidFill>
                  <a:srgbClr val="0039ac"/>
                </a:solidFill>
                <a:latin typeface="Arial"/>
                <a:ea typeface="华文行楷"/>
              </a:rPr>
              <a:t>奇山异水，天下独绝”是景色的特征，全文都围绕着这两个字在做文章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作者是怎样一步步展现这个“异”和这个“奇”字的？ 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1599840"/>
            <a:ext cx="206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异水：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奇山：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905120" y="1600200"/>
            <a:ext cx="7238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9a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9ac"/>
                </a:solidFill>
                <a:latin typeface="Arial"/>
              </a:rPr>
              <a:t>清”    （千丈见底、直视无碍）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9ac"/>
                </a:solidFill>
                <a:latin typeface="Arial"/>
              </a:rPr>
              <a:t>急”    （急湍甚箭，猛浪若奔）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373392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9ac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看”    （高山寒树，轩藐成峰）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听”    （泉水作响；好鸟成韵。蝉鸣不穷，猿叫无绝）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读完全文，你留下最深刻的印象是什么？从中你能悟出作者写这篇文章时的心情吗？ 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志</a:t>
            </a: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无拘无束、任性自得            （负势争高，息心忘反）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文如其人，虽用当时盛行的骈体，但却别具一格，骈中带散，一任性气，自成一体，谓之曰：“吴均体”。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从生平可见：虽亟思奋发有为，但终未显达，因而有些消极遁世的思想情绪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9ac"/>
                </a:solidFill>
                <a:latin typeface="Arial"/>
              </a:rPr>
              <a:t>本文最大的特点是什么？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1680" y="3352320"/>
            <a:ext cx="854064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0808"/>
                </a:solidFill>
                <a:latin typeface="Arial"/>
              </a:rPr>
              <a:t>句式“两两相对”。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文本框 8194"/>
          <p:cNvSpPr/>
          <p:nvPr/>
        </p:nvSpPr>
        <p:spPr>
          <a:xfrm>
            <a:off x="1476360" y="278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9ac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0039ac"/>
                </a:solidFill>
                <a:latin typeface="Arial"/>
              </a:rPr>
              <a:t>与朱元思书</a:t>
            </a:r>
            <a:r>
              <a:rPr b="1" lang="en-US" sz="5400" spc="-1" strike="noStrike">
                <a:solidFill>
                  <a:srgbClr val="0039ac"/>
                </a:solidFill>
                <a:latin typeface="Arial"/>
              </a:rPr>
              <a:t>》</a:t>
            </a:r>
            <a:r>
              <a:rPr b="1" lang="zh-CN" sz="5400" spc="-1" strike="noStrike">
                <a:solidFill>
                  <a:srgbClr val="0039ac"/>
                </a:solidFill>
                <a:latin typeface="Arial"/>
              </a:rPr>
              <a:t>篇幅虽短，但也很讲究章法。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文章首段以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奇山异水， 天下独绝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八字总领全篇，二、三两段分承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异水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和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奇山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两方面，环绕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独绝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二字展开生发和描摹，结构上脉络分明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写景顺序上先“水”后“山”，由近及远，逐层展开，符合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从流飘荡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的观景习惯，条理清楚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写景重点上， 全文详写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山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略写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水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；写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水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的部分，详写静态略写动态；写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山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的部分，详写动态略写静态。这样既突出景物主要特征，又显得详略适宜，轻重有度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0" dur="1" fill="hold"/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Times New Roman"/>
              </a:rPr>
              <a:t>古文知识：</a:t>
            </a:r>
            <a:br>
              <a:rPr sz="4400"/>
            </a:br>
            <a:r>
              <a:rPr b="1" lang="zh-CN" sz="4400" spc="-1" strike="noStrike">
                <a:solidFill>
                  <a:srgbClr val="0039ac"/>
                </a:solidFill>
                <a:latin typeface="Times New Roman"/>
              </a:rPr>
              <a:t>一、词类活用</a:t>
            </a: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219320"/>
            <a:ext cx="884232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负势竞</a:t>
            </a:r>
            <a:r>
              <a:rPr b="1" lang="zh-CN" sz="4800" spc="-1" strike="noStrike" u="sng">
                <a:solidFill>
                  <a:srgbClr val="cc3300"/>
                </a:solidFill>
                <a:uFillTx/>
                <a:latin typeface="Arial"/>
              </a:rPr>
              <a:t>上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互相</a:t>
            </a:r>
            <a:r>
              <a:rPr b="1" lang="zh-CN" sz="4800" spc="-1" strike="noStrike" u="sng">
                <a:solidFill>
                  <a:srgbClr val="cc3300"/>
                </a:solidFill>
                <a:uFillTx/>
                <a:latin typeface="Arial"/>
              </a:rPr>
              <a:t>轩邈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90920" y="12193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上：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方位名词，这里用作动词，意思是</a:t>
            </a:r>
            <a:r>
              <a:rPr b="1" lang="zh-CN" sz="4400" spc="-1" strike="noStrike">
                <a:solidFill>
                  <a:srgbClr val="cc3300"/>
                </a:solidFill>
                <a:latin typeface="Courier New"/>
              </a:rPr>
              <a:t>“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向上生长</a:t>
            </a:r>
            <a:r>
              <a:rPr b="1" lang="zh-CN" sz="4400" spc="-1" strike="noStrike">
                <a:solidFill>
                  <a:srgbClr val="cc3300"/>
                </a:solidFill>
                <a:latin typeface="Courier New"/>
              </a:rPr>
              <a:t>”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。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380988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轩，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高。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邈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，远。这两个形容词在这里作动词用，意思是这些高山仿佛都在争着往高处和远处伸展。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Times New Roman"/>
              </a:rPr>
              <a:t>二、一词多义</a:t>
            </a: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-360"/>
            <a:ext cx="1143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Times New Roman"/>
              </a:rPr>
              <a:t>从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Times New Roman"/>
              </a:rPr>
              <a:t>者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Times New Roman"/>
              </a:rPr>
              <a:t>见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Times New Roman"/>
              </a:rPr>
              <a:t>指</a:t>
            </a: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43320" y="5302080"/>
            <a:ext cx="216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皆指目陈胜 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争高直指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990720" y="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从流飘荡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从民欲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990720" y="1523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Arial"/>
              </a:rPr>
              <a:t>经纶世务者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Arial"/>
              </a:rPr>
              <a:t>中轩敞者为舱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Arial"/>
              </a:rPr>
              <a:t>而安陵以五十里之地存者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990720" y="36576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千丈见底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才美不外见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601080" y="0"/>
            <a:ext cx="14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随着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601080" y="609480"/>
            <a:ext cx="14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依从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3746160" y="1523880"/>
            <a:ext cx="13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的人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459680" y="2133720"/>
            <a:ext cx="16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的部分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974280" y="2743200"/>
            <a:ext cx="16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的原因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762360" y="3657600"/>
            <a:ext cx="160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看见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4295520" y="4343400"/>
            <a:ext cx="160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表现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4620240" y="5257800"/>
            <a:ext cx="23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指指点点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3762360" y="6033960"/>
            <a:ext cx="160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指向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Times New Roman"/>
              </a:rPr>
              <a:t>结构图解</a:t>
            </a: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066320"/>
            <a:ext cx="88423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第一段：总写富春江山水之美，概括为</a:t>
            </a:r>
            <a:r>
              <a:rPr b="1" lang="zh-CN" sz="4400" spc="-1" strike="noStrike">
                <a:solidFill>
                  <a:srgbClr val="cc3300"/>
                </a:solidFill>
                <a:latin typeface="Courier New"/>
              </a:rPr>
              <a:t>“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奇山异水，天下独绝</a:t>
            </a:r>
            <a:r>
              <a:rPr b="1" lang="zh-CN" sz="4400" spc="-1" strike="noStrike">
                <a:solidFill>
                  <a:srgbClr val="cc3300"/>
                </a:solidFill>
                <a:latin typeface="Courier New"/>
              </a:rPr>
              <a:t>”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八字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第二段：承</a:t>
            </a:r>
            <a:r>
              <a:rPr b="1" lang="zh-CN" sz="4400" spc="-1" strike="noStrike">
                <a:solidFill>
                  <a:srgbClr val="cc3300"/>
                </a:solidFill>
                <a:latin typeface="Courier New"/>
              </a:rPr>
              <a:t>“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异水</a:t>
            </a:r>
            <a:r>
              <a:rPr b="1" lang="zh-CN" sz="4400" spc="-1" strike="noStrike">
                <a:solidFill>
                  <a:srgbClr val="cc3300"/>
                </a:solidFill>
                <a:latin typeface="Courier New"/>
              </a:rPr>
              <a:t>”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二字，抓住</a:t>
            </a:r>
            <a:r>
              <a:rPr b="1" lang="zh-CN" sz="4400" spc="-1" strike="noStrike">
                <a:solidFill>
                  <a:srgbClr val="cc3300"/>
                </a:solidFill>
                <a:latin typeface="Courier New"/>
              </a:rPr>
              <a:t>“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清</a:t>
            </a:r>
            <a:r>
              <a:rPr b="1" lang="zh-CN" sz="4400" spc="-1" strike="noStrike">
                <a:solidFill>
                  <a:srgbClr val="cc3300"/>
                </a:solidFill>
                <a:latin typeface="Courier New"/>
              </a:rPr>
              <a:t>”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和</a:t>
            </a:r>
            <a:r>
              <a:rPr b="1" lang="zh-CN" sz="4400" spc="-1" strike="noStrike">
                <a:solidFill>
                  <a:srgbClr val="cc3300"/>
                </a:solidFill>
                <a:latin typeface="Courier New"/>
              </a:rPr>
              <a:t>“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急</a:t>
            </a:r>
            <a:r>
              <a:rPr b="1" lang="zh-CN" sz="4400" spc="-1" strike="noStrike">
                <a:solidFill>
                  <a:srgbClr val="cc3300"/>
                </a:solidFill>
                <a:latin typeface="Courier New"/>
              </a:rPr>
              <a:t>”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的特点，具体生动地描绘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第三段：承</a:t>
            </a:r>
            <a:r>
              <a:rPr b="1" lang="zh-CN" sz="4400" spc="-1" strike="noStrike">
                <a:solidFill>
                  <a:srgbClr val="cc3300"/>
                </a:solidFill>
                <a:latin typeface="Courier New"/>
              </a:rPr>
              <a:t>“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奇山</a:t>
            </a:r>
            <a:r>
              <a:rPr b="1" lang="zh-CN" sz="4400" spc="-1" strike="noStrike">
                <a:solidFill>
                  <a:srgbClr val="cc3300"/>
                </a:solidFill>
                <a:latin typeface="Courier New"/>
              </a:rPr>
              <a:t>”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二字，通过景物描绘，多层次多角度地层示富春江两岸群山之美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9ac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0039ac"/>
                </a:solidFill>
                <a:latin typeface="Times New Roman"/>
              </a:rPr>
              <a:t>与朱元思书</a:t>
            </a:r>
            <a:r>
              <a:rPr b="1" lang="en-US" sz="5400" spc="-1" strike="noStrike">
                <a:solidFill>
                  <a:srgbClr val="0039ac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0039ac"/>
                </a:solidFill>
                <a:latin typeface="Times New Roman"/>
              </a:rPr>
              <a:t>的美学价值</a:t>
            </a:r>
            <a:r>
              <a:rPr b="1" lang="zh-CN" sz="5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990720"/>
            <a:ext cx="884232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这篇仅有一百四十字的骈文，写得清新自然，华丽生韵。</a:t>
            </a:r>
            <a:r>
              <a:rPr b="1" lang="zh-CN" sz="5400" spc="-1" strike="noStrike">
                <a:solidFill>
                  <a:srgbClr val="080808"/>
                </a:solidFill>
                <a:latin typeface="Courier New"/>
              </a:rPr>
              <a:t>“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风烟俱净，天山共色，从流飘荡，任意东西。</a:t>
            </a:r>
            <a:r>
              <a:rPr b="1" lang="zh-CN" sz="5400" spc="-1" strike="noStrike">
                <a:solidFill>
                  <a:srgbClr val="080808"/>
                </a:solidFill>
                <a:latin typeface="Courier New"/>
              </a:rPr>
              <a:t>”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自富阳至桐庐沿途景色描绘得有声有色，形象生动，令人悠然神往，给人以</a:t>
            </a:r>
            <a:r>
              <a:rPr b="1" lang="zh-CN" sz="5400" spc="-1" strike="noStrike">
                <a:solidFill>
                  <a:srgbClr val="080808"/>
                </a:solidFill>
                <a:latin typeface="Courier New"/>
              </a:rPr>
              <a:t>“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神超形越</a:t>
            </a:r>
            <a:r>
              <a:rPr b="1" lang="zh-CN" sz="5400" spc="-1" strike="noStrike">
                <a:solidFill>
                  <a:srgbClr val="080808"/>
                </a:solidFill>
                <a:latin typeface="Courier New"/>
              </a:rPr>
              <a:t>”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之感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文本框 8194"/>
          <p:cNvSpPr/>
          <p:nvPr/>
        </p:nvSpPr>
        <p:spPr>
          <a:xfrm>
            <a:off x="356400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9ac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0039ac"/>
                </a:solidFill>
                <a:latin typeface="Times New Roman"/>
              </a:rPr>
              <a:t>与朱元思书</a:t>
            </a:r>
            <a:r>
              <a:rPr b="1" lang="en-US" sz="5400" spc="-1" strike="noStrike">
                <a:solidFill>
                  <a:srgbClr val="0039ac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0039ac"/>
                </a:solidFill>
                <a:latin typeface="Times New Roman"/>
              </a:rPr>
              <a:t>的美学价值</a:t>
            </a:r>
            <a:r>
              <a:rPr b="1" lang="zh-CN" sz="5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884232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水，乃自然之灵性；树，自然之风骨；花鸟虫鱼，自然地不可或缺的生命。如此清亮动人，活泼可心。面对恶浊的现实，身心得以解脱，人格灵魂倏然净化。作者以古朴淡雅之笔突现了山川之美，赏心悦目，陶然心醉。当然，文章形式也同样有美的欣赏价值，诸如结构美，音韵美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9ac"/>
                </a:solidFill>
                <a:latin typeface="Arial"/>
              </a:rPr>
              <a:t>《</a:t>
            </a:r>
            <a:r>
              <a:rPr b="1" lang="zh-CN" sz="6000" spc="-1" strike="noStrike">
                <a:solidFill>
                  <a:srgbClr val="0039ac"/>
                </a:solidFill>
                <a:latin typeface="Arial"/>
              </a:rPr>
              <a:t>山中杂诗</a:t>
            </a:r>
            <a:r>
              <a:rPr b="1" lang="en-US" sz="6000" spc="-1" strike="noStrike">
                <a:solidFill>
                  <a:srgbClr val="0039ac"/>
                </a:solidFill>
                <a:latin typeface="Arial"/>
              </a:rPr>
              <a:t>》</a:t>
            </a:r>
            <a:br>
              <a:rPr sz="6000"/>
            </a:br>
            <a:r>
              <a:rPr b="1" lang="zh-CN" sz="6000" spc="-1" strike="noStrike">
                <a:solidFill>
                  <a:srgbClr val="0039ac"/>
                </a:solidFill>
                <a:latin typeface="Arial"/>
              </a:rPr>
              <a:t>吴均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00200" y="1904760"/>
            <a:ext cx="58672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8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80808"/>
                </a:solidFill>
                <a:latin typeface="Arial"/>
                <a:ea typeface="楷体_GB2312"/>
              </a:rPr>
              <a:t>山际见来烟，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8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80808"/>
                </a:solidFill>
                <a:latin typeface="Arial"/>
                <a:ea typeface="楷体_GB2312"/>
              </a:rPr>
              <a:t>竹中窥落日。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8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80808"/>
                </a:solidFill>
                <a:latin typeface="Arial"/>
                <a:ea typeface="楷体_GB2312"/>
              </a:rPr>
              <a:t>鸟向檐上飞，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8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80808"/>
                </a:solidFill>
                <a:latin typeface="Arial"/>
                <a:ea typeface="楷体_GB2312"/>
              </a:rPr>
              <a:t>云从窗里出。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9ac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0039ac"/>
                </a:solidFill>
                <a:latin typeface="Times New Roman"/>
              </a:rPr>
              <a:t>与朱元思书</a:t>
            </a:r>
            <a:r>
              <a:rPr b="1" lang="en-US" sz="5400" spc="-1" strike="noStrike">
                <a:solidFill>
                  <a:srgbClr val="0039ac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0039ac"/>
                </a:solidFill>
                <a:latin typeface="Times New Roman"/>
              </a:rPr>
              <a:t>的美学价值</a:t>
            </a:r>
            <a:r>
              <a:rPr b="1" lang="zh-CN" sz="5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990720"/>
            <a:ext cx="914400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全篇以景抒情，因情写景，不仅突出了富春江山水景物的特征，而且深刻表现了作者观察的细致和独特的艺术感受，这就使全文洋溢着诗情画意，达到了很高的美学境界。另外，作者在谋篇上，采用先总说，后分述的结构方式，使叙述和描写层次井然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D086-D1A7-4A72-8C11-658054518BF6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9ac"/>
                </a:solidFill>
                <a:latin typeface="Arial"/>
              </a:rPr>
              <a:t>后记：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9144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读</a:t>
            </a:r>
            <a:r>
              <a:rPr b="1" lang="en-US" sz="4800" spc="-1" strike="noStrike">
                <a:solidFill>
                  <a:srgbClr val="080808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与朱元思书</a:t>
            </a:r>
            <a:r>
              <a:rPr b="1" lang="en-US" sz="4800" spc="-1" strike="noStrike">
                <a:solidFill>
                  <a:srgbClr val="080808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，如读一首好诗，因为它不仅有词采隽永、音节和谐的诗一般的语言，更洋溢着清新淡雅的诗情；读</a:t>
            </a:r>
            <a:r>
              <a:rPr b="1" lang="en-US" sz="4800" spc="-1" strike="noStrike">
                <a:solidFill>
                  <a:srgbClr val="080808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与朱元思书</a:t>
            </a:r>
            <a:r>
              <a:rPr b="1" lang="en-US" sz="4800" spc="-1" strike="noStrike">
                <a:solidFill>
                  <a:srgbClr val="080808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，如赏一幅山水写意，因为它有特色鲜明的景物，更有明朗洒脱的画意。总之，该文情景兼美，辞章俱佳，能给我们以美的享受、心灵的愉悦。 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9ac"/>
                </a:solidFill>
                <a:latin typeface="Arial"/>
              </a:rPr>
              <a:t>你能说说这首诗写了什么吗？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8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80808"/>
                </a:solidFill>
                <a:latin typeface="Arial"/>
                <a:ea typeface="楷体_GB2312"/>
              </a:rPr>
              <a:t>山际见来烟，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8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80808"/>
                </a:solidFill>
                <a:latin typeface="Arial"/>
                <a:ea typeface="楷体_GB2312"/>
              </a:rPr>
              <a:t>竹中窥落日。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8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80808"/>
                </a:solidFill>
                <a:latin typeface="Arial"/>
                <a:ea typeface="楷体_GB2312"/>
              </a:rPr>
              <a:t>鸟向檐上飞，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8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80808"/>
                </a:solidFill>
                <a:latin typeface="Arial"/>
                <a:ea typeface="楷体_GB2312"/>
              </a:rPr>
              <a:t>云从窗里出。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9ac"/>
                </a:solidFill>
                <a:latin typeface="Times New Roman"/>
              </a:rPr>
              <a:t>给下列划线字注音：</a:t>
            </a:r>
            <a:r>
              <a:rPr b="0" lang="zh-CN" sz="66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横</a:t>
            </a:r>
            <a:r>
              <a:rPr b="1" lang="zh-CN" sz="6000" spc="-1" strike="noStrike" u="sng">
                <a:solidFill>
                  <a:srgbClr val="cc3300"/>
                </a:solidFill>
                <a:uFillTx/>
                <a:latin typeface="Arial"/>
              </a:rPr>
              <a:t>柯</a:t>
            </a: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上蔽</a:t>
            </a:r>
            <a:r>
              <a:rPr b="1" lang="en-US" sz="6000" spc="-1" strike="noStrike">
                <a:solidFill>
                  <a:srgbClr val="080808"/>
                </a:solidFill>
                <a:latin typeface="Arial"/>
              </a:rPr>
              <a:t>(  )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互相</a:t>
            </a:r>
            <a:r>
              <a:rPr b="1" lang="zh-CN" sz="6000" spc="-1" strike="noStrike" u="sng">
                <a:solidFill>
                  <a:srgbClr val="cc3300"/>
                </a:solidFill>
                <a:uFillTx/>
                <a:latin typeface="Arial"/>
              </a:rPr>
              <a:t>轩邈</a:t>
            </a:r>
            <a:r>
              <a:rPr b="1" lang="en-US" sz="6000" spc="-1" strike="noStrike">
                <a:solidFill>
                  <a:srgbClr val="080808"/>
                </a:solidFill>
                <a:latin typeface="Arial"/>
              </a:rPr>
              <a:t>(  )  (  )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cc3300"/>
                </a:solidFill>
                <a:uFillTx/>
                <a:latin typeface="Arial"/>
              </a:rPr>
              <a:t>鸢</a:t>
            </a: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飞</a:t>
            </a:r>
            <a:r>
              <a:rPr b="1" lang="zh-CN" sz="6000" spc="-1" strike="noStrike" u="sng">
                <a:solidFill>
                  <a:srgbClr val="cc3300"/>
                </a:solidFill>
                <a:uFillTx/>
                <a:latin typeface="Arial"/>
              </a:rPr>
              <a:t>戾</a:t>
            </a: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天者</a:t>
            </a:r>
            <a:r>
              <a:rPr b="1" lang="en-US" sz="6000" spc="-1" strike="noStrike">
                <a:solidFill>
                  <a:srgbClr val="080808"/>
                </a:solidFill>
                <a:latin typeface="Arial"/>
              </a:rPr>
              <a:t>(    )  (    )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水皆</a:t>
            </a:r>
            <a:r>
              <a:rPr b="1" lang="zh-CN" sz="6000" spc="-1" strike="noStrike" u="sng">
                <a:solidFill>
                  <a:srgbClr val="cc3300"/>
                </a:solidFill>
                <a:uFillTx/>
                <a:latin typeface="Arial"/>
              </a:rPr>
              <a:t>缥</a:t>
            </a: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碧</a:t>
            </a:r>
            <a:r>
              <a:rPr b="1" lang="en-US" sz="6000" spc="-1" strike="noStrike">
                <a:solidFill>
                  <a:srgbClr val="080808"/>
                </a:solidFill>
                <a:latin typeface="Arial"/>
              </a:rPr>
              <a:t>(  )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急</a:t>
            </a:r>
            <a:r>
              <a:rPr b="1" lang="zh-CN" sz="6000" spc="-1" strike="noStrike" u="sng">
                <a:solidFill>
                  <a:srgbClr val="cc3300"/>
                </a:solidFill>
                <a:uFillTx/>
                <a:latin typeface="Arial"/>
              </a:rPr>
              <a:t>湍</a:t>
            </a: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甚箭</a:t>
            </a:r>
            <a:r>
              <a:rPr b="1" lang="en-US" sz="6000" spc="-1" strike="noStrike">
                <a:solidFill>
                  <a:srgbClr val="080808"/>
                </a:solidFill>
                <a:latin typeface="Arial"/>
              </a:rPr>
              <a:t>(  )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WordArt 2"/>
          <p:cNvSpPr txBox="1"/>
          <p:nvPr/>
        </p:nvSpPr>
        <p:spPr>
          <a:xfrm>
            <a:off x="380880" y="518148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美丽的富春江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WordArt 2"/>
          <p:cNvSpPr txBox="1"/>
          <p:nvPr/>
        </p:nvSpPr>
        <p:spPr>
          <a:xfrm>
            <a:off x="380880" y="4952880"/>
            <a:ext cx="4062600" cy="16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江上暮色</a:t>
            </a:r>
            <a:endParaRPr b="1" lang="en-US" sz="1800" spc="1" strike="noStrike">
              <a:ln w="19080">
                <a:solidFill>
                  <a:srgbClr val="ffff99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1979640" y="2924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注意：以下几个句子的翻译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066320"/>
            <a:ext cx="91440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风烟俱净，天山共色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从流飘荡，任意东西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1981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==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风尘和雾气全部消散一片明净，晴空和青山共同呈现同样青色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4952880"/>
            <a:ext cx="91440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== ……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，任凭（船儿）往东还是往西。 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0"/>
            <a:ext cx="914400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急湍甚箭，猛浪若奔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夹岸高山，皆生寒树，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负势竞上，互相轩藐；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76212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==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飞腾的急流，比箭更快；汹涌的浪滔，与快马无异。 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312408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==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紧贴两岸的山上，长满了常青（阴森森）的树木， 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5562720"/>
            <a:ext cx="8839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== ……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，仿佛争着向远处高处伸展； 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914400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鸢飞戾天者，望峰息心；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横柯上蔽，在昼犹昏；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疏条交映，有时见日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6858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==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那些像老鹰那样极想得到名利的人，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……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048120"/>
            <a:ext cx="9144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==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横斜的大树枝遮蔽着天空，即使白天与黄昏无异；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5105520"/>
            <a:ext cx="9144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==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稀疏的小树枝交织的地方，或许还可以漏出点阳光。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2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45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