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67F-A1E9-45F5-AD17-D8BD9A53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6A0-DFB7-4DD8-BBE1-9E15CEB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D4816-17BD-400C-8346-437A7A6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D9533-578E-44F0-858B-6D33E4A8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FF99F-3491-42C1-9B2F-20B1575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2C1D4-C30C-4E8D-91A3-5D2142F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79695-880A-4AC8-9683-D6192744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80F30-3780-42AA-A6C0-627AA05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D69E8-332D-4F18-9E2A-3341C73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50C6F-CD8B-4544-BA8B-9C577807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BDC21-5971-4F42-A68C-D07BCC29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2629D-00DF-4D78-BB87-741EB6A8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28E-D575-47F8-848F-D52BC33E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1BF2-0A3A-4514-AE5E-A3A84B1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9C3EE-8818-4E51-8DDF-C956ECFD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E40D6-5CBA-4D77-8E0C-2404B300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FF22A-5C37-438F-AF65-E52B0A64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44ED-C9E7-48BA-8DE9-6963911D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120A2-4854-4B2D-9B95-BEDF900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C0477-F54D-411F-A591-2BB3649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88114-CAE2-40A8-B937-A24C22E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4150B-5E5E-4A7D-9986-02B607F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EAC85-E8BE-4826-94DA-05E6EB57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C60-9102-4C8C-B8E8-D15ED173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B3472-0123-47D9-A483-2F86431A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CDE70-5D07-49C6-8EFB-C4C282BF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58473-EC06-4494-83F3-7E703513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AB92C-7900-4163-A27B-3A179C3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C9369-EAAA-48EA-8EB1-4D427188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45957-97FC-4056-BF6B-6B0DAABE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772E-C029-4FBA-BC1F-7586E9F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362BE-C767-4896-9891-8847D1F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4AB3E-63A4-449F-9385-0AE05BE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55E0E-13EA-4306-A5F0-161F17E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E088-3559-48EA-A442-8EEF26C6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ADEA3-23D5-4413-A301-0E70A60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B1C9B-EB96-4D93-AC4B-66156A73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11F66-3059-4505-A991-66F84858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E1E4C-B662-4ECD-B0B8-322C02BD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1BB83-72BE-484D-8178-65B26A6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BC917-6B3B-4BEE-8C31-52770FD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3B26C-53A0-4E5A-9AAA-D5E2FB54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FA2B4-3333-486D-9E6E-F519F7B6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6F398-9BFE-44E1-AD49-43DE3D4A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E2941-12A5-4772-A616-62FA48E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3A0-51B4-40E2-8BDF-EEAC2536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31D13-461A-46AC-9CFA-B30679E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3A98-43B0-40DB-B161-4F1793C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349E6-86E5-479E-B5BF-E51C79B3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6FE05-1A51-430C-A579-908BD714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F3FEC-F15E-4E26-8A93-E8F4AC19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07D03-01F6-41D2-96C9-81F045A1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FF668-5148-4A2C-A796-D74E1A2D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56EF5-F0E1-4740-ACF5-2790A68E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9C42D-1386-46F1-B2CA-C96D625C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DDB06-F085-462A-9D01-2E4EB4C7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28F-2844-497C-A48C-3025E10F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84D57-AF87-4983-AF39-2BF3D945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4F55E-4DD2-4EB9-8F75-07933C73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03A8B-E10E-4904-BB50-3944219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C0AE9-2A29-4824-939A-979EE94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83C93-BF8E-4705-8FCE-A3DE9469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088FD-718C-4DB1-9FF0-FB773CB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59D4E-0BFB-4504-9E5D-12E97328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805-7CED-4F18-8A82-64B6CB16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9BE4-0495-4C89-9574-F53574A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A55-A454-4147-AB28-EFFDDE2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A8EB-AABE-4A83-85A2-35C1CA0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670-4A3A-4777-97C2-BE3576FC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487-3232-4532-8FF2-2F117AB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AC09-6A13-4386-84DB-2584583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475-BE1B-4F72-AFA7-587B9D27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DD0-7180-493D-AB2F-1828BDC6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C109-4DE1-4C47-B392-6617FFBD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B454-AA40-4B60-9544-355AE210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8FC6-CD05-4FEB-A6F5-736A6C63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1A38-C16B-4FB7-BF9A-341AA7DA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1488-4EAE-4CF1-BC63-43DC5F30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2BA9-9FD7-40F7-B672-6EE6A18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579-2153-42F7-BD1C-F51A5A8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78A9-0EE4-4414-89B9-A309769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5747-1EAE-42D9-93F2-200CC43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E5E0-F7FD-456D-89C1-3480DAB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1939-F21E-4AB0-A1E5-E5C87F0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065F-B8F4-423D-8569-7802679C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89B1-370B-405B-A8CD-41B57A5D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52C8-202A-4A19-831B-0C3DAD96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DB64-F841-4ED7-8818-46756A55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0B4C-A144-490A-80D2-EE5DD06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FF4D5-EDBF-4BF6-8761-D2CFB548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C5F-ECAD-455C-9B6B-B1D696D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BF1D-9958-4657-A8C0-E3E94F3D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6692-B9DB-440C-9F74-DDF895D9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7AF1-0B27-4B30-B772-8ED1399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9C7F-5460-425E-BDA7-C3E9F36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FAF9-0262-4BED-B98D-4477E8B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AC94-1775-401B-A887-AB456D6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10C3-DABE-47B6-ADC6-F560089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86DC-1167-4A5C-9908-63301BC0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6671-6CB0-46DC-A5C2-BAA982AE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1399E-84C9-4A02-9E58-49D32A1C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F1F-3C94-461A-92E7-754356E3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6C9D-20EA-4651-91B6-F282048F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B961-3F8B-47B6-8A9E-4ACC47D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AF1C-57EC-4B35-BAD9-B5CA2742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D0AE-0904-420E-8CB5-E12E0B9E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E2C9C-2C2A-4CB0-8620-CA9B566B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8BC3-72F6-41D7-9E7F-BE93452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8914-5326-497F-8FD9-D962D2D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6E66-45F8-47E1-BB6F-F84B2A37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D04C-2BA4-4562-B220-69DBD28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C7994-39CC-4EFC-A35F-D30BCA2B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9BA-939C-48BF-8A9A-C96B5CD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9FC7-FDD0-4508-85EE-B1B70F84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A75A8-9B5E-49FF-B6C9-2D15E617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46E6-79C9-42EB-A178-86ECD2BA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E2D3-C2DB-47CF-835B-93D8ACBA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6F9B2-4CB9-402A-85A1-DC310D3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1098-7EF4-4044-A642-496B90B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1C6B3-FFCA-4811-B527-ADFC59A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D91F-F6B2-4D91-8AE8-8407DCD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F56A-93A3-4FC8-93B9-1A5DBF5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5063-8E65-45E4-A42F-6BDA13CF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9A8-C835-46E4-8307-FDBA25F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9324-BF4B-4CC9-A806-C438B56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59F6-91B5-49CE-9588-7AC73088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A653-1940-4C09-8525-D09F32AF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5A66-DF6D-48C2-8CFC-4CE4F59D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06C2-3C10-4292-8A64-6BF81EB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E49B9-67A6-4BD1-993E-DF379E3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2D784-4DF2-4DEC-A636-4F1FF15F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E2A5-53DB-4739-805E-572BF984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B9F5-E4ED-4FFF-8043-6366365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FBDA-3AE6-4C67-A9B8-0A77F43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9EA-B7B6-4B6A-9017-D0C845D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883D9-1C9B-4820-B79F-58CDD71D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0955-51B2-4181-9FB7-3C6E7D6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08AD-105B-4700-87FD-18863D6C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6403F-25F2-4055-BA9C-AD675E23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AB377-5CF2-413F-9A9E-63622CF6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CDECD-8CA2-483F-9621-C96C37B6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7145-68F6-4799-A3E6-330AF647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BD376-6ADC-41B0-850D-049D48D0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F80C-2788-4903-B3F8-C0BD407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498B-1A0F-4276-8D3D-32AB3AE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931-8345-4E35-953C-A532356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84FA5-C5C7-46A0-A19A-0301D435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85A59-68C1-473A-8329-4961A20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4BE1C-E081-4A44-98B2-2DD0EC4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D43C2-8D5F-49A9-894B-2A3ECD7B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B90D-F364-44DB-A1A9-E0A2AAB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C33C2-EDF1-4FD6-A876-45EE7F67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4FB2C-76B1-440E-9D54-B85D2F51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278E-954E-470A-A67A-D93E443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42249-F788-44D3-B2F9-98212D3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97A6E-0B79-449F-B676-F38EDA91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396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47520" y="61538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4680" y="61459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26880" y="61603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404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36880" y="616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0800" y="616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1680" y="613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2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4480" y="614916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4080" y="61567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4680" y="60728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67520" y="608112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19280" y="6103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17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49760" y="596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2240" y="5995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55800" y="60123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08280" y="6033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3960" y="584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1480" y="586656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78280" y="5895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4000" y="5922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86360" y="5751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4960" y="5779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36040" y="39200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2400" y="394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46680" y="3845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89520" y="38581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4800" y="38689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4040" y="388836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26360" y="37972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0280" y="38070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18160" y="3815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66040" y="3821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4520" y="379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2040" y="37929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89560" y="3788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38880" y="37893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59440" y="382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06960" y="38185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59160" y="381168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08840" y="380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2920" y="389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2240" y="388044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17960" y="3864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59000" y="38466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3600" y="4040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97560" y="3989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1840" y="3966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4680" y="3950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4000" y="3927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68920" y="3781800"/>
                <a:ext cx="245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5200" y="385164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77040" y="5631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526-BAB0-4999-A42E-3744BCCCF6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49A3-900F-4631-AA50-518A21A0A5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67C-CF01-4914-B64C-3635A949BC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9330-49FD-471A-A862-DF24ACE1E9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5A0C-6861-44EC-A876-2134D435E7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3A1-2E75-4195-AB85-91137753A2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396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47520" y="61538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4680" y="61459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26880" y="61603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404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36880" y="616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0800" y="616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1680" y="613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2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4480" y="614916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4080" y="61567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4680" y="60728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67520" y="608112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19280" y="6103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17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49760" y="596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2240" y="5995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55800" y="60123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08280" y="6033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3960" y="584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1480" y="586656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78280" y="5895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4000" y="5922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86360" y="5751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4960" y="5779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36040" y="39200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2400" y="394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46680" y="3845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89520" y="38581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4800" y="38689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4040" y="388836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26360" y="37972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0280" y="38070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18160" y="3815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66040" y="3821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4520" y="379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2040" y="37929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89560" y="3788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38880" y="37893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59440" y="382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06960" y="38185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59160" y="381168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08840" y="380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2920" y="389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2240" y="388044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17960" y="3864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59000" y="38466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3600" y="4040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97560" y="3989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1840" y="3966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4680" y="3950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4000" y="3927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68920" y="3781800"/>
                <a:ext cx="245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5200" y="385164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77040" y="5631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0A5-2438-49CD-97C5-E04AA84E11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AA98-CB79-41C4-AC19-ACBD2A7315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0996-ECF6-4C30-89C0-F0A66F4F21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5989-3044-4676-BFFF-492BEE8550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E4D2-B636-4DD4-A561-E4275CD958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29C1-1906-4130-B04C-7F0E1E468C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C56C-3D79-4A43-85F4-81E71D2540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05440" cy="103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  <a:ea typeface="宋体"/>
              </a:rPr>
              <a:t>枣儿语文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人物形象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老人    老一辈的农民形象：辛勤劳作，热爱家乡，关爱下一代，念旧而又传统，对生活不失希望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男孩     年幼的新生一代的形象：思念父亲，喜爱心疼自己的老人，纯真可爱，好奇而又懂事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文本框 8198"/>
          <p:cNvSpPr/>
          <p:nvPr/>
        </p:nvSpPr>
        <p:spPr>
          <a:xfrm>
            <a:off x="1187280" y="1052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ffc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ffcc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艺术手法</a:t>
            </a:r>
            <a:br>
              <a:rPr sz="6000"/>
            </a:b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全剧运用了象征的艺术手法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全剧以“枣儿”为线索贯穿剧情，借“枣儿”牵系和寄托人物的感情：老人和男孩因“枣儿”而相遇、而亲近，又因“枣儿”而引起他们对亲人的思念和呼唤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剧中有不少台词和情节富有象征意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98F-AA66-4B83-A764-1A7B24155BA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怎样理解剧本的思想内容？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01680" y="1557360"/>
            <a:ext cx="884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双重性    表层   表现的是牵动人心的深切亲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深层   表现的是人们在社会变革中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情感动荡、人生变化和生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考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双向性      相反相成的两个方面 ：至爱亲情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传统失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多样性       内涵丰富   理解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作者简介</a:t>
            </a: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              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孙鸿   剧作家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999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枣儿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》 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荣获曹禺优秀 话剧小品 奖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9" name="Picture 5" descr="8391,4a1161,1d01,1"/>
          <p:cNvPicPr/>
          <p:nvPr/>
        </p:nvPicPr>
        <p:blipFill>
          <a:blip r:embed="rId1"/>
          <a:stretch/>
        </p:blipFill>
        <p:spPr>
          <a:xfrm>
            <a:off x="6300720" y="4653000"/>
            <a:ext cx="1944720" cy="1168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7"/>
          <p:cNvSpPr/>
          <p:nvPr/>
        </p:nvSpPr>
        <p:spPr>
          <a:xfrm>
            <a:off x="6031080" y="5013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什么叫象征？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01680" y="1599840"/>
            <a:ext cx="85406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象征就是托意于物，通过某一特定的具体形象来表现抽象事物和思想感情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Picture 4" descr="fswy38"/>
          <p:cNvPicPr/>
          <p:nvPr/>
        </p:nvPicPr>
        <p:blipFill>
          <a:blip r:embed="rId1"/>
          <a:stretch/>
        </p:blipFill>
        <p:spPr>
          <a:xfrm>
            <a:off x="4788000" y="4276800"/>
            <a:ext cx="3809880" cy="2581200"/>
          </a:xfrm>
          <a:prstGeom prst="rect">
            <a:avLst/>
          </a:prstGeom>
          <a:ln w="0">
            <a:noFill/>
          </a:ln>
        </p:spPr>
      </p:pic>
      <p:sp>
        <p:nvSpPr>
          <p:cNvPr id="84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ffcc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ffcc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枣儿象征什么？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枣儿”是亲情的象征，是故乡的象征，也是传统生活的象征和精神生活的象征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7" name="Picture 4" descr="6119,162df1,d09,1"/>
          <p:cNvPicPr/>
          <p:nvPr/>
        </p:nvPicPr>
        <p:blipFill>
          <a:blip r:embed="rId1"/>
          <a:stretch/>
        </p:blipFill>
        <p:spPr>
          <a:xfrm>
            <a:off x="5724360" y="4508640"/>
            <a:ext cx="2664000" cy="186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讨论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全剧有几个人物？在出场上有何不同 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全剧共有四个人物。两位出场：老人和男孩；两位未出场：老人的儿子和男孩的父亲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谈谈枣儿在剧中所起的作用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全剧以“枣儿”为标题，并以“枣儿”贯穿全剧，让老人与男孩围绕“枣儿”进行对话展开情节。老人的经历、情感乃至命运都与“枣儿”有着不解之缘，男孩对父亲的思念，也与“枣儿”相牵连。“枣儿”是全剧情节发展的线索，是人物对白的话题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结构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枣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老人                                   寄托人物感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线索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枣儿       象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男孩                               反映人物生存状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Oval 12"/>
          <p:cNvSpPr/>
          <p:nvPr/>
        </p:nvSpPr>
        <p:spPr>
          <a:xfrm flipV="1">
            <a:off x="3348000" y="2924280"/>
            <a:ext cx="1224000" cy="57600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AutoShape 15"/>
          <p:cNvSpPr/>
          <p:nvPr/>
        </p:nvSpPr>
        <p:spPr>
          <a:xfrm rot="5975400">
            <a:off x="1908000" y="2563560"/>
            <a:ext cx="1079640" cy="936720"/>
          </a:xfrm>
          <a:prstGeom prst="triangle">
            <a:avLst>
              <a:gd name="adj" fmla="val 879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AutoShape 18"/>
          <p:cNvSpPr/>
          <p:nvPr/>
        </p:nvSpPr>
        <p:spPr>
          <a:xfrm rot="15264000">
            <a:off x="5047200" y="2584800"/>
            <a:ext cx="1057320" cy="1008000"/>
          </a:xfrm>
          <a:prstGeom prst="triangle">
            <a:avLst>
              <a:gd name="adj" fmla="val 2377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7" name="Picture 20" descr="5017,162bcf,10d9,1"/>
          <p:cNvPicPr/>
          <p:nvPr/>
        </p:nvPicPr>
        <p:blipFill>
          <a:blip r:embed="rId1"/>
          <a:stretch/>
        </p:blipFill>
        <p:spPr>
          <a:xfrm>
            <a:off x="5435640" y="4697280"/>
            <a:ext cx="1873080" cy="2160720"/>
          </a:xfrm>
          <a:prstGeom prst="rect">
            <a:avLst/>
          </a:prstGeom>
          <a:ln w="0">
            <a:noFill/>
          </a:ln>
        </p:spPr>
      </p:pic>
      <p:sp>
        <p:nvSpPr>
          <p:cNvPr id="85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ffcc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ffcc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8646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  “</a:t>
            </a:r>
            <a:r>
              <a:rPr b="1" lang="zh-CN" sz="4000" spc="-1" strike="noStrike">
                <a:solidFill>
                  <a:srgbClr val="ffff99"/>
                </a:solidFill>
                <a:latin typeface="Tahoma"/>
              </a:rPr>
              <a:t>枣儿甜，</a:t>
            </a: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……</a:t>
            </a:r>
            <a:r>
              <a:rPr b="1" lang="zh-CN" sz="4000" spc="-1" strike="noStrike">
                <a:solidFill>
                  <a:srgbClr val="ffff99"/>
                </a:solidFill>
                <a:latin typeface="Tahoma"/>
              </a:rPr>
              <a:t>留给娃娃过年吃”在文中出现两次，请从结构内容上说说它在剧中所起的作用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结构上首尾呼应，用这首童谣表达了在枣儿中所融入的父母爱子女的亲情，因而在内容上又强化了剧中的情景，升华了全剧的思想内容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99"/>
                </a:solidFill>
                <a:latin typeface="Tahoma"/>
              </a:rPr>
              <a:t>主旨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全剧运用象征手法，围绕着枣儿展开情节，描写了老人和男孩之间的一段亲切交往，表现了老人对儿子、男孩对父亲的深切亲情，反映了我国在现代化进程中的社会变迁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2:37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0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