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D74C6-5910-4ACF-BCE3-7DC6425432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FA1B7-F356-45AA-9F87-F25680827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ADF64-B41F-4F81-A52F-9D3F49EBE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EE861-AE06-4961-805D-ACBD20303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CCF29-C54D-4730-BBEB-EDDFB9E3F8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10933-AA0E-4073-965B-CAEF4C935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324883-CF3F-4902-BAB2-ABF3E3C6C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0EE920-3F9A-4473-961C-4A811CE03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D3828-8F3E-4370-A6F6-C3CC172D1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88CEF-E626-4555-BAD7-7040564382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47A0D-9A7A-44DF-8F49-7EF17321A9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FACD5-FD85-4C65-81E1-F63C3B071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66E34-3E7A-40C9-A6D1-55D5CADF6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BD64A-6E60-4ED1-9614-CC8A6B1FB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63F8-3A6E-4CFE-A29F-B110E4BA4B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FE361-86D6-4BE5-BB60-03E0C6E30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254C0-15C1-4085-B0D5-FA9D2AD3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1EDFAB-34CE-43E5-B71D-E5B3418245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8BFD83-446A-47A0-B824-653991934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DF981D-7BF1-4AD8-B2C4-464B3D38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0BD154-740C-497D-8355-E8BA03434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F566B7-7F06-4BAA-AA58-71AB546FD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568E-522F-4EB4-A625-CB6A54D12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87771-3963-40BE-88C4-3C7E05176F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61DEF0-1CC1-4980-9171-4C5F39B59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B94224-E8C3-4226-AF1F-4E85DF265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9A3519-3F0B-4C5A-B6BB-5AB880F0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7BCA01-B8D0-4DD0-A5AF-91DC3556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A1248E-0411-46EE-884E-0F9C807BC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80E0E7-F4C5-4627-8183-AC8857966B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66EC-8FE4-452C-BCFD-AA9F83394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EC885-BDCC-4AAE-8029-900890E4E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589E-E7B4-423B-AFEE-22299EFE31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CB46-CA88-4E66-9A55-6777393C9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B3B-89E1-45C0-B88E-56201C32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9BC62-A8DA-4CDE-9B8C-EDF2054A6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DCC47-7B00-49CE-9D54-1A3741E232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08113-E474-4EBB-9461-7F6852DF957D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7a77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57053-CBA8-47DD-96BD-99F02E10B79B}" type="slidenum">
              <a:rPr b="0" lang="en-US" sz="1400" spc="-1" strike="noStrike">
                <a:solidFill>
                  <a:srgbClr val="007a77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879120" y="1844640"/>
            <a:ext cx="75819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宋体"/>
                <a:ea typeface="宋体"/>
              </a:rPr>
              <a:t>祖父的园子</a:t>
            </a:r>
            <a:r>
              <a:rPr b="0" lang="zh-CN" sz="4000" spc="-1" strike="noStrike">
                <a:solidFill>
                  <a:srgbClr val="007a77"/>
                </a:solidFill>
                <a:latin typeface="宋体"/>
                <a:ea typeface="宋体"/>
              </a:rPr>
              <a:t>课件</a:t>
            </a:r>
            <a:r>
              <a:rPr b="0" lang="en-US" sz="4000" spc="-1" strike="noStrike">
                <a:solidFill>
                  <a:srgbClr val="007a77"/>
                </a:solidFill>
                <a:latin typeface="宋体"/>
                <a:ea typeface="宋体"/>
              </a:rPr>
              <a:t>PPT</a:t>
            </a:r>
            <a:r>
              <a:rPr b="0" lang="zh-CN" sz="4000" spc="-1" strike="noStrike">
                <a:solidFill>
                  <a:srgbClr val="007a77"/>
                </a:solidFill>
                <a:latin typeface="宋体"/>
                <a:ea typeface="宋体"/>
              </a:rPr>
              <a:t>模板免费下载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4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7a77"/>
                </a:solidFill>
                <a:latin typeface="宋体"/>
              </a:rPr>
              <a:t>幻灯片之家 </a:t>
            </a:r>
            <a:r>
              <a:rPr b="0" lang="en-US" sz="1600" spc="-1" strike="noStrike">
                <a:solidFill>
                  <a:srgbClr val="007a77"/>
                </a:solidFill>
                <a:latin typeface="宋体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作者为什么能将她的童年生活写得那样有趣，真实，吸引读者？</a:t>
            </a:r>
            <a:br>
              <a:rPr sz="4000"/>
            </a:b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祖父的园子──“我”的乐园</a:t>
            </a:r>
            <a:br>
              <a:rPr sz="4000"/>
            </a:b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留心观察生活，用心感受生活，真实表达感受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51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3" name="Picture 4" descr="k07-0011"/>
          <p:cNvPicPr/>
          <p:nvPr/>
        </p:nvPicPr>
        <p:blipFill>
          <a:blip r:embed="rId1"/>
          <a:stretch/>
        </p:blipFill>
        <p:spPr>
          <a:xfrm>
            <a:off x="324000" y="0"/>
            <a:ext cx="8280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11602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5" descr=""/>
          <p:cNvPicPr/>
          <p:nvPr/>
        </p:nvPicPr>
        <p:blipFill>
          <a:blip r:embed="rId2"/>
          <a:stretch/>
        </p:blipFill>
        <p:spPr>
          <a:xfrm>
            <a:off x="0" y="1689120"/>
            <a:ext cx="9144000" cy="4403880"/>
          </a:xfrm>
          <a:prstGeom prst="rect">
            <a:avLst/>
          </a:prstGeom>
          <a:ln w="0">
            <a:noFill/>
          </a:ln>
        </p:spPr>
      </p:pic>
      <p:grpSp>
        <p:nvGrpSpPr>
          <p:cNvPr id="157" name=""/>
          <p:cNvGrpSpPr/>
          <p:nvPr/>
        </p:nvGrpSpPr>
        <p:grpSpPr>
          <a:xfrm>
            <a:off x="3419640" y="2276640"/>
            <a:ext cx="1008000" cy="504720"/>
            <a:chOff x="3419640" y="2276640"/>
            <a:chExt cx="1008000" cy="504720"/>
          </a:xfrm>
        </p:grpSpPr>
        <p:sp>
          <p:nvSpPr>
            <p:cNvPr id="158" name="Line 6"/>
            <p:cNvSpPr/>
            <p:nvPr/>
          </p:nvSpPr>
          <p:spPr>
            <a:xfrm>
              <a:off x="3419640" y="2276640"/>
              <a:ext cx="1008000" cy="50472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59" name=""/>
            <p:cNvSpPr txBox="1"/>
            <p:nvPr/>
          </p:nvSpPr>
          <p:spPr>
            <a:xfrm>
              <a:off x="3419640" y="2276640"/>
              <a:ext cx="1008000" cy="5047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6084720" y="3213000"/>
            <a:ext cx="1008360" cy="505080"/>
            <a:chOff x="6084720" y="3213000"/>
            <a:chExt cx="1008360" cy="505080"/>
          </a:xfrm>
        </p:grpSpPr>
        <p:sp>
          <p:nvSpPr>
            <p:cNvPr id="161" name="Line 7"/>
            <p:cNvSpPr/>
            <p:nvPr/>
          </p:nvSpPr>
          <p:spPr>
            <a:xfrm>
              <a:off x="6084720" y="3213000"/>
              <a:ext cx="1008360" cy="505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2" name=""/>
            <p:cNvSpPr txBox="1"/>
            <p:nvPr/>
          </p:nvSpPr>
          <p:spPr>
            <a:xfrm>
              <a:off x="6084720" y="3213000"/>
              <a:ext cx="100836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6300720" y="4221000"/>
            <a:ext cx="1008000" cy="505080"/>
            <a:chOff x="6300720" y="4221000"/>
            <a:chExt cx="1008000" cy="505080"/>
          </a:xfrm>
        </p:grpSpPr>
        <p:sp>
          <p:nvSpPr>
            <p:cNvPr id="164" name="Line 8"/>
            <p:cNvSpPr/>
            <p:nvPr/>
          </p:nvSpPr>
          <p:spPr>
            <a:xfrm>
              <a:off x="6300720" y="4221000"/>
              <a:ext cx="1008000" cy="505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6300720" y="4221000"/>
              <a:ext cx="100800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971640" y="5084640"/>
            <a:ext cx="1008000" cy="505080"/>
            <a:chOff x="971640" y="5084640"/>
            <a:chExt cx="1008000" cy="505080"/>
          </a:xfrm>
        </p:grpSpPr>
        <p:sp>
          <p:nvSpPr>
            <p:cNvPr id="167" name="Line 9"/>
            <p:cNvSpPr/>
            <p:nvPr/>
          </p:nvSpPr>
          <p:spPr>
            <a:xfrm>
              <a:off x="971640" y="5084640"/>
              <a:ext cx="1008000" cy="505080"/>
            </a:xfrm>
            <a:prstGeom prst="line">
              <a:avLst/>
            </a:prstGeom>
            <a:ln w="7632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  <p:sp>
          <p:nvSpPr>
            <p:cNvPr id="168" name=""/>
            <p:cNvSpPr txBox="1"/>
            <p:nvPr/>
          </p:nvSpPr>
          <p:spPr>
            <a:xfrm>
              <a:off x="971640" y="5084640"/>
              <a:ext cx="1008000" cy="50508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7a77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2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527A-03DF-4F2C-9058-4D1BF48E696D}" type="slidenum">
              <a:rPr b="0" lang="zh-CN" sz="1400" spc="-1" strike="noStrike">
                <a:solidFill>
                  <a:srgbClr val="007a77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74" name="Picture 4" descr=""/>
          <p:cNvPicPr/>
          <p:nvPr/>
        </p:nvPicPr>
        <p:blipFill>
          <a:blip r:embed="rId1"/>
          <a:stretch/>
        </p:blipFill>
        <p:spPr>
          <a:xfrm>
            <a:off x="0" y="324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矩形 6"/>
          <p:cNvSpPr/>
          <p:nvPr/>
        </p:nvSpPr>
        <p:spPr>
          <a:xfrm>
            <a:off x="6084720" y="437364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981000"/>
            <a:ext cx="144604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萧红（１９１１～１９４２）中国现代著名女作家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黑龙江省呼兰县人，原名张乃莹。１９３５年在上海出版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成名作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生死场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时，开始用萧红作笔名，蜚声文坛。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在萧红不到 １０年的创作生涯中，为祖国文学宝库留下了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近百万字的作品，深受广大读者的喜爱，具有广泛而深远</a:t>
            </a: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的影响。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27" name="Picture 5" descr="k07-007a"/>
          <p:cNvPicPr/>
          <p:nvPr/>
        </p:nvPicPr>
        <p:blipFill>
          <a:blip r:embed="rId1"/>
          <a:stretch/>
        </p:blipFill>
        <p:spPr>
          <a:xfrm>
            <a:off x="5003640" y="3429000"/>
            <a:ext cx="3745080" cy="29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-360" y="-603720"/>
            <a:ext cx="8791560" cy="593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zh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                   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           wēng       kěn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蚂蚱    蝴蝶   蜻蜓    翁翁    啃树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y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īng     b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à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ng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    pi</a:t>
            </a: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á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o    w</a:t>
            </a: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ō        dū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樱桃    蚌壳   水瓢    倭瓜    嘟嘟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007a77"/>
                </a:solidFill>
                <a:latin typeface="Arial"/>
              </a:rPr>
              <a:t>luo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1100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7a77"/>
                </a:solidFill>
                <a:latin typeface="Arial"/>
              </a:rPr>
              <a:t>下雨罗     光芒四射   蚯蚓    蝙蝠</a:t>
            </a:r>
            <a:endParaRPr b="0" lang="en-US" sz="44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a77"/>
                </a:solidFill>
                <a:latin typeface="Arial"/>
              </a:rPr>
              <a:t>说说本文的主要内容</a:t>
            </a:r>
            <a:endParaRPr b="0" lang="en-US" sz="4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2" name="Picture 4" descr="k07-005"/>
          <p:cNvPicPr/>
          <p:nvPr/>
        </p:nvPicPr>
        <p:blipFill>
          <a:blip r:embed="rId1"/>
          <a:stretch/>
        </p:blipFill>
        <p:spPr>
          <a:xfrm>
            <a:off x="0" y="3116160"/>
            <a:ext cx="9144000" cy="3013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4" name="Picture 4" descr="k07-006"/>
          <p:cNvPicPr/>
          <p:nvPr/>
        </p:nvPicPr>
        <p:blipFill>
          <a:blip r:embed="rId1"/>
          <a:stretch/>
        </p:blipFill>
        <p:spPr>
          <a:xfrm>
            <a:off x="0" y="765000"/>
            <a:ext cx="9144000" cy="532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78920" y="476280"/>
            <a:ext cx="854100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作者回忆了童年时代在祖父的园子里快乐玩耍的哪些情景？</a:t>
            </a:r>
            <a:br>
              <a:rPr sz="4000"/>
            </a:b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7" name="Picture 4" descr="k07-009a"/>
          <p:cNvPicPr/>
          <p:nvPr/>
        </p:nvPicPr>
        <p:blipFill>
          <a:blip r:embed="rId1"/>
          <a:stretch/>
        </p:blipFill>
        <p:spPr>
          <a:xfrm>
            <a:off x="3851280" y="1844640"/>
            <a:ext cx="4932360" cy="3946680"/>
          </a:xfrm>
          <a:prstGeom prst="rect">
            <a:avLst/>
          </a:prstGeom>
          <a:ln w="0">
            <a:noFill/>
          </a:ln>
        </p:spPr>
      </p:pic>
      <p:sp>
        <p:nvSpPr>
          <p:cNvPr id="138" name="文本框 8199"/>
          <p:cNvSpPr/>
          <p:nvPr/>
        </p:nvSpPr>
        <p:spPr>
          <a:xfrm>
            <a:off x="755640" y="58770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dc5900"/>
                </a:solidFill>
                <a:uFillTx/>
                <a:latin typeface="Arial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dc5900"/>
                </a:solidFill>
                <a:uFillTx/>
                <a:latin typeface="Arial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007a77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0" name="Text Box 4"/>
          <p:cNvSpPr/>
          <p:nvPr/>
        </p:nvSpPr>
        <p:spPr>
          <a:xfrm>
            <a:off x="1843560" y="1876320"/>
            <a:ext cx="548244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用自己喜欢的方式再读课文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找出自己喜欢的段落先自己练读，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再读给同伴听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想一想，你为什么喜欢自己读的段落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      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有什么感受和体会？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1" name="WordArt 5"/>
          <p:cNvSpPr txBox="1"/>
          <p:nvPr/>
        </p:nvSpPr>
        <p:spPr>
          <a:xfrm>
            <a:off x="468360" y="388800"/>
            <a:ext cx="3024000" cy="123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round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阅读提示</a:t>
            </a:r>
            <a:endParaRPr b="0" lang="en-US" sz="1800" spc="1" strike="noStrike">
              <a:ln w="19080">
                <a:solidFill>
                  <a:srgbClr val="99ccff"/>
                </a:solidFill>
                <a:round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页脚占位符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体会“我”在园子里的心情是怎样的？你是从哪里体会到的？用笔勾出相关句子， </a:t>
            </a:r>
            <a:endParaRPr b="0" lang="en-US" sz="40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44" name="Picture 4" descr="k07-008a"/>
          <p:cNvPicPr/>
          <p:nvPr/>
        </p:nvPicPr>
        <p:blipFill>
          <a:blip r:embed="rId1"/>
          <a:stretch/>
        </p:blipFill>
        <p:spPr>
          <a:xfrm>
            <a:off x="4859280" y="3213000"/>
            <a:ext cx="4176720" cy="334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0" lang="zh-CN" sz="4000" spc="-1" strike="noStrike">
                <a:solidFill>
                  <a:srgbClr val="007a77"/>
                </a:solidFill>
                <a:latin typeface="Arial"/>
              </a:rPr>
              <a:t>我”在祖父的园子里是自由自在、快乐无忧的，“我”的童年生活是多彩有趣的，令人向往的</a:t>
            </a: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。</a:t>
            </a:r>
            <a:br>
              <a:rPr sz="3200"/>
            </a:br>
            <a:r>
              <a:rPr b="0" lang="zh-CN" sz="3200" spc="-1" strike="noStrike">
                <a:solidFill>
                  <a:srgbClr val="007a77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12T10:03:01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6-30T08:58:47Z</dcterms:modified>
  <cp:revision>30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777</vt:lpwstr>
  </property>
</Properties>
</file>