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C22F-75BC-4186-B549-6BFEDE4F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908-A7FA-4B9D-8375-E36BFE4B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D6B-87C1-4576-A6CA-F893B0F8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3D9-C3A7-46F3-AF31-4478DFEE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AA20-72C0-418B-B34A-29D5F457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F1ED-3DBE-429D-91DF-6CF36997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1987-24D0-477B-85AC-945F53B9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9B09-7D57-4F08-8F94-E6ED348C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DC09-1574-45A1-B4B1-6369AEDE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271A-5348-467F-B566-09EC7169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CE01-D9C1-4FDF-BBA1-21C5FC20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60AB-EFEB-47C3-AD04-32CDE285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A480-06FE-4278-943D-00A979E5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876C-D218-4696-B59A-0659C17F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9645-BBDF-46BE-BAF6-F70D2419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DD8E-F4D5-48EE-8166-7A5CD1F6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9F12-58BF-4162-A91F-8CBAB8F4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983A-B032-421E-A61C-52FFD64A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332F-F678-40FA-AAB2-34C686CA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5AD-1B0A-4997-A2AF-401773ED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135-651E-40EC-AA50-8A1D5C93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61B8-ED84-49D6-960F-03CD6F78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195A-101D-4FE2-8893-29E6C7D7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0C93-7D2F-4BA1-8E32-6BCA2276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7F3E-105D-46B7-9EAE-649662159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872F-FE2E-4821-B3EA-522F5C028F6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1488960" y="2206800"/>
            <a:ext cx="61930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祝福青春课件</a:t>
            </a:r>
            <a:r>
              <a:rPr b="1" lang="en-US" sz="4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2945160" y="907920"/>
            <a:ext cx="32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四课   欢快的青春节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547640" y="12114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步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珍惜青春，灿烂人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627280" y="2276640"/>
            <a:ext cx="2951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立志  理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毅力  拼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惜时  勤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自尊  自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实践  创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立志  理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167652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理想，是人们渴望达到的奋斗目标，也是人们为达到目标所下的决心。没有理想，青春就会枯萎；没有伟大的志愿，生命就会暗淡无光。没有理想的青春就是没有太阳。理想是指路灯，没有理想就没有坚定的方向；没有方向就没有生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143000" y="1447920"/>
            <a:ext cx="688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檐上水滴之力微不足道，它却能穿越石块；愚公年老力衰，子孙势单力薄，但他们敢于向巍然的太行王屋开战；兔子跳跃迅捷，乌龟爬行缓慢，龟兔赛跑乌龟折桂。“咬定青山不放松，立根原在破岩中。钱磨万击还坚韧，任尔东西南北风”（郑板桥）人生就是拼搏，朝着目标迎难而上，不达目的决不罢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8199"/>
          <p:cNvSpPr/>
          <p:nvPr/>
        </p:nvSpPr>
        <p:spPr>
          <a:xfrm>
            <a:off x="1479600" y="1112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惜时  勤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11280" y="1268280"/>
            <a:ext cx="75438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寸光阴一寸金”  “青春是有限的，智慧是无穷的。趁短短的青春，去学无穷的智慧” （高尔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天才在于积累，聪明在于勤奋” （华罗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谁虚度年华，青春就会褪色，生命就抛弃他们”（雨果）“在天才和勤奋之间，我毫不迟疑地选择勤奋，她几乎是世界上一切成就的催生婆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尊  自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47280" y="1628640"/>
            <a:ext cx="65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尊心是一种促使一个人不断向上发展的动力。“天行健，君子以自强不息”困难逆境的砥砺和生活强者的驾御，恰如正电和负电，一经碰撞，驾御者就能观赏到自己胜利的火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8199"/>
          <p:cNvSpPr/>
          <p:nvPr/>
        </p:nvSpPr>
        <p:spPr>
          <a:xfrm>
            <a:off x="755640" y="1316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实践  创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05228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实践出真知，实践长才干。知识是宝库，开启这个宝库的钥匙是实践。面对享乐的寒流，创新就是青春面前熊熊篝火；面对庸俗的暗夜，创新就是青春拨云见日的阳光；面对没有追求没有信念的迷茫，创新就是青春的快乐与幸福。时光如梭，生命并非是永远饱满，让创新翅膀插进青春向往飞翔的身体，永远在事业的天空中自由飞翔。让创新的心灵溶入我们青春的灵魂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403280" y="1197000"/>
            <a:ext cx="576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步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想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前面学习了哪些知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通过上面的学习有哪些问题和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A6B3-3C17-4D10-A386-62D8C8D251A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474920" y="690480"/>
            <a:ext cx="5978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出示两首诗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岳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满江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怒发冲冠，凭栏处潇潇雨歇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抬望眼，仰天长啸，壮怀激烈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十功名尘与土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八千里路云和月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莫等闲白了少年头，空悲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547640" y="3498840"/>
            <a:ext cx="547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毛主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“世界是你们的！也是我们的，但是归根结底是你们的！”努力学习，争做国家的栋梁之才。（学生齐读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490920" y="54435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五步：检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116000" y="1341360"/>
            <a:ext cx="70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突破难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步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出示一组情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一组植物；第二组动物；第三组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042920" y="314172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观察上述图片，你有哪些对青春的感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引导学生得出：青春是向上的、充满活力的、幸福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deac0cd7d4b3e3f8a044df2e"/>
          <p:cNvPicPr/>
          <p:nvPr/>
        </p:nvPicPr>
        <p:blipFill>
          <a:blip r:embed="rId1"/>
          <a:stretch/>
        </p:blipFill>
        <p:spPr>
          <a:xfrm>
            <a:off x="4500720" y="71280"/>
            <a:ext cx="4500360" cy="5950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200931195351_16"/>
          <p:cNvPicPr/>
          <p:nvPr/>
        </p:nvPicPr>
        <p:blipFill>
          <a:blip r:embed="rId2"/>
          <a:stretch/>
        </p:blipFill>
        <p:spPr>
          <a:xfrm>
            <a:off x="112680" y="71280"/>
            <a:ext cx="4388040" cy="5805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684360" y="6165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挺拔的松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012000" y="6165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树盘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002C93F81C00F0F22EE4CA0C8264323B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0015f26306540be1bd2b27"/>
          <p:cNvPicPr/>
          <p:nvPr/>
        </p:nvPicPr>
        <p:blipFill>
          <a:blip r:embed="rId2"/>
          <a:stretch/>
        </p:blipFill>
        <p:spPr>
          <a:xfrm>
            <a:off x="0" y="3573360"/>
            <a:ext cx="4643280" cy="3140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2009050313541758706"/>
          <p:cNvPicPr/>
          <p:nvPr/>
        </p:nvPicPr>
        <p:blipFill>
          <a:blip r:embed="rId3"/>
          <a:stretch/>
        </p:blipFill>
        <p:spPr>
          <a:xfrm>
            <a:off x="0" y="0"/>
            <a:ext cx="4821120" cy="3816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2009050314134142979"/>
          <p:cNvPicPr/>
          <p:nvPr/>
        </p:nvPicPr>
        <p:blipFill>
          <a:blip r:embed="rId4"/>
          <a:stretch/>
        </p:blipFill>
        <p:spPr>
          <a:xfrm>
            <a:off x="4716360" y="3716280"/>
            <a:ext cx="44276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5"/>
          <p:cNvSpPr/>
          <p:nvPr/>
        </p:nvSpPr>
        <p:spPr>
          <a:xfrm>
            <a:off x="5796000" y="1125360"/>
            <a:ext cx="735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zyn20090212037"/>
          <p:cNvPicPr/>
          <p:nvPr/>
        </p:nvPicPr>
        <p:blipFill>
          <a:blip r:embed="rId1"/>
          <a:stretch/>
        </p:blipFill>
        <p:spPr>
          <a:xfrm>
            <a:off x="468360" y="189000"/>
            <a:ext cx="4762440" cy="4105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001d92d13f780a78bb701e"/>
          <p:cNvPicPr/>
          <p:nvPr/>
        </p:nvPicPr>
        <p:blipFill>
          <a:blip r:embed="rId2"/>
          <a:stretch/>
        </p:blipFill>
        <p:spPr>
          <a:xfrm>
            <a:off x="324000" y="3068640"/>
            <a:ext cx="3600360" cy="3789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200951996361w"/>
          <p:cNvPicPr/>
          <p:nvPr/>
        </p:nvPicPr>
        <p:blipFill>
          <a:blip r:embed="rId3"/>
          <a:stretch/>
        </p:blipFill>
        <p:spPr>
          <a:xfrm>
            <a:off x="5580000" y="1066680"/>
            <a:ext cx="3810240" cy="579132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8199"/>
          <p:cNvSpPr/>
          <p:nvPr/>
        </p:nvSpPr>
        <p:spPr>
          <a:xfrm>
            <a:off x="3344760" y="189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1116000" y="2708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步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出示材料：金庸笔下的杨过少年凄惨，父亲降金，母亲自杀，人们看不起他，但他通过自己的努力成为一个大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042920" y="1413000"/>
            <a:ext cx="58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步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比青春：填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页留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116000" y="47242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得出结论：青春是奋斗史，不是怯懦者的避风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971640" y="1484280"/>
            <a:ext cx="576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步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想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学生读刚才写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的留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给青春寄语。（青春立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长江后浪推前浪，一代更比一代强。自古英雄出少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116000" y="465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五步：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403280" y="62064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突出重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步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出示古今中外名人寄语青春的名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187280" y="2060640"/>
            <a:ext cx="684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春是一年的青春，青春是生命的的春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雨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世界进文明，为人类造幸福，以青年之我，创造青春之家庭，青春之国家，青春之民族，青春之人类，青春之地球，青春之宇宙，资以乐其无涯之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李大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岁月如流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断地逝去却又源源而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惟有青春一去不复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易卜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世间，比青春再可宝贵的东西实在没有，然而青春也最容易消逝。最可宝贵的东西都不甚 为人所爱惜，最容易消逝的东西却在促进它的消逝。谁能保持得永远的青春的，便是伟大的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郭沫若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百金买骏马，千金买美人；万金买高爵，何处买青春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屈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763640" y="1844640"/>
            <a:ext cx="58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步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将课前调查班上交流：同学间；家长给孩子的寄语；老师给孩子的寄语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5:05:3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48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