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903-B450-49ED-BE12-821F9CCB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791-44A6-4DD1-92AD-26F3BAF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3B7-7F43-4433-8A54-2B77C2CE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57F-3E89-4939-AE58-DB550D2E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6BB-EFA5-4196-9F98-CB65F570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28F-A98A-494D-AFB5-9B3FB3CF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70E-9167-4784-93F2-DF6D958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7D8-F8E1-4955-99B1-0F9EC20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32D-7F72-428D-9806-CB04A66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F2F-1997-421D-AE3D-305DFC2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F27-A410-4918-8F47-AE19C1B7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9A-C5AF-4013-A469-9B76CFE1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 </a:t>
            </a:r>
            <a:fld id="{DE153091-1FB7-4E4B-AEEA-E80F04F95C57}" type="slidenum">
              <a:rPr b="1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65D2-6787-42BC-B81D-6E43FBF67B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WordArt 4" descr=""/>
          <p:cNvPicPr/>
          <p:nvPr/>
        </p:nvPicPr>
        <p:blipFill>
          <a:blip r:embed="rId2"/>
          <a:stretch/>
        </p:blipFill>
        <p:spPr>
          <a:xfrm>
            <a:off x="977760" y="2622600"/>
            <a:ext cx="7258320" cy="857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728800" y="836640"/>
            <a:ext cx="37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第七课　关注经济发展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2700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夕，老李一家五口围坐在一起，吃着“团圆饭”，聊着开心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大爷说：“我们钢铁公司是国营骨干企业，今年完成了一个投资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，能生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吨特种钢铁的项目。今年公司产值突破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，利税达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元。光年终奖金我就拿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一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137320" y="479736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大爷所从事的职业属于哪一种经济成分？地位如何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有什么作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01760" y="566100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方正魏碑_GBK"/>
                <a:ea typeface="方正魏碑_GBK"/>
              </a:rPr>
              <a:t>你还知道还有那些行业是由国有经济控制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魏碑_GBK"/>
                <a:ea typeface="方正魏碑_GBK"/>
              </a:rPr>
              <a:t>为何由国有经济控制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958760" y="105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国有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0920" y="2421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含义：生产资料和劳动产品归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全体人民共同所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公有制经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80120" y="36450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地位：国民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主导力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0920" y="4365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作用：对于发挥社会主义制度的优越性，增强我国的经济实力、国防实力和民族凝聚力，具有关键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4"/>
          <p:cNvSpPr/>
          <p:nvPr/>
        </p:nvSpPr>
        <p:spPr>
          <a:xfrm>
            <a:off x="2700360" y="2781360"/>
            <a:ext cx="3384360" cy="1152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国有经济控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的行业和领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5292720" y="836640"/>
            <a:ext cx="3600360" cy="1727280"/>
          </a:xfrm>
          <a:prstGeom prst="wedgeRoundRectCallout">
            <a:avLst>
              <a:gd name="adj1" fmla="val -41356"/>
              <a:gd name="adj2" fmla="val 700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支柱产业和高新技术产业中的重要骨干企业（机械、电子、汽车、石油化工、建筑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79280" y="836640"/>
            <a:ext cx="3600720" cy="1727280"/>
          </a:xfrm>
          <a:prstGeom prst="wedgeRoundRectCallout">
            <a:avLst>
              <a:gd name="adj1" fmla="val 37388"/>
              <a:gd name="adj2" fmla="val 6948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涉及国家安全的行业（国防工业、造币工业、航空航天工业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5003640" y="4365720"/>
            <a:ext cx="3600720" cy="1727280"/>
          </a:xfrm>
          <a:prstGeom prst="wedgeRoundRectCallout">
            <a:avLst>
              <a:gd name="adj1" fmla="val -46120"/>
              <a:gd name="adj2" fmla="val -760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重大基础设施和重要矿产资源行业（煤气、电力电网、电信、煤炭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68360" y="4365720"/>
            <a:ext cx="3600360" cy="1727280"/>
          </a:xfrm>
          <a:prstGeom prst="wedgeRoundRectCallout">
            <a:avLst>
              <a:gd name="adj1" fmla="val 40430"/>
              <a:gd name="adj2" fmla="val -73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提供重要公共产品的行业（大江大河的治理、重点防护林工程、重点公益事业等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8198"/>
          <p:cNvSpPr/>
          <p:nvPr/>
        </p:nvSpPr>
        <p:spPr>
          <a:xfrm>
            <a:off x="755640" y="501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863720" y="112392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00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世界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强排行中国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4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家企业入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2349360"/>
          <a:ext cx="8785080" cy="3801960"/>
        </p:xfrm>
        <a:graphic>
          <a:graphicData uri="http://schemas.openxmlformats.org/drawingml/2006/table">
            <a:tbl>
              <a:tblPr/>
              <a:tblGrid>
                <a:gridCol w="900000"/>
                <a:gridCol w="2148120"/>
                <a:gridCol w="2244600"/>
                <a:gridCol w="1619280"/>
                <a:gridCol w="18730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排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公司名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公司标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要业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利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（百万美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石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炼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7,8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石油天然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炼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1,12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国家电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,1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工商银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银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,56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中国移动通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电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,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60" descr="xinsrc_512070214110831226007128"/>
          <p:cNvPicPr/>
          <p:nvPr/>
        </p:nvPicPr>
        <p:blipFill>
          <a:blip r:embed="rId1"/>
          <a:stretch/>
        </p:blipFill>
        <p:spPr>
          <a:xfrm>
            <a:off x="3348000" y="3284640"/>
            <a:ext cx="2158920" cy="50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1" descr="2"/>
          <p:cNvPicPr/>
          <p:nvPr/>
        </p:nvPicPr>
        <p:blipFill>
          <a:blip r:embed="rId2"/>
          <a:stretch/>
        </p:blipFill>
        <p:spPr>
          <a:xfrm>
            <a:off x="3348000" y="4437000"/>
            <a:ext cx="216072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2" descr="5"/>
          <p:cNvPicPr/>
          <p:nvPr/>
        </p:nvPicPr>
        <p:blipFill>
          <a:blip r:embed="rId3"/>
          <a:stretch/>
        </p:blipFill>
        <p:spPr>
          <a:xfrm>
            <a:off x="3348000" y="5589720"/>
            <a:ext cx="21607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3" descr="3"/>
          <p:cNvPicPr/>
          <p:nvPr/>
        </p:nvPicPr>
        <p:blipFill>
          <a:blip r:embed="rId4"/>
          <a:stretch/>
        </p:blipFill>
        <p:spPr>
          <a:xfrm>
            <a:off x="3348000" y="3860640"/>
            <a:ext cx="2160720" cy="49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4" descr="6"/>
          <p:cNvPicPr/>
          <p:nvPr/>
        </p:nvPicPr>
        <p:blipFill>
          <a:blip r:embed="rId5"/>
          <a:stretch/>
        </p:blipFill>
        <p:spPr>
          <a:xfrm>
            <a:off x="3348000" y="5013360"/>
            <a:ext cx="214308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2727720" y="10922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为什么说国有经济是国民经济的主导力量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461840" y="2276640"/>
            <a:ext cx="691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拥有雄厚的经济实力和先进的技术设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积聚着我国最先进的生产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控制国民经济命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担负着国计民生的重要产品的生产和流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79280" y="29138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大妈说：“我们那个服装厂是乡镇企业，以前只能接受外贸定单，加工儿童服饰和休闲服饰，还要看外国人的脸色。今年我们引进了一套西服生产流水线，当年投产当年见效，光是税收就上缴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元。嘿，我还拿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红包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二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828800" y="450864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大妈所从事的职业属于哪一种经济成分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042920" y="522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它的地位如何？有什么作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958760" y="105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集体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24000" y="24210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含义：生产资料归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一部分劳动者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共同所有的一种公有制经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50920" y="3573360"/>
            <a:ext cx="80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地位：集体经济是公有制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重要组成部分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50920" y="4508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作用：集体经济体现着共同富裕的原则，可以广泛吸收社会分散资金，缓解就业压力，增加公共财富和国家税收。发展多种形式的集体经济，对发挥公有制经济的主体作用具有重大意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728800" y="12304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你知道哪些集体经济蓬勃发展的例子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342320" y="2205000"/>
            <a:ext cx="7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家庭联产承包责任制、阳光集团、澄星集团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华西集团、三房巷实业股份有限公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84360" y="357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公有制经济除了国有经济、集体经济以外，还有什么实现形式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65520" y="47973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混合所有制经济中的国有成分集体成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25892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国有经济和集体经济都属于何种所有制经济？ 它的地位如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642760" y="184464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你知道公有制经济还有其他实现形式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2000" y="3141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公有制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2708280"/>
            <a:ext cx="142920" cy="1440000"/>
          </a:xfrm>
          <a:custGeom>
            <a:avLst/>
            <a:gdLst>
              <a:gd name="textAreaLeft" fmla="*/ 91440 w 142920"/>
              <a:gd name="textAreaRight" fmla="*/ 143280 w 142920"/>
              <a:gd name="textAreaTop" fmla="*/ 75240 h 1440000"/>
              <a:gd name="textAreaBottom" fmla="*/ 13647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6"/>
                  <a:pt x="10800" y="3611"/>
                </a:cubicBezTo>
                <a:lnTo>
                  <a:pt x="10800" y="7189"/>
                </a:lnTo>
                <a:cubicBezTo>
                  <a:pt x="10800" y="8995"/>
                  <a:pt x="5400" y="10800"/>
                  <a:pt x="0" y="10800"/>
                </a:cubicBezTo>
                <a:cubicBezTo>
                  <a:pt x="5400" y="10800"/>
                  <a:pt x="10800" y="12606"/>
                  <a:pt x="10800" y="14411"/>
                </a:cubicBezTo>
                <a:lnTo>
                  <a:pt x="10800" y="17989"/>
                </a:lnTo>
                <a:cubicBezTo>
                  <a:pt x="10800" y="1979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624480" y="27082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集体经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ahoma"/>
                <a:ea typeface="楷体_GB2312"/>
              </a:rPr>
              <a:t>混合所有制经济中的国有成分和集体成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2400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地位：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</a:rPr>
              <a:t>主角、基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95,95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28,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79280" y="2559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儿子李强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开了一个电脑专卖店，现在人们的生活条件越来越好，就这几天，光电脑就卖出去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台。呵呵，今年这个年过得美滋滋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三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872360" y="37893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李强所从事的职业属于哪一种经济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40508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黑体"/>
              </a:rPr>
              <a:t>个体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F200710241427222112328290"/>
          <p:cNvPicPr/>
          <p:nvPr/>
        </p:nvPicPr>
        <p:blipFill>
          <a:blip r:embed="rId1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26920" y="3030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坚持和完善公有制为主体、多种所有制经济共同发展的基本经济制度，毫不动摇地巩固和发展公有制经济，毫不动摇地鼓励、支持、引导非公有制经济发展，坚持平等保护物权，形成各种所有制经济平等竞争、相互促进新格局。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党的十七大报告内容节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79280" y="2700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媳妇王芳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还说呢，我都累死了。我那个美容院生意好得不得了，请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员工，一直做到现在才把最后一个客人送走。年初二又有十几个新娘要等我给她们化妆。咳，看来，我是没法跟你们出去旅游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四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754800" y="4221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王芳所从事的职业属于哪一种经济成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82908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黑体"/>
              </a:rPr>
              <a:t>私营经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文本框 8198"/>
          <p:cNvSpPr/>
          <p:nvPr/>
        </p:nvSpPr>
        <p:spPr>
          <a:xfrm>
            <a:off x="3857760" y="136512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4461840" y="47628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问：①个体经济和私营经济同属于何种所有制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27960" y="112536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它的地位和作用分别如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127960" y="177336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方正魏碑_GBK"/>
              </a:rPr>
              <a:t>国家对它们采取什么态度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25440" y="2852640"/>
            <a:ext cx="881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非公有制经济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（个体经济、私营经济、外资经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地位：</a:t>
            </a:r>
            <a:r>
              <a:rPr b="1" lang="zh-CN" sz="2800" spc="-1" strike="noStrike">
                <a:solidFill>
                  <a:srgbClr val="663300"/>
                </a:solidFill>
                <a:latin typeface="Tahoma"/>
                <a:ea typeface="方正魏碑_GBK"/>
              </a:rPr>
              <a:t>是社会主义市场经济的</a:t>
            </a:r>
            <a:r>
              <a:rPr b="1" lang="zh-CN" sz="2800" spc="-1" strike="noStrike">
                <a:solidFill>
                  <a:srgbClr val="1c1c1c"/>
                </a:solidFill>
                <a:latin typeface="Tahoma"/>
                <a:ea typeface="方正魏碑_GBK"/>
              </a:rPr>
              <a:t>重要组成部分</a:t>
            </a:r>
            <a:r>
              <a:rPr b="1" lang="zh-CN" sz="2800" spc="-1" strike="noStrike">
                <a:solidFill>
                  <a:srgbClr val="663300"/>
                </a:solidFill>
                <a:latin typeface="Tahoma"/>
                <a:ea typeface="方正魏碑_GBK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作用：</a:t>
            </a:r>
            <a:r>
              <a:rPr b="1" lang="zh-CN" sz="2800" spc="-1" strike="noStrike">
                <a:solidFill>
                  <a:srgbClr val="003300"/>
                </a:solidFill>
                <a:latin typeface="Tahoma"/>
                <a:ea typeface="方正魏碑_GBK"/>
              </a:rPr>
              <a:t>对充分调动社会各方面的积极性、加快生产力发展具有重要的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方正魏碑_GBK"/>
              </a:rPr>
              <a:t>态度或政策：</a:t>
            </a:r>
            <a:r>
              <a:rPr b="1" lang="zh-CN" sz="2800" spc="-1" strike="noStrike">
                <a:solidFill>
                  <a:srgbClr val="800000"/>
                </a:solidFill>
                <a:latin typeface="Tahoma"/>
                <a:ea typeface="方正魏碑_GBK"/>
              </a:rPr>
              <a:t>保护、鼓励、支持、引导、监督、管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865-B238-4462-AF47-EAB9783694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1403280" y="105264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镜头五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24868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时，孙子李明拿来了计算器，嚷着要算算大家今年一年的收入。不一会儿，他惊叫起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哇，我们家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万元户了！这回，该买辆小汽车了吧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大家听了，都哈哈大笑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548520" y="42210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方正魏碑_GBK"/>
              </a:rPr>
              <a:t>请你说说老李一家致富的秘诀是什么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432960" y="5084640"/>
            <a:ext cx="4021200" cy="5205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ahoma"/>
                <a:ea typeface="楷体_GB2312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4500720" y="4653000"/>
            <a:ext cx="7189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148480" y="6093000"/>
            <a:ext cx="1278000" cy="459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社会主义性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460480" y="6093000"/>
            <a:ext cx="2558160" cy="459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社会主义初级阶段的基本国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0" y="5157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基本经济制度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2843280" y="5661000"/>
            <a:ext cx="7189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796000" y="5661000"/>
            <a:ext cx="71928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改革开放以来，我国经济建设取得了巨大的成就。这些成就既体现在我们祖国发生的巨大变化上，也体现在我们的日常生活中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3" descr="1121746622_1RaWv2"/>
          <p:cNvPicPr/>
          <p:nvPr/>
        </p:nvPicPr>
        <p:blipFill>
          <a:blip r:embed="rId1"/>
          <a:stretch/>
        </p:blipFill>
        <p:spPr>
          <a:xfrm>
            <a:off x="250920" y="2421000"/>
            <a:ext cx="4248000" cy="20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200351815264313191"/>
          <p:cNvPicPr/>
          <p:nvPr/>
        </p:nvPicPr>
        <p:blipFill>
          <a:blip r:embed="rId2"/>
          <a:stretch/>
        </p:blipFill>
        <p:spPr>
          <a:xfrm>
            <a:off x="250920" y="4437000"/>
            <a:ext cx="4189320" cy="20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mg241161954"/>
          <p:cNvPicPr/>
          <p:nvPr/>
        </p:nvPicPr>
        <p:blipFill>
          <a:blip r:embed="rId3"/>
          <a:stretch/>
        </p:blipFill>
        <p:spPr>
          <a:xfrm>
            <a:off x="4427640" y="2421000"/>
            <a:ext cx="4321080" cy="20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0041029102529604"/>
          <p:cNvPicPr/>
          <p:nvPr/>
        </p:nvPicPr>
        <p:blipFill>
          <a:blip r:embed="rId4"/>
          <a:stretch/>
        </p:blipFill>
        <p:spPr>
          <a:xfrm>
            <a:off x="4427640" y="4365720"/>
            <a:ext cx="4321080" cy="215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468360" y="260280"/>
            <a:ext cx="6048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、感受身边的变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改革开放以来，取得的巨大成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4859280" y="407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4797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之所以有这么大的变化，是因为我国采取了“三步走”战略，究竟“三步走”战略是什么呢？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3" descr="2004810220251"/>
          <p:cNvPicPr/>
          <p:nvPr/>
        </p:nvPicPr>
        <p:blipFill>
          <a:blip r:embed="rId1"/>
          <a:stretch/>
        </p:blipFill>
        <p:spPr>
          <a:xfrm>
            <a:off x="971640" y="333360"/>
            <a:ext cx="3600360" cy="446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ggkf3"/>
          <p:cNvPicPr/>
          <p:nvPr/>
        </p:nvPicPr>
        <p:blipFill>
          <a:blip r:embed="rId2"/>
          <a:stretch/>
        </p:blipFill>
        <p:spPr>
          <a:xfrm>
            <a:off x="4572000" y="333360"/>
            <a:ext cx="3600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250920" y="1125360"/>
            <a:ext cx="4859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施三步走战略的目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施三步走战略的依据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35640" y="1484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保证国民经济又好又快发展，使全体人民共享经济繁荣成果，最终实现共同富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788000" y="3213000"/>
            <a:ext cx="410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我国正处于并将长期处于社会主义初级阶段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人口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环境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资源国情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4360" y="476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三步走发展战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4427640" y="342900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016000"/>
              <a:gd name="textAreaBottom" fmla="*/ 194868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5"/>
                  <a:pt x="10800" y="2309"/>
                </a:cubicBezTo>
                <a:lnTo>
                  <a:pt x="10800" y="8491"/>
                </a:lnTo>
                <a:cubicBezTo>
                  <a:pt x="10800" y="9646"/>
                  <a:pt x="5400" y="10800"/>
                  <a:pt x="0" y="10800"/>
                </a:cubicBezTo>
                <a:cubicBezTo>
                  <a:pt x="5400" y="10800"/>
                  <a:pt x="10800" y="11955"/>
                  <a:pt x="10800" y="13109"/>
                </a:cubicBezTo>
                <a:lnTo>
                  <a:pt x="10800" y="19291"/>
                </a:lnTo>
                <a:cubicBezTo>
                  <a:pt x="10800" y="2044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630520" y="2730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30320" y="2197080"/>
            <a:ext cx="7391520" cy="360"/>
            <a:chOff x="1030320" y="2197080"/>
            <a:chExt cx="7391520" cy="360"/>
          </a:xfrm>
        </p:grpSpPr>
        <p:sp>
          <p:nvSpPr>
            <p:cNvPr id="103" name="Line 3"/>
            <p:cNvSpPr/>
            <p:nvPr/>
          </p:nvSpPr>
          <p:spPr>
            <a:xfrm>
              <a:off x="1030320" y="2197080"/>
              <a:ext cx="7391520" cy="0"/>
            </a:xfrm>
            <a:prstGeom prst="line">
              <a:avLst/>
            </a:prstGeom>
            <a:ln w="57240">
              <a:solidFill>
                <a:srgbClr val="cc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030320" y="2197080"/>
              <a:ext cx="7391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58560" y="1206000"/>
            <a:ext cx="360" cy="2133720"/>
            <a:chOff x="1258560" y="1206000"/>
            <a:chExt cx="360" cy="2133720"/>
          </a:xfrm>
        </p:grpSpPr>
        <p:sp>
          <p:nvSpPr>
            <p:cNvPr id="106" name="Line 4"/>
            <p:cNvSpPr/>
            <p:nvPr/>
          </p:nvSpPr>
          <p:spPr>
            <a:xfrm flipV="1">
              <a:off x="1258920" y="120600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258560" y="120600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01560" y="1968120"/>
            <a:ext cx="360" cy="1066680"/>
            <a:chOff x="2401560" y="1968120"/>
            <a:chExt cx="360" cy="1066680"/>
          </a:xfrm>
        </p:grpSpPr>
        <p:sp>
          <p:nvSpPr>
            <p:cNvPr id="109" name="Line 5"/>
            <p:cNvSpPr/>
            <p:nvPr/>
          </p:nvSpPr>
          <p:spPr>
            <a:xfrm flipV="1">
              <a:off x="2401920" y="19681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10800000">
              <a:off x="2401560" y="196812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44560" y="1968480"/>
            <a:ext cx="360" cy="2209680"/>
            <a:chOff x="3544560" y="1968480"/>
            <a:chExt cx="360" cy="2209680"/>
          </a:xfrm>
        </p:grpSpPr>
        <p:sp>
          <p:nvSpPr>
            <p:cNvPr id="112" name="Line 6"/>
            <p:cNvSpPr/>
            <p:nvPr/>
          </p:nvSpPr>
          <p:spPr>
            <a:xfrm flipV="1">
              <a:off x="3544920" y="196848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3544560" y="196848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Text Box 7"/>
          <p:cNvSpPr/>
          <p:nvPr/>
        </p:nvSpPr>
        <p:spPr>
          <a:xfrm>
            <a:off x="954000" y="1434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021040" y="14349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087720" y="1434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78280" y="1816200"/>
            <a:ext cx="360" cy="2743200"/>
            <a:chOff x="5678280" y="1816200"/>
            <a:chExt cx="360" cy="2743200"/>
          </a:xfrm>
        </p:grpSpPr>
        <p:sp>
          <p:nvSpPr>
            <p:cNvPr id="118" name="Line 10"/>
            <p:cNvSpPr/>
            <p:nvPr/>
          </p:nvSpPr>
          <p:spPr>
            <a:xfrm flipV="1">
              <a:off x="5678640" y="18162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5678280" y="181620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1"/>
          <p:cNvSpPr/>
          <p:nvPr/>
        </p:nvSpPr>
        <p:spPr>
          <a:xfrm>
            <a:off x="4992840" y="1449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431120" y="151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20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345520" y="18921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 rot="16189200">
            <a:off x="1792080" y="181584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5"/>
          <p:cNvSpPr/>
          <p:nvPr/>
        </p:nvSpPr>
        <p:spPr>
          <a:xfrm rot="16189200">
            <a:off x="2935080" y="196812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 rot="16189200">
            <a:off x="5814720" y="688320"/>
            <a:ext cx="150840" cy="4726080"/>
          </a:xfrm>
          <a:custGeom>
            <a:avLst/>
            <a:gdLst>
              <a:gd name="textAreaLeft" fmla="*/ 96480 w 150840"/>
              <a:gd name="textAreaRight" fmla="*/ 151200 w 150840"/>
              <a:gd name="textAreaTop" fmla="*/ 122760 h 4726080"/>
              <a:gd name="textAreaBottom" fmla="*/ 4603320 h 472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11"/>
                </a:lnTo>
                <a:cubicBezTo>
                  <a:pt x="10800" y="9910"/>
                  <a:pt x="5400" y="10808"/>
                  <a:pt x="0" y="10808"/>
                </a:cubicBezTo>
                <a:cubicBezTo>
                  <a:pt x="5400" y="10808"/>
                  <a:pt x="10800" y="11707"/>
                  <a:pt x="10800" y="12605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258920" y="2502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401920" y="265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5602320" y="295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64000" y="2205000"/>
            <a:ext cx="2123640" cy="719280"/>
            <a:chOff x="3564000" y="2205000"/>
            <a:chExt cx="2123640" cy="719280"/>
          </a:xfrm>
        </p:grpSpPr>
        <p:sp>
          <p:nvSpPr>
            <p:cNvPr id="130" name="Oval 21"/>
            <p:cNvSpPr/>
            <p:nvPr/>
          </p:nvSpPr>
          <p:spPr>
            <a:xfrm>
              <a:off x="3564000" y="2205000"/>
              <a:ext cx="2014920" cy="719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3618360" y="2396880"/>
              <a:ext cx="20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Times New Roman"/>
                </a:rPr>
                <a:t>全面建设小康社会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192880" y="1206360"/>
            <a:ext cx="360" cy="3353040"/>
            <a:chOff x="8192880" y="1206360"/>
            <a:chExt cx="360" cy="3353040"/>
          </a:xfrm>
        </p:grpSpPr>
        <p:sp>
          <p:nvSpPr>
            <p:cNvPr id="133" name="Line 23"/>
            <p:cNvSpPr/>
            <p:nvPr/>
          </p:nvSpPr>
          <p:spPr>
            <a:xfrm flipV="1">
              <a:off x="8193240" y="1206360"/>
              <a:ext cx="0" cy="3353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0800000">
              <a:off x="8192880" y="1206360"/>
              <a:ext cx="360" cy="33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AutoShape 24"/>
          <p:cNvSpPr/>
          <p:nvPr/>
        </p:nvSpPr>
        <p:spPr>
          <a:xfrm rot="9761400">
            <a:off x="172800" y="3690720"/>
            <a:ext cx="1922400" cy="1069920"/>
          </a:xfrm>
          <a:prstGeom prst="wedgeEllipseCallout">
            <a:avLst>
              <a:gd name="adj1" fmla="val -58620"/>
              <a:gd name="adj2" fmla="val 945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决温饱问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AutoShape 25"/>
          <p:cNvSpPr/>
          <p:nvPr/>
        </p:nvSpPr>
        <p:spPr>
          <a:xfrm flipV="1">
            <a:off x="1332000" y="4437000"/>
            <a:ext cx="2577960" cy="1152720"/>
          </a:xfrm>
          <a:prstGeom prst="wedgeEllipseCallout">
            <a:avLst>
              <a:gd name="adj1" fmla="val 13064"/>
              <a:gd name="adj2" fmla="val 1657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总体上达到小康水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26"/>
          <p:cNvSpPr/>
          <p:nvPr/>
        </p:nvSpPr>
        <p:spPr>
          <a:xfrm rot="11872200">
            <a:off x="5893560" y="3611520"/>
            <a:ext cx="2505240" cy="1558800"/>
          </a:xfrm>
          <a:prstGeom prst="wedgeEllipseCallout">
            <a:avLst>
              <a:gd name="adj1" fmla="val -14800"/>
              <a:gd name="adj2" fmla="val 801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人民生活比较富裕基本实现现代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514520" y="31104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国经济社会发展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“三步走”战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33"/>
          <p:cNvGrpSpPr/>
          <p:nvPr/>
        </p:nvGrpSpPr>
        <p:grpSpPr>
          <a:xfrm>
            <a:off x="3564000" y="5300640"/>
            <a:ext cx="4213080" cy="1244520"/>
            <a:chOff x="3564000" y="5300640"/>
            <a:chExt cx="4213080" cy="1244520"/>
          </a:xfrm>
        </p:grpSpPr>
        <p:sp>
          <p:nvSpPr>
            <p:cNvPr id="140" name="AutoShape 31"/>
            <p:cNvSpPr/>
            <p:nvPr/>
          </p:nvSpPr>
          <p:spPr>
            <a:xfrm>
              <a:off x="3564000" y="5300640"/>
              <a:ext cx="4213080" cy="1244520"/>
            </a:xfrm>
            <a:prstGeom prst="wedgeRoundRectCallout">
              <a:avLst>
                <a:gd name="adj1" fmla="val -23787"/>
                <a:gd name="adj2" fmla="val -204824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32"/>
            <p:cNvSpPr/>
            <p:nvPr/>
          </p:nvSpPr>
          <p:spPr>
            <a:xfrm>
              <a:off x="3666960" y="5456520"/>
              <a:ext cx="39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Tahoma"/>
                </a:rPr>
                <a:t>但这种小康是低水平的、不全面的，发展不平衡的小康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4423680" y="47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二、充满生机与活力的经济制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823760" y="2422080"/>
            <a:ext cx="5685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社会主义经济制度的基础是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公有制经济的实现形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什么是国有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国有经济在国民经济中的地位和作用怎样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5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什么是集体经济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6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集体经济的地位和作用怎样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对待非公有制经济的态度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8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我国的基本经济制度是什么？其确立依据是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9</a:t>
            </a:r>
            <a:r>
              <a:rPr b="1" lang="zh-CN" sz="2800" spc="-1" strike="noStrike">
                <a:solidFill>
                  <a:srgbClr val="000066"/>
                </a:solidFill>
                <a:latin typeface="方正魏碑_GBK"/>
                <a:ea typeface="方正魏碑_GBK"/>
              </a:rPr>
              <a:t>）如何正确对待公有制经济和非公有制经济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403280" y="184464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自主学习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864800" y="1862640"/>
            <a:ext cx="1704600" cy="7034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公有制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55640" y="4671000"/>
            <a:ext cx="3456000" cy="7034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非公有制经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921200" y="98100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国有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921200" y="191628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集体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186880" y="2852640"/>
            <a:ext cx="23752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混合所有制经济中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国有成分和集体成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065560" y="422100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个体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65560" y="5229360"/>
            <a:ext cx="1155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方正魏碑_GBK"/>
              </a:rPr>
              <a:t>私营经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403280" y="90792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人物信息：</a:t>
            </a:r>
            <a:endParaRPr b="0" lang="en-US" sz="1800" spc="1" strike="noStrike">
              <a:ln w="255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43480" y="9302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黑体"/>
              </a:rPr>
              <a:t>老李一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2870640" y="2298600"/>
            <a:ext cx="3294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大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钢铁公司职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大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服装厂职工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  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电脑专卖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王  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美容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  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6:11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4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