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691-2501-4967-B777-37999802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D60-E8D2-4E72-B75D-2C452878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82C-48E8-4AFA-9778-0BF613C3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962-1BBC-4E6D-8BA1-9C7955D6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B08E-EE95-4FD6-BB71-F9E8DA62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1F01-6F02-4736-B9BB-66B42FCA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49C8-27BE-45F3-98D7-52E53E0B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F5A5-BD78-410E-88BC-37DAB315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5BF9-B9E1-46AD-8D81-240C2CB4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278C-3154-4061-A3EF-FE94B2BD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1DC0-4510-4CD2-A236-305668F5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C14-28F3-4CBE-A7EB-056D223C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3064-9787-4523-81D4-3D2E20F2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FC33-D8CC-42CF-9FFA-38D94356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9930-F254-449B-BAB5-3EC7ECB0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5D93-2096-4D3B-9189-D23E8983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3415-822E-4FFA-A442-DA98FCE4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5FBF-BDE1-4E9A-8AE2-6816BB3E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A783B-C96F-48F9-8EF4-785E44C2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2E26C-967A-4AE2-BFB2-6CBE76AD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99C09-8835-4B25-B32F-1874AC4D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B41D3-0C0B-44B8-9340-FF396F62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1BC-BEE1-4BF7-B320-9536F195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661A-1E79-45D8-B5C9-E5016F88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D9056-8A8A-4579-A302-47DFE972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E13A-C650-4F8E-820B-F186DEFA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43A9-10E4-4B47-90D2-54A4D2C6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6BB69-3E6F-4BFA-A764-5555AC1F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FA3E-841F-430B-83F3-3AA34AF7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C2650-FC04-4E94-864A-DF0D51B9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40D-EDD1-4451-B2FF-7D4C3BEE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919-E39A-4D6B-AC8D-66911FAD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273-F7F6-482C-B26B-FB2DF75A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9F1-3408-4BF3-BC2E-40D516F4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A19-6807-4CF5-ADB6-62D6AC56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A45-F997-4211-AA62-D03E9141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DFEC-6788-4023-8128-8A04F9F5B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3467-3FAE-45CA-8DDB-E39E8A41BA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3707-490B-44DA-BCED-3A44BC86926A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zhidao.baidu.com/search?word=17&#19990;&#32426;&amp;fr=qb_search_exp&amp;ie=gbk" TargetMode="External"/><Relationship Id="rId2" Type="http://schemas.openxmlformats.org/officeDocument/2006/relationships/hyperlink" Target="http://zhidao.baidu.com/search?word=17&#19990;&#32426;&amp;fr=qb_search_exp&amp;ie=gbk" TargetMode="External"/><Relationship Id="rId3" Type="http://schemas.openxmlformats.org/officeDocument/2006/relationships/hyperlink" Target="http://zhidao.baidu.com/search?word=&#37073;&#25104;&#21151;&#25910;&#22797;&#21488;&#28286;&amp;fr=qb_search_exp&amp;ie=gbk" TargetMode="External"/><Relationship Id="rId4" Type="http://schemas.openxmlformats.org/officeDocument/2006/relationships/hyperlink" Target="http://zhidao.baidu.com/search?word=1895&#24180;&amp;fr=qb_search_exp&amp;ie=gbk" TargetMode="External"/><Relationship Id="rId5" Type="http://schemas.openxmlformats.org/officeDocument/2006/relationships/hyperlink" Target="http://zhidao.baidu.com/search?word=1895&#24180;&amp;fr=qb_search_exp&amp;ie=gbk" TargetMode="External"/><Relationship Id="rId6" Type="http://schemas.openxmlformats.org/officeDocument/2006/relationships/hyperlink" Target="http://zhidao.baidu.com/search?word=&#21488;&#28286;&#20809;&#22797;&amp;fr=qb_search_exp&amp;ie=gbk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WordArt 15" descr=""/>
          <p:cNvPicPr/>
          <p:nvPr/>
        </p:nvPicPr>
        <p:blipFill>
          <a:blip r:embed="rId2"/>
          <a:stretch/>
        </p:blipFill>
        <p:spPr>
          <a:xfrm>
            <a:off x="804960" y="1209600"/>
            <a:ext cx="7678800" cy="157500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d32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1d32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1428-4A0E-481C-9424-2B0BA38DBB24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1" name="Picture 5" descr="T01371~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W02007~1"/>
          <p:cNvPicPr/>
          <p:nvPr/>
        </p:nvPicPr>
        <p:blipFill>
          <a:blip r:embed="rId2"/>
          <a:stretch/>
        </p:blipFill>
        <p:spPr>
          <a:xfrm rot="20701200">
            <a:off x="755640" y="1412640"/>
            <a:ext cx="4286160" cy="31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4920" y="2060280"/>
            <a:ext cx="296244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中宋"/>
                <a:ea typeface="华文中宋"/>
              </a:rPr>
              <a:t>俯视中华大地，在祖国东南辽阔的海域上，有一座形似芭蕉叶的岛屿，显得格外翠绿，那就是祖国的宝岛</a:t>
            </a:r>
            <a:r>
              <a:rPr b="0" lang="en-US" sz="2800" spc="-1" strike="noStrike">
                <a:solidFill>
                  <a:srgbClr val="007a77"/>
                </a:solidFill>
                <a:latin typeface="华文中宋"/>
                <a:ea typeface="华文中宋"/>
              </a:rPr>
              <a:t>——</a:t>
            </a:r>
            <a:r>
              <a:rPr b="0" lang="zh-CN" sz="2800" spc="-1" strike="noStrike">
                <a:solidFill>
                  <a:srgbClr val="007a77"/>
                </a:solidFill>
                <a:latin typeface="华文中宋"/>
                <a:ea typeface="华文中宋"/>
              </a:rPr>
              <a:t>台湾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7" name="Picture 5" descr="200711180277734"/>
          <p:cNvPicPr/>
          <p:nvPr/>
        </p:nvPicPr>
        <p:blipFill>
          <a:blip r:embed="rId1"/>
          <a:stretch/>
        </p:blipFill>
        <p:spPr>
          <a:xfrm>
            <a:off x="3708360" y="1628640"/>
            <a:ext cx="4946760" cy="47516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7"/>
          <p:cNvSpPr txBox="1"/>
          <p:nvPr/>
        </p:nvSpPr>
        <p:spPr>
          <a:xfrm>
            <a:off x="395280" y="281160"/>
            <a:ext cx="860112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祖国的宝岛台湾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最早开发台湾的是三国时的东吴，公元</a:t>
            </a:r>
            <a:r>
              <a:rPr b="0" lang="en-US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230</a:t>
            </a: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年，孙权派将军卫温和诸葛直率船队渡海到达台湾，同当地人进行了经济和文化交流，后来在</a:t>
            </a:r>
            <a:r>
              <a:rPr b="0" lang="en-US" sz="24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  <a:hlinkClick r:id="rId1"/>
              </a:rPr>
              <a:t>17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  <a:hlinkClick r:id="rId2"/>
              </a:rPr>
              <a:t>世纪</a:t>
            </a: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初向外侵略扩张的荷兰趁明朝内忧外患之际侵占了台湾，随后</a:t>
            </a:r>
            <a:r>
              <a:rPr b="0" lang="en-US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1662</a:t>
            </a: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年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  <a:hlinkClick r:id="rId3"/>
              </a:rPr>
              <a:t>郑成功收复台湾</a:t>
            </a: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</a:t>
            </a:r>
            <a:r>
              <a:rPr b="0" lang="en-US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1683</a:t>
            </a: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年清军收复台湾，把它置于中央政府统治之下，</a:t>
            </a:r>
            <a:r>
              <a:rPr b="0" lang="en-US" sz="24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  <a:hlinkClick r:id="rId4"/>
              </a:rPr>
              <a:t>1895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  <a:hlinkClick r:id="rId5"/>
              </a:rPr>
              <a:t>年</a:t>
            </a: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日本侵占台湾，</a:t>
            </a:r>
            <a:r>
              <a:rPr b="0" lang="en-US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1945</a:t>
            </a: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年</a:t>
            </a:r>
            <a:r>
              <a:rPr b="0" lang="zh-CN" sz="24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  <a:hlinkClick r:id="rId6"/>
              </a:rPr>
              <a:t>台湾光复</a:t>
            </a:r>
            <a:r>
              <a:rPr b="0" lang="zh-CN" sz="24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随后蒋介石败退台湾，直至现在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0" name="Picture 5" descr="u=307441650,3216546275&amp;fm=21&amp;gp=0"/>
          <p:cNvPicPr/>
          <p:nvPr/>
        </p:nvPicPr>
        <p:blipFill>
          <a:blip r:embed="rId7"/>
          <a:stretch/>
        </p:blipFill>
        <p:spPr>
          <a:xfrm>
            <a:off x="1042920" y="4292640"/>
            <a:ext cx="3456000" cy="2327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20090423152403-1284187818"/>
          <p:cNvPicPr/>
          <p:nvPr/>
        </p:nvPicPr>
        <p:blipFill>
          <a:blip r:embed="rId8"/>
          <a:stretch/>
        </p:blipFill>
        <p:spPr>
          <a:xfrm>
            <a:off x="5003640" y="4076640"/>
            <a:ext cx="3600720" cy="2781360"/>
          </a:xfrm>
          <a:prstGeom prst="rect">
            <a:avLst/>
          </a:prstGeom>
          <a:ln w="0">
            <a:noFill/>
          </a:ln>
        </p:spPr>
      </p:pic>
      <p:sp>
        <p:nvSpPr>
          <p:cNvPr id="132" name="WordArt 10"/>
          <p:cNvSpPr txBox="1"/>
          <p:nvPr/>
        </p:nvSpPr>
        <p:spPr>
          <a:xfrm>
            <a:off x="250920" y="476280"/>
            <a:ext cx="85341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开发台湾的故事</a:t>
            </a:r>
            <a:endParaRPr b="0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24000" y="2349000"/>
            <a:ext cx="854064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郑成功的母亲是日本人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郑成功的母亲叫田川氏，是日本人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郑成功的父亲曾经是海盗，人称老郑，为逃脱官府的追捕，流落在日本多年。郑成功在日本出生，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岁的时候，因为老郑归顺了明朝廷，郑成功和母亲回到了老郑在中国福建的老家 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郑成功长大成人的时候，正值清兵入关，嘉定三屠，扬州十日，疯狂屠杀国人。郑成功坚定地举起了反清复明的大旗，被南明朝廷封赐“国姓”，所以人称“国姓”爷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) </a:t>
            </a:r>
            <a:br>
              <a:rPr sz="2400"/>
            </a:b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1979640" y="836640"/>
            <a:ext cx="489744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郑成功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35" name="文本框 8197"/>
          <p:cNvSpPr/>
          <p:nvPr/>
        </p:nvSpPr>
        <p:spPr>
          <a:xfrm>
            <a:off x="865080" y="271476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  <a:ea typeface="华文行楷"/>
              </a:rPr>
              <a:t>                  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祖国大陆和台湾同胞心相系、脉相连，共有中华传统习俗，共享中华灿烂文明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7" name="Picture 24" descr="310579~1"/>
          <p:cNvPicPr/>
          <p:nvPr/>
        </p:nvPicPr>
        <p:blipFill>
          <a:blip r:embed="rId1"/>
          <a:stretch/>
        </p:blipFill>
        <p:spPr>
          <a:xfrm>
            <a:off x="0" y="3284640"/>
            <a:ext cx="4537080" cy="3019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108593~1"/>
          <p:cNvPicPr/>
          <p:nvPr/>
        </p:nvPicPr>
        <p:blipFill>
          <a:blip r:embed="rId2"/>
          <a:stretch/>
        </p:blipFill>
        <p:spPr>
          <a:xfrm>
            <a:off x="5364000" y="3213000"/>
            <a:ext cx="4824720" cy="3113280"/>
          </a:xfrm>
          <a:prstGeom prst="rect">
            <a:avLst/>
          </a:prstGeom>
          <a:ln w="0">
            <a:noFill/>
          </a:ln>
        </p:spPr>
      </p:pic>
      <p:sp>
        <p:nvSpPr>
          <p:cNvPr id="149" name="WordArt 27"/>
          <p:cNvSpPr txBox="1"/>
          <p:nvPr/>
        </p:nvSpPr>
        <p:spPr>
          <a:xfrm>
            <a:off x="826920" y="907920"/>
            <a:ext cx="77058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根脉相连</a:t>
            </a:r>
            <a:endParaRPr b="0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99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799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799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99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485362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台北故宫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99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799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99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99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201303~1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台湾孔庙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33573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文本框 8197"/>
          <p:cNvSpPr/>
          <p:nvPr/>
        </p:nvSpPr>
        <p:spPr>
          <a:xfrm>
            <a:off x="1179360" y="5700600"/>
            <a:ext cx="58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99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799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99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99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949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起，台湾与祖国大陆一直处于分离状态。为了实现我国统一，我国政府采取了一系列措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8" name="Picture 5" descr="SE7387~1"/>
          <p:cNvPicPr/>
          <p:nvPr/>
        </p:nvPicPr>
        <p:blipFill>
          <a:blip r:embed="rId1"/>
          <a:stretch/>
        </p:blipFill>
        <p:spPr>
          <a:xfrm>
            <a:off x="4140360" y="2997360"/>
            <a:ext cx="4681440" cy="3568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MB0006~1"/>
          <p:cNvPicPr/>
          <p:nvPr/>
        </p:nvPicPr>
        <p:blipFill>
          <a:blip r:embed="rId2"/>
          <a:stretch/>
        </p:blipFill>
        <p:spPr>
          <a:xfrm>
            <a:off x="250920" y="3645000"/>
            <a:ext cx="3529080" cy="3024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8"/>
          <p:cNvSpPr txBox="1"/>
          <p:nvPr/>
        </p:nvSpPr>
        <p:spPr>
          <a:xfrm>
            <a:off x="250920" y="549360"/>
            <a:ext cx="853416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祖国一定要统一</a:t>
            </a:r>
            <a:endParaRPr b="0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党中央政策的有力推动下，在两岸人民的共同努力下，祖国大陆和台湾同胞逐渐从隔绝走向交流，从陌生走向熟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3" name="Picture 8" descr="103461~1"/>
          <p:cNvPicPr/>
          <p:nvPr/>
        </p:nvPicPr>
        <p:blipFill>
          <a:blip r:embed="rId1"/>
          <a:stretch/>
        </p:blipFill>
        <p:spPr>
          <a:xfrm>
            <a:off x="4716360" y="2997360"/>
            <a:ext cx="4067280" cy="3395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013000~1"/>
          <p:cNvPicPr/>
          <p:nvPr/>
        </p:nvPicPr>
        <p:blipFill>
          <a:blip r:embed="rId2"/>
          <a:stretch/>
        </p:blipFill>
        <p:spPr>
          <a:xfrm>
            <a:off x="0" y="2997360"/>
            <a:ext cx="4427640" cy="2885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99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799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99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799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3:00:15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58:44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