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.jpeg" ContentType="image/jpeg"/>
  <Override PartName="/ppt/media/image25.png" ContentType="image/png"/>
  <Override PartName="/ppt/media/image42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41.jpeg" ContentType="image/jpeg"/>
  <Override PartName="/ppt/media/image45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48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2E1-900F-47D0-A272-1351424A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6A1-4D9F-43B0-AA36-15D2C787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648-35C8-464D-B3A2-ABC7338B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847-2D7D-4128-9590-A5A2F546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AF53-5B66-49F4-8578-2E8F57B5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CCB8-C2C9-40C5-9C34-E2064EDE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F188-A592-417D-B412-8138D2F2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D4B7-096C-4A36-8F6F-54B96228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9BC2-7752-4CD8-BCB0-DEDA4103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A54E-36CC-4D29-B0C5-3ABE1CE6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8471-6BE6-4229-A2A4-47CB04EF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832-CF0C-46BF-94CE-3C895F35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09B5-B8B4-4435-851D-62059C27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A5E8-4BA5-4A65-A83C-958EDA7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912E-4603-4D29-9986-04FE5514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7BFC-CF86-4B10-A1DD-C60AF215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BB41-604D-4E00-9CF7-8D00B81C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0F2-77A8-449E-B227-8E8DBCE9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3F3-2B06-4501-9916-72733EDE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A91-B89F-4A1F-9FB5-49330BA2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131-2C1D-4C8E-AAEA-88D679CF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9FC-9F86-4A69-944D-A2C02877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1DE-88C8-4619-A662-22FE392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9CD-47FC-44EF-82D9-0E6A77D6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C4AC-181C-42AD-9AF7-46ABD2A68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885A-CE1F-40B1-B63C-FE7D506B07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图片8"/>
          <p:cNvPicPr/>
          <p:nvPr/>
        </p:nvPicPr>
        <p:blipFill>
          <a:blip r:embed="rId1"/>
          <a:stretch/>
        </p:blipFill>
        <p:spPr>
          <a:xfrm>
            <a:off x="0" y="2108160"/>
            <a:ext cx="9144000" cy="4749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485720" y="11430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做个小开关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2"/>
          <a:stretch/>
        </p:blipFill>
        <p:spPr>
          <a:xfrm>
            <a:off x="1851120" y="2438280"/>
            <a:ext cx="5238720" cy="33242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图片11"/>
          <p:cNvPicPr/>
          <p:nvPr/>
        </p:nvPicPr>
        <p:blipFill>
          <a:blip r:embed="rId1"/>
          <a:stretch/>
        </p:blipFill>
        <p:spPr>
          <a:xfrm>
            <a:off x="3714840" y="4952880"/>
            <a:ext cx="54291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137800" cy="37814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2533320" y="685800"/>
            <a:ext cx="462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做个小开关，控制简单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IMG092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5029200" y="304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自制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图片8"/>
          <p:cNvPicPr/>
          <p:nvPr/>
        </p:nvPicPr>
        <p:blipFill>
          <a:blip r:embed="rId1"/>
          <a:stretch/>
        </p:blipFill>
        <p:spPr>
          <a:xfrm>
            <a:off x="0" y="2108160"/>
            <a:ext cx="9144000" cy="47498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914400" y="914400"/>
            <a:ext cx="749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对照手电筒开关图，想一想，小开关的制作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67652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回形针做开关的接触片，用图钉固定导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47920" y="205740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比比动手能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IMG0937A"/>
          <p:cNvPicPr/>
          <p:nvPr/>
        </p:nvPicPr>
        <p:blipFill>
          <a:blip r:embed="rId2"/>
          <a:stretch/>
        </p:blipFill>
        <p:spPr>
          <a:xfrm>
            <a:off x="4343400" y="1447920"/>
            <a:ext cx="4419720" cy="2971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1447920" y="426708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不要将图钉遗漏在地上，否则可能会发生伤脚的危险；注重合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B5CP{J]E(XX}`B~7~CSNG6B"/>
          <p:cNvPicPr/>
          <p:nvPr/>
        </p:nvPicPr>
        <p:blipFill>
          <a:blip r:embed="rId2"/>
          <a:stretch/>
        </p:blipFill>
        <p:spPr>
          <a:xfrm>
            <a:off x="457200" y="457200"/>
            <a:ext cx="4032360" cy="367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EE6GOJNUJQ0FU(`@$PN80B"/>
          <p:cNvPicPr/>
          <p:nvPr/>
        </p:nvPicPr>
        <p:blipFill>
          <a:blip r:embed="rId3"/>
          <a:stretch/>
        </p:blipFill>
        <p:spPr>
          <a:xfrm>
            <a:off x="4267080" y="457200"/>
            <a:ext cx="4392720" cy="3657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1769400" y="42670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还能想到其他的方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533520" y="990720"/>
            <a:ext cx="8350920" cy="4875480"/>
            <a:chOff x="533520" y="990720"/>
            <a:chExt cx="8350920" cy="4875480"/>
          </a:xfrm>
        </p:grpSpPr>
        <p:grpSp>
          <p:nvGrpSpPr>
            <p:cNvPr id="166" name="Group 3"/>
            <p:cNvGrpSpPr/>
            <p:nvPr/>
          </p:nvGrpSpPr>
          <p:grpSpPr>
            <a:xfrm>
              <a:off x="533520" y="2358720"/>
              <a:ext cx="8350920" cy="3507480"/>
              <a:chOff x="533520" y="2358720"/>
              <a:chExt cx="8350920" cy="3507480"/>
            </a:xfrm>
          </p:grpSpPr>
          <p:pic>
            <p:nvPicPr>
              <p:cNvPr id="167" name="Picture 4" descr="OX%4S)XA[]2]8$DF$8W~CZE"/>
              <p:cNvPicPr/>
              <p:nvPr/>
            </p:nvPicPr>
            <p:blipFill>
              <a:blip r:embed="rId1"/>
              <a:stretch/>
            </p:blipFill>
            <p:spPr>
              <a:xfrm>
                <a:off x="533520" y="2358720"/>
                <a:ext cx="4005360" cy="342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5" descr="NQ6@@T$ZASM{0[8RNBZ`SWG"/>
              <p:cNvPicPr/>
              <p:nvPr/>
            </p:nvPicPr>
            <p:blipFill>
              <a:blip r:embed="rId2"/>
              <a:stretch/>
            </p:blipFill>
            <p:spPr>
              <a:xfrm>
                <a:off x="4965120" y="2358720"/>
                <a:ext cx="3919320" cy="350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Rectangle 6"/>
            <p:cNvSpPr/>
            <p:nvPr/>
          </p:nvSpPr>
          <p:spPr>
            <a:xfrm>
              <a:off x="3090600" y="990720"/>
              <a:ext cx="2301120" cy="95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实物连接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79280" y="533520"/>
            <a:ext cx="8785440" cy="6019200"/>
            <a:chOff x="179280" y="533520"/>
            <a:chExt cx="8785440" cy="6019200"/>
          </a:xfrm>
        </p:grpSpPr>
        <p:pic>
          <p:nvPicPr>
            <p:cNvPr id="171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179280" y="533520"/>
              <a:ext cx="8785440" cy="60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未命名"/>
            <p:cNvPicPr/>
            <p:nvPr/>
          </p:nvPicPr>
          <p:blipFill>
            <a:blip r:embed="rId2"/>
            <a:stretch/>
          </p:blipFill>
          <p:spPr>
            <a:xfrm rot="17052000">
              <a:off x="-148680" y="3391200"/>
              <a:ext cx="20757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5"/>
            <p:cNvSpPr/>
            <p:nvPr/>
          </p:nvSpPr>
          <p:spPr>
            <a:xfrm>
              <a:off x="4041720" y="637200"/>
              <a:ext cx="1135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电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"/>
            <p:cNvSpPr/>
            <p:nvPr/>
          </p:nvSpPr>
          <p:spPr>
            <a:xfrm>
              <a:off x="3663000" y="5620680"/>
              <a:ext cx="24991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灯座、灯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1163880" y="3542760"/>
              <a:ext cx="1135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开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7525440" y="2916360"/>
              <a:ext cx="7574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 rot="322800">
            <a:off x="1447920" y="220968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制作模拟红绿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99"/>
          <p:cNvPicPr/>
          <p:nvPr/>
        </p:nvPicPr>
        <p:blipFill>
          <a:blip r:embed="rId2"/>
          <a:stretch/>
        </p:blipFill>
        <p:spPr>
          <a:xfrm rot="314400">
            <a:off x="5029200" y="838080"/>
            <a:ext cx="2058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t01d18b980674656559"/>
          <p:cNvPicPr/>
          <p:nvPr/>
        </p:nvPicPr>
        <p:blipFill>
          <a:blip r:embed="rId1"/>
          <a:stretch/>
        </p:blipFill>
        <p:spPr>
          <a:xfrm>
            <a:off x="0" y="64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8"/>
          <p:cNvSpPr/>
          <p:nvPr/>
        </p:nvSpPr>
        <p:spPr>
          <a:xfrm>
            <a:off x="641880" y="12193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绿灯制作方法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914400" y="251460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思维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我们把回形针按到下面的图钉上，这个图钉后方的灯就亮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现在我想加一个灯 ，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IMG093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8199"/>
          <p:cNvSpPr/>
          <p:nvPr/>
        </p:nvSpPr>
        <p:spPr>
          <a:xfrm>
            <a:off x="988920" y="274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 rot="21265200">
            <a:off x="2555280" y="266868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什么是开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 rot="21028800">
            <a:off x="5394960" y="153144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连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断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，控制电路中电器元件的工作状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MG0939A"/>
          <p:cNvPicPr/>
          <p:nvPr/>
        </p:nvPicPr>
        <p:blipFill>
          <a:blip r:embed="rId1"/>
          <a:stretch/>
        </p:blipFill>
        <p:spPr>
          <a:xfrm>
            <a:off x="1332000" y="836640"/>
            <a:ext cx="3384360" cy="2552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14640" cy="2133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592360" cy="1233720"/>
          </a:xfrm>
          <a:prstGeom prst="rect">
            <a:avLst/>
          </a:prstGeom>
          <a:ln w="0">
            <a:noFill/>
          </a:ln>
        </p:spPr>
      </p:pic>
      <p:sp>
        <p:nvSpPr>
          <p:cNvPr id="192" name="Freeform 5"/>
          <p:cNvSpPr/>
          <p:nvPr/>
        </p:nvSpPr>
        <p:spPr>
          <a:xfrm>
            <a:off x="212760" y="2317680"/>
            <a:ext cx="2313000" cy="3490920"/>
          </a:xfrm>
          <a:custGeom>
            <a:avLst/>
            <a:gdLst/>
            <a:ahLst/>
            <a:rect l="l" t="t" r="r" b="b"/>
            <a:pathLst>
              <a:path w="1457" h="2199">
                <a:moveTo>
                  <a:pt x="1457" y="2142"/>
                </a:moveTo>
                <a:cubicBezTo>
                  <a:pt x="1281" y="2199"/>
                  <a:pt x="786" y="2149"/>
                  <a:pt x="625" y="2142"/>
                </a:cubicBezTo>
                <a:cubicBezTo>
                  <a:pt x="585" y="2138"/>
                  <a:pt x="537" y="2149"/>
                  <a:pt x="506" y="2124"/>
                </a:cubicBezTo>
                <a:cubicBezTo>
                  <a:pt x="481" y="2104"/>
                  <a:pt x="476" y="2083"/>
                  <a:pt x="442" y="2060"/>
                </a:cubicBezTo>
                <a:cubicBezTo>
                  <a:pt x="407" y="2008"/>
                  <a:pt x="359" y="2025"/>
                  <a:pt x="314" y="1978"/>
                </a:cubicBezTo>
                <a:cubicBezTo>
                  <a:pt x="273" y="1935"/>
                  <a:pt x="236" y="1892"/>
                  <a:pt x="186" y="1859"/>
                </a:cubicBezTo>
                <a:cubicBezTo>
                  <a:pt x="180" y="1850"/>
                  <a:pt x="175" y="1840"/>
                  <a:pt x="168" y="1831"/>
                </a:cubicBezTo>
                <a:cubicBezTo>
                  <a:pt x="160" y="1821"/>
                  <a:pt x="148" y="1815"/>
                  <a:pt x="140" y="1804"/>
                </a:cubicBezTo>
                <a:cubicBezTo>
                  <a:pt x="115" y="1769"/>
                  <a:pt x="107" y="1725"/>
                  <a:pt x="76" y="1694"/>
                </a:cubicBezTo>
                <a:cubicBezTo>
                  <a:pt x="70" y="1675"/>
                  <a:pt x="55" y="1658"/>
                  <a:pt x="49" y="1639"/>
                </a:cubicBezTo>
                <a:cubicBezTo>
                  <a:pt x="38" y="1607"/>
                  <a:pt x="38" y="1572"/>
                  <a:pt x="31" y="1539"/>
                </a:cubicBezTo>
                <a:cubicBezTo>
                  <a:pt x="39" y="1186"/>
                  <a:pt x="0" y="805"/>
                  <a:pt x="113" y="460"/>
                </a:cubicBezTo>
                <a:cubicBezTo>
                  <a:pt x="123" y="429"/>
                  <a:pt x="154" y="337"/>
                  <a:pt x="168" y="323"/>
                </a:cubicBezTo>
                <a:cubicBezTo>
                  <a:pt x="186" y="305"/>
                  <a:pt x="209" y="290"/>
                  <a:pt x="223" y="268"/>
                </a:cubicBezTo>
                <a:cubicBezTo>
                  <a:pt x="262" y="208"/>
                  <a:pt x="298" y="136"/>
                  <a:pt x="369" y="113"/>
                </a:cubicBezTo>
                <a:cubicBezTo>
                  <a:pt x="420" y="60"/>
                  <a:pt x="524" y="86"/>
                  <a:pt x="597" y="76"/>
                </a:cubicBezTo>
                <a:cubicBezTo>
                  <a:pt x="606" y="73"/>
                  <a:pt x="618" y="74"/>
                  <a:pt x="625" y="67"/>
                </a:cubicBezTo>
                <a:cubicBezTo>
                  <a:pt x="640" y="52"/>
                  <a:pt x="640" y="19"/>
                  <a:pt x="661" y="12"/>
                </a:cubicBezTo>
                <a:cubicBezTo>
                  <a:pt x="698" y="0"/>
                  <a:pt x="679" y="3"/>
                  <a:pt x="716" y="3"/>
                </a:cubicBezTo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43280" y="1413000"/>
            <a:ext cx="360" cy="360"/>
            <a:chOff x="4643280" y="1413000"/>
            <a:chExt cx="360" cy="360"/>
          </a:xfrm>
        </p:grpSpPr>
        <p:sp>
          <p:nvSpPr>
            <p:cNvPr id="194" name="Line 6"/>
            <p:cNvSpPr/>
            <p:nvPr/>
          </p:nvSpPr>
          <p:spPr>
            <a:xfrm>
              <a:off x="4643280" y="1413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4643280" y="1413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7" descr="实物-灯泡"/>
          <p:cNvPicPr/>
          <p:nvPr/>
        </p:nvPicPr>
        <p:blipFill>
          <a:blip r:embed="rId4"/>
          <a:stretch/>
        </p:blipFill>
        <p:spPr>
          <a:xfrm>
            <a:off x="6156360" y="0"/>
            <a:ext cx="906480" cy="1655640"/>
          </a:xfrm>
          <a:prstGeom prst="rect">
            <a:avLst/>
          </a:prstGeom>
          <a:ln w="0">
            <a:noFill/>
          </a:ln>
        </p:spPr>
      </p:pic>
      <p:sp>
        <p:nvSpPr>
          <p:cNvPr id="197" name="Freeform 8"/>
          <p:cNvSpPr/>
          <p:nvPr/>
        </p:nvSpPr>
        <p:spPr>
          <a:xfrm>
            <a:off x="4659480" y="1449360"/>
            <a:ext cx="1992240" cy="225360"/>
          </a:xfrm>
          <a:custGeom>
            <a:avLst/>
            <a:gdLst/>
            <a:ahLst/>
            <a:rect l="l" t="t" r="r" b="b"/>
            <a:pathLst>
              <a:path w="1255" h="142">
                <a:moveTo>
                  <a:pt x="0" y="10"/>
                </a:moveTo>
                <a:cubicBezTo>
                  <a:pt x="12" y="13"/>
                  <a:pt x="25" y="14"/>
                  <a:pt x="36" y="20"/>
                </a:cubicBezTo>
                <a:cubicBezTo>
                  <a:pt x="44" y="24"/>
                  <a:pt x="47" y="34"/>
                  <a:pt x="55" y="38"/>
                </a:cubicBezTo>
                <a:cubicBezTo>
                  <a:pt x="93" y="57"/>
                  <a:pt x="141" y="66"/>
                  <a:pt x="183" y="74"/>
                </a:cubicBezTo>
                <a:cubicBezTo>
                  <a:pt x="279" y="142"/>
                  <a:pt x="610" y="111"/>
                  <a:pt x="622" y="111"/>
                </a:cubicBezTo>
                <a:cubicBezTo>
                  <a:pt x="741" y="117"/>
                  <a:pt x="860" y="121"/>
                  <a:pt x="978" y="138"/>
                </a:cubicBezTo>
                <a:cubicBezTo>
                  <a:pt x="1057" y="132"/>
                  <a:pt x="1139" y="142"/>
                  <a:pt x="1216" y="120"/>
                </a:cubicBezTo>
                <a:cubicBezTo>
                  <a:pt x="1235" y="115"/>
                  <a:pt x="1228" y="83"/>
                  <a:pt x="1234" y="65"/>
                </a:cubicBezTo>
                <a:cubicBezTo>
                  <a:pt x="1255" y="0"/>
                  <a:pt x="1252" y="67"/>
                  <a:pt x="1252" y="20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6807240" y="830160"/>
            <a:ext cx="798480" cy="2725920"/>
          </a:xfrm>
          <a:custGeom>
            <a:avLst/>
            <a:gdLst/>
            <a:ahLst/>
            <a:rect l="l" t="t" r="r" b="b"/>
            <a:pathLst>
              <a:path w="503" h="1717">
                <a:moveTo>
                  <a:pt x="0" y="16"/>
                </a:moveTo>
                <a:cubicBezTo>
                  <a:pt x="132" y="0"/>
                  <a:pt x="90" y="1"/>
                  <a:pt x="293" y="16"/>
                </a:cubicBezTo>
                <a:cubicBezTo>
                  <a:pt x="323" y="18"/>
                  <a:pt x="364" y="36"/>
                  <a:pt x="393" y="44"/>
                </a:cubicBezTo>
                <a:cubicBezTo>
                  <a:pt x="411" y="49"/>
                  <a:pt x="448" y="62"/>
                  <a:pt x="448" y="62"/>
                </a:cubicBezTo>
                <a:cubicBezTo>
                  <a:pt x="454" y="71"/>
                  <a:pt x="461" y="80"/>
                  <a:pt x="466" y="90"/>
                </a:cubicBezTo>
                <a:cubicBezTo>
                  <a:pt x="474" y="107"/>
                  <a:pt x="485" y="144"/>
                  <a:pt x="485" y="144"/>
                </a:cubicBezTo>
                <a:cubicBezTo>
                  <a:pt x="468" y="527"/>
                  <a:pt x="472" y="904"/>
                  <a:pt x="457" y="1287"/>
                </a:cubicBezTo>
                <a:cubicBezTo>
                  <a:pt x="462" y="1356"/>
                  <a:pt x="461" y="1415"/>
                  <a:pt x="485" y="1479"/>
                </a:cubicBezTo>
                <a:cubicBezTo>
                  <a:pt x="496" y="1559"/>
                  <a:pt x="503" y="1636"/>
                  <a:pt x="503" y="171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实物-灯泡"/>
          <p:cNvPicPr/>
          <p:nvPr/>
        </p:nvPicPr>
        <p:blipFill>
          <a:blip r:embed="rId5"/>
          <a:stretch/>
        </p:blipFill>
        <p:spPr>
          <a:xfrm>
            <a:off x="6300720" y="2133720"/>
            <a:ext cx="90648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11"/>
          <p:cNvSpPr/>
          <p:nvPr/>
        </p:nvSpPr>
        <p:spPr>
          <a:xfrm>
            <a:off x="4687920" y="2917800"/>
            <a:ext cx="2104920" cy="942840"/>
          </a:xfrm>
          <a:custGeom>
            <a:avLst/>
            <a:gdLst/>
            <a:ahLst/>
            <a:rect l="l" t="t" r="r" b="b"/>
            <a:pathLst>
              <a:path w="1326" h="594">
                <a:moveTo>
                  <a:pt x="0" y="0"/>
                </a:moveTo>
                <a:cubicBezTo>
                  <a:pt x="0" y="0"/>
                  <a:pt x="59" y="13"/>
                  <a:pt x="64" y="18"/>
                </a:cubicBezTo>
                <a:cubicBezTo>
                  <a:pt x="71" y="25"/>
                  <a:pt x="68" y="37"/>
                  <a:pt x="73" y="45"/>
                </a:cubicBezTo>
                <a:cubicBezTo>
                  <a:pt x="82" y="60"/>
                  <a:pt x="106" y="73"/>
                  <a:pt x="119" y="82"/>
                </a:cubicBezTo>
                <a:cubicBezTo>
                  <a:pt x="126" y="92"/>
                  <a:pt x="143" y="121"/>
                  <a:pt x="156" y="128"/>
                </a:cubicBezTo>
                <a:cubicBezTo>
                  <a:pt x="173" y="137"/>
                  <a:pt x="210" y="146"/>
                  <a:pt x="210" y="146"/>
                </a:cubicBezTo>
                <a:cubicBezTo>
                  <a:pt x="265" y="198"/>
                  <a:pt x="189" y="132"/>
                  <a:pt x="256" y="173"/>
                </a:cubicBezTo>
                <a:cubicBezTo>
                  <a:pt x="263" y="178"/>
                  <a:pt x="266" y="188"/>
                  <a:pt x="274" y="192"/>
                </a:cubicBezTo>
                <a:cubicBezTo>
                  <a:pt x="291" y="201"/>
                  <a:pt x="329" y="210"/>
                  <a:pt x="329" y="210"/>
                </a:cubicBezTo>
                <a:cubicBezTo>
                  <a:pt x="352" y="232"/>
                  <a:pt x="373" y="236"/>
                  <a:pt x="402" y="247"/>
                </a:cubicBezTo>
                <a:cubicBezTo>
                  <a:pt x="424" y="268"/>
                  <a:pt x="476" y="301"/>
                  <a:pt x="476" y="301"/>
                </a:cubicBezTo>
                <a:cubicBezTo>
                  <a:pt x="496" y="332"/>
                  <a:pt x="531" y="353"/>
                  <a:pt x="567" y="365"/>
                </a:cubicBezTo>
                <a:cubicBezTo>
                  <a:pt x="585" y="377"/>
                  <a:pt x="601" y="395"/>
                  <a:pt x="622" y="402"/>
                </a:cubicBezTo>
                <a:cubicBezTo>
                  <a:pt x="631" y="405"/>
                  <a:pt x="640" y="407"/>
                  <a:pt x="649" y="411"/>
                </a:cubicBezTo>
                <a:cubicBezTo>
                  <a:pt x="659" y="416"/>
                  <a:pt x="668" y="422"/>
                  <a:pt x="677" y="429"/>
                </a:cubicBezTo>
                <a:cubicBezTo>
                  <a:pt x="684" y="434"/>
                  <a:pt x="687" y="444"/>
                  <a:pt x="695" y="448"/>
                </a:cubicBezTo>
                <a:cubicBezTo>
                  <a:pt x="757" y="479"/>
                  <a:pt x="826" y="487"/>
                  <a:pt x="887" y="521"/>
                </a:cubicBezTo>
                <a:cubicBezTo>
                  <a:pt x="912" y="535"/>
                  <a:pt x="934" y="554"/>
                  <a:pt x="960" y="567"/>
                </a:cubicBezTo>
                <a:cubicBezTo>
                  <a:pt x="977" y="576"/>
                  <a:pt x="997" y="579"/>
                  <a:pt x="1015" y="585"/>
                </a:cubicBezTo>
                <a:cubicBezTo>
                  <a:pt x="1024" y="588"/>
                  <a:pt x="1042" y="594"/>
                  <a:pt x="1042" y="594"/>
                </a:cubicBezTo>
                <a:cubicBezTo>
                  <a:pt x="1118" y="588"/>
                  <a:pt x="1195" y="587"/>
                  <a:pt x="1271" y="576"/>
                </a:cubicBezTo>
                <a:cubicBezTo>
                  <a:pt x="1299" y="572"/>
                  <a:pt x="1314" y="463"/>
                  <a:pt x="1326" y="439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2"/>
          <p:cNvSpPr/>
          <p:nvPr/>
        </p:nvSpPr>
        <p:spPr>
          <a:xfrm>
            <a:off x="7010280" y="2946240"/>
            <a:ext cx="595440" cy="581040"/>
          </a:xfrm>
          <a:custGeom>
            <a:avLst/>
            <a:gdLst/>
            <a:ahLst/>
            <a:rect l="l" t="t" r="r" b="b"/>
            <a:pathLst>
              <a:path w="375" h="366">
                <a:moveTo>
                  <a:pt x="0" y="0"/>
                </a:moveTo>
                <a:cubicBezTo>
                  <a:pt x="51" y="17"/>
                  <a:pt x="103" y="33"/>
                  <a:pt x="155" y="46"/>
                </a:cubicBezTo>
                <a:cubicBezTo>
                  <a:pt x="161" y="52"/>
                  <a:pt x="166" y="60"/>
                  <a:pt x="174" y="64"/>
                </a:cubicBezTo>
                <a:cubicBezTo>
                  <a:pt x="182" y="69"/>
                  <a:pt x="196" y="65"/>
                  <a:pt x="201" y="73"/>
                </a:cubicBezTo>
                <a:cubicBezTo>
                  <a:pt x="212" y="89"/>
                  <a:pt x="205" y="115"/>
                  <a:pt x="219" y="128"/>
                </a:cubicBezTo>
                <a:cubicBezTo>
                  <a:pt x="225" y="134"/>
                  <a:pt x="232" y="140"/>
                  <a:pt x="238" y="146"/>
                </a:cubicBezTo>
                <a:cubicBezTo>
                  <a:pt x="253" y="192"/>
                  <a:pt x="258" y="214"/>
                  <a:pt x="293" y="247"/>
                </a:cubicBezTo>
                <a:cubicBezTo>
                  <a:pt x="296" y="256"/>
                  <a:pt x="297" y="266"/>
                  <a:pt x="302" y="274"/>
                </a:cubicBezTo>
                <a:cubicBezTo>
                  <a:pt x="306" y="282"/>
                  <a:pt x="316" y="285"/>
                  <a:pt x="320" y="293"/>
                </a:cubicBezTo>
                <a:cubicBezTo>
                  <a:pt x="328" y="310"/>
                  <a:pt x="332" y="329"/>
                  <a:pt x="338" y="347"/>
                </a:cubicBezTo>
                <a:cubicBezTo>
                  <a:pt x="342" y="360"/>
                  <a:pt x="365" y="356"/>
                  <a:pt x="375" y="366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4859280" y="3500280"/>
            <a:ext cx="3247920" cy="2265480"/>
          </a:xfrm>
          <a:custGeom>
            <a:avLst/>
            <a:gdLst/>
            <a:ahLst/>
            <a:rect l="l" t="t" r="r" b="b"/>
            <a:pathLst>
              <a:path w="1816" h="1414">
                <a:moveTo>
                  <a:pt x="1536" y="0"/>
                </a:moveTo>
                <a:cubicBezTo>
                  <a:pt x="1544" y="70"/>
                  <a:pt x="1546" y="142"/>
                  <a:pt x="1563" y="210"/>
                </a:cubicBezTo>
                <a:cubicBezTo>
                  <a:pt x="1557" y="577"/>
                  <a:pt x="1816" y="1180"/>
                  <a:pt x="1472" y="1308"/>
                </a:cubicBezTo>
                <a:cubicBezTo>
                  <a:pt x="1398" y="1379"/>
                  <a:pt x="1216" y="1351"/>
                  <a:pt x="1152" y="1353"/>
                </a:cubicBezTo>
                <a:cubicBezTo>
                  <a:pt x="1060" y="1356"/>
                  <a:pt x="969" y="1359"/>
                  <a:pt x="877" y="1362"/>
                </a:cubicBezTo>
                <a:cubicBezTo>
                  <a:pt x="689" y="1414"/>
                  <a:pt x="114" y="1381"/>
                  <a:pt x="0" y="1381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图片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057400" y="9907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各种各样的开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914400" y="2057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多数的电器都有开关，有些事接触式的，有些事非接触式的，如遥控开关。遥控开关通过感应光亮、声音等控制电流通断。有的开关放在明处，如墙上的电灯开关；有的开关藏在暗处，如冰箱内灯的开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声控开关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开关光电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706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1447920" y="914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光电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开关人体感应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开关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开关浮球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914400" y="52578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球液位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开关接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380880" y="5867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近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开关流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6095880" y="5486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量开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开关压力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762120" y="51814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压力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t019890235bd7485b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295280" y="137160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开关是怎样接通或断开电路中的电流的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QQ图片20140304084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1860840" y="457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762120" y="1295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下图是小明设计的三种开关。请判断哪个开关可以用，哪个开关不能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扫描0007"/>
          <p:cNvPicPr/>
          <p:nvPr/>
        </p:nvPicPr>
        <p:blipFill>
          <a:blip r:embed="rId2"/>
          <a:stretch/>
        </p:blipFill>
        <p:spPr>
          <a:xfrm>
            <a:off x="228600" y="2438280"/>
            <a:ext cx="8642520" cy="32767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8"/>
          <p:cNvSpPr/>
          <p:nvPr/>
        </p:nvSpPr>
        <p:spPr>
          <a:xfrm>
            <a:off x="724680" y="579132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╳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451320" y="5791320"/>
            <a:ext cx="14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√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6439680" y="5715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╳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8199"/>
          <p:cNvSpPr/>
          <p:nvPr/>
        </p:nvSpPr>
        <p:spPr>
          <a:xfrm>
            <a:off x="1711440" y="122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609480" y="2057400"/>
            <a:ext cx="136872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木头与铜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590920" y="2133720"/>
            <a:ext cx="143964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塑料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片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572000" y="2133720"/>
            <a:ext cx="136836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铝片与铁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629400" y="2133720"/>
            <a:ext cx="1368360" cy="93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竹片与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23880" y="4343400"/>
            <a:ext cx="1297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塑料与铝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3657600" y="4343400"/>
            <a:ext cx="129708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铜片与铁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5562720" y="4267080"/>
            <a:ext cx="1439640" cy="93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硬纸片与铜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914400" y="77616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下面哪些材料能用来制做开关？哪些不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533520" y="3276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666880" y="3276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4724280" y="3276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6781680" y="3276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1447920" y="54100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3657600" y="5486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5562720" y="53341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5090400" y="3276720"/>
            <a:ext cx="8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722556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4101120" y="5538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996120" y="32767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3129840" y="32767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1910520" y="54100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6025320" y="53341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电灯开关"/>
          <p:cNvPicPr/>
          <p:nvPr/>
        </p:nvPicPr>
        <p:blipFill>
          <a:blip r:embed="rId1"/>
          <a:stretch/>
        </p:blipFill>
        <p:spPr>
          <a:xfrm>
            <a:off x="468360" y="1125360"/>
            <a:ext cx="1716120" cy="1622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电风扇开关"/>
          <p:cNvPicPr/>
          <p:nvPr/>
        </p:nvPicPr>
        <p:blipFill>
          <a:blip r:embed="rId2"/>
          <a:stretch/>
        </p:blipFill>
        <p:spPr>
          <a:xfrm>
            <a:off x="2556000" y="1268280"/>
            <a:ext cx="1511280" cy="1484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u=1172507723,1205652461&amp;gp=20"/>
          <p:cNvPicPr/>
          <p:nvPr/>
        </p:nvPicPr>
        <p:blipFill>
          <a:blip r:embed="rId3"/>
          <a:stretch/>
        </p:blipFill>
        <p:spPr>
          <a:xfrm>
            <a:off x="4572000" y="1268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闸刀开关"/>
          <p:cNvPicPr/>
          <p:nvPr/>
        </p:nvPicPr>
        <p:blipFill>
          <a:blip r:embed="rId4"/>
          <a:stretch/>
        </p:blipFill>
        <p:spPr>
          <a:xfrm>
            <a:off x="7020000" y="1341360"/>
            <a:ext cx="1315800" cy="1440000"/>
          </a:xfrm>
          <a:prstGeom prst="rect">
            <a:avLst/>
          </a:prstGeom>
          <a:ln w="0">
            <a:noFill/>
          </a:ln>
        </p:spPr>
      </p:pic>
      <p:sp>
        <p:nvSpPr>
          <p:cNvPr id="273" name="Oval 6"/>
          <p:cNvSpPr/>
          <p:nvPr/>
        </p:nvSpPr>
        <p:spPr>
          <a:xfrm>
            <a:off x="684360" y="4653000"/>
            <a:ext cx="107928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闸刀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7"/>
          <p:cNvSpPr/>
          <p:nvPr/>
        </p:nvSpPr>
        <p:spPr>
          <a:xfrm>
            <a:off x="2916360" y="4797360"/>
            <a:ext cx="1081080" cy="100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按压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4932360" y="4797360"/>
            <a:ext cx="1079640" cy="1008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旋钮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7164360" y="4797360"/>
            <a:ext cx="1079640" cy="9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拉线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9320" y="2971800"/>
            <a:ext cx="1981080" cy="1676520"/>
            <a:chOff x="1219320" y="2971800"/>
            <a:chExt cx="1981080" cy="1676520"/>
          </a:xfrm>
        </p:grpSpPr>
        <p:sp>
          <p:nvSpPr>
            <p:cNvPr id="278" name="Line 10"/>
            <p:cNvSpPr/>
            <p:nvPr/>
          </p:nvSpPr>
          <p:spPr>
            <a:xfrm>
              <a:off x="1219320" y="2971800"/>
              <a:ext cx="1981080" cy="1676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219320" y="2971800"/>
              <a:ext cx="198108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600200" y="2971440"/>
            <a:ext cx="5943600" cy="1676520"/>
            <a:chOff x="1600200" y="2971440"/>
            <a:chExt cx="5943600" cy="1676520"/>
          </a:xfrm>
        </p:grpSpPr>
        <p:sp>
          <p:nvSpPr>
            <p:cNvPr id="281" name="Line 12"/>
            <p:cNvSpPr/>
            <p:nvPr/>
          </p:nvSpPr>
          <p:spPr>
            <a:xfrm flipV="1">
              <a:off x="1600200" y="2971440"/>
              <a:ext cx="5943600" cy="1676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 rot="10800000">
              <a:off x="1600200" y="2971440"/>
              <a:ext cx="594360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276720" y="2895480"/>
            <a:ext cx="1981080" cy="1676520"/>
            <a:chOff x="3276720" y="2895480"/>
            <a:chExt cx="1981080" cy="1676520"/>
          </a:xfrm>
        </p:grpSpPr>
        <p:sp>
          <p:nvSpPr>
            <p:cNvPr id="284" name="Line 13"/>
            <p:cNvSpPr/>
            <p:nvPr/>
          </p:nvSpPr>
          <p:spPr>
            <a:xfrm>
              <a:off x="3276720" y="2895480"/>
              <a:ext cx="1981080" cy="1676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276720" y="2895480"/>
              <a:ext cx="198108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486400" y="3048120"/>
            <a:ext cx="1981080" cy="1676160"/>
            <a:chOff x="5486400" y="3048120"/>
            <a:chExt cx="1981080" cy="1676160"/>
          </a:xfrm>
        </p:grpSpPr>
        <p:sp>
          <p:nvSpPr>
            <p:cNvPr id="287" name="Line 14"/>
            <p:cNvSpPr/>
            <p:nvPr/>
          </p:nvSpPr>
          <p:spPr>
            <a:xfrm>
              <a:off x="5486400" y="3048120"/>
              <a:ext cx="1981080" cy="16761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5486400" y="3048120"/>
              <a:ext cx="198108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0EAB-15F1-4282-9DC4-8203724328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t01f858cb978bb5fc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1449360" y="8380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课后活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914400" y="1905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大家回家以后，调查至少一种家用电器的开关，是哪种开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7"/>
          <p:cNvSpPr txBox="1"/>
          <p:nvPr/>
        </p:nvSpPr>
        <p:spPr>
          <a:xfrm>
            <a:off x="1447920" y="3048120"/>
            <a:ext cx="6143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1" i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t01aef38d5b76a5e0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2820960" y="6094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观察手电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M[($D1H~7_S%7%K)X17MF~L"/>
          <p:cNvPicPr/>
          <p:nvPr/>
        </p:nvPicPr>
        <p:blipFill>
          <a:blip r:embed="rId2"/>
          <a:stretch/>
        </p:blipFill>
        <p:spPr>
          <a:xfrm>
            <a:off x="838080" y="167652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1143000" y="44956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观察手电筒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看看开关由哪些材料组成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723680" y="7621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比比观察能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143000" y="3048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电路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流的路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怎样的？试着标出电流的路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066680" y="2133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电池和小灯泡是怎样安装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t0197e7ed76954ab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5"/>
          <p:cNvGrpSpPr/>
          <p:nvPr/>
        </p:nvGrpSpPr>
        <p:grpSpPr>
          <a:xfrm>
            <a:off x="135720" y="334800"/>
            <a:ext cx="4478400" cy="4303080"/>
            <a:chOff x="135720" y="334800"/>
            <a:chExt cx="4478400" cy="4303080"/>
          </a:xfrm>
        </p:grpSpPr>
        <p:sp>
          <p:nvSpPr>
            <p:cNvPr id="107" name="AutoShape 6"/>
            <p:cNvSpPr/>
            <p:nvPr/>
          </p:nvSpPr>
          <p:spPr>
            <a:xfrm>
              <a:off x="3461040" y="251424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3461040" y="251424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8" descr="未命名"/>
            <p:cNvPicPr/>
            <p:nvPr/>
          </p:nvPicPr>
          <p:blipFill>
            <a:blip r:embed="rId2"/>
            <a:stretch/>
          </p:blipFill>
          <p:spPr>
            <a:xfrm rot="2880000">
              <a:off x="1411920" y="339840"/>
              <a:ext cx="192528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@2R%Q~TTNK48PU5CZ(~%WPC"/>
            <p:cNvPicPr/>
            <p:nvPr/>
          </p:nvPicPr>
          <p:blipFill>
            <a:blip r:embed="rId3"/>
            <a:stretch/>
          </p:blipFill>
          <p:spPr>
            <a:xfrm>
              <a:off x="2965680" y="2854800"/>
              <a:ext cx="1200240" cy="11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Oval 15"/>
          <p:cNvSpPr/>
          <p:nvPr/>
        </p:nvSpPr>
        <p:spPr>
          <a:xfrm>
            <a:off x="5038560" y="2168640"/>
            <a:ext cx="31687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的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838080" y="4495680"/>
            <a:ext cx="7543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图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手电筒的开关是怎样控制电流的接通和断开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张图中手电筒是亮的还是灭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199"/>
          <p:cNvSpPr/>
          <p:nvPr/>
        </p:nvSpPr>
        <p:spPr>
          <a:xfrm>
            <a:off x="1606680" y="244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图片1"/>
          <p:cNvPicPr/>
          <p:nvPr/>
        </p:nvPicPr>
        <p:blipFill>
          <a:blip r:embed="rId1"/>
          <a:stretch/>
        </p:blipFill>
        <p:spPr>
          <a:xfrm>
            <a:off x="5791320" y="34920"/>
            <a:ext cx="3352680" cy="6823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998000" y="12952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电筒观察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204640" y="40384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电流路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042720" y="281952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电池和小灯泡的安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-38880" y="902880"/>
            <a:ext cx="3990960" cy="5172480"/>
            <a:chOff x="-38880" y="902880"/>
            <a:chExt cx="3990960" cy="5172480"/>
          </a:xfrm>
        </p:grpSpPr>
        <p:sp>
          <p:nvSpPr>
            <p:cNvPr id="119" name="AutoShape 3"/>
            <p:cNvSpPr/>
            <p:nvPr/>
          </p:nvSpPr>
          <p:spPr>
            <a:xfrm rot="19107600">
              <a:off x="2297520" y="2522520"/>
              <a:ext cx="352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"/>
            <p:cNvSpPr/>
            <p:nvPr/>
          </p:nvSpPr>
          <p:spPr>
            <a:xfrm rot="19107600">
              <a:off x="2297520" y="2522520"/>
              <a:ext cx="352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5" descr="未命名"/>
            <p:cNvPicPr/>
            <p:nvPr/>
          </p:nvPicPr>
          <p:blipFill>
            <a:blip r:embed="rId1"/>
            <a:stretch/>
          </p:blipFill>
          <p:spPr>
            <a:xfrm rot="387600">
              <a:off x="234000" y="1004400"/>
              <a:ext cx="2090880" cy="49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" descr="@2R%Q~TTNK48PU5CZ(~%WPC"/>
            <p:cNvPicPr/>
            <p:nvPr/>
          </p:nvPicPr>
          <p:blipFill>
            <a:blip r:embed="rId2"/>
            <a:stretch/>
          </p:blipFill>
          <p:spPr>
            <a:xfrm rot="19107600">
              <a:off x="2309400" y="2711880"/>
              <a:ext cx="1389240" cy="129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4140360" y="4653000"/>
            <a:ext cx="890280" cy="187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4140360" y="2708280"/>
            <a:ext cx="925200" cy="1944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5"/>
          <a:stretch/>
        </p:blipFill>
        <p:spPr>
          <a:xfrm>
            <a:off x="3924360" y="549360"/>
            <a:ext cx="1227240" cy="2171520"/>
          </a:xfrm>
          <a:prstGeom prst="rect">
            <a:avLst/>
          </a:prstGeom>
          <a:ln w="0">
            <a:noFill/>
          </a:ln>
        </p:spPr>
      </p:pic>
      <p:sp>
        <p:nvSpPr>
          <p:cNvPr id="126" name="Freeform 10"/>
          <p:cNvSpPr/>
          <p:nvPr/>
        </p:nvSpPr>
        <p:spPr>
          <a:xfrm>
            <a:off x="4572000" y="3789360"/>
            <a:ext cx="1144440" cy="2955960"/>
          </a:xfrm>
          <a:custGeom>
            <a:avLst/>
            <a:gdLst/>
            <a:ahLst/>
            <a:rect l="l" t="t" r="r" b="b"/>
            <a:pathLst>
              <a:path w="933" h="1862">
                <a:moveTo>
                  <a:pt x="18" y="1701"/>
                </a:moveTo>
                <a:cubicBezTo>
                  <a:pt x="21" y="1750"/>
                  <a:pt x="0" y="1807"/>
                  <a:pt x="27" y="1847"/>
                </a:cubicBezTo>
                <a:cubicBezTo>
                  <a:pt x="37" y="1862"/>
                  <a:pt x="197" y="1814"/>
                  <a:pt x="210" y="1811"/>
                </a:cubicBezTo>
                <a:cubicBezTo>
                  <a:pt x="367" y="1772"/>
                  <a:pt x="533" y="1805"/>
                  <a:pt x="695" y="1802"/>
                </a:cubicBezTo>
                <a:cubicBezTo>
                  <a:pt x="770" y="1494"/>
                  <a:pt x="720" y="624"/>
                  <a:pt x="695" y="549"/>
                </a:cubicBezTo>
                <a:cubicBezTo>
                  <a:pt x="691" y="481"/>
                  <a:pt x="664" y="315"/>
                  <a:pt x="686" y="238"/>
                </a:cubicBezTo>
                <a:cubicBezTo>
                  <a:pt x="689" y="228"/>
                  <a:pt x="704" y="226"/>
                  <a:pt x="713" y="220"/>
                </a:cubicBezTo>
                <a:cubicBezTo>
                  <a:pt x="738" y="181"/>
                  <a:pt x="778" y="158"/>
                  <a:pt x="814" y="128"/>
                </a:cubicBezTo>
                <a:cubicBezTo>
                  <a:pt x="838" y="108"/>
                  <a:pt x="858" y="79"/>
                  <a:pt x="878" y="55"/>
                </a:cubicBezTo>
                <a:cubicBezTo>
                  <a:pt x="893" y="36"/>
                  <a:pt x="905" y="0"/>
                  <a:pt x="933" y="0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1"/>
          <p:cNvSpPr/>
          <p:nvPr/>
        </p:nvSpPr>
        <p:spPr>
          <a:xfrm>
            <a:off x="4859280" y="1700280"/>
            <a:ext cx="576360" cy="2160360"/>
          </a:xfrm>
          <a:custGeom>
            <a:avLst/>
            <a:gdLst/>
            <a:ahLst/>
            <a:rect l="l" t="t" r="r" b="b"/>
            <a:pathLst>
              <a:path w="385" h="1132">
                <a:moveTo>
                  <a:pt x="0" y="44"/>
                </a:moveTo>
                <a:cubicBezTo>
                  <a:pt x="108" y="31"/>
                  <a:pt x="225" y="0"/>
                  <a:pt x="329" y="35"/>
                </a:cubicBezTo>
                <a:cubicBezTo>
                  <a:pt x="385" y="392"/>
                  <a:pt x="348" y="796"/>
                  <a:pt x="348" y="1132"/>
                </a:cubicBez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2"/>
          <p:cNvGrpSpPr/>
          <p:nvPr/>
        </p:nvGrpSpPr>
        <p:grpSpPr>
          <a:xfrm>
            <a:off x="6300720" y="4724640"/>
            <a:ext cx="863280" cy="1657080"/>
            <a:chOff x="6300720" y="4724640"/>
            <a:chExt cx="863280" cy="1657080"/>
          </a:xfrm>
        </p:grpSpPr>
        <p:sp>
          <p:nvSpPr>
            <p:cNvPr id="129" name="Rectangle 13"/>
            <p:cNvSpPr/>
            <p:nvPr/>
          </p:nvSpPr>
          <p:spPr>
            <a:xfrm rot="16200000">
              <a:off x="5969160" y="5186880"/>
              <a:ext cx="1526040" cy="863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 rot="16200000">
              <a:off x="6705720" y="4632840"/>
              <a:ext cx="131040" cy="314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15"/>
          <p:cNvSpPr/>
          <p:nvPr/>
        </p:nvSpPr>
        <p:spPr>
          <a:xfrm rot="16200000">
            <a:off x="5756040" y="505296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-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6300720" y="3069000"/>
            <a:ext cx="863280" cy="1657080"/>
            <a:chOff x="6300720" y="3069000"/>
            <a:chExt cx="863280" cy="1657080"/>
          </a:xfrm>
        </p:grpSpPr>
        <p:sp>
          <p:nvSpPr>
            <p:cNvPr id="133" name="Rectangle 17"/>
            <p:cNvSpPr/>
            <p:nvPr/>
          </p:nvSpPr>
          <p:spPr>
            <a:xfrm rot="16200000">
              <a:off x="5969160" y="3531240"/>
              <a:ext cx="1526040" cy="863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 rot="16200000">
              <a:off x="6705720" y="2977200"/>
              <a:ext cx="131040" cy="314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9"/>
          <p:cNvSpPr/>
          <p:nvPr/>
        </p:nvSpPr>
        <p:spPr>
          <a:xfrm rot="16200000">
            <a:off x="5756040" y="325260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-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0" descr=""/>
          <p:cNvPicPr/>
          <p:nvPr/>
        </p:nvPicPr>
        <p:blipFill>
          <a:blip r:embed="rId6"/>
          <a:stretch/>
        </p:blipFill>
        <p:spPr>
          <a:xfrm>
            <a:off x="6084720" y="907920"/>
            <a:ext cx="1227240" cy="2171880"/>
          </a:xfrm>
          <a:prstGeom prst="rect">
            <a:avLst/>
          </a:prstGeom>
          <a:ln w="0">
            <a:noFill/>
          </a:ln>
        </p:spPr>
      </p:pic>
      <p:sp>
        <p:nvSpPr>
          <p:cNvPr id="137" name="Freeform 21"/>
          <p:cNvSpPr/>
          <p:nvPr/>
        </p:nvSpPr>
        <p:spPr>
          <a:xfrm>
            <a:off x="6732720" y="4221000"/>
            <a:ext cx="1079280" cy="2379960"/>
          </a:xfrm>
          <a:custGeom>
            <a:avLst/>
            <a:gdLst/>
            <a:ahLst/>
            <a:rect l="l" t="t" r="r" b="b"/>
            <a:pathLst>
              <a:path w="933" h="1862">
                <a:moveTo>
                  <a:pt x="18" y="1701"/>
                </a:moveTo>
                <a:cubicBezTo>
                  <a:pt x="21" y="1750"/>
                  <a:pt x="0" y="1807"/>
                  <a:pt x="27" y="1847"/>
                </a:cubicBezTo>
                <a:cubicBezTo>
                  <a:pt x="37" y="1862"/>
                  <a:pt x="197" y="1814"/>
                  <a:pt x="210" y="1811"/>
                </a:cubicBezTo>
                <a:cubicBezTo>
                  <a:pt x="367" y="1772"/>
                  <a:pt x="533" y="1805"/>
                  <a:pt x="695" y="1802"/>
                </a:cubicBezTo>
                <a:cubicBezTo>
                  <a:pt x="770" y="1494"/>
                  <a:pt x="720" y="624"/>
                  <a:pt x="695" y="549"/>
                </a:cubicBezTo>
                <a:cubicBezTo>
                  <a:pt x="691" y="481"/>
                  <a:pt x="664" y="315"/>
                  <a:pt x="686" y="238"/>
                </a:cubicBezTo>
                <a:cubicBezTo>
                  <a:pt x="689" y="228"/>
                  <a:pt x="704" y="226"/>
                  <a:pt x="713" y="220"/>
                </a:cubicBezTo>
                <a:cubicBezTo>
                  <a:pt x="738" y="181"/>
                  <a:pt x="778" y="158"/>
                  <a:pt x="814" y="128"/>
                </a:cubicBezTo>
                <a:cubicBezTo>
                  <a:pt x="838" y="108"/>
                  <a:pt x="858" y="79"/>
                  <a:pt x="878" y="55"/>
                </a:cubicBezTo>
                <a:cubicBezTo>
                  <a:pt x="893" y="36"/>
                  <a:pt x="905" y="0"/>
                  <a:pt x="933" y="0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2"/>
          <p:cNvSpPr/>
          <p:nvPr/>
        </p:nvSpPr>
        <p:spPr>
          <a:xfrm>
            <a:off x="7020000" y="2060640"/>
            <a:ext cx="576360" cy="2160360"/>
          </a:xfrm>
          <a:custGeom>
            <a:avLst/>
            <a:gdLst/>
            <a:ahLst/>
            <a:rect l="l" t="t" r="r" b="b"/>
            <a:pathLst>
              <a:path w="385" h="1132">
                <a:moveTo>
                  <a:pt x="0" y="44"/>
                </a:moveTo>
                <a:cubicBezTo>
                  <a:pt x="108" y="31"/>
                  <a:pt x="225" y="0"/>
                  <a:pt x="329" y="35"/>
                </a:cubicBezTo>
                <a:cubicBezTo>
                  <a:pt x="385" y="392"/>
                  <a:pt x="348" y="796"/>
                  <a:pt x="348" y="1132"/>
                </a:cubicBez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3"/>
          <p:cNvSpPr/>
          <p:nvPr/>
        </p:nvSpPr>
        <p:spPr>
          <a:xfrm>
            <a:off x="6659640" y="3284640"/>
            <a:ext cx="2887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4"/>
          <p:cNvSpPr/>
          <p:nvPr/>
        </p:nvSpPr>
        <p:spPr>
          <a:xfrm>
            <a:off x="7667640" y="4149720"/>
            <a:ext cx="28908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-8.67052E-007 C -0.00157 -0.0659 0.00069 -0.04555 -0.00643 -0.08046 C -0.00695 -0.09318 -0.00712 -0.10567 -0.00799 -0.11838 C -0.00851 -0.12578 -0.01355 -0.13295 -0.0158 -0.13965 C -0.02014 -0.15306 -0.02344 -0.16578 -0.02692 -0.17965 C -0.02744 -0.20532 -0.02414 -0.25041 -0.03178 -0.28116 C -0.03021 -0.28185 -0.02848 -0.28416 -0.02692 -0.28324 C -0.02587 -0.28254 -0.01685 -0.25988 -0.02535 -0.27699 C -0.02327 -0.28555 -0.02049 -0.28694 -0.01424 -0.28971 C -0.0073 -0.28671 -0.00573 -0.28208 -0.00799 -0.27283 C -0.01442 -0.29017 -0.01164 -0.28809 0.00156 -0.28555 C 0.00277 -0.28046 0.00538 -0.27353 0.00156 -0.26844 C 0.00034 -0.26682 -0.00157 -0.27006 -0.00313 -0.27075 C -0.00105 -0.27214 0.00086 -0.27491 0.00312 -0.27491 C 0.01996 -0.27491 0.01336 -0.24856 0.00642 -0.23884 C 0.00694 -0.22266 0.00677 -0.20647 0.00798 -0.19029 C 0.00833 -0.1852 0.00763 -0.17757 0.01111 -0.17549 C 0.01701 -0.17202 0.02378 -0.17688 0.0302 -0.17757 C 0.03732 -0.18428 0.04583 -0.18659 0.05399 -0.19029 C 0.05711 -0.19168 0.06354 -0.19445 0.06354 -0.19445 C 0.07326 -0.19191 0.07118 -0.18983 0.07933 -0.18613 C 0.1019 -0.09249 0.08246 0.04324 0.08246 0.11191 E">
                                      <p:cBhvr>
                                        <p:cTn id="223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56647E-006 C -0.01129 0.00531 -0.00677 0.00208 -0.01441 0.00855 C -0.01493 0.01063 -0.01493 0.01294 -0.01597 0.01479 C -0.01823 0.01872 -0.02396 0.02543 -0.02396 0.02543 C -0.02483 0.03052 -0.02709 0.03514 -0.02709 0.04023 C -0.02709 0.05364 -0.025 0.06705 -0.02396 0.08046 C -0.02448 0.15306 -0.02396 0.22566 -0.02552 0.29826 C -0.02622 0.33595 -0.07587 0.32901 -0.09375 0.33202 C -0.1007 0.33133 -0.10955 0.33641 -0.11441 0.32994 C -0.11649 0.32716 -0.11233 0.30312 -0.11111 0.29595 C -0.10851 0.19167 -0.10643 0.08763 -0.10643 -0.01688 E">
                                      <p:cBhvr>
                                        <p:cTn id="23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676520" y="16765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手电筒的开关，由塑料和铜片组成，推动红色塑料推钮，两块铜片就会接触，电路接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7:51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22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