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6.jpeg" ContentType="image/jpeg"/>
  <Override PartName="/ppt/media/image8.png" ContentType="image/png"/>
  <Override PartName="/ppt/media/image11.jpeg" ContentType="image/jpeg"/>
  <Override PartName="/ppt/media/image4.png" ContentType="image/png"/>
  <Override PartName="/ppt/media/image7.jpeg" ContentType="image/jpeg"/>
  <Override PartName="/ppt/media/3.wav" ContentType="audio/x-wav"/>
  <Override PartName="/ppt/media/image9.gif" ContentType="image/gif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230A7-7103-4AA7-BD17-0CC59FEE15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D5397-9FDD-467F-BA7F-2EAC432F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FFCAB-11DD-4413-9204-91FE068F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A4F80-102E-4A7A-8E0E-F9868674A5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EFCB0-1C06-4DA4-B99D-64CF85C6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79739-F50A-449A-94B9-78082346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E8554-F6BC-4E00-802A-C036DD21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D389E-99BC-40C8-B52E-92D98BF5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76610-F088-450A-B0E4-0D376704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04A1B-4C0F-4C6D-A743-9D267025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E0471-2E10-4DF8-9A86-3982419A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BB5E8-A406-4685-85B9-5A172173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20389-18F4-4F08-80D3-CA0FD0C8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1E675-93BE-47BC-AF4F-C0C5898B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28C88-A987-4AB2-B9F9-426EF529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78087-2E78-4117-A506-79C5E4AFF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EED67-B339-4CFA-A130-B2E500BB4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CA7F5D-1313-4ACA-B126-2C25E012A4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63534F-5D5E-49C4-9F1D-60506B92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9A9419-9FDE-4C91-A67D-AFDBDB6F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0FFCE4-8568-4234-B8AF-6E9FF391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3BC294-03F4-429F-A0E0-CBF2B2B69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6D09C-E25A-4328-B91B-3632CB39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DFD279-BA09-4707-A86B-4FE19358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CDFBBF-F74E-44BC-9C7E-8C761E15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713F62-A25E-4161-96E9-1354A145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29A8E5-0AF3-4527-B2D3-7B1CB1C2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502B72-C5A0-4267-9927-55C6CE67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913AA7-6783-4D09-B8C5-B6B956E8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798BFB-3D9F-487D-854E-93ED1B6628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05ADF-F078-4AA5-BA49-C627C34D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C5C0A-E03B-49C6-88CE-17B678656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1B43A-E000-4C0E-8CC1-3D0B6F252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1F067-728D-450D-8B52-3C895B4C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BFE73-CCE3-48D0-82A8-0598BF66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CFE2E-A795-4D0C-B7A4-DADA0F4B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160" cy="6858000"/>
            <a:chOff x="-720" y="-4680"/>
            <a:chExt cx="106416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7000" cy="6857640"/>
              <a:chOff x="41400" y="-4680"/>
              <a:chExt cx="101700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4000" y="-4680"/>
                <a:ext cx="99648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49320" y="1689120"/>
                <a:ext cx="99648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4000" y="1287000"/>
                <a:ext cx="99648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49320" y="149040"/>
                <a:ext cx="99648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4000" y="984600"/>
                <a:ext cx="99648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4000" y="680040"/>
                <a:ext cx="99648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48960" y="368280"/>
                <a:ext cx="100908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1400" y="3936240"/>
                <a:ext cx="99648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6080" y="3533760"/>
                <a:ext cx="99648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1400" y="2391480"/>
                <a:ext cx="99648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6080" y="3230280"/>
                <a:ext cx="99648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1400" y="2923200"/>
                <a:ext cx="99648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5720" y="2617920"/>
                <a:ext cx="100908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9320" y="4966920"/>
                <a:ext cx="99648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4000" y="4564440"/>
                <a:ext cx="99648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1400" y="5668920"/>
                <a:ext cx="99648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70440" y="6180840"/>
                <a:ext cx="345960" cy="997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201000"/>
                <a:ext cx="99648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5360" y="5895000"/>
                <a:ext cx="100908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1400" y="3095640"/>
              <a:ext cx="6858000" cy="65700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960" y="3272760"/>
              <a:ext cx="6856200" cy="30096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3B0B-C550-4102-9B2C-7EFB6AA21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1467-3062-423B-8613-A60459BB1DF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105" name="Group 3"/>
            <p:cNvGrpSpPr/>
            <p:nvPr/>
          </p:nvGrpSpPr>
          <p:grpSpPr>
            <a:xfrm>
              <a:off x="-3600" y="2479320"/>
              <a:ext cx="9147240" cy="1012680"/>
              <a:chOff x="-3600" y="2479320"/>
              <a:chExt cx="9147240" cy="1012680"/>
            </a:xfrm>
          </p:grpSpPr>
          <p:sp>
            <p:nvSpPr>
              <p:cNvPr id="106" name="Freeform 4"/>
              <p:cNvSpPr/>
              <p:nvPr/>
            </p:nvSpPr>
            <p:spPr>
              <a:xfrm flipH="1" rot="5400000">
                <a:off x="4087440" y="-1572120"/>
                <a:ext cx="99180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Freeform 5"/>
              <p:cNvSpPr/>
              <p:nvPr/>
            </p:nvSpPr>
            <p:spPr>
              <a:xfrm flipH="1" rot="5400000">
                <a:off x="6054120" y="2648880"/>
                <a:ext cx="99180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Freeform 6"/>
              <p:cNvSpPr/>
              <p:nvPr/>
            </p:nvSpPr>
            <p:spPr>
              <a:xfrm flipH="1" rot="5400000">
                <a:off x="6589800" y="2652840"/>
                <a:ext cx="99180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Freeform 7"/>
              <p:cNvSpPr/>
              <p:nvPr/>
            </p:nvSpPr>
            <p:spPr>
              <a:xfrm flipH="1" rot="5400000">
                <a:off x="8240040" y="2780640"/>
                <a:ext cx="99180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Freeform 8"/>
              <p:cNvSpPr/>
              <p:nvPr/>
            </p:nvSpPr>
            <p:spPr>
              <a:xfrm flipH="1" rot="5400000">
                <a:off x="7094880" y="2754360"/>
                <a:ext cx="99180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Freeform 9"/>
              <p:cNvSpPr/>
              <p:nvPr/>
            </p:nvSpPr>
            <p:spPr>
              <a:xfrm flipH="1" rot="5400000">
                <a:off x="7447320" y="2700360"/>
                <a:ext cx="99180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Freeform 10"/>
              <p:cNvSpPr/>
              <p:nvPr/>
            </p:nvSpPr>
            <p:spPr>
              <a:xfrm flipH="1" rot="5400000">
                <a:off x="7894080" y="2739600"/>
                <a:ext cx="100440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Freeform 11"/>
              <p:cNvSpPr/>
              <p:nvPr/>
            </p:nvSpPr>
            <p:spPr>
              <a:xfrm flipH="1" rot="5400000">
                <a:off x="3057120" y="2640960"/>
                <a:ext cx="99180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2"/>
              <p:cNvSpPr/>
              <p:nvPr/>
            </p:nvSpPr>
            <p:spPr>
              <a:xfrm flipH="1" rot="5400000">
                <a:off x="3592800" y="2644920"/>
                <a:ext cx="99180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3"/>
              <p:cNvSpPr/>
              <p:nvPr/>
            </p:nvSpPr>
            <p:spPr>
              <a:xfrm flipH="1" rot="5400000">
                <a:off x="5249520" y="2772720"/>
                <a:ext cx="99180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4"/>
              <p:cNvSpPr/>
              <p:nvPr/>
            </p:nvSpPr>
            <p:spPr>
              <a:xfrm flipH="1" rot="5400000">
                <a:off x="4099320" y="2746440"/>
                <a:ext cx="99180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5"/>
              <p:cNvSpPr/>
              <p:nvPr/>
            </p:nvSpPr>
            <p:spPr>
              <a:xfrm flipH="1" rot="5400000">
                <a:off x="4455720" y="2688480"/>
                <a:ext cx="99180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6"/>
              <p:cNvSpPr/>
              <p:nvPr/>
            </p:nvSpPr>
            <p:spPr>
              <a:xfrm flipH="1" rot="5400000">
                <a:off x="4892760" y="2735640"/>
                <a:ext cx="100440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Freeform 17"/>
              <p:cNvSpPr/>
              <p:nvPr/>
            </p:nvSpPr>
            <p:spPr>
              <a:xfrm flipH="1" rot="5400000">
                <a:off x="1682280" y="2648880"/>
                <a:ext cx="99180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Freeform 18"/>
              <p:cNvSpPr/>
              <p:nvPr/>
            </p:nvSpPr>
            <p:spPr>
              <a:xfrm flipH="1" rot="5400000">
                <a:off x="2217960" y="2652840"/>
                <a:ext cx="99180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Freeform 19"/>
              <p:cNvSpPr/>
              <p:nvPr/>
            </p:nvSpPr>
            <p:spPr>
              <a:xfrm flipH="1" rot="5400000">
                <a:off x="877320" y="2772720"/>
                <a:ext cx="99180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Freeform 20"/>
              <p:cNvSpPr/>
              <p:nvPr/>
            </p:nvSpPr>
            <p:spPr>
              <a:xfrm flipH="1">
                <a:off x="-3960" y="2482920"/>
                <a:ext cx="461880" cy="99324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Freeform 21"/>
              <p:cNvSpPr/>
              <p:nvPr/>
            </p:nvSpPr>
            <p:spPr>
              <a:xfrm flipH="1" rot="5400000">
                <a:off x="83880" y="2688480"/>
                <a:ext cx="99180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Freeform 22"/>
              <p:cNvSpPr/>
              <p:nvPr/>
            </p:nvSpPr>
            <p:spPr>
              <a:xfrm flipH="1" rot="5400000">
                <a:off x="520920" y="2735640"/>
                <a:ext cx="100440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6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A0C0-9699-4FEA-ACA5-4FA12CB6C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3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4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4653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8"/>
          <p:cNvSpPr/>
          <p:nvPr/>
        </p:nvSpPr>
        <p:spPr>
          <a:xfrm>
            <a:off x="4356000" y="4653000"/>
            <a:ext cx="4788000" cy="2205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0" y="0"/>
            <a:ext cx="4356000" cy="18446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2" descr="3"/>
          <p:cNvPicPr/>
          <p:nvPr/>
        </p:nvPicPr>
        <p:blipFill>
          <a:blip r:embed="rId2"/>
          <a:stretch/>
        </p:blipFill>
        <p:spPr>
          <a:xfrm>
            <a:off x="0" y="1844640"/>
            <a:ext cx="4343400" cy="5013360"/>
          </a:xfrm>
          <a:prstGeom prst="rect">
            <a:avLst/>
          </a:prstGeom>
          <a:ln w="0">
            <a:noFill/>
          </a:ln>
        </p:spPr>
      </p:pic>
      <p:pic>
        <p:nvPicPr>
          <p:cNvPr id="171" name="Text Box 3" descr=""/>
          <p:cNvPicPr/>
          <p:nvPr/>
        </p:nvPicPr>
        <p:blipFill>
          <a:blip r:embed="rId3"/>
          <a:stretch/>
        </p:blipFill>
        <p:spPr>
          <a:xfrm>
            <a:off x="1222200" y="836640"/>
            <a:ext cx="6413760" cy="7002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4716360" y="4221000"/>
            <a:ext cx="4427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雨之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浪之歌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文本框 6155"/>
          <p:cNvSpPr/>
          <p:nvPr/>
        </p:nvSpPr>
        <p:spPr>
          <a:xfrm>
            <a:off x="4500720" y="6453360"/>
            <a:ext cx="408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页脚占位符 2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1187280" y="3209760"/>
            <a:ext cx="756144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这首诗中，作者的想象是紧贴着海浪的自然物理特性展开的，你能举例证明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WordArt 5"/>
          <p:cNvSpPr txBox="1"/>
          <p:nvPr/>
        </p:nvSpPr>
        <p:spPr>
          <a:xfrm>
            <a:off x="1476360" y="765000"/>
            <a:ext cx="6767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合人之情，入物之理，</a:t>
            </a:r>
            <a:endParaRPr b="1" lang="en-US" sz="2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4"/>
          <p:cNvPicPr/>
          <p:nvPr/>
        </p:nvPicPr>
        <p:blipFill>
          <a:blip r:embed="rId1"/>
          <a:stretch/>
        </p:blipFill>
        <p:spPr>
          <a:xfrm>
            <a:off x="4800600" y="3137040"/>
            <a:ext cx="4343400" cy="3720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5"/>
          <p:cNvPicPr/>
          <p:nvPr/>
        </p:nvPicPr>
        <p:blipFill>
          <a:blip r:embed="rId2"/>
          <a:srcRect l="0" t="0" r="63" b="0"/>
          <a:stretch/>
        </p:blipFill>
        <p:spPr>
          <a:xfrm>
            <a:off x="0" y="0"/>
            <a:ext cx="4800600" cy="356076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4932360" y="152280"/>
            <a:ext cx="4135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朗读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雨之歌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思考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:“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雨”在文中是怎样的形象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6686280" y="19954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奉献者、生命的使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136440" y="4035600"/>
            <a:ext cx="443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主题：借雨之歌，表达诗人愿为万物付出爱心和愿为万物传递爱的信息的意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页脚占位符 2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971640" y="3427920"/>
            <a:ext cx="792144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这首散文诗中，作者的想像是紧贴着雨水的自然物理特征来展开的，你能找出例证吗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WordArt 6"/>
          <p:cNvSpPr txBox="1"/>
          <p:nvPr/>
        </p:nvSpPr>
        <p:spPr>
          <a:xfrm>
            <a:off x="1908000" y="765000"/>
            <a:ext cx="6336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合人之情，入物之理，</a:t>
            </a:r>
            <a:endParaRPr b="1" lang="en-US" sz="2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WordArt 3"/>
          <p:cNvSpPr txBox="1"/>
          <p:nvPr/>
        </p:nvSpPr>
        <p:spPr>
          <a:xfrm>
            <a:off x="250920" y="189000"/>
            <a:ext cx="1295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幼圆"/>
              </a:rPr>
              <a:t>小结</a:t>
            </a:r>
            <a:endParaRPr b="1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幼圆"/>
              <a:ea typeface="幼圆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24000" y="260676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纪伯伦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组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与一般哲理诗一样，采用拟人化手法。在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浪之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里，海浪的形象是一个博爱者的形象，从中可以看到诗人自已的影子，诗人是世间种种美好事物的守护者。在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雨之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里，雨的形象是一个奉献者和使者的形象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它滋润万物，也把距离遥远的事物联结起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531880" y="1037520"/>
            <a:ext cx="416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让我们拥有一双灵性的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          </a:t>
            </a:r>
            <a:r>
              <a:rPr b="0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让我们拥有一颗灵性的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flysno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3"/>
          <p:cNvSpPr/>
          <p:nvPr/>
        </p:nvSpPr>
        <p:spPr>
          <a:xfrm>
            <a:off x="3040200" y="1828800"/>
            <a:ext cx="127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、用第一人称便于抒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219320" y="2590920"/>
            <a:ext cx="735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、用拟人手法赋予“浪”“雨”人的灵性，想象新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1295280" y="38862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、成语、双声叠韵词、文言词的使用，有文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2909880" y="5105520"/>
            <a:ext cx="8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、押韵，朗朗上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2440080" y="9144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  <a:ea typeface="黑体"/>
              </a:rPr>
              <a:t>语言特点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文本框 8197"/>
          <p:cNvSpPr/>
          <p:nvPr/>
        </p:nvSpPr>
        <p:spPr>
          <a:xfrm>
            <a:off x="1619280" y="59500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99cc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WordArt 3"/>
          <p:cNvSpPr txBox="1"/>
          <p:nvPr/>
        </p:nvSpPr>
        <p:spPr>
          <a:xfrm>
            <a:off x="2666880" y="620640"/>
            <a:ext cx="3505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00ffff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模仿创作</a:t>
            </a:r>
            <a:endParaRPr b="1" i="1" lang="en-US" sz="2400" spc="1" strike="noStrike">
              <a:ln w="9360">
                <a:solidFill>
                  <a:srgbClr val="00ffff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1908000" y="3158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这两首散文诗中，作者分别采用第一人称，借助丰富的想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艺术地描绘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生活，表现出对人生的思考。请模仿这种写法写一首散文诗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788A-0946-411D-B003-D4CEBF3A19D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Oval 2"/>
          <p:cNvSpPr/>
          <p:nvPr/>
        </p:nvSpPr>
        <p:spPr>
          <a:xfrm>
            <a:off x="2666880" y="685800"/>
            <a:ext cx="4191120" cy="1014480"/>
          </a:xfrm>
          <a:prstGeom prst="ellipse">
            <a:avLst/>
          </a:prstGeom>
          <a:solidFill>
            <a:srgbClr val="e1e1b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延伸阅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2209680" y="2209680"/>
            <a:ext cx="495324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花之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981080" y="3809880"/>
            <a:ext cx="525780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美之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2438280" y="5334120"/>
            <a:ext cx="46483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幸福之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950400" y="3478680"/>
            <a:ext cx="729000" cy="6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让我们拥有一双灵性的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6998040" y="3404880"/>
            <a:ext cx="12776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让我们拥有一颗灵性的心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3146040" y="565920"/>
            <a:ext cx="336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黎巴嫩文坛骄子纪伯伦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250920" y="34696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纪伯伦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83——193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，作为哲理诗人和杰出画家，和泰戈尔 一样是近代东方文学走向世界的先驱。同时，他又是阿拉伯现代小说和艺术散文的主要奠基 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十世纪阿拉伯新文学道路的开拓者之一。上世纪二十年代初，以纪伯伦为中坚和代表形成的阿拉伯第一个文学流派「叙美派」（即「阿拉伯侨民文学」）曾闻名全球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4" descr="xinsrc_002090115172231668189"/>
          <p:cNvPicPr/>
          <p:nvPr/>
        </p:nvPicPr>
        <p:blipFill>
          <a:blip r:embed="rId1"/>
          <a:stretch/>
        </p:blipFill>
        <p:spPr>
          <a:xfrm>
            <a:off x="-7308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xinsrc_002090115172231668189"/>
          <p:cNvPicPr/>
          <p:nvPr/>
        </p:nvPicPr>
        <p:blipFill>
          <a:blip r:embed="rId2"/>
          <a:stretch/>
        </p:blipFill>
        <p:spPr>
          <a:xfrm>
            <a:off x="8802720" y="27000"/>
            <a:ext cx="32364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xinsrc_002090115172231668189"/>
          <p:cNvPicPr/>
          <p:nvPr/>
        </p:nvPicPr>
        <p:blipFill>
          <a:blip r:embed="rId3"/>
          <a:stretch/>
        </p:blipFill>
        <p:spPr>
          <a:xfrm>
            <a:off x="233280" y="44280"/>
            <a:ext cx="8802720" cy="216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xinsrc_002090115172231668189"/>
          <p:cNvPicPr/>
          <p:nvPr/>
        </p:nvPicPr>
        <p:blipFill>
          <a:blip r:embed="rId4"/>
          <a:stretch/>
        </p:blipFill>
        <p:spPr>
          <a:xfrm>
            <a:off x="108000" y="6597720"/>
            <a:ext cx="8802720" cy="216000"/>
          </a:xfrm>
          <a:prstGeom prst="rect">
            <a:avLst/>
          </a:prstGeom>
          <a:ln w="0">
            <a:noFill/>
          </a:ln>
        </p:spPr>
      </p:pic>
      <p:sp>
        <p:nvSpPr>
          <p:cNvPr id="180" name="WordArt 8"/>
          <p:cNvSpPr txBox="1"/>
          <p:nvPr/>
        </p:nvSpPr>
        <p:spPr>
          <a:xfrm>
            <a:off x="252360" y="333360"/>
            <a:ext cx="1511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幼圆"/>
              </a:rPr>
              <a:t>作者简介</a:t>
            </a:r>
            <a:r>
              <a:rPr b="1" lang="en-US" sz="4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幼圆"/>
              </a:rPr>
              <a:t>:</a:t>
            </a:r>
            <a:endParaRPr b="1" lang="en-US" sz="4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252360" y="225612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纪伯伦是位热爱祖国、热爱全人类的艺术家。在生命的最后岁月，他写下了传遍阿拉伯世界的诗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朦胧中的祖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他讴歌毕生苦恋的祖国：“您在我们的灵魂中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火，是光；您在我的胸膛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我悸动的心脏。”爱与美是纪伯伦作品的主旋律。他曾说：“整个地球都是我的祖国，全部人类都是我的乡亲。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东方文学史上，纪伯伦的艺术风格独树一帜。他的作品既有理性思考的严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冷峻，又有咏叹调式的浪漫与抒情。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3" descr="xinsrc_002090115172231668189"/>
          <p:cNvPicPr/>
          <p:nvPr/>
        </p:nvPicPr>
        <p:blipFill>
          <a:blip r:embed="rId1"/>
          <a:stretch/>
        </p:blipFill>
        <p:spPr>
          <a:xfrm>
            <a:off x="-7308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xinsrc_002090115172231668189"/>
          <p:cNvPicPr/>
          <p:nvPr/>
        </p:nvPicPr>
        <p:blipFill>
          <a:blip r:embed="rId2"/>
          <a:stretch/>
        </p:blipFill>
        <p:spPr>
          <a:xfrm>
            <a:off x="8802720" y="27000"/>
            <a:ext cx="323640" cy="6858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xinsrc_002090115172231668189"/>
          <p:cNvPicPr/>
          <p:nvPr/>
        </p:nvPicPr>
        <p:blipFill>
          <a:blip r:embed="rId3"/>
          <a:stretch/>
        </p:blipFill>
        <p:spPr>
          <a:xfrm>
            <a:off x="233280" y="44280"/>
            <a:ext cx="8802720" cy="216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xinsrc_002090115172231668189"/>
          <p:cNvPicPr/>
          <p:nvPr/>
        </p:nvPicPr>
        <p:blipFill>
          <a:blip r:embed="rId4"/>
          <a:stretch/>
        </p:blipFill>
        <p:spPr>
          <a:xfrm>
            <a:off x="108000" y="6597720"/>
            <a:ext cx="880272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466560" y="2592720"/>
            <a:ext cx="8209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善于在美妙的比喻中启示深刻的哲理。 纪伯伦风格还见诸于他极有个性的语言。他是一个能用阿拉伯文和英文写作的双语作家，而且每种语言都运用得清丽流畅，其作品的语言风格征服了一代又一代的东西方读者。美国人曾称誉纪伯伦“象从东方吹来横扫西方的风暴”，而他带有强烈东方意识的作品被视为“东方赠给西方的最好礼物”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xinsrc_002090115172231668189"/>
          <p:cNvPicPr/>
          <p:nvPr/>
        </p:nvPicPr>
        <p:blipFill>
          <a:blip r:embed="rId1"/>
          <a:stretch/>
        </p:blipFill>
        <p:spPr>
          <a:xfrm>
            <a:off x="-7308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xinsrc_002090115172231668189"/>
          <p:cNvPicPr/>
          <p:nvPr/>
        </p:nvPicPr>
        <p:blipFill>
          <a:blip r:embed="rId2"/>
          <a:stretch/>
        </p:blipFill>
        <p:spPr>
          <a:xfrm>
            <a:off x="8802720" y="27000"/>
            <a:ext cx="323640" cy="6858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xinsrc_002090115172231668189"/>
          <p:cNvPicPr/>
          <p:nvPr/>
        </p:nvPicPr>
        <p:blipFill>
          <a:blip r:embed="rId3"/>
          <a:stretch/>
        </p:blipFill>
        <p:spPr>
          <a:xfrm>
            <a:off x="233280" y="44280"/>
            <a:ext cx="8802720" cy="216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xinsrc_002090115172231668189"/>
          <p:cNvPicPr/>
          <p:nvPr/>
        </p:nvPicPr>
        <p:blipFill>
          <a:blip r:embed="rId4"/>
          <a:stretch/>
        </p:blipFill>
        <p:spPr>
          <a:xfrm>
            <a:off x="108000" y="6597720"/>
            <a:ext cx="880272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250920" y="436572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著有散文诗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泪与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先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沙与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。本文选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泪与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组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共包括五首散文诗，这里选的是其中两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250920" y="1979640"/>
            <a:ext cx="8642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文学与绘画是纪伯艺术生命双翼。纪伯伦的前期创作以小说为主，后期创作则以散文诗为主。此外还有诗歌、诗剧、文学评论、书信等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先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纪伯伦步入世界文坛的顶峰之作，曾被译成二十多种文字在世界各地出版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6" descr="xinsrc_002090115172231668189"/>
          <p:cNvPicPr/>
          <p:nvPr/>
        </p:nvPicPr>
        <p:blipFill>
          <a:blip r:embed="rId1"/>
          <a:stretch/>
        </p:blipFill>
        <p:spPr>
          <a:xfrm>
            <a:off x="-7308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xinsrc_002090115172231668189"/>
          <p:cNvPicPr/>
          <p:nvPr/>
        </p:nvPicPr>
        <p:blipFill>
          <a:blip r:embed="rId2"/>
          <a:stretch/>
        </p:blipFill>
        <p:spPr>
          <a:xfrm>
            <a:off x="8802720" y="27000"/>
            <a:ext cx="323640" cy="6858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xinsrc_002090115172231668189"/>
          <p:cNvPicPr/>
          <p:nvPr/>
        </p:nvPicPr>
        <p:blipFill>
          <a:blip r:embed="rId3"/>
          <a:stretch/>
        </p:blipFill>
        <p:spPr>
          <a:xfrm>
            <a:off x="233280" y="44280"/>
            <a:ext cx="8802720" cy="216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xinsrc_002090115172231668189"/>
          <p:cNvPicPr/>
          <p:nvPr/>
        </p:nvPicPr>
        <p:blipFill>
          <a:blip r:embed="rId4"/>
          <a:stretch/>
        </p:blipFill>
        <p:spPr>
          <a:xfrm>
            <a:off x="108000" y="6597720"/>
            <a:ext cx="880272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7324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隶书"/>
              </a:rPr>
              <a:t>听读课文，疏解疑难字词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5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执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憔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馈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真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璀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057400" y="1268280"/>
            <a:ext cx="669132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（</a:t>
            </a:r>
            <a:r>
              <a:rPr b="1" lang="en-US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ni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仿宋_GB2312"/>
              </a:rPr>
              <a:t>ù</a:t>
            </a:r>
            <a:r>
              <a:rPr b="1" lang="zh-CN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）：固执任性，不听从别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         </a:t>
            </a:r>
            <a:r>
              <a:rPr b="1" lang="zh-CN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人的意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979640" y="37162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（</a:t>
            </a:r>
            <a:r>
              <a:rPr b="1" lang="en-US" sz="3600" spc="-1" strike="noStrike">
                <a:solidFill>
                  <a:srgbClr val="000099"/>
                </a:solidFill>
                <a:latin typeface="仿宋_GB2312"/>
              </a:rPr>
              <a:t>ku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ì</a:t>
            </a:r>
            <a:r>
              <a:rPr b="1" lang="en-US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 )</a:t>
            </a:r>
            <a:r>
              <a:rPr b="1" lang="zh-CN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：赠送（礼品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050920" y="2492280"/>
            <a:ext cx="6048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（</a:t>
            </a:r>
            <a:r>
              <a:rPr b="1" lang="en-US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qi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仿宋_GB2312"/>
              </a:rPr>
              <a:t>á</a:t>
            </a:r>
            <a:r>
              <a:rPr b="1" lang="en-US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o cu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仿宋_GB2312"/>
              </a:rPr>
              <a:t>ì</a:t>
            </a:r>
            <a:r>
              <a:rPr b="1" lang="en-US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)</a:t>
            </a:r>
            <a:r>
              <a:rPr b="1" lang="zh-CN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：形容人瘦弱，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           </a:t>
            </a:r>
            <a:r>
              <a:rPr b="1" lang="zh-CN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面色不好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1979640" y="47242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（</a:t>
            </a:r>
            <a:r>
              <a:rPr b="1" lang="en-US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d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仿宋_GB2312"/>
              </a:rPr>
              <a:t>ì</a:t>
            </a:r>
            <a:r>
              <a:rPr b="1" lang="en-US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)</a:t>
            </a:r>
            <a:r>
              <a:rPr b="1" lang="zh-CN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：真实的意义或道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1908000" y="573408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（</a:t>
            </a:r>
            <a:r>
              <a:rPr b="1" lang="en-US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cu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ǐ</a:t>
            </a:r>
            <a:r>
              <a:rPr b="1" lang="en-US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c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仿宋_GB2312"/>
              </a:rPr>
              <a:t>à</a:t>
            </a:r>
            <a:r>
              <a:rPr b="1" lang="en-US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n)</a:t>
            </a:r>
            <a:r>
              <a:rPr b="1" lang="zh-CN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：形容珠玉等光彩鲜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文本框 8197"/>
          <p:cNvSpPr/>
          <p:nvPr/>
        </p:nvSpPr>
        <p:spPr>
          <a:xfrm>
            <a:off x="1403280" y="645336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99cc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250920" y="500040"/>
            <a:ext cx="4572000" cy="56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镶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酷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海誓山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长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短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盛气凌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2268360" y="134136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xiào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）：酷似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987640" y="213372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男女相爱时所立的誓言和盟约，表示爱情要像山和海一样永恒不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3348000" y="5516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傲慢的气势逼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771640" y="393372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xū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）：因伤感、烦闷、痛苦等不住地唉声叹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1908000" y="45720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qiàn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）：把一物体嵌入别一物体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矩形 8"/>
          <p:cNvSpPr/>
          <p:nvPr/>
        </p:nvSpPr>
        <p:spPr>
          <a:xfrm>
            <a:off x="7451640" y="8762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304920" y="5562720"/>
            <a:ext cx="822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朗读课文，整体感知内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39640" y="40464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海浪唱出了怎样的歌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95280" y="1989000"/>
            <a:ext cx="554508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—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节：海岸的情人，唱出难舍难分的炽热恋歌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372960" y="3357720"/>
            <a:ext cx="571176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—7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节：人世间的守护神，唱出宽广博大的情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776240" y="4658760"/>
            <a:ext cx="4741920" cy="64260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诗中海浪的语义是怎样递进伸展的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9"/>
          <p:cNvSpPr/>
          <p:nvPr/>
        </p:nvSpPr>
        <p:spPr>
          <a:xfrm>
            <a:off x="7596360" y="5516640"/>
            <a:ext cx="1547640" cy="1341360"/>
          </a:xfrm>
          <a:custGeom>
            <a:avLst/>
            <a:gdLst>
              <a:gd name="textAreaLeft" fmla="*/ 86760 w 1547640"/>
              <a:gd name="textAreaRight" fmla="*/ 1460880 w 1547640"/>
              <a:gd name="textAreaTop" fmla="*/ 86760 h 1341360"/>
              <a:gd name="textAreaBottom" fmla="*/ 1254600 h 1341360"/>
            </a:gdLst>
            <a:ahLst/>
            <a:rect l="textAreaLeft" t="textAreaTop" r="textAreaRight" b="textAreaBottom"/>
            <a:pathLst>
              <a:path w="24921" h="21600">
                <a:moveTo>
                  <a:pt x="0" y="0"/>
                </a:moveTo>
                <a:lnTo>
                  <a:pt x="24921" y="0"/>
                </a:lnTo>
                <a:lnTo>
                  <a:pt x="24921" y="21600"/>
                </a:lnTo>
                <a:lnTo>
                  <a:pt x="0" y="21600"/>
                </a:lnTo>
                <a:close/>
              </a:path>
              <a:path fill="lightenLess" w="24921" h="21600">
                <a:moveTo>
                  <a:pt x="0" y="0"/>
                </a:moveTo>
                <a:lnTo>
                  <a:pt x="24921" y="0"/>
                </a:lnTo>
                <a:lnTo>
                  <a:pt x="23521" y="1400"/>
                </a:lnTo>
                <a:lnTo>
                  <a:pt x="1400" y="1400"/>
                </a:lnTo>
                <a:close/>
              </a:path>
              <a:path fill="darken" w="24921" h="21600">
                <a:moveTo>
                  <a:pt x="24921" y="0"/>
                </a:moveTo>
                <a:lnTo>
                  <a:pt x="24921" y="21600"/>
                </a:lnTo>
                <a:lnTo>
                  <a:pt x="23521" y="20200"/>
                </a:lnTo>
                <a:lnTo>
                  <a:pt x="23521" y="1400"/>
                </a:lnTo>
                <a:close/>
              </a:path>
              <a:path fill="darkenLess" w="24921" h="21600">
                <a:moveTo>
                  <a:pt x="24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1" y="20200"/>
                </a:lnTo>
                <a:close/>
              </a:path>
              <a:path fill="lighten" w="24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4921" h="21600">
                <a:moveTo>
                  <a:pt x="6934" y="3985"/>
                </a:moveTo>
                <a:lnTo>
                  <a:pt x="13931" y="3985"/>
                </a:lnTo>
                <a:lnTo>
                  <a:pt x="17987" y="7484"/>
                </a:lnTo>
                <a:lnTo>
                  <a:pt x="17987" y="17615"/>
                </a:lnTo>
                <a:lnTo>
                  <a:pt x="6934" y="17615"/>
                </a:lnTo>
                <a:close/>
              </a:path>
              <a:path fill="darken" w="24921" h="21600">
                <a:moveTo>
                  <a:pt x="13931" y="3985"/>
                </a:moveTo>
                <a:lnTo>
                  <a:pt x="17987" y="7484"/>
                </a:lnTo>
                <a:lnTo>
                  <a:pt x="13931" y="7484"/>
                </a:lnTo>
                <a:close/>
              </a:path>
            </a:pathLst>
          </a:custGeom>
          <a:solidFill>
            <a:srgbClr val="0099cc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赏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6"/>
          <p:cNvSpPr/>
          <p:nvPr/>
        </p:nvSpPr>
        <p:spPr>
          <a:xfrm>
            <a:off x="181080" y="439884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作者借“浪之歌”要表达什么意思和感情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179280" y="5551560"/>
            <a:ext cx="8596440" cy="642600"/>
          </a:xfrm>
          <a:prstGeom prst="rect">
            <a:avLst/>
          </a:prstGeom>
          <a:solidFill>
            <a:srgbClr val="0000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借海浪与海岸热恋的形象，曲折表达对祖国忠贞不渝的情感和火热的衷肠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34920" y="442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诗中是如何塑造海浪与海岸的热恋形象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108000" y="2438640"/>
            <a:ext cx="8424720" cy="532440"/>
          </a:xfrm>
          <a:prstGeom prst="rect">
            <a:avLst/>
          </a:prstGeom>
          <a:solidFill>
            <a:srgbClr val="0000cc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海浪对情侣海岸一往情深，爱的热烈，爱的深沉。黎明，她信誓旦旦地在情人耳畔许下忠诚的誓愿；傍晚，她又为爱情唱着祈祷的诗篇。潮涨时，她热情洋溢，紧紧与情人拥抱；潮退了，她难舍难分，依恋地扑倒在情侣的脚下。面对她这诚挚炽烈的情爱，海岸是异常感激的，他亲吻她，还容忍了她的“任性”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WordArt 12"/>
          <p:cNvSpPr txBox="1"/>
          <p:nvPr/>
        </p:nvSpPr>
        <p:spPr>
          <a:xfrm rot="5400000">
            <a:off x="7261200" y="2540160"/>
            <a:ext cx="3168720" cy="482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round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162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合 作 探 究</a:t>
            </a:r>
            <a:endParaRPr b="1" lang="en-US" sz="2400" spc="1" strike="noStrike">
              <a:ln w="19080">
                <a:solidFill>
                  <a:srgbClr val="99ccff"/>
                </a:solidFill>
                <a:round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62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2900880" y="542880"/>
            <a:ext cx="28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拟人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语言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动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7T02:51:4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9:29Z</dcterms:modified>
  <cp:revision>2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