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41E-C887-4EF3-8A96-77023B02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D68-6419-4930-ADFA-2265310B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FEB-603B-4CDC-ADEE-A24EA361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09A-F567-4A5B-961D-E6B8ABE7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067A-6559-4B2D-B6F4-D77B6A10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5140-4AC0-49D1-AEBE-1764A23A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1E40-57E7-45A7-8A93-6BDC5082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86F1-B124-49B7-A82D-7C56399E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19B5-E2F3-4753-A8AE-B28A9813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2951-81A0-422C-8E96-846D5FE8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54D9-378A-44FC-9E19-A089E7CF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8C3-A72E-494A-8683-3EE7ED0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182B-6B06-420B-970A-3CCC8DE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6322-455B-4ED3-AB26-7670F06D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85D2-F33F-4AB6-B3DA-0D783731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F2E4-48ED-43A9-A777-54E22610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5014-EA6A-4DD5-8483-03F84089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D105-088E-4B0D-BFD9-545EAF66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ECDC-0275-4281-B410-24978A0F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5C33-1B7D-4739-BB08-9F82594B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D6FC-18BB-4C32-946D-BB383262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1458-C4C3-4567-BBEC-85322EF2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6F1-0A25-4ED4-A55D-10F49922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4D27-3D97-4C07-809D-381BA6FB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919F-B40F-4188-98E9-32B637C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E53A-229F-499B-894F-A47C7B1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5911-ACE8-4A0F-A1AD-851B301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3D0E-0F08-4FED-9544-091CB59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F913-A7E5-423D-98D4-B529CFA9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C5810-81DE-43E3-9660-615A95F7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790-67D7-47D1-A59D-96D83F4B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EAC-7FDF-4D90-8E2F-59C33036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4E2-206A-467D-AC58-3C0E8B2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584-14EC-402A-8AAF-B7E20A16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DB5-CDD1-4C67-A385-E8213A2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DF5-53C7-494E-A709-2AA0CF6B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2235-5A27-4043-9BED-1FDDD3CDCB03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85C-DC93-42AC-ABFE-6EC47D2461A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FB28-180A-4977-A209-D9B9A08719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8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FAA-F12D-49B5-90F0-FF47BD67D544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F50D-9243-49CA-8B5F-DD4174EBFC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3CFD-A5AE-495E-B2B0-595F420BFC43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4967-A168-4E04-BD44-1E9ACB24051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最后一课语文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PPT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课件下载</a:t>
            </a:r>
            <a:br>
              <a:rPr sz="8000"/>
            </a:br>
            <a:r>
              <a:rPr b="0" lang="zh-CN" sz="8000" spc="-1" strike="noStrike">
                <a:solidFill>
                  <a:srgbClr val="ffcc66"/>
                </a:solidFill>
                <a:latin typeface="Times New Roman"/>
                <a:ea typeface="黑体"/>
              </a:rPr>
              <a:t>         </a:t>
            </a: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华文行楷"/>
              </a:rPr>
              <a:t>都  德（法）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A6B6-C59D-4773-A09E-25E42A8239CC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页脚占位符 2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F615-F06D-4B4C-B8E8-FAD0DB51473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WordArt 2"/>
          <p:cNvSpPr txBox="1"/>
          <p:nvPr/>
        </p:nvSpPr>
        <p:spPr>
          <a:xfrm>
            <a:off x="2590920" y="1905120"/>
            <a:ext cx="46479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DB01-CE3C-4920-B497-9486848D41DC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183D-0A6D-4908-83E3-DB5D375ED7C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学习目标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积累词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学习表现人物思想感情的手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BS00554_"/>
          <p:cNvPicPr/>
          <p:nvPr/>
        </p:nvPicPr>
        <p:blipFill>
          <a:blip r:embed="rId1"/>
          <a:stretch/>
        </p:blipFill>
        <p:spPr>
          <a:xfrm>
            <a:off x="6477120" y="4648320"/>
            <a:ext cx="2209680" cy="11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1AE0-799D-4908-B62B-002A3200B41A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CB9C-A864-480C-BE86-CEF9422E2D1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检查预习：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43430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、给下列词语注音并积累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惩罚          祈祷        哽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郝叟          诧异        踱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09480" y="17524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后一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作者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国作家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篇小说以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为背景，写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课文表现了法国人民面对侵略者的同仇敌忾的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精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914400" y="1600200"/>
            <a:ext cx="8001000" cy="4493520"/>
            <a:chOff x="914400" y="1600200"/>
            <a:chExt cx="8001000" cy="4493520"/>
          </a:xfrm>
        </p:grpSpPr>
        <p:sp>
          <p:nvSpPr>
            <p:cNvPr id="148" name="Text Box 7"/>
            <p:cNvSpPr/>
            <p:nvPr/>
          </p:nvSpPr>
          <p:spPr>
            <a:xfrm>
              <a:off x="5334120" y="16002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法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7696080" y="16002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都德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9"/>
            <p:cNvSpPr/>
            <p:nvPr/>
          </p:nvSpPr>
          <p:spPr>
            <a:xfrm>
              <a:off x="2819520" y="21337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普法战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7086600" y="22096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87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914400" y="32767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爱国主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1600200" y="4952880"/>
              <a:ext cx="2057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h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é</a:t>
              </a:r>
              <a:r>
                <a:rPr b="0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nɡ f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á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4495680" y="4952880"/>
              <a:ext cx="16765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q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í</a:t>
              </a: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 dǎ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010280" y="4952880"/>
              <a:ext cx="1905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ɡěnɡ y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1676520" y="5486400"/>
              <a:ext cx="1904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hǎo sǒ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419720" y="5562720"/>
              <a:ext cx="1523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ch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à</a:t>
              </a: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 y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ì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Text Box 18"/>
            <p:cNvSpPr/>
            <p:nvPr/>
          </p:nvSpPr>
          <p:spPr>
            <a:xfrm>
              <a:off x="7086600" y="5562720"/>
              <a:ext cx="16765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du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ó</a:t>
              </a: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 b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ù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Text Box 21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文本框 8199"/>
          <p:cNvSpPr/>
          <p:nvPr/>
        </p:nvSpPr>
        <p:spPr>
          <a:xfrm>
            <a:off x="755640" y="1341360"/>
            <a:ext cx="453708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0"/>
          <p:cNvSpPr/>
          <p:nvPr/>
        </p:nvSpPr>
        <p:spPr>
          <a:xfrm>
            <a:off x="5003640" y="4437000"/>
            <a:ext cx="66204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6789-0A22-42BB-B305-D14D2D6527AD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D7A8-1808-4893-81B6-434B99B0E07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22856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默读课文，标出有关描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韩麦尔先生的文段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1143000" y="4572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课文感知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BS00559_"/>
          <p:cNvPicPr/>
          <p:nvPr/>
        </p:nvPicPr>
        <p:blipFill>
          <a:blip r:embed="rId1"/>
          <a:stretch/>
        </p:blipFill>
        <p:spPr>
          <a:xfrm>
            <a:off x="3886200" y="4114800"/>
            <a:ext cx="4267080" cy="187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458D-3FD9-4E6E-A2FE-5BFBDB46F962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47E9-F6A3-49C6-B50A-5325B7E993F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030"/>
          <p:cNvSpPr/>
          <p:nvPr/>
        </p:nvSpPr>
        <p:spPr>
          <a:xfrm>
            <a:off x="685800" y="990720"/>
            <a:ext cx="78487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韩麦尔先生在最后一课上有哪些言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试从文中找出有关段落品读，并思考作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使用什么样的手法表现了他的思想感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032"/>
          <p:cNvSpPr/>
          <p:nvPr/>
        </p:nvSpPr>
        <p:spPr>
          <a:xfrm>
            <a:off x="1219320" y="3352680"/>
            <a:ext cx="71625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）韩麦尔先生的服饰是怎样的？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什么他在上最后一课时也穿戴呢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33"/>
          <p:cNvSpPr/>
          <p:nvPr/>
        </p:nvSpPr>
        <p:spPr>
          <a:xfrm>
            <a:off x="1219320" y="4876920"/>
            <a:ext cx="70102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韩麦尔先生是怎样赞美法语的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何理解韩麦尔先生的这句话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4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FD9A-9DD5-481C-8EDD-513DD3549D65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E727-1FFC-45AC-9D99-F2D39C8F0B5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5800" y="2286000"/>
            <a:ext cx="800100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小弗郎士在上学路上看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了什么， 他的思想感情是怎样的？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课堂上小弗郎士注意到了什么，他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情发生了怎样的变化，这一变化说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8" descr="BD00028_"/>
          <p:cNvPicPr/>
          <p:nvPr/>
        </p:nvPicPr>
        <p:blipFill>
          <a:blip r:embed="rId1"/>
          <a:stretch/>
        </p:blipFill>
        <p:spPr>
          <a:xfrm>
            <a:off x="914400" y="14479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5ED1-8A0A-4C81-95CB-EC74D695953E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327D-5FF9-4974-A0D5-60A37085603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拓展训练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以“下课以后”为题，以第一人称为小弗朗士写一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字左右的短文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提示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利用环境描写或心理描写表现人物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思想感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7" descr="BD04924_"/>
          <p:cNvPicPr/>
          <p:nvPr/>
        </p:nvPicPr>
        <p:blipFill>
          <a:blip r:embed="rId1"/>
          <a:stretch/>
        </p:blipFill>
        <p:spPr>
          <a:xfrm>
            <a:off x="457200" y="4038480"/>
            <a:ext cx="1143000" cy="112248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8199"/>
          <p:cNvSpPr/>
          <p:nvPr/>
        </p:nvSpPr>
        <p:spPr>
          <a:xfrm>
            <a:off x="755640" y="1341360"/>
            <a:ext cx="453708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D958-A6EE-43D5-8987-959D84767127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7DB0-2818-4EF7-9E8D-6EEB082D6E3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2057400" y="2057400"/>
            <a:ext cx="510552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课堂小结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219320" y="2895480"/>
            <a:ext cx="4419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04920" y="2209680"/>
            <a:ext cx="8839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A8F7-BE2C-4957-AF20-CDF4DA61508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58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28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