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717-10BB-4812-8212-3F6FCC8D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1AA-4044-464B-9E2C-86949545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49E-407B-4665-9476-F6DD163C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51A-8B6B-4CAB-8B1E-52EFB6EB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C326-9DD5-4935-8FAE-3B51CE25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68F-FEFD-46C8-8EAA-6F38D8E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6B1-C6C9-4D70-B729-A6EBD3B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CD53-7FED-4025-8057-13F723D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958-16DD-4186-857C-A55E69AC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FC9-9035-4CF5-AEA5-1860A25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171E-EF0D-4551-8CDB-0D3BB2D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296-6D52-49C0-AE1F-7ED3B57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CF3C-0442-47E8-B42C-1720F69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C8D-3DCA-48D0-8A2D-BE4FECB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0844-D070-4215-ABE1-4DDC60E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18D1-2D0F-49BE-8D3C-69C81378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FEB-575B-43C9-B164-EF1EDD92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6B3-3024-4A09-B028-26D2E53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26A-D066-40CD-AC54-0A1986E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35A-B56F-4988-B1D0-A93A9FB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069-2B00-46DF-8312-D8D0453C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B0A-2220-41CB-9690-5DF64199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5EC-85D0-4EC9-B33E-B7D1F7B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6E-42D1-4D8F-A7FB-36B0E51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9C84-EA55-4820-939F-E5CD12BA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C08-9A6D-4F90-BC35-A970CBC9C7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8,3,&#24187;&#28783;&#29255; 3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73,4,&#24187;&#28783;&#29255; 4" TargetMode="External"/><Relationship Id="rId2" Type="http://schemas.openxmlformats.org/officeDocument/2006/relationships/hyperlink" Target="275,10,&#24187;&#28783;&#29255; 10" TargetMode="External"/><Relationship Id="rId3" Type="http://schemas.openxmlformats.org/officeDocument/2006/relationships/hyperlink" Target="269,12,&#24187;&#28783;&#29255; 12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8,3,&#24187;&#28783;&#29255; 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2"/>
          <a:stretch/>
        </p:blipFill>
        <p:spPr>
          <a:xfrm>
            <a:off x="853920" y="228600"/>
            <a:ext cx="171936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895760" y="763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再见了亲人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808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你乘机钻进屋里，解开老王身上的绳索，救出了老王。你回到村里，焦急地等待妈妈。第二天传来噩耗，你妈妈拉响手榴弹跟敌人同归于尽了。同志们伤心的痛哭起来，你却把脚一跺，嘴角抽动着狠狠地说：“妈妈，这个仇我一定要报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80880" y="1371600"/>
            <a:ext cx="84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你乘机钻进屋里，解开老王身上的绳索，救出了老王。你回到村里，焦急地等待妈妈。第二天传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噩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你妈妈拉响手榴弹跟敌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归于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了。同志们伤心的痛哭起来，你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把脚一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嘴角抽动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狠狠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说：“妈妈，这个仇我一定要报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95280" y="4800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为了救侦察员，小金花失去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42160" y="6192720"/>
            <a:ext cx="100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9"/>
          <p:cNvSpPr/>
          <p:nvPr/>
        </p:nvSpPr>
        <p:spPr>
          <a:xfrm>
            <a:off x="914400" y="76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jwz2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4038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4632480" y="3679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00600" y="3808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是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195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的春天，金达莱花开满山野的时候，您知道我们缺少蔬菜，就挎着篮子上山挖野菜。后面山上的野菜挖光了，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跑到前沿阵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血泊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5105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了给志愿军挖野菜，大嫂失去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85800"/>
            <a:ext cx="815364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2590920"/>
            <a:ext cx="8321400" cy="106884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3352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533520"/>
            <a:ext cx="815364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2666880"/>
            <a:ext cx="8321400" cy="58140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0948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174040" y="198108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您 说，这比山还高，比海还深的的情谊，我们不能忘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34628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是今天，跟志愿军叔叔分别的今天，你不应该落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720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您为我们付出了这样高的代价，足以表达您对中国人民的友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1018_155-0"/>
          <p:cNvPicPr/>
          <p:nvPr/>
        </p:nvPicPr>
        <p:blipFill>
          <a:blip r:embed="rId1"/>
          <a:stretch/>
        </p:blipFill>
        <p:spPr>
          <a:xfrm>
            <a:off x="380880" y="3049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6737760" y="3124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图为志愿军战士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战火中救出朝鲜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大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1018_163-0"/>
          <p:cNvPicPr/>
          <p:nvPr/>
        </p:nvPicPr>
        <p:blipFill>
          <a:blip r:embed="rId1"/>
          <a:stretch/>
        </p:blipFill>
        <p:spPr>
          <a:xfrm>
            <a:off x="762120" y="457200"/>
            <a:ext cx="5548320" cy="5562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948000" y="335268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志愿军帮助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鲜人民修水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重建家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舍身堵枪眼的战斗英雄黄继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u=2247571777,1095470324&amp;gp=48"/>
          <p:cNvPicPr/>
          <p:nvPr/>
        </p:nvPicPr>
        <p:blipFill>
          <a:blip r:embed="rId1"/>
          <a:stretch/>
        </p:blipFill>
        <p:spPr>
          <a:xfrm>
            <a:off x="380880" y="380880"/>
            <a:ext cx="28958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"/>
          <p:cNvPicPr/>
          <p:nvPr/>
        </p:nvPicPr>
        <p:blipFill>
          <a:blip r:embed="rId2"/>
          <a:stretch/>
        </p:blipFill>
        <p:spPr>
          <a:xfrm>
            <a:off x="358128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352680" y="32767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烈火中纹丝不动的战斗英雄邱少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u=1759503450,3944356674&amp;gp=-2"/>
          <p:cNvPicPr/>
          <p:nvPr/>
        </p:nvPicPr>
        <p:blipFill>
          <a:blip r:embed="rId3"/>
          <a:stretch/>
        </p:blipFill>
        <p:spPr>
          <a:xfrm>
            <a:off x="6477120" y="457200"/>
            <a:ext cx="213336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63244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抢救朝鲜落水儿童而牺牲的罗盛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380400" y="4724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青山处处埋忠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85800" y="167652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在朝鲜战场上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为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浴血奋战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为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也付出了很高的代价。两国人民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凝成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的情谊，因此两国人民不是胜似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2"/>
          <p:cNvPicPr/>
          <p:nvPr/>
        </p:nvPicPr>
        <p:blipFill>
          <a:blip r:embed="rId1"/>
          <a:stretch/>
        </p:blipFill>
        <p:spPr>
          <a:xfrm>
            <a:off x="533520" y="457200"/>
            <a:ext cx="4011480" cy="3962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3"/>
          <p:cNvPicPr/>
          <p:nvPr/>
        </p:nvPicPr>
        <p:blipFill>
          <a:blip r:embed="rId2"/>
          <a:stretch/>
        </p:blipFill>
        <p:spPr>
          <a:xfrm>
            <a:off x="4724280" y="457200"/>
            <a:ext cx="396576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600200" y="4952880"/>
            <a:ext cx="6629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是亲人，胜似亲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514600" y="1905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762120"/>
            <a:ext cx="815328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2590920"/>
            <a:ext cx="8321400" cy="106884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352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09480" y="121932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再见了，亲爱的土地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我们的心永远跟你们在一起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5D6-CEDD-41F2-AA39-F8AB237DF5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752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背诵自己喜欢的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推荐阅读：魏巍的作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依依惜别的深情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谁是最可爱的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33520" y="762120"/>
            <a:ext cx="8153280" cy="113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比山还高，比海还深的的情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590920"/>
            <a:ext cx="8321400" cy="113472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你怎么就落泪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648320"/>
            <a:ext cx="8245440" cy="113472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这样高的代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04920" y="5335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多少心血，给了我们多少慈母般的温暖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顶着打 糕，冒着炮火，穿过硝烟，送到阵地上给我们吃。这真是雪中送炭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敌机来了，您丢下自己的小孙孙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您为我们失去了唯一的亲人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38080" y="190512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多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血，给了我们多少慈母般的温暖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5040" y="12193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着打 糕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冒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着炮火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穿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过硝烟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到阵地上给我们吃。这真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中送炭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80880" y="38088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多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心血，给了我们多少慈母般的温暖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着打 糕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冒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着炮火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过硝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到阵地上给我们吃。这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雪中送炭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敌机来了，您丢下自己的小孙孙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464560" y="5486400"/>
            <a:ext cx="26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您为我们失去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的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1143000" y="990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1018_159-0"/>
          <p:cNvPicPr/>
          <p:nvPr/>
        </p:nvPicPr>
        <p:blipFill>
          <a:blip r:embed="rId1"/>
          <a:stretch/>
        </p:blipFill>
        <p:spPr>
          <a:xfrm>
            <a:off x="380880" y="685800"/>
            <a:ext cx="8763120" cy="49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137840" y="5791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鲜阿妈妮象对待亲生儿子一样照顾志愿军伤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018_158-0"/>
          <p:cNvPicPr/>
          <p:nvPr/>
        </p:nvPicPr>
        <p:blipFill>
          <a:blip r:embed="rId1"/>
          <a:stretch/>
        </p:blipFill>
        <p:spPr>
          <a:xfrm>
            <a:off x="457200" y="304920"/>
            <a:ext cx="7162920" cy="4744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593640" y="518148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鲜人民全力支援志愿军，他们组成运输队、担架队奔赴战场。这是在上甘岭战役中，朝鲜人民昼夜不停地将弹药送往前线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496280" y="61722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7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1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