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2.jpeg" ContentType="image/jpeg"/>
  <Override PartName="/ppt/media/image5.jpeg" ContentType="image/jpeg"/>
  <Override PartName="/ppt/media/image6.jpeg" ContentType="image/jpe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716F5-94DD-401B-9F9C-BE2F056B2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7"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AD2C3-A98C-4CEC-8C34-15C6B6A56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38"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7A692B-2CE1-4F9D-B73D-0D2F0CF904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41FE4D-B3BA-4F5D-9A40-1C3FBF69B3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976C35-9579-4F53-B375-E6BAF2A976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4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95B93F-83E9-44F2-90BA-0747A232E6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47"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923ACC-51EF-4EF8-AF18-B895097385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5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9801B4-F3FC-497B-A358-2DA5B2394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55"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81A31A-F261-4210-9E41-9B11438A37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5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87470A-FB16-415B-A8BA-7F3F5B0124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63"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5EA97B-47E3-42E7-B8BD-5F8A2F517F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380B15-5635-4D88-8C4A-66593B0EA9F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6932E-644B-473C-922D-CE972E7FD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75"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405C67-67BE-4DE1-A11E-1C28C07E89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77"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ACD1BC-253C-49A9-A217-37699D50B0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79"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FC7EC2-13C9-43E2-BA2E-3D1EF184F9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B1EB24-5B6A-419E-B6A8-A5A9A481A6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27D353-BB66-4BE2-9411-62047C267A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8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9B32F8-032B-489B-AF17-478037A355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88"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7FD728-0717-440A-9BEA-4C9E37C52C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9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789CC7-E762-404E-9FCD-8D93379021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96"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D4E0E2-E56E-4AE7-A821-BF628DDA45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9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7753F9-2307-45D7-8C1F-3BEEE47366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5"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F4C70-8D97-47D1-80DC-ADC3F6280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04"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69DF03-EDC3-41BC-93FB-01FA03B0A9C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F7D9348-81E8-400E-B665-B02BB6A45F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16"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1DFD2B-1160-493A-B2F0-848DC96D52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18"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9C5526-8FDA-4F42-921F-5F621EED20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2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0DF689-6B1E-45EF-A568-669D61EFB3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EBC90D-6E11-4D94-89E5-E1AF9DEBE3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0C2139-F48A-4CF0-BC19-33AC66381F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2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F46FEB-971F-489D-8E88-1B07678327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29"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AD25B5-A21C-49F7-90ED-94D79190E1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3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AAFD77-C853-4E46-AEE8-CDFB67B0A5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FDC3C-21B4-497E-BE3A-FBE0A633A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37"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5BA89C-BBB6-4DDE-A41C-E4E311CB97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4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1FA7D7-250D-4DC0-A7B8-BD9B706189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45"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15D6AD-61E4-4E73-BF29-15D4ED796B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ED1AAC-17FF-4311-ABF2-6764FEAB88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57"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BDF8DF-EB88-4F83-AC3F-DBAE4B9718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59"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CFC8E4-E123-45FE-95FA-8CD24D70E2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6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B8159D-FE8C-4E15-A910-507232B51A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609096-3E3C-4BDA-B943-13178335DF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0B98C9-9084-48F6-AD9D-1044CB7723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6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9C6EED-5B52-4CFB-9281-A48C190891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7"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64D03-5257-4681-B974-EFAB6B9EC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7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F62245-C525-4B54-9C89-016BF97F56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7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AAB3AA-1680-4388-8361-BCE0BC62B4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78"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04DF11-6071-4F79-BAD6-E7E3C3B4A6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8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38BB8C-48D9-4032-BC6B-7A974D2473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86"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45E907-271B-46C9-9E02-DF2415BDC5C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F610CB2-7E60-4069-84A6-4041CB7B740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98"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E8F213-AB4B-4931-85EA-0B5FCF9BEF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00"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FBFC85-B33D-45AE-B019-DA701CA590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0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7EA059-C956-44BC-B49A-87D3A5E1A0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EA2918-D211-46B0-8B28-6520424451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49"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4DAA8-2FA9-4103-9822-F3081D11F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85AC13-A2A5-4076-8DD9-6780FFE1AB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0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464153-0D59-43F9-91BE-292905E099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1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65D4E2-FE4C-4875-8D12-D09240B88B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1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512983-81F9-42EF-BE7D-501658CC0B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19"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1B0EE7-1298-49AE-B984-A739E2CE89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2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9E06EB7-4064-4D3A-8054-69B8698BBF1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27"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78BD6C6-0D4E-402B-9036-C675492A4F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7DDB929-79E5-4387-AC36-93598330571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39"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4C9BDF-F364-46CA-902A-5DFD5EF8757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41"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5B09D4-2345-453B-94D9-82F46BDE66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5E1ED-C143-46B8-8277-6D00CA1CD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4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58877F8-52AD-4F61-8941-D6054093B7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900320-C1BA-4588-A895-889B9E27A7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3E750F-EC2E-4854-A6F8-E89D538B59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4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D8116D-16A1-423C-A5EA-8BF758D14B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5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F4BC4D-3519-4AC6-8963-47184B750C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5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06B176-6FDB-47B0-9224-A581D32A30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60"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AA352B-C248-4742-8CE9-F76B9B8B632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6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9DE4854-D8DC-4C46-8AEA-53C1A46213D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68"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FD47287-3461-4D7D-883A-318C2F40A1A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DEC3C64-ADCC-4C03-BBFA-3A96226EBE0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40ABE-46CB-4A07-AB41-4CDDEE795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80"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B246B56-9876-4F2B-BADD-2193691A4E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82"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73BC6E2-78F1-43EB-B75D-9B2DEC05714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8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C09264-1AD5-4DAB-9421-BB61BA827FF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9408C5A-0083-426F-BFF5-0DB91BDD4CB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9245903-1A77-4E71-97B5-E23220760E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8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6778FB-24C1-4FA9-AE28-313391223D6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9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BFCBFFC-A4B2-4082-B468-4CA9E5AA60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9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07A8C32-C6E5-4B04-970B-38B1B95334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01"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0C6CC50-3F1B-46F4-AE12-5C9BE41371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0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4F2ED43-CECA-455F-A261-3328BC82A90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88C11-0749-42AF-9D78-CB54CBBB7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09"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DE19844-F3C4-4762-BC4E-69072469715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664A399-8895-47BA-8AB9-E9BA14674BB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21"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A476718-478E-46DF-8C89-541FD0158E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23"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0544B96-9B56-4F0F-A119-45C6C733BAB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2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54F51D-B2C7-4F24-B5BD-5F3198641F4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8F13EEF-1795-45B5-B209-E9D6322584B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AC85129-0E93-41AB-BB58-A46B37148DC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3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23F7694-A683-4F4D-BB0A-BD619BA2B9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3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B80AFD-B39C-4E8D-B162-9BCE3D7ADB8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3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029CF0-73B4-4714-AECD-AA0A558D90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5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7E82D-B860-4630-81C2-2293E6B61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42"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F6537D8-2E4C-4AB9-9460-4E5448149CC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4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DDD7B1C-4CC9-4942-9A6A-636DB4D0E79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50"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209208-60D7-460F-B006-C9333F162E9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7D0C20E-2461-40EE-9097-949C9F839B6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62"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E74CC7E-06C2-446F-BDDC-A75964C4BC8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64"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3F13FDE-011B-4229-A7F8-C3BC88C9A30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66"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06D2FB0-494C-4F4A-881A-0F5A146DFBF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F283849-5D77-4E3F-ABE4-65D924D06E6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3E4E107-C5AD-4D26-8895-DE6DB82A89A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7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C03A49-CE28-4110-A940-C210DDB6DF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9EDD8-B41B-475F-BF7D-72E3A3F42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DABBF-0B68-4104-B3D9-E57F2F6F7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7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B566CD-5719-4313-A6BD-A084BB808B9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7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FADC9C-28E4-4F42-B37D-52EBC02BA5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83"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8561A9F-E84E-4EDD-9E23-BD690E85F0E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8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554B41C-21A0-4522-BAA0-2AD84E9E3ED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91"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15A2609-AD42-4780-8B96-23ED51433B1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0FFDD4C-36F0-451D-A089-DAF5D719100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03"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A64CDBF-8732-4CBE-8672-63E6F823326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05"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EDCECD4-139D-40CC-898B-30C07828CF6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07"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473FE3A-AAFB-4F7B-9480-DBDDF2D5AB9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DBC5F2F-B99C-4E2A-9A6A-701C2354100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FE592-4968-4B35-834B-EC93E3CDB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50BB408-72C2-4CC4-AB86-B8318F2B856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1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5174DE6-0738-4231-9BC5-BE53630446A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16"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D620FE-F050-4B4A-A475-3413B055C37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2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2A06DA5-0729-45EA-9F27-4E559F409BE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24"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81ABAA8-6FBB-4278-B071-98913A32752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2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817E777-EEE0-4AEB-8BFE-1360EB37886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32"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71A85F2-32C1-4602-8626-24E9F5BC5B7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627D130-EE9B-4CA6-9E59-306EDD75EB7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44"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356550B-A7CE-46E1-AB92-605C5FAD719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46"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820A904-5110-4BD1-A906-5914EBF500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68"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20612-C177-4FFC-B8DB-BFFA1CFC4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48"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29F7525-F77D-442E-9FEB-DA0C7F61B8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7D1E741-C1CC-4D96-BF57-61FDC651F37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C06EFD7-F0BE-4F6D-A3D7-4A117DCD44A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5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60FFFF3-68DC-4C4D-8D20-3183F65493D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57"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4BA6391-1D12-49D2-9932-280821BABD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6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CE1C6EE-FF22-4B59-9BA3-9BBC2AC6676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65"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1C4C0DB-4087-484E-88A6-64ED2CA519E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6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19AE931-3F30-440F-8105-35DD357F5EC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73"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E459BA8-4E52-4B93-9BBF-6C45C0CCBA5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27E952A-8CC9-4DB6-8AD2-088F815F400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4FC27-B671-4D39-A7E5-D474450DC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85"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CB83378-A1E7-4DE7-A943-6D4F2EEE91D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87"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F833D98-D271-46BE-995E-FD9D1A993E7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89"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9FE60A0-7944-40B9-AFA1-27A9E913F86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B83661C-0030-4D85-A8B6-DFD017921A3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B7FFDE3-4117-47E7-AF72-4F89D1B2970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9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001661F-8F06-4B75-9EB7-68F9946E3DF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98"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446E117-CB4B-4BE5-AD11-D41E01440D0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0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D040372-1650-4452-B89C-29F255EEC05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06"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964F016-3E9D-499B-B884-90D33EC59CF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0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5E042F6-8E92-443A-89AD-E74C517CB03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76"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E3655-9959-4570-A258-1A33FC860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14"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50B8499-14CB-4075-BD98-220DDDE57AE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A138EC7-4117-46C5-9DE2-F599A479134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26"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197B872-9FAC-4245-8AAB-DC9453F06FE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28"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BA6EB24-3A24-447E-BC06-909F607B172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3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2A37AB0-2786-4DB5-8FB5-BF98537E531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2E73F7F-CAC2-403A-8C4A-53D8FD059C7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AE9760E-5535-470E-8A2D-A2A56192A25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3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47F9F90-58E0-4557-B6A9-E3BA7E8BF99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39"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30CB4A-D18F-4C6A-B772-B210C3222E8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4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9760A88-6808-46BD-A62E-6934C116DE4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2613C9-802B-4B2F-A805-EAAB2BBED9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47"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782A90B-41E2-430B-AACA-24339BDE564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5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676DEAB-A0F9-4419-BD1E-4F74EE3E2B6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55"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9F65C5F-452A-4DAC-A25B-B0FC00282CE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074D1D4-21D8-4BDA-8AAE-9D8C912A23B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67"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EB83B99-AB7B-4F34-BA07-FB4BAF69285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69"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4EBC213-A10F-4294-A104-555DB196432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7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957CC47-079E-4330-A731-C2B8CB8E16B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496EADB-BC3A-43F6-B628-CEA69187544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4FA9BE-B261-42F8-A245-E0D6C469E0A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7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53FB508-CFDB-4875-BA56-0541153A17B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8"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A3108-544F-4D88-9865-CE4BE6F023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8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6448E5E-27E7-4F9A-A590-1D3691FE963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8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DC54FA7-7069-4DD0-AC9D-25E90CC8967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88"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CA09001-9557-436B-BC1E-FC71EA5AB09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9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FF9376C-5CD7-4BA8-9A77-A8A122C2970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96"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4198AB4-E054-4F14-8682-50C6330938C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9337BE7-E559-4188-96C8-87E419938A1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08"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2146961-B9A3-4B0D-A810-9805ADD8040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10"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2E1BAC0-C474-492F-A76D-66A6EAC788B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1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F7AAE72-AD3A-4A17-9177-FDF91C15B41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45F0FA9-C6B1-4BD4-8FB1-E75403CA6B6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0"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41BF8-AA9D-442C-BC45-B36F8342E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0C3DCAD-DAF9-41CF-A15B-532231C0623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1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AD4F916-12A8-4AC3-A009-B572FF5DAA7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2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4B49AD1-6F79-4761-900C-07068885593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2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22FEFD6-8D85-4376-B29B-F540DD2B6D8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29"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A35C07E-A6E6-409D-9032-5A0F5E64A9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3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94ACD4C-1483-4645-BA90-3C00C3C6BE8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37"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29979AF-022C-41DD-8E5B-BD9E1214EDB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2"/>
          </p:nvPr>
        </p:nvSpPr>
        <p:spPr/>
        <p:txBody>
          <a:bodyPr/>
          <a:p>
            <a:fld id="{0FB610CD-074C-4EEF-B9C3-BE55D1F2741D}"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49"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2"/>
          </p:nvPr>
        </p:nvSpPr>
        <p:spPr/>
        <p:txBody>
          <a:bodyPr/>
          <a:p>
            <a:fld id="{1C5A4DCB-262E-4DB4-B5FA-B2B226EB14D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51"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2"/>
          </p:nvPr>
        </p:nvSpPr>
        <p:spPr/>
        <p:txBody>
          <a:bodyPr/>
          <a:p>
            <a:fld id="{EA1A2DA1-07C6-466B-B9D5-FD25969DD56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090A41-A637-432B-A972-6CD4B1123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5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2"/>
          </p:nvPr>
        </p:nvSpPr>
        <p:spPr/>
        <p:txBody>
          <a:bodyPr/>
          <a:p>
            <a:fld id="{C4560FBE-14B3-48C1-969A-152085418BF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2"/>
          </p:nvPr>
        </p:nvSpPr>
        <p:spPr/>
        <p:txBody>
          <a:bodyPr/>
          <a:p>
            <a:fld id="{728A17C3-EB05-4C86-9907-6B73799857D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2"/>
          </p:nvPr>
        </p:nvSpPr>
        <p:spPr/>
        <p:txBody>
          <a:bodyPr/>
          <a:p>
            <a:fld id="{2D315D71-AA7E-4DA6-AC0C-A86ADD25BCA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5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2"/>
          </p:nvPr>
        </p:nvSpPr>
        <p:spPr/>
        <p:txBody>
          <a:bodyPr/>
          <a:p>
            <a:fld id="{C253FA52-FE40-4FCE-907D-A2C06A7431B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6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2"/>
          </p:nvPr>
        </p:nvSpPr>
        <p:spPr/>
        <p:txBody>
          <a:bodyPr/>
          <a:p>
            <a:fld id="{657A6B06-BEC9-42D6-88A0-5481A1D5AEA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6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2"/>
          </p:nvPr>
        </p:nvSpPr>
        <p:spPr/>
        <p:txBody>
          <a:bodyPr/>
          <a:p>
            <a:fld id="{2A102318-88B8-4A62-8157-CA6AF3D0E46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70"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2"/>
          </p:nvPr>
        </p:nvSpPr>
        <p:spPr/>
        <p:txBody>
          <a:bodyPr/>
          <a:p>
            <a:fld id="{0CF974F5-D3FB-42D2-94AA-784C08B2C45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7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2"/>
          </p:nvPr>
        </p:nvSpPr>
        <p:spPr/>
        <p:txBody>
          <a:bodyPr/>
          <a:p>
            <a:fld id="{922CBCB9-B58E-40F9-A0CF-6DF1F1A21691}"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78"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2"/>
          </p:nvPr>
        </p:nvSpPr>
        <p:spPr/>
        <p:txBody>
          <a:bodyPr/>
          <a:p>
            <a:fld id="{814A50E1-F32B-438F-87F8-B867F1543CD1}"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A65BA19-9E7B-407B-87DE-7A243400E22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47A02-A63B-4BCB-B88B-DA9F654F8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90"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F70BE7E-7640-4D66-BC0C-BA5315DBED8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92"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2519FCF-7983-4788-94F8-ACB8BFA5210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9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0608B68-0802-4FD8-8672-B1654C9E729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4CE3A65-4AEE-4659-940D-9D16F11923B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8BA45C8-A0A5-4D16-A28F-6AE34D500A3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9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8973603-506B-40E4-8637-F62884F28A0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0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E5F49FC-7F33-4AD8-898D-CF52F4398D2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0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C514F2B-B15A-45F2-BF36-96C1EC9D1C0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11"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58E1FD9-3E3E-471A-A42D-96E9E8375BD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1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AEE634D-E848-470E-88D7-9CB199D0526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8"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0C4AE-64AA-4AE9-B0D3-C76E57F0E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FAB4B2-041F-45E2-A3FF-A237A03BB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19"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980A412-A711-4EC6-9DBD-1E51D6756A5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3B37BC7-3682-4F3B-A7E7-2472C02ED27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31"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1BCCEDD-A51C-4FD6-9C0F-E14DAB01E73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33"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915C53A-E1EF-4F2E-A78D-E6A4CC455BF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3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8C80981-DC81-420A-A669-7DD263A6F05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96FD9F5-F91F-4013-BA10-6A1750B7D21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95B4671-0988-49F6-9F26-CCE09930CB1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4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D03B795-5F16-43A6-8ED2-0A5ADAB2DF8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4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A289C92-AEF0-4ACB-A5D8-61052DBEAB1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4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BAAB5FB-4C52-42C6-BE32-1377813A139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9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7B199-6798-425A-9DEF-E072EDD18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52"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61111A1-A784-4861-8F8F-6B11670BBF1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5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1F6C3A3-F351-4CF0-BD2A-0A436E25807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60"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CF6176A-C2BE-44C4-9408-85B607F6194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D8A0EC2-FA98-45C2-A149-2D0332CB4FB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72"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3C1A7FB-9B8C-477E-B394-18C2F325FA0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74"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5D270C0-2524-4F9C-91BC-0AD1C5404FF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76"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FC952EB-1DF5-4537-B285-5CE58FE825F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6FE7FE2-ABB0-4689-B8D6-8874C6F535C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F122723-7F5F-481A-891C-3DC9259B97F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8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09BDEE4-A2C6-4BA6-8829-04428087388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1"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ACF5A-44D6-40C8-8BF3-B3C3578F3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8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CC56DF2-4CD8-47BB-A0B0-06102C3EE49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8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6DBA644-32A9-4826-B606-FBFC6AF6A49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93"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2EFD488-3F00-4A6E-9A13-9DB67DD9937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9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5E97067-31FB-4E61-9450-5777E1DFD36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101"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045CE70-3F98-4589-A971-7BC495A85F5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8B067-702A-4261-92D7-16F672F8E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9"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D47E71-3945-4E68-87BC-9F039A863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1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3862F3-DE5F-44C8-B2A0-E3D29191F1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17"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19F596-6C15-48CB-8976-38ACAEC76C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9BACAA-56C8-4661-94A3-9775A685DC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29"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277F17-0C77-47C9-BD8A-23F593DC8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31"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7F4C0D-2914-46B3-98D9-5C21A7463F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0"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91DB-345A-4E25-9470-19F49E2D0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3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3882F-7D3D-477C-86C9-001B9EC211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426FD6-7DE8-49E5-89DB-1C374BE18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1606EE-DE77-4B51-B672-3D3E1528C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3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16CF05-9435-4084-9B66-158F8F2C6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42"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717F6-8DF8-4B44-88C2-1286F3638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4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5BF21-8BA5-4DCE-86D7-074310AE2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50"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DF4915-0AAB-4007-A5AD-42E6E845A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5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5BF404-3DC5-4710-AA7C-23D00A600D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58"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3660CE-DFC5-4436-A114-06AF9678D4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BEB181-A90F-42AC-9232-DD3A8AAB49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F2BD4-BF19-4A1F-9198-3091BDFF5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70"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B31E93-CD3D-44E5-BBD0-9FE2B1394D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72"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39994C-6A8C-4C63-A87F-0E43BB36F0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7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90DFAF-051F-4B38-8F37-A6F2E9B0FF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9B373E-85D1-4A32-B809-831C17E12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91B94D-9D27-42B8-BCAB-3382DA714B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7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59E619-4A0A-4522-B316-EC1C22C62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83"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A0F86-98FD-4236-B24B-4E7C76B45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8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B9F1DD-A77A-4E32-BA21-7E128D4F7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91"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024EA8-AFED-48DE-AAA0-DAC7FC0D70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94"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09F900-9A7A-43BE-9E04-94BEBF0798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1CDA2-E824-49BA-932C-0E4C43911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99"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BC3D08-D702-4EAE-8588-1FCA879689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5E20EF-7614-464A-9EBC-CF951E8A35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11"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22F12F-33E7-4F79-890B-1080BBABD7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13"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7E89E3-7B44-4D5A-8459-E8F09CC37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1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7DC4BE-FD75-41BC-B57E-3FE72F57BC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872802-B994-469B-B80B-7CC12AF2D3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4BAC43-E270-4884-A0C6-38048453A1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2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913B9-3F4B-456A-9C7E-D5EF3BDFE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24"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46BFFB-92C5-4962-AF60-DE59577C07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28"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CD90B3-7C5D-4170-B5D5-EE8AF9136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B78B8-659D-4C7A-A5C5-35AD6F2BE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32"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2D3CC1-B81D-416A-BB5D-4B38E05945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35"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CF160A-1AC1-4663-A236-C9C0D7EE91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40"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7F3174-C6DA-4E9A-B630-9BC85A87BB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61F937-40CD-46BA-A372-F39645963C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52"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1645BF-8B7D-4B50-9A7B-37350A8BBA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54"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6F321C-A4BA-4F75-B3DC-A6DBDFBC9F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56"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E09199-7D75-4434-B91C-02C15B094B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72B425-BE0A-4CC6-82B3-F9D604B7CB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CDD354-6B5D-408C-B2AD-1805F7C2A3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61"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BF751-89FF-4015-88CE-B2BA4A9213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19"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765A-1E63-473F-B09A-103EEEF13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65"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2325DB-8738-45B5-B04B-46F69A3DC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69"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2BD09-8650-40CC-871E-80C06A503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73"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B2784E-5268-4458-909A-285253ED73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76"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F76BA5-6DC9-429D-88C7-34117BA8F4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81"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ED1751-4CB6-428B-AC80-F8C76A11E9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D06DBD-CA9E-4199-84C4-4A8C6F6704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93"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CABF0F-38EB-411F-A87D-743E986097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95"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68996B-FDE8-4331-8F37-E9FC2A9C79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97"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7095DF-4E24-4B16-9401-496604C8EE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13FD12-75D1-4487-BABB-618342F9CA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23"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0451F-B6E7-4611-8233-9DA6C5F3C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5760"/>
            <a:ext cx="8229600" cy="4608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81DADE-719D-48F6-968A-49AC229C73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02"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3"/>
          <p:cNvSpPr>
            <a:spLocks noGrp="1"/>
          </p:cNvSpPr>
          <p:nvPr>
            <p:ph/>
          </p:nvPr>
        </p:nvSpPr>
        <p:spPr>
          <a:xfrm>
            <a:off x="467424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5E6FB-CFBB-49FA-A40A-16ACA27CA2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06" name="PlaceHolder 2"/>
          <p:cNvSpPr>
            <a:spLocks noGrp="1"/>
          </p:cNvSpPr>
          <p:nvPr>
            <p:ph/>
          </p:nvPr>
        </p:nvSpPr>
        <p:spPr>
          <a:xfrm>
            <a:off x="457200" y="1412640"/>
            <a:ext cx="40158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4"/>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37B4A7-80B5-4FB3-BA37-EDA141D63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10"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4"/>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68A592-A63A-4A44-A32B-AAF3BF84AA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14" name="PlaceHolder 2"/>
          <p:cNvSpPr>
            <a:spLocks noGrp="1"/>
          </p:cNvSpPr>
          <p:nvPr>
            <p:ph/>
          </p:nvPr>
        </p:nvSpPr>
        <p:spPr>
          <a:xfrm>
            <a:off x="457200" y="141264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57200" y="3875760"/>
            <a:ext cx="822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77FE85-B39D-44B1-8404-ACEC57399C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17" name="PlaceHolder 2"/>
          <p:cNvSpPr>
            <a:spLocks noGrp="1"/>
          </p:cNvSpPr>
          <p:nvPr>
            <p:ph/>
          </p:nvPr>
        </p:nvSpPr>
        <p:spPr>
          <a:xfrm>
            <a:off x="45720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p:nvPr>
        </p:nvSpPr>
        <p:spPr>
          <a:xfrm>
            <a:off x="4674240" y="141264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4"/>
          <p:cNvSpPr>
            <a:spLocks noGrp="1"/>
          </p:cNvSpPr>
          <p:nvPr>
            <p:ph/>
          </p:nvPr>
        </p:nvSpPr>
        <p:spPr>
          <a:xfrm>
            <a:off x="45720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5"/>
          <p:cNvSpPr>
            <a:spLocks noGrp="1"/>
          </p:cNvSpPr>
          <p:nvPr>
            <p:ph/>
          </p:nvPr>
        </p:nvSpPr>
        <p:spPr>
          <a:xfrm>
            <a:off x="4674240" y="3875760"/>
            <a:ext cx="40158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28DB80-F5B5-473A-9AC8-D6374F4AFD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22" name="PlaceHolder 2"/>
          <p:cNvSpPr>
            <a:spLocks noGrp="1"/>
          </p:cNvSpPr>
          <p:nvPr>
            <p:ph/>
          </p:nvPr>
        </p:nvSpPr>
        <p:spPr>
          <a:xfrm>
            <a:off x="45720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323964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p:nvPr>
        </p:nvSpPr>
        <p:spPr>
          <a:xfrm>
            <a:off x="6022080" y="141264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5"/>
          <p:cNvSpPr>
            <a:spLocks noGrp="1"/>
          </p:cNvSpPr>
          <p:nvPr>
            <p:ph/>
          </p:nvPr>
        </p:nvSpPr>
        <p:spPr>
          <a:xfrm>
            <a:off x="45720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6"/>
          <p:cNvSpPr>
            <a:spLocks noGrp="1"/>
          </p:cNvSpPr>
          <p:nvPr>
            <p:ph/>
          </p:nvPr>
        </p:nvSpPr>
        <p:spPr>
          <a:xfrm>
            <a:off x="323964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7"/>
          <p:cNvSpPr>
            <a:spLocks noGrp="1"/>
          </p:cNvSpPr>
          <p:nvPr>
            <p:ph/>
          </p:nvPr>
        </p:nvSpPr>
        <p:spPr>
          <a:xfrm>
            <a:off x="6022080" y="3875760"/>
            <a:ext cx="264960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58CB8C-CA7F-460A-BAE9-FA7513F087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18BAD1-D16D-49E9-86FF-0FE4895B58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34" name="PlaceHolder 2"/>
          <p:cNvSpPr>
            <a:spLocks noGrp="1"/>
          </p:cNvSpPr>
          <p:nvPr>
            <p:ph type="subTitle"/>
          </p:nvPr>
        </p:nvSpPr>
        <p:spPr>
          <a:xfrm>
            <a:off x="457200" y="1412640"/>
            <a:ext cx="8229600" cy="4714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31547E-9F1A-4367-B8EF-5F3D521FB6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654d"/>
              </a:solidFill>
              <a:latin typeface="Times New Roman"/>
            </a:endParaRPr>
          </a:p>
        </p:txBody>
      </p:sp>
      <p:sp>
        <p:nvSpPr>
          <p:cNvPr id="336" name="PlaceHolder 2"/>
          <p:cNvSpPr>
            <a:spLocks noGrp="1"/>
          </p:cNvSpPr>
          <p:nvPr>
            <p:ph/>
          </p:nvPr>
        </p:nvSpPr>
        <p:spPr>
          <a:xfrm>
            <a:off x="457200" y="1412640"/>
            <a:ext cx="822960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A89163-24FF-47ED-BCEC-420E40E844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0.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4.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5.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6.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1"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2" name="PlaceHolder 3"/>
          <p:cNvSpPr>
            <a:spLocks noGrp="1"/>
          </p:cNvSpPr>
          <p:nvPr>
            <p:ph type="dt" idx="1"/>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4C3F-8A89-42A7-B2CD-1190D9C3769C}"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370"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371" name="PlaceHolder 3"/>
          <p:cNvSpPr>
            <a:spLocks noGrp="1"/>
          </p:cNvSpPr>
          <p:nvPr>
            <p:ph type="dt" idx="28"/>
          </p:nvPr>
        </p:nvSpPr>
        <p:spPr>
          <a:xfrm>
            <a:off x="468000" y="18864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2700000" y="188640"/>
            <a:ext cx="45356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7308720" y="188640"/>
            <a:ext cx="148608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55EC-D0E1-4EFC-9889-57A627169BB0}"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411"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412" name="PlaceHolder 3"/>
          <p:cNvSpPr>
            <a:spLocks noGrp="1"/>
          </p:cNvSpPr>
          <p:nvPr>
            <p:ph type="dt" idx="31"/>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9874-2AB5-4994-A422-3AFF18236CA6}"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452"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453" name="PlaceHolder 3"/>
          <p:cNvSpPr>
            <a:spLocks noGrp="1"/>
          </p:cNvSpPr>
          <p:nvPr>
            <p:ph type="dt" idx="34"/>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2618-9364-43B7-AE62-988462A6D255}"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493"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494" name="PlaceHolder 3"/>
          <p:cNvSpPr>
            <a:spLocks noGrp="1"/>
          </p:cNvSpPr>
          <p:nvPr>
            <p:ph type="dt" idx="37"/>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6392-7312-4CFC-8CC5-06D954603807}"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534"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535" name="PlaceHolder 3"/>
          <p:cNvSpPr>
            <a:spLocks noGrp="1"/>
          </p:cNvSpPr>
          <p:nvPr>
            <p:ph type="dt" idx="40"/>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3FFB-4517-4740-8EDF-670947E88A36}"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575"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576" name="PlaceHolder 3"/>
          <p:cNvSpPr>
            <a:spLocks noGrp="1"/>
          </p:cNvSpPr>
          <p:nvPr>
            <p:ph type="dt" idx="43"/>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E03D-D57C-4B4D-B5B5-BC1B517D0985}"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616"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617" name="PlaceHolder 3"/>
          <p:cNvSpPr>
            <a:spLocks noGrp="1"/>
          </p:cNvSpPr>
          <p:nvPr>
            <p:ph type="dt" idx="46"/>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167B-9C13-4B4E-B491-0DA855EB9003}"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657"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658" name="PlaceHolder 3"/>
          <p:cNvSpPr>
            <a:spLocks noGrp="1"/>
          </p:cNvSpPr>
          <p:nvPr>
            <p:ph type="dt" idx="49"/>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EEA3-3813-4B25-B471-5EB85AA744C8}"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698"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699" name="PlaceHolder 3"/>
          <p:cNvSpPr>
            <a:spLocks noGrp="1"/>
          </p:cNvSpPr>
          <p:nvPr>
            <p:ph type="dt" idx="52"/>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4"/>
          <p:cNvSpPr>
            <a:spLocks noGrp="1"/>
          </p:cNvSpPr>
          <p:nvPr>
            <p:ph type="ftr" idx="53"/>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F619-0045-4A01-B10F-12EBEC3B8868}"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739"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740" name="PlaceHolder 3"/>
          <p:cNvSpPr>
            <a:spLocks noGrp="1"/>
          </p:cNvSpPr>
          <p:nvPr>
            <p:ph type="dt" idx="55"/>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4"/>
          <p:cNvSpPr>
            <a:spLocks noGrp="1"/>
          </p:cNvSpPr>
          <p:nvPr>
            <p:ph type="ftr" idx="56"/>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BE45-4EE0-4E8D-92B2-BC3A053DB948}"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4ebc"/>
                </a:solidFill>
                <a:latin typeface="微软雅黑"/>
              </a:rPr>
              <a:t>Click to edit the title text format</a:t>
            </a:r>
            <a:endParaRPr b="0" lang="en-US" sz="3200" spc="-1" strike="noStrike">
              <a:solidFill>
                <a:srgbClr val="f74ebc"/>
              </a:solidFill>
              <a:latin typeface="微软雅黑"/>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Click to edit the outline text format</a:t>
            </a:r>
            <a:endParaRPr b="0" lang="en-US" sz="2400" spc="-1" strike="noStrike">
              <a:solidFill>
                <a:srgbClr val="f74ebc"/>
              </a:solidFill>
              <a:latin typeface="微软雅黑"/>
            </a:endParaRPr>
          </a:p>
          <a:p>
            <a:pPr lvl="1" marL="743040" indent="-28584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econd Outline Level</a:t>
            </a:r>
            <a:endParaRPr b="0" lang="en-US" sz="2400" spc="-1" strike="noStrike">
              <a:solidFill>
                <a:srgbClr val="f74ebc"/>
              </a:solidFill>
              <a:latin typeface="微软雅黑"/>
            </a:endParaRPr>
          </a:p>
          <a:p>
            <a:pPr lvl="2" marL="11430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Third Outline Level</a:t>
            </a:r>
            <a:endParaRPr b="0" lang="en-US" sz="2400" spc="-1" strike="noStrike">
              <a:solidFill>
                <a:srgbClr val="f74ebc"/>
              </a:solidFill>
              <a:latin typeface="微软雅黑"/>
            </a:endParaRPr>
          </a:p>
          <a:p>
            <a:pPr lvl="3" marL="16002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Fourth Outline Level</a:t>
            </a:r>
            <a:endParaRPr b="0" lang="en-US" sz="2400" spc="-1" strike="noStrike">
              <a:solidFill>
                <a:srgbClr val="f74ebc"/>
              </a:solidFill>
              <a:latin typeface="微软雅黑"/>
            </a:endParaRPr>
          </a:p>
          <a:p>
            <a:pPr lvl="4" marL="20574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Fifth Outline Level</a:t>
            </a:r>
            <a:endParaRPr b="0" lang="en-US" sz="2400" spc="-1" strike="noStrike">
              <a:solidFill>
                <a:srgbClr val="f74ebc"/>
              </a:solidFill>
              <a:latin typeface="微软雅黑"/>
            </a:endParaRPr>
          </a:p>
          <a:p>
            <a:pPr lvl="5"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ixth Outline Level</a:t>
            </a:r>
            <a:endParaRPr b="0" lang="en-US" sz="2400" spc="-1" strike="noStrike">
              <a:solidFill>
                <a:srgbClr val="f74ebc"/>
              </a:solidFill>
              <a:latin typeface="微软雅黑"/>
            </a:endParaRPr>
          </a:p>
          <a:p>
            <a:pPr lvl="6"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eventh Outline Level</a:t>
            </a:r>
            <a:endParaRPr b="0" lang="en-US" sz="2400" spc="-1" strike="noStrike">
              <a:solidFill>
                <a:srgbClr val="f74ebc"/>
              </a:solidFill>
              <a:latin typeface="微软雅黑"/>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微软雅黑"/>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52FBD-2824-418C-8690-804A7566CC12}" type="slidenum">
              <a:rPr b="0" lang="ru-RU" sz="1400" spc="-1" strike="noStrike">
                <a:solidFill>
                  <a:srgbClr val="000000"/>
                </a:solidFill>
                <a:latin typeface="微软雅黑"/>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250920" y="188640"/>
            <a:ext cx="619272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lick to edit the title text format</a:t>
            </a:r>
            <a:endParaRPr b="1" lang="en-US" sz="2000" spc="-1" strike="noStrike">
              <a:solidFill>
                <a:srgbClr val="800000"/>
              </a:solidFill>
              <a:latin typeface="Arial"/>
            </a:endParaRPr>
          </a:p>
        </p:txBody>
      </p:sp>
      <p:sp>
        <p:nvSpPr>
          <p:cNvPr id="780" name="PlaceHolder 2"/>
          <p:cNvSpPr>
            <a:spLocks noGrp="1"/>
          </p:cNvSpPr>
          <p:nvPr>
            <p:ph type="body"/>
          </p:nvPr>
        </p:nvSpPr>
        <p:spPr>
          <a:xfrm>
            <a:off x="250920" y="907920"/>
            <a:ext cx="8642160" cy="3889440"/>
          </a:xfrm>
          <a:prstGeom prst="rect">
            <a:avLst/>
          </a:prstGeom>
          <a:noFill/>
          <a:ln w="0">
            <a:noFill/>
          </a:ln>
        </p:spPr>
        <p:txBody>
          <a:bodyPr lIns="90000" rIns="90000" tIns="46800" bIns="46800"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lick to edit the outline text format</a:t>
            </a:r>
            <a:endParaRPr b="0" lang="en-US" sz="2000" spc="-1" strike="noStrike">
              <a:solidFill>
                <a:srgbClr val="800000"/>
              </a:solidFill>
              <a:latin typeface="Arial"/>
            </a:endParaRPr>
          </a:p>
          <a:p>
            <a:pPr lvl="1" marL="743040" indent="-28584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11430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rd Outline Level</a:t>
            </a:r>
            <a:endParaRPr b="0" lang="en-US" sz="2000" spc="-1" strike="noStrike">
              <a:solidFill>
                <a:srgbClr val="800000"/>
              </a:solidFill>
              <a:latin typeface="Arial"/>
            </a:endParaRPr>
          </a:p>
          <a:p>
            <a:pPr lvl="3" marL="16002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
        <p:nvSpPr>
          <p:cNvPr id="781" name="PlaceHolder 3"/>
          <p:cNvSpPr>
            <a:spLocks noGrp="1"/>
          </p:cNvSpPr>
          <p:nvPr>
            <p:ph type="dt" idx="58"/>
          </p:nvPr>
        </p:nvSpPr>
        <p:spPr>
          <a:xfrm>
            <a:off x="6659640" y="260280"/>
            <a:ext cx="2232000" cy="50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4"/>
          <p:cNvSpPr>
            <a:spLocks noGrp="1"/>
          </p:cNvSpPr>
          <p:nvPr>
            <p:ph type="ftr" idx="59"/>
          </p:nvPr>
        </p:nvSpPr>
        <p:spPr>
          <a:xfrm>
            <a:off x="2050920" y="6337440"/>
            <a:ext cx="5042160" cy="40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7308360" y="6341760"/>
            <a:ext cx="1584360" cy="399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8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3264-C8B1-4E63-A2BF-CA89FB4E4E9A}" type="slidenum">
              <a:rPr b="1" lang="zh-CN" sz="1400" spc="-1" strike="noStrike">
                <a:solidFill>
                  <a:srgbClr val="8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4ebc"/>
                </a:solidFill>
                <a:latin typeface="微软雅黑"/>
              </a:rPr>
              <a:t>Click to edit the title text format</a:t>
            </a:r>
            <a:endParaRPr b="0" lang="en-US" sz="3200" spc="-1" strike="noStrike">
              <a:solidFill>
                <a:srgbClr val="f74ebc"/>
              </a:solidFill>
              <a:latin typeface="微软雅黑"/>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Click to edit the outline text format</a:t>
            </a:r>
            <a:endParaRPr b="0" lang="en-US" sz="2400" spc="-1" strike="noStrike">
              <a:solidFill>
                <a:srgbClr val="f74ebc"/>
              </a:solidFill>
              <a:latin typeface="微软雅黑"/>
            </a:endParaRPr>
          </a:p>
          <a:p>
            <a:pPr lvl="1" marL="743040" indent="-28584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econd Outline Level</a:t>
            </a:r>
            <a:endParaRPr b="0" lang="en-US" sz="2400" spc="-1" strike="noStrike">
              <a:solidFill>
                <a:srgbClr val="f74ebc"/>
              </a:solidFill>
              <a:latin typeface="微软雅黑"/>
            </a:endParaRPr>
          </a:p>
          <a:p>
            <a:pPr lvl="2" marL="11430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Third Outline Level</a:t>
            </a:r>
            <a:endParaRPr b="0" lang="en-US" sz="2400" spc="-1" strike="noStrike">
              <a:solidFill>
                <a:srgbClr val="f74ebc"/>
              </a:solidFill>
              <a:latin typeface="微软雅黑"/>
            </a:endParaRPr>
          </a:p>
          <a:p>
            <a:pPr lvl="3" marL="16002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Fourth Outline Level</a:t>
            </a:r>
            <a:endParaRPr b="0" lang="en-US" sz="2400" spc="-1" strike="noStrike">
              <a:solidFill>
                <a:srgbClr val="f74ebc"/>
              </a:solidFill>
              <a:latin typeface="微软雅黑"/>
            </a:endParaRPr>
          </a:p>
          <a:p>
            <a:pPr lvl="4" marL="2057400" indent="-228600">
              <a:spcBef>
                <a:spcPts val="601"/>
              </a:spcBef>
              <a:buClr>
                <a:srgbClr val="f74ebc"/>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Fifth Outline Level</a:t>
            </a:r>
            <a:endParaRPr b="0" lang="en-US" sz="2400" spc="-1" strike="noStrike">
              <a:solidFill>
                <a:srgbClr val="f74ebc"/>
              </a:solidFill>
              <a:latin typeface="微软雅黑"/>
            </a:endParaRPr>
          </a:p>
          <a:p>
            <a:pPr lvl="5"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ixth Outline Level</a:t>
            </a:r>
            <a:endParaRPr b="0" lang="en-US" sz="2400" spc="-1" strike="noStrike">
              <a:solidFill>
                <a:srgbClr val="f74ebc"/>
              </a:solidFill>
              <a:latin typeface="微软雅黑"/>
            </a:endParaRPr>
          </a:p>
          <a:p>
            <a:pPr lvl="6"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4ebc"/>
                </a:solidFill>
                <a:latin typeface="微软雅黑"/>
              </a:rPr>
              <a:t>Seventh Outline Level</a:t>
            </a:r>
            <a:endParaRPr b="0" lang="en-US" sz="2400" spc="-1" strike="noStrike">
              <a:solidFill>
                <a:srgbClr val="f74ebc"/>
              </a:solidFill>
              <a:latin typeface="微软雅黑"/>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E672-CD49-4635-9EC2-35C3CF80D1C5}" type="slidenum">
              <a:rPr b="0" lang="ru-RU"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68360" y="2602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62"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DF01-0421-4E91-8E62-C04FF539C92F}"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0CDF-73B8-4249-8EE6-BF0E9F70E883}" type="slidenum">
              <a:rPr b="0" lang="ru-RU"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654d"/>
                </a:solidFill>
                <a:latin typeface="Times New Roman"/>
              </a:rPr>
              <a:t>Click to edit the title text format</a:t>
            </a:r>
            <a:endParaRPr b="0" lang="en-US" sz="3200" spc="-1" strike="noStrike">
              <a:solidFill>
                <a:srgbClr val="1d654d"/>
              </a:solidFill>
              <a:latin typeface="Times New Roman"/>
            </a:endParaRPr>
          </a:p>
        </p:txBody>
      </p:sp>
      <p:sp>
        <p:nvSpPr>
          <p:cNvPr id="944" name="PlaceHolder 2"/>
          <p:cNvSpPr>
            <a:spLocks noGrp="1"/>
          </p:cNvSpPr>
          <p:nvPr>
            <p:ph type="body"/>
          </p:nvPr>
        </p:nvSpPr>
        <p:spPr>
          <a:xfrm>
            <a:off x="457200" y="1412640"/>
            <a:ext cx="8229600" cy="4714920"/>
          </a:xfrm>
          <a:prstGeom prst="rect">
            <a:avLst/>
          </a:prstGeom>
          <a:noFill/>
          <a:ln w="0">
            <a:noFill/>
          </a:ln>
        </p:spPr>
        <p:txBody>
          <a:bodyPr lIns="90000" rIns="90000" tIns="46800" bIns="46800" anchor="t">
            <a:normAutofit/>
          </a:bodyPr>
          <a:p>
            <a:pPr marL="343080" indent="-343080">
              <a:spcBef>
                <a:spcPts val="601"/>
              </a:spcBef>
              <a:buClr>
                <a:srgbClr val="1d6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45" name="PlaceHolder 3"/>
          <p:cNvSpPr>
            <a:spLocks noGrp="1"/>
          </p:cNvSpPr>
          <p:nvPr>
            <p:ph type="ftr" idx="70"/>
          </p:nvPr>
        </p:nvSpPr>
        <p:spPr>
          <a:xfrm>
            <a:off x="5375160" y="6464160"/>
            <a:ext cx="2789280" cy="317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PlaceHolder 4"/>
          <p:cNvSpPr>
            <a:spLocks noGrp="1"/>
          </p:cNvSpPr>
          <p:nvPr>
            <p:ph type="dt" idx="71"/>
          </p:nvPr>
        </p:nvSpPr>
        <p:spPr>
          <a:xfrm>
            <a:off x="3784320" y="6479640"/>
            <a:ext cx="1569960" cy="30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8645040" y="6478560"/>
            <a:ext cx="443160" cy="30312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CBA7-9F23-4ECF-B17D-F477B64E0921}" type="slidenum">
              <a:rPr b="0" lang="ru-RU" sz="1200" spc="-1" strike="noStrike">
                <a:solidFill>
                  <a:srgbClr val="000000"/>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85" name="PlaceHolder 2"/>
          <p:cNvSpPr>
            <a:spLocks noGrp="1"/>
          </p:cNvSpPr>
          <p:nvPr>
            <p:ph type="body"/>
          </p:nvPr>
        </p:nvSpPr>
        <p:spPr>
          <a:xfrm>
            <a:off x="457200" y="1484280"/>
            <a:ext cx="8229600" cy="4641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6" name="PlaceHolder 3"/>
          <p:cNvSpPr>
            <a:spLocks noGrp="1"/>
          </p:cNvSpPr>
          <p:nvPr>
            <p:ph type="dt" idx="73"/>
          </p:nvPr>
        </p:nvSpPr>
        <p:spPr>
          <a:xfrm>
            <a:off x="456840" y="6244920"/>
            <a:ext cx="2133720" cy="4762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2999-9661-4F71-BE91-AA6A7C003E84}" type="datetime">
              <a:rPr b="0" lang="ru-RU" sz="1200" spc="-1" strike="noStrike">
                <a:solidFill>
                  <a:srgbClr val="898989"/>
                </a:solidFill>
                <a:latin typeface="Arial"/>
                <a:ea typeface="微软雅黑"/>
              </a:rPr>
              <a:t>30.07.26</a:t>
            </a:fld>
            <a:endParaRPr b="0" lang="en-US" sz="1200" spc="-1" strike="noStrike">
              <a:solidFill>
                <a:srgbClr val="000000"/>
              </a:solidFill>
              <a:latin typeface="Times New Roman"/>
            </a:endParaRPr>
          </a:p>
        </p:txBody>
      </p:sp>
      <p:sp>
        <p:nvSpPr>
          <p:cNvPr id="987" name="PlaceHolder 4"/>
          <p:cNvSpPr>
            <a:spLocks noGrp="1"/>
          </p:cNvSpPr>
          <p:nvPr>
            <p:ph type="ftr" idx="74"/>
          </p:nvPr>
        </p:nvSpPr>
        <p:spPr>
          <a:xfrm>
            <a:off x="3124080" y="6244920"/>
            <a:ext cx="289584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244920"/>
            <a:ext cx="2133720" cy="4762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9A71-5ED5-419F-8313-DBDAB538B2D3}" type="slidenum">
              <a:rPr b="0" lang="ru-RU"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27" name="PlaceHolder 3"/>
          <p:cNvSpPr>
            <a:spLocks noGrp="1"/>
          </p:cNvSpPr>
          <p:nvPr>
            <p:ph type="dt" idx="7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PlaceHolder 4"/>
          <p:cNvSpPr>
            <a:spLocks noGrp="1"/>
          </p:cNvSpPr>
          <p:nvPr>
            <p:ph type="ftr" idx="7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5"/>
          <p:cNvSpPr>
            <a:spLocks noGrp="1"/>
          </p:cNvSpPr>
          <p:nvPr>
            <p:ph type="sldNum" idx="7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05CC-9855-491E-80E8-6C618821CAA9}"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lick to edit the title text format</a:t>
            </a:r>
            <a:endParaRPr b="1" lang="en-US" sz="3200" spc="-1" strike="noStrike">
              <a:solidFill>
                <a:srgbClr val="ff0066"/>
              </a:solidFill>
              <a:latin typeface="Arial"/>
            </a:endParaRPr>
          </a:p>
        </p:txBody>
      </p:sp>
      <p:sp>
        <p:nvSpPr>
          <p:cNvPr id="1067" name="PlaceHolder 2"/>
          <p:cNvSpPr>
            <a:spLocks noGrp="1"/>
          </p:cNvSpPr>
          <p:nvPr>
            <p:ph type="body"/>
          </p:nvPr>
        </p:nvSpPr>
        <p:spPr>
          <a:xfrm>
            <a:off x="457200" y="1600200"/>
            <a:ext cx="8229600" cy="4525920"/>
          </a:xfrm>
          <a:prstGeom prst="rect">
            <a:avLst/>
          </a:prstGeom>
          <a:solidFill>
            <a:srgbClr val="ffffff">
              <a:alpha val="30000"/>
            </a:srgbClr>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68" name="PlaceHolder 3"/>
          <p:cNvSpPr>
            <a:spLocks noGrp="1"/>
          </p:cNvSpPr>
          <p:nvPr>
            <p:ph type="dt" idx="7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4"/>
          <p:cNvSpPr>
            <a:spLocks noGrp="1"/>
          </p:cNvSpPr>
          <p:nvPr>
            <p:ph type="ftr" idx="8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5"/>
          <p:cNvSpPr>
            <a:spLocks noGrp="1"/>
          </p:cNvSpPr>
          <p:nvPr>
            <p:ph type="sldNum" idx="8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7518-656B-40A8-AB2C-A073910E2558}"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442C-0371-4CC9-8B6E-EDF974F8C526}"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
        <p:nvSpPr>
          <p:cNvPr id="85" name="PlaceHolder 4"/>
          <p:cNvSpPr>
            <a:spLocks noGrp="1"/>
          </p:cNvSpPr>
          <p:nvPr>
            <p:ph type="title"/>
          </p:nvPr>
        </p:nvSpPr>
        <p:spPr>
          <a:xfrm>
            <a:off x="468360" y="2602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6" name="PlaceHolder 5"/>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9424-9ED9-46CF-B460-14725475575A}" type="slidenum">
              <a:rPr b="0" lang="ru-RU"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dt" idx="13"/>
          </p:nvPr>
        </p:nvSpPr>
        <p:spPr>
          <a:xfrm>
            <a:off x="1618920" y="6576480"/>
            <a:ext cx="2133720" cy="21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ftr" idx="14"/>
          </p:nvPr>
        </p:nvSpPr>
        <p:spPr>
          <a:xfrm>
            <a:off x="3739680" y="6566040"/>
            <a:ext cx="4691160" cy="280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type="sldNum" idx="15"/>
          </p:nvPr>
        </p:nvSpPr>
        <p:spPr>
          <a:xfrm>
            <a:off x="8527680" y="6568560"/>
            <a:ext cx="336600" cy="289080"/>
          </a:xfrm>
          <a:prstGeom prst="rect">
            <a:avLst/>
          </a:prstGeom>
          <a:noFill/>
          <a:ln w="0">
            <a:noFill/>
          </a:ln>
        </p:spPr>
        <p:txBody>
          <a:bodyPr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ea typeface="微软雅黑"/>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864B-B18E-4926-9CFC-A397AE102EAA}" type="slidenum">
              <a:rPr b="0" lang="ru-RU" sz="1000" spc="-1" strike="noStrike">
                <a:solidFill>
                  <a:srgbClr val="000000"/>
                </a:solidFill>
                <a:latin typeface="Arial"/>
                <a:ea typeface="微软雅黑"/>
              </a:rPr>
              <a:t>&lt;number&gt;</a:t>
            </a:fld>
            <a:endParaRPr b="0" lang="en-US" sz="1000" spc="-1" strike="noStrike">
              <a:solidFill>
                <a:srgbClr val="000000"/>
              </a:solidFill>
              <a:latin typeface="Times New Roman"/>
            </a:endParaRPr>
          </a:p>
        </p:txBody>
      </p:sp>
      <p:sp>
        <p:nvSpPr>
          <p:cNvPr id="167" name="PlaceHolder 4"/>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654d"/>
                </a:solidFill>
                <a:latin typeface="Times New Roman"/>
              </a:rPr>
              <a:t>Click to edit the title text format</a:t>
            </a:r>
            <a:endParaRPr b="0" lang="en-US" sz="3200" spc="-1" strike="noStrike">
              <a:solidFill>
                <a:srgbClr val="1d654d"/>
              </a:solidFill>
              <a:latin typeface="Times New Roman"/>
            </a:endParaRPr>
          </a:p>
        </p:txBody>
      </p:sp>
      <p:sp>
        <p:nvSpPr>
          <p:cNvPr id="168" name="PlaceHolder 5"/>
          <p:cNvSpPr>
            <a:spLocks noGrp="1"/>
          </p:cNvSpPr>
          <p:nvPr>
            <p:ph type="body"/>
          </p:nvPr>
        </p:nvSpPr>
        <p:spPr>
          <a:xfrm>
            <a:off x="457200" y="1412640"/>
            <a:ext cx="8229600" cy="4714920"/>
          </a:xfrm>
          <a:prstGeom prst="rect">
            <a:avLst/>
          </a:prstGeom>
          <a:noFill/>
          <a:ln w="0">
            <a:noFill/>
          </a:ln>
        </p:spPr>
        <p:txBody>
          <a:bodyPr lIns="90000" rIns="90000" tIns="46800" bIns="46800" anchor="t">
            <a:normAutofit/>
          </a:bodyPr>
          <a:p>
            <a:pPr marL="343080" indent="-343080">
              <a:spcBef>
                <a:spcPts val="601"/>
              </a:spcBef>
              <a:buClr>
                <a:srgbClr val="1d6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dt" idx="16"/>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8BE4-DEA5-42E8-924B-103F3DE9124D}" type="datetime">
              <a:rPr b="0" lang="ru-RU" sz="1200" spc="-1" strike="noStrike">
                <a:solidFill>
                  <a:srgbClr val="898989"/>
                </a:solidFill>
                <a:latin typeface="Arial"/>
                <a:ea typeface="微软雅黑"/>
              </a:rPr>
              <a:t>30.07.26</a:t>
            </a:fld>
            <a:endParaRPr b="0" lang="en-US" sz="1200" spc="-1" strike="noStrike">
              <a:solidFill>
                <a:srgbClr val="000000"/>
              </a:solidFill>
              <a:latin typeface="Times New Roman"/>
            </a:endParaRPr>
          </a:p>
        </p:txBody>
      </p:sp>
      <p:sp>
        <p:nvSpPr>
          <p:cNvPr id="206" name="PlaceHolder 2"/>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EF34-B784-4EE5-954E-6D425C32428E}" type="slidenum">
              <a:rPr b="0" lang="ru-RU"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
        <p:nvSpPr>
          <p:cNvPr id="208" name="PlaceHolder 4"/>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9" name="PlaceHolder 5"/>
          <p:cNvSpPr>
            <a:spLocks noGrp="1"/>
          </p:cNvSpPr>
          <p:nvPr>
            <p:ph type="body"/>
          </p:nvPr>
        </p:nvSpPr>
        <p:spPr>
          <a:xfrm>
            <a:off x="457200" y="1484280"/>
            <a:ext cx="8229600" cy="4641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D8F8-397E-4BD5-BB19-6484C2AE4D2F}"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lick to edit the title text format</a:t>
            </a:r>
            <a:endParaRPr b="1" lang="en-US" sz="3200" spc="-1" strike="noStrike">
              <a:solidFill>
                <a:srgbClr val="ff0066"/>
              </a:solidFill>
              <a:latin typeface="Arial"/>
            </a:endParaRPr>
          </a:p>
        </p:txBody>
      </p:sp>
      <p:sp>
        <p:nvSpPr>
          <p:cNvPr id="288" name="PlaceHolder 2"/>
          <p:cNvSpPr>
            <a:spLocks noGrp="1"/>
          </p:cNvSpPr>
          <p:nvPr>
            <p:ph type="body"/>
          </p:nvPr>
        </p:nvSpPr>
        <p:spPr>
          <a:xfrm>
            <a:off x="457200" y="1600200"/>
            <a:ext cx="8229600" cy="4525920"/>
          </a:xfrm>
          <a:prstGeom prst="rect">
            <a:avLst/>
          </a:prstGeom>
          <a:solidFill>
            <a:srgbClr val="ffffff">
              <a:alpha val="30000"/>
            </a:srgbClr>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747C-B832-4A99-8616-86512D51D58E}" type="slidenum">
              <a:rPr b="0" lang="ru-RU" sz="1400" spc="-1" strike="noStrike">
                <a:solidFill>
                  <a:srgbClr val="000000"/>
                </a:solidFill>
                <a:latin typeface="Arial"/>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8CA0-B392-4CD4-88D9-2B6244AD736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WordArt 3"/>
          <p:cNvSpPr txBox="1"/>
          <p:nvPr/>
        </p:nvSpPr>
        <p:spPr>
          <a:xfrm>
            <a:off x="1117440" y="1628640"/>
            <a:ext cx="5327640" cy="88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1"/>
                  <a:srcRect/>
                  <a:stretch/>
                </a:blipFill>
                <a:effectLst>
                  <a:outerShdw dist="17819" dir="2700000" blurRad="0" rotWithShape="0">
                    <a:srgbClr val="c0c0c0">
                      <a:alpha val="80000"/>
                    </a:srgbClr>
                  </a:outerShdw>
                </a:effectLst>
                <a:latin typeface="宋体"/>
              </a:rPr>
              <a:t>指南针课件</a:t>
            </a:r>
            <a:r>
              <a:rPr b="1" lang="en-US" sz="4000" spc="-1" strike="noStrike">
                <a:ln w="0">
                  <a:noFill/>
                </a:ln>
                <a:blipFill rotWithShape="0">
                  <a:blip r:embed="rId2"/>
                  <a:srcRect/>
                  <a:stretch/>
                </a:blipFill>
                <a:effectLst>
                  <a:outerShdw dist="17819" dir="2700000" blurRad="0" rotWithShape="0">
                    <a:srgbClr val="c0c0c0">
                      <a:alpha val="80000"/>
                    </a:srgbClr>
                  </a:outerShdw>
                </a:effectLst>
                <a:latin typeface="宋体"/>
              </a:rPr>
              <a:t>PPT</a:t>
            </a:r>
            <a:r>
              <a:rPr b="1" lang="zh-CN" sz="4000" spc="-1" strike="noStrike">
                <a:ln w="0">
                  <a:noFill/>
                </a:ln>
                <a:blipFill rotWithShape="0">
                  <a:blip r:embed="rId3"/>
                  <a:srcRect/>
                  <a:stretch/>
                </a:blipFill>
                <a:effectLst>
                  <a:outerShdw dist="17819" dir="2700000" blurRad="0" rotWithShape="0">
                    <a:srgbClr val="c0c0c0">
                      <a:alpha val="80000"/>
                    </a:srgbClr>
                  </a:outerShdw>
                </a:effectLst>
                <a:latin typeface="宋体"/>
              </a:rPr>
              <a:t>模板下载</a:t>
            </a:r>
            <a:endParaRPr b="1" lang="en-US" sz="40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
        <p:nvSpPr>
          <p:cNvPr id="1108" name="TextBox 2"/>
          <p:cNvSpPr/>
          <p:nvPr/>
        </p:nvSpPr>
        <p:spPr>
          <a:xfrm>
            <a:off x="1528200" y="50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教科版三年级科学下册</a:t>
            </a:r>
            <a:endParaRPr b="0" lang="en-US" sz="2400" spc="-1" strike="noStrike">
              <a:solidFill>
                <a:srgbClr val="000000"/>
              </a:solidFill>
              <a:latin typeface="Arial"/>
            </a:endParaRPr>
          </a:p>
        </p:txBody>
      </p:sp>
      <p:sp>
        <p:nvSpPr>
          <p:cNvPr id="110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7" name="Picture 2" descr=""/>
          <p:cNvPicPr/>
          <p:nvPr/>
        </p:nvPicPr>
        <p:blipFill>
          <a:blip r:embed="rId1"/>
          <a:stretch/>
        </p:blipFill>
        <p:spPr>
          <a:xfrm>
            <a:off x="1440" y="0"/>
            <a:ext cx="9142560" cy="6858000"/>
          </a:xfrm>
          <a:prstGeom prst="rect">
            <a:avLst/>
          </a:prstGeom>
          <a:ln w="0">
            <a:noFill/>
          </a:ln>
        </p:spPr>
      </p:pic>
      <p:sp>
        <p:nvSpPr>
          <p:cNvPr id="1128" name="日期占位符 3"/>
          <p:cNvSpPr/>
          <p:nvPr/>
        </p:nvSpPr>
        <p:spPr>
          <a:xfrm>
            <a:off x="457200" y="6356520"/>
            <a:ext cx="213372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A89F-D79C-4042-B81C-BF804E86A9F1}" type="datetime">
              <a:rPr b="0" lang="ru-RU" sz="1200" spc="-1" strike="noStrike">
                <a:solidFill>
                  <a:srgbClr val="898989"/>
                </a:solidFill>
                <a:latin typeface="Calibri"/>
                <a:ea typeface="微软雅黑"/>
              </a:rPr>
              <a:t>30.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3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13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29D1-3290-48C3-B4C0-4AEED68B74F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3" name="Picture 2" descr=""/>
          <p:cNvPicPr/>
          <p:nvPr/>
        </p:nvPicPr>
        <p:blipFill>
          <a:blip r:embed="rId1"/>
          <a:stretch/>
        </p:blipFill>
        <p:spPr>
          <a:xfrm>
            <a:off x="4645080" y="1440"/>
            <a:ext cx="4535280" cy="4797720"/>
          </a:xfrm>
          <a:prstGeom prst="rect">
            <a:avLst/>
          </a:prstGeom>
          <a:ln w="0">
            <a:noFill/>
          </a:ln>
        </p:spPr>
      </p:pic>
      <p:sp>
        <p:nvSpPr>
          <p:cNvPr id="1134" name="WordArt 3"/>
          <p:cNvSpPr txBox="1"/>
          <p:nvPr/>
        </p:nvSpPr>
        <p:spPr>
          <a:xfrm>
            <a:off x="4500720" y="5157720"/>
            <a:ext cx="4608360" cy="15843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000099"/>
                  </a:solidFill>
                  <a:miter/>
                </a:ln>
                <a:solidFill>
                  <a:srgbClr val="33ccff"/>
                </a:solidFill>
                <a:effectLst>
                  <a:outerShdw dist="107932" dir="18900000" blurRad="0" rotWithShape="0">
                    <a:srgbClr val="000099"/>
                  </a:outerShdw>
                </a:effectLst>
                <a:latin typeface="宋体"/>
              </a:rPr>
              <a:t>指南针</a:t>
            </a:r>
            <a:endParaRPr b="1" lang="en-US" sz="44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8" presetSubtype="16">
                                  <p:stCondLst>
                                    <p:cond delay="0"/>
                                  </p:stCondLst>
                                  <p:childTnLst>
                                    <p:set>
                                      <p:cBhvr>
                                        <p:cTn id="96" dur="1" fill="hold">
                                          <p:stCondLst>
                                            <p:cond delay="0"/>
                                          </p:stCondLst>
                                        </p:cTn>
                                        <p:tgtEl>
                                          <p:spTgt spid="1134"/>
                                        </p:tgtEl>
                                        <p:attrNameLst>
                                          <p:attrName>style.visibility</p:attrName>
                                        </p:attrNameLst>
                                      </p:cBhvr>
                                      <p:to>
                                        <p:strVal val="visible"/>
                                      </p:to>
                                    </p:set>
                                    <p:animEffect filter="diamond(in)" transition="in">
                                      <p:cBhvr additive="repl">
                                        <p:cTn id="97" dur="2000"/>
                                        <p:tgtEl>
                                          <p:spTgt spid="1134"/>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mph" presetID="8">
                                  <p:stCondLst>
                                    <p:cond delay="0"/>
                                  </p:stCondLst>
                                  <p:childTnLst>
                                    <p:animRot by="21600000">
                                      <p:cBhvr>
                                        <p:cTn id="101" dur="2000" fill="hold"/>
                                        <p:tgtEl>
                                          <p:spTgt spid="1134"/>
                                        </p:tgtEl>
                                        <p:attrNameLst>
                                          <p:attrName>r</p:attrName>
                                        </p:attrNameLst>
                                      </p:cBhvr>
                                    </p:animRo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0">
                                  <p:stCondLst>
                                    <p:cond delay="0"/>
                                  </p:stCondLst>
                                  <p:childTnLst>
                                    <p:set>
                                      <p:cBhvr>
                                        <p:cTn id="105" dur="1" fill="hold">
                                          <p:stCondLst>
                                            <p:cond delay="0"/>
                                          </p:stCondLst>
                                        </p:cTn>
                                        <p:tgtEl>
                                          <p:spTgt spid="1134"/>
                                        </p:tgtEl>
                                        <p:attrNameLst>
                                          <p:attrName>style.visibility</p:attrName>
                                        </p:attrNameLst>
                                      </p:cBhvr>
                                      <p:to>
                                        <p:strVal val="visible"/>
                                      </p:to>
                                    </p:set>
                                    <p:animEffect filter="wedge" transition="in">
                                      <p:cBhvr additive="repl">
                                        <p:cTn id="106" dur="2000"/>
                                        <p:tgtEl>
                                          <p:spTgt spid="1134"/>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mph" presetID="27">
                                  <p:stCondLst>
                                    <p:cond delay="0"/>
                                  </p:stCondLst>
                                  <p:childTnLst>
                                    <p:animClr clrSpc="rgb">
                                      <p:cBhvr>
                                        <p:cTn id="110" dur="250" autoRev="1" fill="hold"/>
                                        <p:tgtEl>
                                          <p:spTgt spid="1134"/>
                                        </p:tgtEl>
                                        <p:attrNameLst>
                                          <p:attrName>style.color</p:attrName>
                                        </p:attrNameLst>
                                      </p:cBhvr>
                                      <p:to>
                                        <a:srgbClr val="ffffff"/>
                                      </p:to>
                                    </p:animClr>
                                    <p:animClr clrSpc="rgb">
                                      <p:cBhvr>
                                        <p:cTn id="111" dur="250" autoRev="1" fill="hold"/>
                                        <p:tgtEl>
                                          <p:spTgt spid="1134"/>
                                        </p:tgtEl>
                                        <p:attrNameLst>
                                          <p:attrName>fillcolor</p:attrName>
                                        </p:attrNameLst>
                                      </p:cBhvr>
                                      <p:to>
                                        <a:srgbClr val="ffffff"/>
                                      </p:to>
                                    </p:animClr>
                                    <p:set>
                                      <p:cBhvr>
                                        <p:cTn id="112" dur="250" autoRev="1" fill="hold"/>
                                        <p:tgtEl>
                                          <p:spTgt spid="1134"/>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5">
                                  <p:stCondLst>
                                    <p:cond delay="0"/>
                                  </p:stCondLst>
                                  <p:childTnLst>
                                    <p:set>
                                      <p:cBhvr>
                                        <p:cTn id="116" dur="1" fill="hold">
                                          <p:stCondLst>
                                            <p:cond delay="0"/>
                                          </p:stCondLst>
                                        </p:cTn>
                                        <p:tgtEl>
                                          <p:spTgt spid="1133"/>
                                        </p:tgtEl>
                                        <p:attrNameLst>
                                          <p:attrName>style.visibility</p:attrName>
                                        </p:attrNameLst>
                                      </p:cBhvr>
                                      <p:to>
                                        <p:strVal val="visible"/>
                                      </p:to>
                                    </p:set>
                                    <p:anim calcmode="lin" valueType="num">
                                      <p:cBhvr additive="repl">
                                        <p:cTn id="117" dur="1000" fill="hold"/>
                                        <p:tgtEl>
                                          <p:spTgt spid="1133"/>
                                        </p:tgtEl>
                                        <p:attrNameLst>
                                          <p:attrName>ppt_w</p:attrName>
                                        </p:attrNameLst>
                                      </p:cBhvr>
                                      <p:tavLst>
                                        <p:tav tm="0">
                                          <p:val>
                                            <p:fltVal val="0"/>
                                          </p:val>
                                        </p:tav>
                                        <p:tav tm="100000">
                                          <p:val>
                                            <p:strVal val="#ppt_w"/>
                                          </p:val>
                                        </p:tav>
                                      </p:tavLst>
                                    </p:anim>
                                    <p:anim calcmode="lin" valueType="num">
                                      <p:cBhvr additive="repl">
                                        <p:cTn id="118" dur="1000" fill="hold"/>
                                        <p:tgtEl>
                                          <p:spTgt spid="1133"/>
                                        </p:tgtEl>
                                        <p:attrNameLst>
                                          <p:attrName>ppt_h</p:attrName>
                                        </p:attrNameLst>
                                      </p:cBhvr>
                                      <p:tavLst>
                                        <p:tav tm="0">
                                          <p:val>
                                            <p:fltVal val="0"/>
                                          </p:val>
                                        </p:tav>
                                        <p:tav tm="100000">
                                          <p:val>
                                            <p:strVal val="#ppt_h"/>
                                          </p:val>
                                        </p:tav>
                                      </p:tavLst>
                                    </p:anim>
                                    <p:anim calcmode="lin" valueType="num">
                                      <p:cBhvr additive="repl">
                                        <p:cTn id="119" dur="1000" fill="hold"/>
                                        <p:tgtEl>
                                          <p:spTgt spid="1133"/>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1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mph" presetID="6">
                                  <p:stCondLst>
                                    <p:cond delay="0"/>
                                  </p:stCondLst>
                                  <p:childTnLst>
                                    <p:animScale>
                                      <p:cBhvr>
                                        <p:cTn id="124" dur="2000" fill="hold"/>
                                        <p:tgtEl>
                                          <p:spTgt spid="113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250920" y="188640"/>
            <a:ext cx="61927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Arial"/>
                <a:ea typeface="黑体"/>
              </a:rPr>
              <a:t>指南针的用途</a:t>
            </a:r>
            <a:endParaRPr b="1" lang="en-US" sz="4400" spc="-1" strike="noStrike">
              <a:solidFill>
                <a:srgbClr val="800000"/>
              </a:solidFill>
              <a:latin typeface="Arial"/>
            </a:endParaRPr>
          </a:p>
        </p:txBody>
      </p:sp>
      <p:sp>
        <p:nvSpPr>
          <p:cNvPr id="1111" name=""/>
          <p:cNvSpPr txBox="1"/>
          <p:nvPr/>
        </p:nvSpPr>
        <p:spPr>
          <a:xfrm>
            <a:off x="250920" y="907920"/>
            <a:ext cx="8642160" cy="3889440"/>
          </a:xfrm>
          <a:prstGeom prst="rect">
            <a:avLst/>
          </a:prstGeom>
          <a:noFill/>
          <a:ln w="0">
            <a:noFill/>
          </a:ln>
        </p:spPr>
        <p:txBody>
          <a:bodyPr anchor="t">
            <a:normAutofit/>
          </a:bodyPr>
          <a:p>
            <a:pPr marL="343080" indent="-343080">
              <a:lnSpc>
                <a:spcPct val="100000"/>
              </a:lnSpc>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ff"/>
                </a:solidFill>
                <a:latin typeface="Arial"/>
                <a:ea typeface="宋体"/>
              </a:rPr>
              <a:t>       </a:t>
            </a:r>
            <a:r>
              <a:rPr b="1" lang="zh-CN" sz="3200" spc="-1" strike="noStrike">
                <a:solidFill>
                  <a:srgbClr val="9966ff"/>
                </a:solidFill>
                <a:latin typeface="Arial"/>
                <a:ea typeface="宋体"/>
              </a:rPr>
              <a:t>指南针是一种判别方位的简单仪器，又称指北针。指南针的前身是中国古代四大发明之一的司南。主要组成部分是一根装在轴上可以自由转动的磁针，磁针在地磁场作用下能保持在磁子午线的切线方向上，磁针的北极指向地理的北极，利用这一性能可以辨别方向。常用于航海、大地测量、旅行及军事等方面。</a:t>
            </a:r>
            <a:endParaRPr b="0" lang="en-US" sz="3200" spc="-1" strike="noStrike">
              <a:solidFill>
                <a:srgbClr val="800000"/>
              </a:solidFill>
              <a:latin typeface="Arial"/>
            </a:endParaRPr>
          </a:p>
        </p:txBody>
      </p:sp>
      <p:pic>
        <p:nvPicPr>
          <p:cNvPr id="1112" name="Picture 4" descr=""/>
          <p:cNvPicPr/>
          <p:nvPr/>
        </p:nvPicPr>
        <p:blipFill>
          <a:blip r:embed="rId1"/>
          <a:stretch/>
        </p:blipFill>
        <p:spPr>
          <a:xfrm>
            <a:off x="5870520" y="4654440"/>
            <a:ext cx="3286080" cy="2210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112"/>
                                        </p:tgtEl>
                                        <p:attrNameLst>
                                          <p:attrName>style.visibility</p:attrName>
                                        </p:attrNameLst>
                                      </p:cBhvr>
                                      <p:to>
                                        <p:strVal val="visible"/>
                                      </p:to>
                                    </p:set>
                                    <p:anim calcmode="lin" valueType="num">
                                      <p:cBhvr additive="base">
                                        <p:cTn id="7" dur="500" fill="hold"/>
                                        <p:tgtEl>
                                          <p:spTgt spid="1112"/>
                                        </p:tgtEl>
                                        <p:attrNameLst>
                                          <p:attrName>ppt_x</p:attrName>
                                        </p:attrNameLst>
                                      </p:cBhvr>
                                      <p:tavLst>
                                        <p:tav tm="0">
                                          <p:val>
                                            <p:strVal val="#ppt_x"/>
                                          </p:val>
                                        </p:tav>
                                        <p:tav tm="100000">
                                          <p:val>
                                            <p:strVal val="#ppt_x"/>
                                          </p:val>
                                        </p:tav>
                                      </p:tavLst>
                                    </p:anim>
                                    <p:anim calcmode="lin" valueType="num">
                                      <p:cBhvr additive="base">
                                        <p:cTn id="8" dur="500" fill="hold"/>
                                        <p:tgtEl>
                                          <p:spTgt spid="1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1112"/>
                                        </p:tgtEl>
                                        <p:attrNameLst>
                                          <p:attrName>style.visibility</p:attrName>
                                        </p:attrNameLst>
                                      </p:cBhvr>
                                      <p:to>
                                        <p:strVal val="visible"/>
                                      </p:to>
                                    </p:set>
                                    <p:animEffect filter="blinds(horizontal)" transition="in">
                                      <p:cBhvr additive="repl">
                                        <p:cTn id="13" dur="500"/>
                                        <p:tgtEl>
                                          <p:spTgt spid="1112"/>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mph" presetID="6">
                                  <p:stCondLst>
                                    <p:cond delay="0"/>
                                  </p:stCondLst>
                                  <p:childTnLst>
                                    <p:animScale>
                                      <p:cBhvr>
                                        <p:cTn id="17" dur="2000" fill="hold"/>
                                        <p:tgtEl>
                                          <p:spTgt spid="1112"/>
                                        </p:tgtEl>
                                      </p:cBhvr>
                                      <p:to x="150000" y="150000"/>
                                    </p:animScale>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xit" presetID="2" presetSubtype="4">
                                  <p:stCondLst>
                                    <p:cond delay="0"/>
                                  </p:stCondLst>
                                  <p:childTnLst>
                                    <p:anim calcmode="lin" valueType="num">
                                      <p:cBhvr additive="base">
                                        <p:cTn id="21" dur="500"/>
                                        <p:tgtEl>
                                          <p:spTgt spid="1112"/>
                                        </p:tgtEl>
                                        <p:attrNameLst>
                                          <p:attrName>ppt_x</p:attrName>
                                        </p:attrNameLst>
                                      </p:cBhvr>
                                      <p:tavLst>
                                        <p:tav tm="0">
                                          <p:val>
                                            <p:strVal val="#ppt_x"/>
                                          </p:val>
                                        </p:tav>
                                        <p:tav tm="100000">
                                          <p:val>
                                            <p:strVal val="#ppt_x"/>
                                          </p:val>
                                        </p:tav>
                                      </p:tavLst>
                                    </p:anim>
                                    <p:anim calcmode="lin" valueType="num">
                                      <p:cBhvr additive="base">
                                        <p:cTn id="22" dur="500"/>
                                        <p:tgtEl>
                                          <p:spTgt spid="1112"/>
                                        </p:tgtEl>
                                        <p:attrNameLst>
                                          <p:attrName>ppt_y</p:attrName>
                                        </p:attrNameLst>
                                      </p:cBhvr>
                                      <p:tavLst>
                                        <p:tav tm="0">
                                          <p:val>
                                            <p:strVal val="#ppt_y"/>
                                          </p:val>
                                        </p:tav>
                                        <p:tav tm="100000">
                                          <p:val>
                                            <p:strVal val="1+#ppt_h/2"/>
                                          </p:val>
                                        </p:tav>
                                      </p:tavLst>
                                    </p:anim>
                                    <p:set>
                                      <p:cBhvr>
                                        <p:cTn id="23" dur="1" fill="hold">
                                          <p:stCondLst>
                                            <p:cond delay="499"/>
                                          </p:stCondLst>
                                        </p:cTn>
                                        <p:tgtEl>
                                          <p:spTgt spid="1112"/>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path" presetID="56">
                                  <p:stCondLst>
                                    <p:cond delay="0"/>
                                  </p:stCondLst>
                                  <p:childTnLst>
                                    <p:animMotion origin="layout" path="M 0 0 L 0.25 -0.33333 E">
                                      <p:cBhvr>
                                        <p:cTn id="27" dur="2000" fill="hold"/>
                                        <p:tgtEl>
                                          <p:spTgt spid="1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6000" y="43920"/>
            <a:ext cx="9145800" cy="4753080"/>
          </a:xfrm>
          <a:prstGeom prst="rect">
            <a:avLst/>
          </a:prstGeom>
          <a:noFill/>
          <a:ln w="0">
            <a:noFill/>
          </a:ln>
        </p:spPr>
        <p:txBody>
          <a:bodyPr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rPr>
              <a:t>　</a:t>
            </a:r>
            <a:r>
              <a:rPr b="1" lang="zh-CN" sz="2000" spc="-1" strike="noStrike">
                <a:solidFill>
                  <a:srgbClr val="800000"/>
                </a:solidFill>
                <a:latin typeface="Arial"/>
                <a:ea typeface="宋体"/>
              </a:rPr>
              <a:t>   </a:t>
            </a:r>
            <a:r>
              <a:rPr b="1" lang="zh-CN" sz="2800" spc="-1" strike="noStrike">
                <a:solidFill>
                  <a:srgbClr val="800000"/>
                </a:solidFill>
                <a:latin typeface="黑体"/>
                <a:ea typeface="黑体"/>
              </a:rPr>
              <a:t>指南针是我国古代著名的四大发明之一，它出现于战国时期，距今已有</a:t>
            </a:r>
            <a:r>
              <a:rPr b="1" lang="zh-CN" sz="2800" spc="-1" strike="noStrike">
                <a:solidFill>
                  <a:srgbClr val="800000"/>
                </a:solidFill>
                <a:latin typeface="黑体"/>
                <a:ea typeface="黑体"/>
              </a:rPr>
              <a:t>2000</a:t>
            </a:r>
            <a:r>
              <a:rPr b="1" lang="zh-CN" sz="2800" spc="-1" strike="noStrike">
                <a:solidFill>
                  <a:srgbClr val="800000"/>
                </a:solidFill>
                <a:latin typeface="黑体"/>
                <a:ea typeface="黑体"/>
              </a:rPr>
              <a:t>多年的历史。</a:t>
            </a:r>
            <a:endParaRPr b="0" lang="en-US" sz="2800" spc="-1" strike="noStrike">
              <a:solidFill>
                <a:srgbClr val="800000"/>
              </a:solidFill>
              <a:latin typeface="Arial"/>
            </a:endParaRPr>
          </a:p>
          <a:p>
            <a:pPr marL="343080" indent="-343080">
              <a:lnSpc>
                <a:spcPct val="80000"/>
              </a:lnSpc>
              <a:spcBef>
                <a:spcPts val="700"/>
              </a:spcBef>
              <a:buClr>
                <a:srgbClr val="8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最初的指南针是用天然磁石制成的，样子像一只勺，底部光滑，可以在平滑的铜质或木质的“地盘”上自由旋转，等它静止下来，勺柄就会指向南方。人们管它叫“司南”。大约在北宋初期，我国古人又创制了一种新的指南工具——指南鱼。指南鱼用一块薄钢片做成，形状像鱼，鱼的肚皮部分凹下去一些，像小船一样浮在水面上。宋代还有用木头做的指南鱼和指南龟。木指南鱼是用木块刻成的，鱼腹里放入一块磁性强的天然磁石，用蜡封好，在鱼口插入一根针，此鱼就能指南了。指南龟的制法和原理与木指南鱼基本相同。</a:t>
            </a:r>
            <a:endParaRPr b="0" lang="en-US" sz="2800" spc="-1" strike="noStrike">
              <a:solidFill>
                <a:srgbClr val="800000"/>
              </a:solidFill>
              <a:latin typeface="Arial"/>
            </a:endParaRPr>
          </a:p>
          <a:p>
            <a:pPr marL="343080" indent="-34308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rPr>
              <a:t>　　</a:t>
            </a:r>
            <a:endParaRPr b="0" lang="en-US" sz="2000" spc="-1" strike="noStrike">
              <a:solidFill>
                <a:srgbClr val="800000"/>
              </a:solidFill>
              <a:latin typeface="Arial"/>
            </a:endParaRPr>
          </a:p>
        </p:txBody>
      </p:sp>
      <p:sp>
        <p:nvSpPr>
          <p:cNvPr id="1114" name="WordArt 3"/>
          <p:cNvSpPr txBox="1"/>
          <p:nvPr/>
        </p:nvSpPr>
        <p:spPr>
          <a:xfrm>
            <a:off x="2195640" y="4724280"/>
            <a:ext cx="4608360" cy="15843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000099"/>
                  </a:solidFill>
                  <a:bevel/>
                </a:ln>
                <a:solidFill>
                  <a:srgbClr val="33ccff"/>
                </a:solidFill>
                <a:effectLst>
                  <a:outerShdw dist="107932" dir="18900000" blurRad="0" rotWithShape="0">
                    <a:srgbClr val="000099"/>
                  </a:outerShdw>
                </a:effectLst>
                <a:latin typeface="宋体"/>
              </a:rPr>
              <a:t>指南针的历史</a:t>
            </a:r>
            <a:endParaRPr b="1" lang="en-US" sz="4400" spc="1" strike="noStrike">
              <a:ln w="12600">
                <a:solidFill>
                  <a:srgbClr val="000099"/>
                </a:solidFill>
                <a:bevel/>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8" presetSubtype="16">
                                  <p:stCondLst>
                                    <p:cond delay="0"/>
                                  </p:stCondLst>
                                  <p:childTnLst>
                                    <p:set>
                                      <p:cBhvr>
                                        <p:cTn id="33" dur="1" fill="hold">
                                          <p:stCondLst>
                                            <p:cond delay="0"/>
                                          </p:stCondLst>
                                        </p:cTn>
                                        <p:tgtEl>
                                          <p:spTgt spid="1114"/>
                                        </p:tgtEl>
                                        <p:attrNameLst>
                                          <p:attrName>style.visibility</p:attrName>
                                        </p:attrNameLst>
                                      </p:cBhvr>
                                      <p:to>
                                        <p:strVal val="visible"/>
                                      </p:to>
                                    </p:set>
                                    <p:animEffect filter="diamond(in)" transition="in">
                                      <p:cBhvr additive="repl">
                                        <p:cTn id="34" dur="2000"/>
                                        <p:tgtEl>
                                          <p:spTgt spid="1114"/>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mph" presetID="8">
                                  <p:stCondLst>
                                    <p:cond delay="0"/>
                                  </p:stCondLst>
                                  <p:childTnLst>
                                    <p:animRot by="21600000">
                                      <p:cBhvr>
                                        <p:cTn id="38" dur="2000" fill="hold"/>
                                        <p:tgtEl>
                                          <p:spTgt spid="1114"/>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0">
                                  <p:stCondLst>
                                    <p:cond delay="0"/>
                                  </p:stCondLst>
                                  <p:childTnLst>
                                    <p:set>
                                      <p:cBhvr>
                                        <p:cTn id="42" dur="1" fill="hold">
                                          <p:stCondLst>
                                            <p:cond delay="0"/>
                                          </p:stCondLst>
                                        </p:cTn>
                                        <p:tgtEl>
                                          <p:spTgt spid="1114"/>
                                        </p:tgtEl>
                                        <p:attrNameLst>
                                          <p:attrName>style.visibility</p:attrName>
                                        </p:attrNameLst>
                                      </p:cBhvr>
                                      <p:to>
                                        <p:strVal val="visible"/>
                                      </p:to>
                                    </p:set>
                                    <p:animEffect filter="wedge" transition="in">
                                      <p:cBhvr additive="repl">
                                        <p:cTn id="43" dur="2000"/>
                                        <p:tgtEl>
                                          <p:spTgt spid="1114"/>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mph" presetID="27">
                                  <p:stCondLst>
                                    <p:cond delay="0"/>
                                  </p:stCondLst>
                                  <p:childTnLst>
                                    <p:animClr clrSpc="rgb">
                                      <p:cBhvr>
                                        <p:cTn id="47" dur="250" autoRev="1" fill="hold"/>
                                        <p:tgtEl>
                                          <p:spTgt spid="1114"/>
                                        </p:tgtEl>
                                        <p:attrNameLst>
                                          <p:attrName>style.color</p:attrName>
                                        </p:attrNameLst>
                                      </p:cBhvr>
                                      <p:to>
                                        <a:srgbClr val="ffffd9"/>
                                      </p:to>
                                    </p:animClr>
                                    <p:animClr clrSpc="rgb">
                                      <p:cBhvr>
                                        <p:cTn id="48" dur="250" autoRev="1" fill="hold"/>
                                        <p:tgtEl>
                                          <p:spTgt spid="1114"/>
                                        </p:tgtEl>
                                        <p:attrNameLst>
                                          <p:attrName>fillcolor</p:attrName>
                                        </p:attrNameLst>
                                      </p:cBhvr>
                                      <p:to>
                                        <a:srgbClr val="ffffd9"/>
                                      </p:to>
                                    </p:animClr>
                                    <p:set>
                                      <p:cBhvr>
                                        <p:cTn id="49" dur="250" autoRev="1" fill="hold"/>
                                        <p:tgtEl>
                                          <p:spTgt spid="11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181080" y="117360"/>
            <a:ext cx="8642160" cy="3889440"/>
          </a:xfrm>
          <a:prstGeom prst="rect">
            <a:avLst/>
          </a:prstGeom>
          <a:noFill/>
          <a:ln w="0">
            <a:noFill/>
          </a:ln>
        </p:spPr>
        <p:txBody>
          <a:bodyPr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       </a:t>
            </a:r>
            <a:r>
              <a:rPr b="1" lang="zh-CN" sz="2800" spc="-1" strike="noStrike">
                <a:solidFill>
                  <a:srgbClr val="800000"/>
                </a:solidFill>
                <a:latin typeface="黑体"/>
                <a:ea typeface="黑体"/>
              </a:rPr>
              <a:t>沈括在《梦溪笔谈》中记载：指南针指南“常微偏东，不全南也”。沈括第一次发现，磁针虽然朝着南方，但不是指的正南，而略有些偏东。这就是磁偏角现象，它的产生是由于地球的磁极与地理的南北极不重合，略有些偏差。这一发现在当时是件了不起的大事。在西方，直到公元</a:t>
            </a:r>
            <a:r>
              <a:rPr b="1" lang="zh-CN" sz="2800" spc="-1" strike="noStrike">
                <a:solidFill>
                  <a:srgbClr val="800000"/>
                </a:solidFill>
                <a:latin typeface="黑体"/>
                <a:ea typeface="黑体"/>
              </a:rPr>
              <a:t>1492</a:t>
            </a:r>
            <a:r>
              <a:rPr b="1" lang="zh-CN" sz="2800" spc="-1" strike="noStrike">
                <a:solidFill>
                  <a:srgbClr val="800000"/>
                </a:solidFill>
                <a:latin typeface="黑体"/>
                <a:ea typeface="黑体"/>
              </a:rPr>
              <a:t>年哥伦布横渡大西洋时，才发现有磁偏角存在，比我国沈括晚了</a:t>
            </a:r>
            <a:r>
              <a:rPr b="1" lang="zh-CN" sz="2800" spc="-1" strike="noStrike">
                <a:solidFill>
                  <a:srgbClr val="800000"/>
                </a:solidFill>
                <a:latin typeface="黑体"/>
                <a:ea typeface="黑体"/>
              </a:rPr>
              <a:t>400</a:t>
            </a:r>
            <a:r>
              <a:rPr b="1" lang="zh-CN" sz="2800" spc="-1" strike="noStrike">
                <a:solidFill>
                  <a:srgbClr val="800000"/>
                </a:solidFill>
                <a:latin typeface="黑体"/>
                <a:ea typeface="黑体"/>
              </a:rPr>
              <a:t>多年。</a:t>
            </a:r>
            <a:endParaRPr b="0" lang="en-US" sz="2800" spc="-1" strike="noStrike">
              <a:solidFill>
                <a:srgbClr val="800000"/>
              </a:solidFill>
              <a:latin typeface="Arial"/>
            </a:endParaRPr>
          </a:p>
          <a:p>
            <a:pPr marL="343080" indent="-343080">
              <a:lnSpc>
                <a:spcPct val="80000"/>
              </a:lnSpc>
              <a:spcBef>
                <a:spcPts val="700"/>
              </a:spcBef>
              <a:buClr>
                <a:srgbClr val="8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据史料记载，东汉的张衡发明过指南车。指南车上装有非常复杂巧妙的机械。它的中央是一个大平轮，木头人就竖立在上面，在大平轮的两旁，还装有很多小齿轮，如果车子向左转，右边的车轮就会带动小齿轮，小齿轮再带动大平轮，使大平轮相反地向右转。于是，木头人的手臂始终指向南方。 </a:t>
            </a:r>
            <a:endParaRPr b="0" lang="en-US" sz="2800" spc="-1" strike="noStrike">
              <a:solidFill>
                <a:srgbClr val="800000"/>
              </a:solidFill>
              <a:latin typeface="Arial"/>
            </a:endParaRPr>
          </a:p>
          <a:p>
            <a:pPr marL="343080" indent="-343080">
              <a:lnSpc>
                <a:spcPct val="100000"/>
              </a:lnSpc>
              <a:spcBef>
                <a:spcPts val="700"/>
              </a:spcBef>
              <a:buClr>
                <a:srgbClr val="8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sp>
        <p:nvSpPr>
          <p:cNvPr id="1116" name="文本框 8199"/>
          <p:cNvSpPr/>
          <p:nvPr/>
        </p:nvSpPr>
        <p:spPr>
          <a:xfrm>
            <a:off x="2516040" y="25192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5050"/>
                </a:solidFill>
                <a:uFillTx/>
                <a:latin typeface="Arial"/>
                <a:ea typeface="宋体"/>
                <a:hlinkClick r:id="rId1"/>
              </a:rPr>
              <a:t>ppt</a:t>
            </a:r>
            <a:r>
              <a:rPr b="0" lang="zh-CN" sz="1600" spc="-1" strike="noStrike" u="sng">
                <a:solidFill>
                  <a:srgbClr val="ff5050"/>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WordArt 2"/>
          <p:cNvSpPr txBox="1"/>
          <p:nvPr/>
        </p:nvSpPr>
        <p:spPr>
          <a:xfrm>
            <a:off x="4788000" y="5661000"/>
            <a:ext cx="432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指南针的发明使</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1118" name="Text Box 3"/>
          <p:cNvSpPr/>
          <p:nvPr/>
        </p:nvSpPr>
        <p:spPr>
          <a:xfrm>
            <a:off x="252360" y="10800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966ff"/>
                </a:solidFill>
                <a:latin typeface="黑体"/>
                <a:ea typeface="黑体"/>
              </a:rPr>
              <a:t>中国是世界上公认发明指南针的国家。指南针的发明是我国汉族劳动人民在长期的实践中对物体磁性认识的结果。由于生产劳动，人们接触了磁铁矿，开始了对磁性质的了解。人们首先发现了磁石吸引铁的性质，后来又发现了磁石的指向性。经过多方面的实验和研究，终于发明了实用的指南针。最早的指南针是用天然磁体做成的，这说明中国汉族劳动人民很早就发现了天然磁铁及其吸铁性。据古书记载，远在春秋战国时期，由于正处在奴隶制社会向封建社会过渡的大变革时期，生产力有了很大的发展，特别是农业生产更是兴盛发达，因而促使了采矿业、冶炼业的发展。在长期的生产实践中，人们从铁矿石中认识了磁石。 最早的指南针是司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dur="indefinite" nodeType="withEffect" fill="hold" presetClass="entr" presetID="20">
                                  <p:stCondLst>
                                    <p:cond delay="0"/>
                                  </p:stCondLst>
                                  <p:childTnLst>
                                    <p:set>
                                      <p:cBhvr>
                                        <p:cTn id="55" dur="1" fill="hold">
                                          <p:stCondLst>
                                            <p:cond delay="0"/>
                                          </p:stCondLst>
                                        </p:cTn>
                                        <p:tgtEl>
                                          <p:spTgt spid="1117"/>
                                        </p:tgtEl>
                                        <p:attrNameLst>
                                          <p:attrName>style.visibility</p:attrName>
                                        </p:attrNameLst>
                                      </p:cBhvr>
                                      <p:to>
                                        <p:strVal val="visible"/>
                                      </p:to>
                                    </p:set>
                                    <p:animEffect filter="wedge" transition="in">
                                      <p:cBhvr additive="repl">
                                        <p:cTn id="56" dur="2000"/>
                                        <p:tgtEl>
                                          <p:spTgt spid="1117"/>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mph" presetID="27">
                                  <p:stCondLst>
                                    <p:cond delay="0"/>
                                  </p:stCondLst>
                                  <p:childTnLst>
                                    <p:animClr clrSpc="rgb">
                                      <p:cBhvr>
                                        <p:cTn id="60" dur="250" autoRev="1" fill="hold"/>
                                        <p:tgtEl>
                                          <p:spTgt spid="1117"/>
                                        </p:tgtEl>
                                        <p:attrNameLst>
                                          <p:attrName>style.color</p:attrName>
                                        </p:attrNameLst>
                                      </p:cBhvr>
                                      <p:to>
                                        <a:srgbClr val="ffffff"/>
                                      </p:to>
                                    </p:animClr>
                                    <p:animClr clrSpc="rgb">
                                      <p:cBhvr>
                                        <p:cTn id="61" dur="250" autoRev="1" fill="hold"/>
                                        <p:tgtEl>
                                          <p:spTgt spid="1117"/>
                                        </p:tgtEl>
                                        <p:attrNameLst>
                                          <p:attrName>fillcolor</p:attrName>
                                        </p:attrNameLst>
                                      </p:cBhvr>
                                      <p:to>
                                        <a:srgbClr val="ffffff"/>
                                      </p:to>
                                    </p:animClr>
                                    <p:set>
                                      <p:cBhvr>
                                        <p:cTn id="62" dur="250" autoRev="1" fill="hold"/>
                                        <p:tgtEl>
                                          <p:spTgt spid="1117"/>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path" presetID="63">
                                  <p:stCondLst>
                                    <p:cond delay="0"/>
                                  </p:stCondLst>
                                  <p:childTnLst>
                                    <p:animMotion origin="layout" path="M 0 0 L 0.25 0 E">
                                      <p:cBhvr>
                                        <p:cTn id="66" dur="2000" fill="hold"/>
                                        <p:tgtEl>
                                          <p:spTgt spid="1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Text Box 2"/>
          <p:cNvSpPr/>
          <p:nvPr/>
        </p:nvSpPr>
        <p:spPr>
          <a:xfrm>
            <a:off x="527040" y="393840"/>
            <a:ext cx="80773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99"/>
                </a:solidFill>
                <a:latin typeface="黑体"/>
                <a:ea typeface="黑体"/>
              </a:rPr>
              <a:t>    </a:t>
            </a:r>
            <a:r>
              <a:rPr b="1" lang="zh-CN" sz="4000" spc="-1" strike="noStrike">
                <a:solidFill>
                  <a:srgbClr val="ffffff"/>
                </a:solidFill>
                <a:latin typeface="黑体"/>
                <a:ea typeface="黑体"/>
              </a:rPr>
              <a:t>使用指南针，可使地图和实际地形的方位一致，探知现在你所在的地点和寻找的目的地的方位。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指南针务必水平地拿着，而且要远离以下列举的各种物品，才可避免磁针发生错乱：指南针应离铁丝网</a:t>
            </a:r>
            <a:r>
              <a:rPr b="1" lang="zh-CN" sz="4000" spc="-1" strike="noStrike">
                <a:solidFill>
                  <a:srgbClr val="ffffff"/>
                </a:solidFill>
                <a:latin typeface="黑体"/>
                <a:ea typeface="黑体"/>
              </a:rPr>
              <a:t>10</a:t>
            </a:r>
            <a:r>
              <a:rPr b="1" lang="zh-CN" sz="4000" spc="-1" strike="noStrike">
                <a:solidFill>
                  <a:srgbClr val="ffffff"/>
                </a:solidFill>
                <a:latin typeface="黑体"/>
                <a:ea typeface="黑体"/>
              </a:rPr>
              <a:t>米，高压线</a:t>
            </a:r>
            <a:r>
              <a:rPr b="1" lang="zh-CN" sz="4000" spc="-1" strike="noStrike">
                <a:solidFill>
                  <a:srgbClr val="ffffff"/>
                </a:solidFill>
                <a:latin typeface="黑体"/>
                <a:ea typeface="黑体"/>
              </a:rPr>
              <a:t>55</a:t>
            </a:r>
            <a:r>
              <a:rPr b="1" lang="zh-CN" sz="4000" spc="-1" strike="noStrike">
                <a:solidFill>
                  <a:srgbClr val="ffffff"/>
                </a:solidFill>
                <a:latin typeface="黑体"/>
                <a:ea typeface="黑体"/>
              </a:rPr>
              <a:t>米，汽车和飞机</a:t>
            </a:r>
            <a:r>
              <a:rPr b="1" lang="zh-CN" sz="4000" spc="-1" strike="noStrike">
                <a:solidFill>
                  <a:srgbClr val="ffffff"/>
                </a:solidFill>
                <a:latin typeface="黑体"/>
                <a:ea typeface="黑体"/>
              </a:rPr>
              <a:t>20</a:t>
            </a:r>
            <a:r>
              <a:rPr b="1" lang="zh-CN" sz="4000" spc="-1" strike="noStrike">
                <a:solidFill>
                  <a:srgbClr val="ffffff"/>
                </a:solidFill>
                <a:latin typeface="黑体"/>
                <a:ea typeface="黑体"/>
              </a:rPr>
              <a:t>米，以及含有磁铁如磁性容器等</a:t>
            </a:r>
            <a:r>
              <a:rPr b="1" lang="zh-CN" sz="4000" spc="-1" strike="noStrike">
                <a:solidFill>
                  <a:srgbClr val="ffffff"/>
                </a:solidFill>
                <a:latin typeface="黑体"/>
                <a:ea typeface="黑体"/>
              </a:rPr>
              <a:t>10</a:t>
            </a:r>
            <a:r>
              <a:rPr b="1" lang="zh-CN" sz="4000" spc="-1" strike="noStrike">
                <a:solidFill>
                  <a:srgbClr val="ffffff"/>
                </a:solidFill>
                <a:latin typeface="黑体"/>
                <a:ea typeface="黑体"/>
              </a:rPr>
              <a:t>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722160" y="476280"/>
            <a:ext cx="77724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74ebc"/>
                </a:solidFill>
                <a:latin typeface="微软雅黑"/>
              </a:rPr>
              <a:t>指南针的影响</a:t>
            </a:r>
            <a:endParaRPr b="0" lang="en-US" sz="4000" spc="-1" strike="noStrike">
              <a:solidFill>
                <a:srgbClr val="f74ebc"/>
              </a:solidFill>
              <a:latin typeface="微软雅黑"/>
            </a:endParaRPr>
          </a:p>
        </p:txBody>
      </p:sp>
      <p:sp>
        <p:nvSpPr>
          <p:cNvPr id="1121" name="PlaceHolder 2"/>
          <p:cNvSpPr>
            <a:spLocks noGrp="1"/>
          </p:cNvSpPr>
          <p:nvPr>
            <p:ph type="subTitle"/>
          </p:nvPr>
        </p:nvSpPr>
        <p:spPr>
          <a:xfrm>
            <a:off x="468000" y="1700280"/>
            <a:ext cx="8351640" cy="3960720"/>
          </a:xfrm>
          <a:prstGeom prst="rect">
            <a:avLst/>
          </a:prstGeom>
          <a:noFill/>
          <a:ln w="0">
            <a:noFill/>
          </a:ln>
        </p:spPr>
        <p:txBody>
          <a:bodyPr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74ebc"/>
                </a:solidFill>
                <a:latin typeface="微软雅黑"/>
              </a:rPr>
              <a:t>          </a:t>
            </a:r>
            <a:r>
              <a:rPr b="0" lang="zh-CN" sz="4000" spc="-1" strike="noStrike">
                <a:solidFill>
                  <a:srgbClr val="0066ff"/>
                </a:solidFill>
                <a:latin typeface="微软雅黑"/>
              </a:rPr>
              <a:t>指南针，据史料记载，在战国时已有用天然磁铁矿琢磨成的指南针，称为司南，即为指南针的前身。最早记载见于《韩非子</a:t>
            </a:r>
            <a:r>
              <a:rPr b="0" lang="zh-CN" sz="4000" spc="-1" strike="noStrike">
                <a:solidFill>
                  <a:srgbClr val="0066ff"/>
                </a:solidFill>
                <a:latin typeface="微软雅黑"/>
              </a:rPr>
              <a:t>·</a:t>
            </a:r>
            <a:r>
              <a:rPr b="0" lang="zh-CN" sz="4000" spc="-1" strike="noStrike">
                <a:solidFill>
                  <a:srgbClr val="0066ff"/>
                </a:solidFill>
                <a:latin typeface="微软雅黑"/>
              </a:rPr>
              <a:t>有度》，其著作年代约在公元前</a:t>
            </a:r>
            <a:r>
              <a:rPr b="0" lang="zh-CN" sz="4000" spc="-1" strike="noStrike">
                <a:solidFill>
                  <a:srgbClr val="0066ff"/>
                </a:solidFill>
                <a:latin typeface="微软雅黑"/>
              </a:rPr>
              <a:t>3</a:t>
            </a:r>
            <a:r>
              <a:rPr b="0" lang="zh-CN" sz="4000" spc="-1" strike="noStrike">
                <a:solidFill>
                  <a:srgbClr val="0066ff"/>
                </a:solidFill>
                <a:latin typeface="微软雅黑"/>
              </a:rPr>
              <a:t>世纪。指南针的发明是我国人民在科技领域的伟大创造。它对今后的航海技术产生了极大的影响。</a:t>
            </a:r>
            <a:endParaRPr b="0" lang="en-US" sz="4000" spc="-1" strike="noStrike">
              <a:solidFill>
                <a:srgbClr val="f74ebc"/>
              </a:solidFill>
              <a:latin typeface="微软雅黑"/>
            </a:endParaRPr>
          </a:p>
        </p:txBody>
      </p:sp>
      <p:sp>
        <p:nvSpPr>
          <p:cNvPr id="1122" name="Text Box 4"/>
          <p:cNvSpPr/>
          <p:nvPr/>
        </p:nvSpPr>
        <p:spPr>
          <a:xfrm>
            <a:off x="108000" y="-23760"/>
            <a:ext cx="9001080" cy="6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微软雅黑"/>
                <a:ea typeface="宋体"/>
                <a:hlinkClick r:id="rId1"/>
              </a:rPr>
              <a:t>ppt</a:t>
            </a:r>
            <a:r>
              <a:rPr b="0" lang="zh-CN" sz="1600" spc="-1" strike="noStrike" u="sng">
                <a:solidFill>
                  <a:srgbClr val="009999"/>
                </a:solidFill>
                <a:uFillTx/>
                <a:latin typeface="微软雅黑"/>
                <a:ea typeface="宋体"/>
                <a:hlinkClick r:id="rId2"/>
              </a:rPr>
              <a:t>模版免费下载</a:t>
            </a:r>
            <a:r>
              <a:rPr b="0" lang="en-US" sz="1600" spc="-1" strike="noStrike">
                <a:solidFill>
                  <a:srgbClr val="000000"/>
                </a:solidFill>
                <a:latin typeface="微软雅黑"/>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4" name="Picture 2" descr=""/>
          <p:cNvPicPr/>
          <p:nvPr/>
        </p:nvPicPr>
        <p:blipFill>
          <a:blip r:embed="rId1"/>
          <a:stretch/>
        </p:blipFill>
        <p:spPr>
          <a:xfrm>
            <a:off x="0" y="2349360"/>
            <a:ext cx="9164520" cy="4464360"/>
          </a:xfrm>
          <a:prstGeom prst="rect">
            <a:avLst/>
          </a:prstGeom>
          <a:ln w="0">
            <a:noFill/>
          </a:ln>
        </p:spPr>
      </p:pic>
      <p:sp>
        <p:nvSpPr>
          <p:cNvPr id="1125" name="WordArt 3"/>
          <p:cNvSpPr txBox="1"/>
          <p:nvPr/>
        </p:nvSpPr>
        <p:spPr>
          <a:xfrm>
            <a:off x="5076720" y="44280"/>
            <a:ext cx="3570480" cy="309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99ccff"/>
                  </a:solidFill>
                  <a:round/>
                </a:ln>
                <a:solidFill>
                  <a:srgbClr val="0066cc"/>
                </a:solidFill>
                <a:effectLst>
                  <a:outerShdw dist="17819" dir="2700000" blurRad="0" rotWithShape="0">
                    <a:srgbClr val="990000"/>
                  </a:outerShdw>
                </a:effectLst>
                <a:latin typeface="宋体"/>
              </a:rPr>
              <a:t>司南</a:t>
            </a:r>
            <a:endParaRPr b="1" lang="en-US" sz="60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5" presetSubtype="10">
                                  <p:stCondLst>
                                    <p:cond delay="0"/>
                                  </p:stCondLst>
                                  <p:childTnLst>
                                    <p:set>
                                      <p:cBhvr>
                                        <p:cTn id="72" dur="1" fill="hold">
                                          <p:stCondLst>
                                            <p:cond delay="0"/>
                                          </p:stCondLst>
                                        </p:cTn>
                                        <p:tgtEl>
                                          <p:spTgt spid="1124"/>
                                        </p:tgtEl>
                                        <p:attrNameLst>
                                          <p:attrName>style.visibility</p:attrName>
                                        </p:attrNameLst>
                                      </p:cBhvr>
                                      <p:to>
                                        <p:strVal val="visible"/>
                                      </p:to>
                                    </p:set>
                                    <p:animEffect filter="checkerboard(across)" transition="in">
                                      <p:cBhvr additive="repl">
                                        <p:cTn id="73" dur="500"/>
                                        <p:tgtEl>
                                          <p:spTgt spid="1124"/>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mph" presetID="6">
                                  <p:stCondLst>
                                    <p:cond delay="0"/>
                                  </p:stCondLst>
                                  <p:childTnLst>
                                    <p:animScale>
                                      <p:cBhvr>
                                        <p:cTn id="77" dur="2000" fill="hold"/>
                                        <p:tgtEl>
                                          <p:spTgt spid="1124"/>
                                        </p:tgtEl>
                                      </p:cBhvr>
                                      <p:to x="150000" y="150000"/>
                                    </p:animScale>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xit" presetID="8" presetSubtype="16">
                                  <p:stCondLst>
                                    <p:cond delay="0"/>
                                  </p:stCondLst>
                                  <p:childTnLst>
                                    <p:animEffect filter="diamond(in)" transition="out">
                                      <p:cBhvr additive="repl">
                                        <p:cTn id="81" dur="2000"/>
                                        <p:tgtEl>
                                          <p:spTgt spid="1124"/>
                                        </p:tgtEl>
                                      </p:cBhvr>
                                    </p:animEffect>
                                    <p:set>
                                      <p:cBhvr>
                                        <p:cTn id="82" dur="1" fill="hold">
                                          <p:stCondLst>
                                            <p:cond delay="1999"/>
                                          </p:stCondLst>
                                        </p:cTn>
                                        <p:tgtEl>
                                          <p:spTgt spid="1124"/>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path" presetID="0">
                                  <p:stCondLst>
                                    <p:cond delay="0"/>
                                  </p:stCondLst>
                                  <p:childTnLst>
                                    <p:animMotion origin="layout" path="M 0 0 L -0.001916 -0.002553 L 0 0 Z">
                                      <p:cBhvr>
                                        <p:cTn id="86" dur="2000" fill="hold"/>
                                        <p:tgtEl>
                                          <p:spTgt spid="1124"/>
                                        </p:tgtEl>
                                      </p:cBhvr>
                                    </p:animMotion>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path" presetID="0">
                                  <p:stCondLst>
                                    <p:cond delay="0"/>
                                  </p:stCondLst>
                                  <p:childTnLst>
                                    <p:animMotion origin="layout" path="M 0.311042 -0.66537 L 0.504601 -0.66537 L 0.504601 -0.016997 L -0.085659 -0.016997 L -0.085659 -0.019549 L -0.079909 -0.019549 L -0.077993 -0.022102 L -0.076076 -0.022102 L -0.07416 -0.024655 L -0.07416 -0.027207 L -0.068411 -0.027207 L -0.066494 -0.02976 L -0.062661 -0.02976 L -0.060745 -0.032313 L -0.058829 -0.032313 L -0.056912 -0.034865 L -0.051163 -0.034865 L -0.049246 -0.037418 L -0.043497 -0.037418 L -0.041581 -0.039971 L -0.039664 -0.039971 L -0.037748 -0.042523 L -0.037748 -0.045076 L -0.031999 -0.045076 L -0.030082 -0.047629 L -0.024333 -0.047629 L -0.022416 -0.050181 L -0.016667 -0.050181 L -0.014751 -0.052734 L -0.009001 -0.052734 L -0.007085 -0.055286 L -0.001336 -0.055286 L 0.000581 -0.057839 L 0.002497 -0.057839 L 0.004414 -0.060392 L 0.004414 -0.062944 L 0.00633 -0.065497 L 0.012079 -0.065497 L 0.013996 -0.06805 L 0.019745 -0.06805 L 0.021661 -0.070602 L 0.023578 -0.070602 L 0.025494 -0.073155 L 0.031244 -0.073155 L 0.03316 -0.075708 L 0.038909 -0.075708 L 0.040826 -0.07826 L 0.042742 -0.07826 L 0.044659 -0.080813 L 0.044659 -0.083366 L 0.050408 -0.083366 L 0.052324 -0.085918 L 0.058074 -0.085918 L 0.05999 -0.088471 L 0.065739 -0.088471 L 0.067656 -0.091024 L 0.069572 -0.091024 L 0.071489 -0.093576 L 0.075321 -0.093576 L 0.077238 -0.096129 L 0.079154 -0.096129 L 0.081071 -0.098682 L 0.081071 -0.101234 L 0.08682 -0.101234 L 0.088736 -0.103787 L 0.094486 -0.103787 L 0.096402 -0.10634 L 0.102151 -0.10634 L 0.104068 -0.108892 L 0.105984 -0.108892 L 0.107901 -0.111445 L 0.11365 -0.111445 L 0.115566 -0.113997 L 0.121316 -0.113997 L 0.123232 -0.11655 L 0.123232 -0.119103 L 0.125149 -0.119103 L 0.127065 -0.121655 L 0.136647 -0.121655 L 0.14048 -0.126761 L 0.146229 -0.126761 L 0.148146 -0.129313 L 0.150062 -0.129313 L 0.151979 -0.131866 L 0.157728 -0.131866 L 0.159644 -0.134419 L 0.159644 -0.136971 L 0.165394 -0.136971 L 0.16731 -0.139524 L 0.169226 -0.139524 L 0.171143 -0.142077 L 0.176892 -0.142077 L 0.178808 -0.144629 L 0.184558 -0.144629 L 0.186474 -0.147182 L 0.188391 -0.147182 L 0.190307 -0.149735 L 0.196056 -0.149735 L 0.197973 -0.152287 L 0.203722 -0.152287 L 0.205638 -0.15484 L 0.205638 -0.157393 L 0.209471 -0.157393 L 0.211388 -0.159945 L 0.217137 -0.159945 L 0.219053 -0.162498 L 0.22097 -0.162498 L 0.222886 -0.16505 L 0.228636 -0.16505 L 0.230552 -0.167603 L 0.236301 -0.167603 L 0.238218 -0.170156 L 0.240134 -0.170156 L 0.242051 -0.172708 L 0.242051 -0.175261 L 0.2478 -0.175261 L 0.249716 -0.177814 L 0.255466 -0.177814 L 0.257382 -0.180366 L 0.263131 -0.180366 L 0.265048 -0.182919 L 0.270797 -0.182919 L 0.272713 -0.185472 L 0.276546 -0.185472 L 0.278463 -0.182919 L 0.280379 -0.182919 L 0.282296 -0.185472 L 0.282296 -0.188024 L 0.280379 -0.190577 L 0.278463 -0.190577 L 0.278463 -0.19313 L 0.288045 -0.19313 L 0.289961 -0.195682 L 0.307209 -0.195682 L 0.309126 -0.198235 L 0.309126 -0.20334 L 0.314875 -0.20334 L 0.316791 -0.205893 L 0.322541 -0.205893 L 0.324457 -0.208446 L 0.330206 -0.208446 L 0.332123 -0.210998 L 0.332123 -0.216103 L 0.339788 -0.216103 L 0.341705 -0.218656 L 0.343621 -0.218656 L 0.345538 -0.221209 L 0.351287 -0.221209 L 0.353203 -0.223761 L 0.358953 -0.223761 L 0.360869 -0.226314 L 0.366618 -0.226314 L 0.368535 -0.228867 L 0.368535 -0.231419 L 0.370451 -0.231419 L 0.372368 -0.233972 L 0.378117 -0.233972 L 0.380033 -0.236525 L 0.38195 -0.236525 L 0.383866 -0.239077 L 0.389616 -0.239077 L 0.391532 -0.24163 L 0.393448 -0.24163 L 0.395365 -0.239077 L 0.397281 -0.239077 L 0.399198 -0.24163 L 0.399198 -0.244183 L 0.404947 -0.244183 L 0.406863 -0.246735 L 0.406863 -0.249288 L 0.410696 -0.249288 L 0.412613 -0.251841 L 0.414529 -0.251841 L 0.416446 -0.254393 L 0.422195 -0.254393 L 0.424111 -0.256946 L 0.433693 -0.256946 L 0.43561 -0.259499 L 0.437526 -0.259499 L 0.439443 -0.262051 L 0.445192 -0.262051 L 0.447108 -0.264604 L 0.447108 -0.267156 L 0.449025 -0.267156 L 0.450941 -0.269709 L 0.452858 -0.269709 L 0.454774 -0.272262 L 0.45669 -0.272262 L 0.458607 -0.274814 L 0.458607 -0.282472 L 0.45669 -0.285025 L 0.454774 -0.285025 L 0.454774 -0.287578 L 0.452858 -0.29013 L 0.454774 -0.292683 L 0.454774 -0.295236 L 0.452858 -0.297788 L 0.450941 -0.297788 L 0.449025 -0.295236 L 0.449025 -0.292683 L 0.450941 -0.29013 L 0.447108 -0.29013 L 0.447108 -0.292683 L 0.445192 -0.295236 L 0.443276 -0.295236 L 0.443276 -0.307999 L 0.445192 -0.307999 L 0.447108 -0.310552 L 0.447108 -0.323315 L 0.445192 -0.325867 L 0.443276 -0.325867 L 0.441359 -0.32842 L 0.439443 -0.32842 L 0.437526 -0.330973 L 0.43561 -0.330973 L 0.433693 -0.333525 L 0.431777 -0.333525 L 0.429861 -0.336078 L 0.427944 -0.336078 L 0.426028 -0.338631 L 0.424111 -0.338631 L 0.422195 -0.341183 L 0.420278 -0.341183 L 0.420278 -0.343736 L 0.418362 -0.346289 L 0.416446 -0.346289 L 0.414529 -0.348841 L 0.412613 -0.348841 L 0.410696 -0.351394 L 0.40878 -0.351394 L 0.404947 -0.356499 L 0.403031 -0.356499 L 0.401114 -0.359052 L 0.399198 -0.359052 L 0.399198 -0.361605 L 0.397281 -0.364157 L 0.395365 -0.364157 L 0.393448 -0.36671 L 0.391532 -0.36671 L 0.389616 -0.369263 L 0.387699 -0.369263 L 0.385783 -0.371815 L 0.383866 -0.371815 L 0.38195 -0.374368 L 0.380033 -0.374368 L 0.378117 -0.37692 L 0.376201 -0.37692 L 0.376201 -0.379473 L 0.374284 -0.382026 L 0.372368 -0.382026 L 0.370451 -0.384578 L 0.368535 -0.384578 L 0.366618 -0.387131 L 0.360869 -0.387131 L 0.358953 -0.389684 L 0.357036 -0.389684 L 0.357036 -0.392236 L 0.35512 -0.394789 L 0.349371 -0.394789 L 0.349371 -0.397342 L 0.347454 -0.399894 L 0.345538 -0.399894 L 0.343621 -0.402447 L 0.341705 -0.402447 L 0.337872 -0.407552 L 0.335956 -0.407552 L 0.334039 -0.410105 L 0.332123 -0.410105 L 0.330206 -0.412658 L 0.32829 -0.412658 L 0.326373 -0.41521 L 0.324457 -0.41521 L 0.324457 -0.417763 L 0.322541 -0.420316 L 0.320624 -0.420316 L 0.318708 -0.422868 L 0.316791 -0.422868 L 0.314875 -0.425421 L 0.312958 -0.425421 L 0.311042 -0.427973 L 0.309126 -0.427973 L 0.307209 -0.430526 L 0.305293 -0.430526 L 0.303376 -0.433079 L 0.297627 -0.433079 L 0.297627 -0.435631 L 0.295711 -0.438184 L 0.293794 -0.438184 L 0.291878 -0.440737 L 0.289961 -0.440737 L 0.288045 -0.443289 L 0.286128 -0.443289 L 0.284212 -0.445842 L 0.282296 -0.445842 L 0.280379 -0.448395 L 0.278463 -0.448395 L 0.276546 -0.450947 L 0.27463 -0.450947 L 0.27463 -0.4535 L 0.270797 -0.458605 L 0.268881 -0.458605 L 0.266964 -0.461158 L 0.265048 -0.461158 L 0.263131 -0.463711 L 0.261215 -0.463711 L 0.261215 -0.466263 L 0.280379 -0.466263 L 0.282296 -0.468816 L 0.295711 -0.468816 L 0.297627 -0.471369 L 0.297627 -0.479027 L 0.295711 -0.481579 L 0.289961 -0.481579 L 0.288045 -0.484132 L 0.286128 -0.484132 L 0.284212 -0.486684 L 0.282296 -0.486684 L 0.280379 -0.489237 L 0.27463 -0.489237 L 0.272713 -0.486684 L 0.257382 -0.486684 L 0.255466 -0.484132 L 0.242051 -0.484132 L 0.240134 -0.481579 L 0.238218 -0.481579 L 0.236301 -0.484132 L 0.234385 -0.484132 L 0.232468 -0.486684 L 0.230552 -0.486684 L 0.228636 -0.489237 L 0.222886 -0.489237 L 0.222886 -0.49179 L 0.22097 -0.494342 L 0.219053 -0.494342 L 0.217137 -0.496895 L 0.215221 -0.496895 L 0.213304 -0.499448 L 0.211388 -0.499448 L 0.209471 -0.502 L 0.207555 -0.502 L 0.203722 -0.507106 L 0.201806 -0.507106 L 0.201806 -0.509658 L 0.199889 -0.512211 L 0.197973 -0.512211 L 0.196056 -0.514764 L 0.19414 -0.514764 L 0.192223 -0.517316 L 0.190307 -0.517316 L 0.188391 -0.519869 L 0.186474 -0.519869 L 0.184558 -0.522422 L 0.182641 -0.522422 L 0.180725 -0.524974 L 0.178808 -0.524974 L 0.178808 -0.527527 L 0.176892 -0.53008 L 0.174976 -0.53008 L 0.173059 -0.532632 L 0.171143 -0.532632 L 0.169226 -0.535185 L 0.16731 -0.535185 L 0.165394 -0.537737 L 0.163477 -0.537737 L 0.161561 -0.54029 L 0.155811 -0.54029 L 0.153895 -0.542843 L 0.151979 -0.542843 L 0.150062 -0.545395 L 0.148146 -0.545395 L 0.148146 -0.547948 L 0.146229 -0.550501 L 0.144313 -0.550501 L 0.142396 -0.553053 L 0.14048 -0.553053 L 0.136647 -0.558159 L 0.134731 -0.558159 L 0.132814 -0.560711 L 0.130898 -0.560711 L 0.128981 -0.563264 L 0.127065 -0.563264 L 0.127065 -0.565817 L 0.125149 -0.568369 L 0.123232 -0.568369 L 0.121316 -0.570922 L 0.119399 -0.570922 L 0.117483 -0.573475 L 0.115566 -0.573475 L 0.11365 -0.576027 L 0.111734 -0.576027 L 0.109817 -0.57858 L 0.107901 -0.57858 L 0.105984 -0.581133 L 0.100235 -0.581133 L 0.100235 -0.586238 L 0.098319 -0.58879 L 0.092569 -0.58879 L 0.090653 -0.591343 L 0.088736 -0.591343 L 0.08682 -0.593896 L 0.084904 -0.593896 L 0.082987 -0.596448 L 0.081071 -0.596448 L 0.079154 -0.599001 L 0.077238 -0.599001 L 0.075321 -0.601554 L 0.073405 -0.601554 L 0.073405 -0.604106 L 0.069572 -0.609212 L 0.067656 -0.609212 L 0.065739 -0.611764 L 0.063823 -0.611764 L 0.061906 -0.614317 L 0.056157 -0.614317 L 0.054241 -0.61687 L 0.048491 -0.61687 L 0.046575 -0.614317 L 0.040826 -0.614317 L 0.038909 -0.611764 L 0.029327 -0.611764 L 0.027411 -0.609212 L 0.021661 -0.609212 L 0.019745 -0.606659 L 0.010163 -0.606659 L 0.008246 -0.604106 L 0.008246 -0.601554 L 0.004414 -0.601554 L 0.002497 -0.599001 L -0.003252 -0.599001 L -0.005169 -0.596448 L -0.010918 -0.596448 L -0.012834 -0.593896 L -0.018584 -0.593896 L -0.0205 -0.591343 L -0.026249 -0.591343 L -0.028166 -0.58879 L -0.037748 -0.58879 L -0.039664 -0.586238 L -0.045414 -0.586238 L -0.04733 -0.583685 L -0.04733 -0.581133 L -0.053079 -0.581133 L -0.054996 -0.57858 L -0.060745 -0.57858 L -0.062661 -0.576027 L -0.066494 -0.576027 L -0.068411 -0.573475 L -0.07416 -0.573475 L -0.076076 -0.570922 L -0.081826 -0.570922 L -0.083742 -0.568369 L -0.093324 -0.568369 L -0.095241 -0.565817 L -0.095241 -0.563264 L -0.10099 -0.563264 L -0.102906 -0.560711 L -0.108656 -0.560711 L -0.110572 -0.558159 L -0.116321 -0.558159 L -0.118238 -0.555606 L -0.123987 -0.555606 L -0.125903 -0.553053 L -0.129736 -0.553053 L -0.131653 -0.550501 L -0.137402 -0.550501 L -0.139319 -0.547948 L -0.139319 -0.545395 L -0.145068 -0.545395 L -0.146984 -0.542843 L -0.152733 -0.542843 L -0.15465 -0.54029 L -0.160399 -0.54029 L -0.162316 -0.537737 L -0.171898 -0.537737 L -0.173814 -0.535185 L -0.175731 -0.535185 L -0.177647 -0.532632 L -0.183396 -0.532632 L -0.185313 -0.53008 L -0.194895 -0.53008 L -0.196811 -0.527527 L -0.196811 -0.524974 L -0.200644 -0.524974 L -0.202561 -0.522422 L -0.20831 -0.522422 L -0.210226 -0.519869 L -0.215976 -0.519869 L -0.217892 -0.517316 L -0.223641 -0.517316 L -0.225558 -0.514764 L -0.231307 -0.514764 L -0.233223 -0.512211 L -0.238973 -0.512211 L -0.240889 -0.509658 L -0.240889 -0.507106 L -0.246638 -0.507106 L -0.248555 -0.504553 L -0.254304 -0.504553 L -0.256221 -0.502 L -0.26197 -0.502 L -0.263886 -0.499448 L -0.267719 -0.499448 L -0.269636 -0.496895 L -0.275385 -0.496895 L -0.277301 -0.494342 L -0.283051 -0.494342 L -0.284967 -0.49179 L -0.284967 -0.489237 L -0.294549 -0.489237 L -0.296466 -0.486684 L -0.298382 -0.486684 L -0.300298 -0.484132 L -0.309881 -0.484132 L -0.311797 -0.481579 L -0.317546 -0.481579 L -0.319463 -0.479027 L -0.325212 -0.479027 L -0.327128 -0.476474 L -0.330961 -0.476474 L -0.332878 -0.473921 L -0.332878 -0.471369 L -0.34246 -0.471369 L -0.344376 -0.468816 L -0.346293 -0.468816 L -0.348209 -0.466263 L -0.353958 -0.466263 L -0.355875 -0.468816 L -0.357791 -0.468816 L -0.359708 -0.466263 L -0.357791 -0.463711 L -0.359708 -0.461158 L -0.36929 -0.461158 L -0.371206 -0.458605 L -0.376956 -0.458605 L -0.378872 -0.456053 L -0.384621 -0.456053 L -0.386538 -0.4535 L -0.386538 -0.450947 L -0.392287 -0.450947 L -0.394203 -0.448395 L -0.39612 -0.448395 L -0.398036 -0.445842 L -0.405702 -0.445842 L -0.407618 -0.443289 L -0.413368 -0.443289 L -0.415284 -0.440737 L -0.421033 -0.440737 L -0.42295 -0.438184 L -0.428699 -0.438184 L -0.430615 -0.435631 L -0.430615 -0.433079 L -0.436365 -0.433079 L -0.438281 -0.430526 L -0.444031 -0.430526 L -0.445947 -0.427973 L -0.451696 -0.427973 L -0.453613 -0.425421 L -0.455529 -0.425421 L -0.457446 -0.422868 L -0.459362 -0.422868 L -0.461278 -0.420316 L -0.461278 -0.41521 L -0.463195 -0.41521 L -0.465111 -0.412658 L -0.463195 -0.410105 L -0.461278 -0.410105 L -0.461278 -0.402447 L -0.459362 -0.399894 L -0.457446 -0.399894 L -0.457446 -0.389684 L -0.455529 -0.387131 L -0.453613 -0.387131 L -0.453613 -0.37692 L -0.451696 -0.374368 L -0.44978 -0.374368 L -0.44978 -0.371815 L -0.447863 -0.369263 L -0.445947 -0.369263 L -0.444031 -0.36671 L -0.442114 -0.36671 L -0.440198 -0.364157 L -0.438281 -0.364157 L -0.438281 -0.359052 L -0.436365 -0.356499 L -0.434448 -0.356499 L -0.432532 -0.353947 L -0.430615 -0.353947 L -0.428699 -0.351394 L -0.426783 -0.351394 L -0.426783 -0.348841 L -0.424866 -0.346289 L -0.42295 -0.346289 L -0.421033 -0.343736 L -0.419117 -0.343736 L -0.419117 -0.338631 L -0.417201 -0.336078 L -0.415284 -0.336078 L -0.413368 -0.333525 L -0.411451 -0.333525 L -0.409535 -0.330973 L -0.407618 -0.330973 L -0.405702 -0.32842 L -0.403786 -0.32842 L -0.403786 -0.325867 L -0.401869 -0.323315 L -0.399953 -0.323315 L -0.399953 -0.320762 L -0.398036 -0.31821 L -0.398036 -0.315657 L -0.39612 -0.313104 L -0.394203 -0.313104 L -0.392287 -0.310552 L -0.390371 -0.310552 L -0.388454 -0.307999 L -0.386538 -0.307999 L -0.386538 -0.302894 L -0.384621 -0.300341 L -0.382705 -0.300341 L -0.380788 -0.297788 L -0.378872 -0.297788 L -0.376956 -0.295236 L -0.375039 -0.295236 L -0.375039 -0.292683 L -0.373123 -0.29013 L -0.371206 -0.29013 L -0.36929 -0.287578 L -0.367373 -0.287578 L -0.367373 -0.282472 L -0.365457 -0.27992 L -0.363541 -0.27992 L -0.361624 -0.277367 L -0.359708 -0.277367 L -0.357791 -0.274814 L -0.355875 -0.274814 L -0.355875 -0.272262 L -0.353958 -0.269709 L -0.352042 -0.269709 L -0.350126 -0.267156 L -0.348209 -0.267156 L -0.348209 -0.264604 L -0.346293 -0.262051 L -0.344376 -0.262051 L -0.344376 -0.259499 L -0.34246 -0.256946 L -0.340543 -0.256946 L -0.338627 -0.254393 L -0.336711 -0.254393 L -0.336711 -0.251841 L -0.334794 -0.249288 L -0.332878 -0.249288 L -0.332878 -0.246735 L -0.330961 -0.244183 L -0.330961 -0.24163 L -0.329045 -0.239077 L -0.327128 -0.239077 L -0.325212 -0.236525 L -0.323296 -0.236525 L -0.321379 -0.233972 L -0.319463 -0.233972 L -0.317546 -0.231419 L -0.31563 -0.231419 L -0.31563 -0.226314 L -0.313713 -0.223761 L -0.311797 -0.223761 L -0.309881 -0.221209 L -0.307964 -0.221209 L -0.306048 -0.218656 L -0.304131 -0.218656 L -0.302215 -0.216103 L -0.300298 -0.216103 L -0.300298 -0.210998 L -0.298382 -0.208446 L -0.296466 -0.208446 L -0.294549 -0.205893 L -0.292633 -0.205893 L -0.290716 -0.20334 L -0.2888 -0.20334 L -0.2888 -0.200788 L -0.286883 -0.198235 L -0.284967 -0.198235 L -0.284967 -0.195682 L -0.283051 -0.19313 L -0.281134 -0.19313 L -0.281134 -0.190577 L -0.279218 -0.188024 L -0.277301 -0.188024 L -0.275385 -0.185472 L -0.273468 -0.185472 L -0.273468 -0.182919 L -0.271552 -0.180366 L -0.269636 -0.180366 L -0.267719 -0.177814 L -0.265803 -0.177814 L -0.263886 -0.175261 L -0.263886 -0.170156 L -0.26197 -0.167603 L -0.260053 -0.167603 L -0.260053 -0.16505 L -0.258137 -0.162498 L -0.256221 -0.162498 L -0.254304 -0.159945 L -0.252388 -0.159945 L -0.250471 -0.157393 L -0.248555 -0.157393 L -0.248555 -0.152287 L -0.246638 -0.149735 L -0.244722 -0.149735 L -0.242806 -0.147182 L -0.240889 -0.147182 L -0.240889 -0.144629 L -0.238973 -0.142077 L -0.237056 -0.142077 L -0.23514 -0.139524 L -0.233223 -0.139524 L -0.231307 -0.136971 L -0.229391 -0.136971 L -0.229391 -0.131866 L -0.227474 -0.129313 L -0.221725 -0.129313 L -0.221725 -0.124208 L -0.219808 -0.121655 L -0.217892 -0.121655 L -0.215976 -0.119103 L -0.214059 -0.119103 L -0.214059 -0.11655 L -0.212143 -0.113997 L -0.210226 -0.113997 L -0.20831 -0.111445 L -0.206393 -0.111445 L -0.206393 -0.108892 L -0.204477 -0.10634 L -0.202561 -0.10634 L -0.200644 -0.103787 L -0.198728 -0.103787 L -0.196811 -0.101234 L -0.196811 -0.098682 L -0.194895 -0.096129 L -0.192978 -0.096129 L -0.192978 -0.093576 L -0.191062 -0.091024 L -0.189146 -0.091024 L -0.187229 -0.088471 L -0.185313 -0.088471 L -0.185313 -0.085918 L -0.183396 -0.083366 L -0.18148 -0.083366 L -0.18148 -0.080813 L -0.179563 -0.07826 L -0.177647 -0.07826 L -0.177647 -0.075708 L -0.175731 -0.073155 L -0.173814 -0.073155 L -0.171898 -0.070602 L -0.169981 -0.070602 L -0.168065 -0.06805 L -0.166148 -0.06805 L -0.164232 -0.065497 L -0.162316 -0.065497 L -0.162316 -0.060392 L -0.160399 -0.057839 L -0.158483 -0.057839 L -0.156566 -0.055286 L -0.15465 -0.055286 L -0.15465 -0.052734 L -0.152733 -0.050181 L -0.150817 -0.050181 L -0.148901 -0.047629 L -0.146984 -0.047629 L -0.145068 -0.045076 L -0.143151 -0.045076 L -0.143151 -0.039971 L -0.141235 -0.037418 L -0.139319 -0.037418 L -0.137402 -0.034865 L -0.139319 -0.032313 L -0.137402 -0.02976 L -0.129736 -0.02976 L -0.129736 -0.024655 L -0.12782 -0.022102 L -0.125903 -0.022102 L -0.123987 -0.019549 L -0.122071 -0.019549 L -0.122071 -0.016997 L -0.495774 -0.016997 L -0.495774 -0.66537 L 0.309126 -0.66537 L 0.311042 -0.66537 Z">
                                      <p:cBhvr>
                                        <p:cTn id="90" dur="2000" fill="hold"/>
                                        <p:tgtEl>
                                          <p:spTgt spid="11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WordArt 2"/>
          <p:cNvSpPr txBox="1"/>
          <p:nvPr/>
        </p:nvSpPr>
        <p:spPr>
          <a:xfrm>
            <a:off x="826920" y="1079640"/>
            <a:ext cx="7220160" cy="184464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round/>
                </a:ln>
                <a:solidFill>
                  <a:srgbClr val="bbe0e3">
                    <a:alpha val="50000"/>
                  </a:srgbClr>
                </a:solidFill>
                <a:effectLst>
                  <a:outerShdw dist="38160" dir="0" blurRad="0" rotWithShape="0">
                    <a:srgbClr val="9999ff"/>
                  </a:outerShdw>
                </a:effectLst>
                <a:latin typeface="宋体"/>
              </a:rPr>
              <a:t>欣赏一些关于指南针的图片吧</a:t>
            </a:r>
            <a:endParaRPr b="1" lang="en-US" sz="1800" spc="1" strike="noStrike">
              <a:ln w="12600">
                <a:solidFill>
                  <a:srgbClr val="3333cc"/>
                </a:solidFill>
                <a:round/>
              </a:ln>
              <a:solidFill>
                <a:srgbClr val="bbe0e3">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18:59Z</dcterms:created>
  <dc:creator>幻灯片之家：www.eeppt.com</dc:creator>
  <dc:description>幻灯片之家：www.eeppt.com</dc:description>
  <cp:keywords>幻灯片之家：www.eeppt.com</cp:keywords>
  <dc:language>en-US</dc:language>
  <cp:lastModifiedBy>pc</cp:lastModifiedBy>
  <dcterms:modified xsi:type="dcterms:W3CDTF">2016-06-30T08:52:01Z</dcterms:modified>
  <cp:revision>1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