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0D3-D449-471D-9BF0-FA2EEB4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02B-7167-460B-AC63-899250C8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A46-8079-4F40-9C2D-676EC43E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C40-F4E3-49E1-B6FB-68BB366D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556-4847-4A8E-A109-0B5FEC55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70D8-009C-42A7-BB69-519397D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4AD3-49EC-4D5E-9401-0E6B463E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0E7-B3D9-4256-BA05-CCD3B6B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76E-A77F-4B8E-AEC3-916A9E29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326-2B36-4302-93F9-B2FA0FE5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5E18-4CA7-4CC1-91EB-1BC7BBF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191-8735-4517-8BCF-DA897332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B639-EB8B-47C6-A5DD-0A12A70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A6D-DB54-4037-BAD9-E31AAEC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B09D-25B7-4A7D-A6ED-9FDC0D8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B70-C865-407C-B88D-51106176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448D-1DBF-4D84-9585-FF39565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2E3-B698-46DC-AA2D-5C2777F9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60E-2D3C-48A8-AE94-24301D6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139-2043-4AE4-8B33-76F95D1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EC8-AB34-4602-931A-E3FB6361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684-5EE5-42A4-B8AE-FB712D5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244-42B1-46EC-A2E7-8750A24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9C6-0689-4E63-A6A0-8AF974F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0BE-BACB-46BE-AB2B-702F0556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6F3-F190-42BE-8A5D-F56709A344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19320" y="75240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自然特征与农业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808" t="0" r="900" b="23972"/>
          <a:stretch/>
        </p:blipFill>
        <p:spPr>
          <a:xfrm>
            <a:off x="0" y="205740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57200" y="235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方地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553080" y="6248520"/>
            <a:ext cx="211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北方地区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WordArt 3"/>
          <p:cNvSpPr txBox="1"/>
          <p:nvPr/>
        </p:nvSpPr>
        <p:spPr>
          <a:xfrm>
            <a:off x="457200" y="62485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国地理分区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2" name="Picture 4" descr="北方地区地形"/>
          <p:cNvPicPr/>
          <p:nvPr/>
        </p:nvPicPr>
        <p:blipFill>
          <a:blip r:embed="rId4"/>
          <a:stretch/>
        </p:blipFill>
        <p:spPr>
          <a:xfrm>
            <a:off x="85680" y="181080"/>
            <a:ext cx="6248520" cy="6019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6324480" y="228240"/>
            <a:ext cx="2819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读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北方地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，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平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G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H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I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J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高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L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553080" y="15717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三江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553080" y="2205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松嫩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553080" y="2895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辽河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553080" y="3581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华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553080" y="5181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黄土高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305920" y="1676520"/>
            <a:ext cx="75960" cy="1600200"/>
          </a:xfrm>
          <a:custGeom>
            <a:avLst/>
            <a:gdLst>
              <a:gd name="textAreaLeft" fmla="*/ 0 w 75960"/>
              <a:gd name="textAreaRight" fmla="*/ 2736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8035920" y="167652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东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553080" y="3581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华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6553080" y="5181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黄土高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3B27-F846-4691-A1FC-1C109D24AA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6553080" y="6248520"/>
            <a:ext cx="211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北方地区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WordArt 3"/>
          <p:cNvSpPr txBox="1"/>
          <p:nvPr/>
        </p:nvSpPr>
        <p:spPr>
          <a:xfrm>
            <a:off x="457200" y="62485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国地理分区 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69" name="Picture 4" descr="北方地区地形"/>
          <p:cNvPicPr/>
          <p:nvPr/>
        </p:nvPicPr>
        <p:blipFill>
          <a:blip r:embed="rId4"/>
          <a:stretch/>
        </p:blipFill>
        <p:spPr>
          <a:xfrm>
            <a:off x="85680" y="181080"/>
            <a:ext cx="6248520" cy="6019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324480" y="228600"/>
            <a:ext cx="281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读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北方地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，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丘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M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N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河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553080" y="15717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辽东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553080" y="2205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山东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5530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黑龙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553080" y="44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乌苏里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553080" y="5105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松花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>
            <a:off x="4727520" y="189000"/>
            <a:ext cx="4202280" cy="3924360"/>
          </a:xfrm>
          <a:custGeom>
            <a:avLst/>
            <a:gdLst/>
            <a:ahLst/>
            <a:rect l="l" t="t" r="r" b="b"/>
            <a:pathLst>
              <a:path w="2647" h="2623">
                <a:moveTo>
                  <a:pt x="1308" y="423"/>
                </a:moveTo>
                <a:cubicBezTo>
                  <a:pt x="1308" y="468"/>
                  <a:pt x="1376" y="454"/>
                  <a:pt x="1399" y="514"/>
                </a:cubicBezTo>
                <a:cubicBezTo>
                  <a:pt x="1422" y="574"/>
                  <a:pt x="1421" y="733"/>
                  <a:pt x="1444" y="786"/>
                </a:cubicBezTo>
                <a:cubicBezTo>
                  <a:pt x="1467" y="839"/>
                  <a:pt x="1505" y="838"/>
                  <a:pt x="1535" y="831"/>
                </a:cubicBezTo>
                <a:cubicBezTo>
                  <a:pt x="1565" y="824"/>
                  <a:pt x="1596" y="756"/>
                  <a:pt x="1626" y="741"/>
                </a:cubicBezTo>
                <a:cubicBezTo>
                  <a:pt x="1656" y="726"/>
                  <a:pt x="1709" y="718"/>
                  <a:pt x="1716" y="741"/>
                </a:cubicBezTo>
                <a:cubicBezTo>
                  <a:pt x="1723" y="764"/>
                  <a:pt x="1678" y="809"/>
                  <a:pt x="1671" y="877"/>
                </a:cubicBezTo>
                <a:cubicBezTo>
                  <a:pt x="1664" y="945"/>
                  <a:pt x="1678" y="1081"/>
                  <a:pt x="1671" y="1149"/>
                </a:cubicBezTo>
                <a:cubicBezTo>
                  <a:pt x="1664" y="1217"/>
                  <a:pt x="1694" y="1224"/>
                  <a:pt x="1626" y="1285"/>
                </a:cubicBezTo>
                <a:cubicBezTo>
                  <a:pt x="1558" y="1346"/>
                  <a:pt x="1384" y="1444"/>
                  <a:pt x="1263" y="1512"/>
                </a:cubicBezTo>
                <a:cubicBezTo>
                  <a:pt x="1142" y="1580"/>
                  <a:pt x="983" y="1648"/>
                  <a:pt x="900" y="1693"/>
                </a:cubicBezTo>
                <a:cubicBezTo>
                  <a:pt x="817" y="1738"/>
                  <a:pt x="817" y="1754"/>
                  <a:pt x="764" y="1784"/>
                </a:cubicBezTo>
                <a:cubicBezTo>
                  <a:pt x="711" y="1814"/>
                  <a:pt x="635" y="1844"/>
                  <a:pt x="582" y="1874"/>
                </a:cubicBezTo>
                <a:cubicBezTo>
                  <a:pt x="529" y="1904"/>
                  <a:pt x="514" y="1935"/>
                  <a:pt x="446" y="1965"/>
                </a:cubicBezTo>
                <a:cubicBezTo>
                  <a:pt x="378" y="1995"/>
                  <a:pt x="242" y="2041"/>
                  <a:pt x="174" y="2056"/>
                </a:cubicBezTo>
                <a:cubicBezTo>
                  <a:pt x="106" y="2071"/>
                  <a:pt x="53" y="2033"/>
                  <a:pt x="38" y="2056"/>
                </a:cubicBezTo>
                <a:cubicBezTo>
                  <a:pt x="23" y="2079"/>
                  <a:pt x="68" y="2147"/>
                  <a:pt x="83" y="2192"/>
                </a:cubicBezTo>
                <a:cubicBezTo>
                  <a:pt x="98" y="2237"/>
                  <a:pt x="121" y="2283"/>
                  <a:pt x="129" y="2328"/>
                </a:cubicBezTo>
                <a:cubicBezTo>
                  <a:pt x="137" y="2373"/>
                  <a:pt x="122" y="2419"/>
                  <a:pt x="129" y="2464"/>
                </a:cubicBezTo>
                <a:cubicBezTo>
                  <a:pt x="136" y="2509"/>
                  <a:pt x="0" y="2577"/>
                  <a:pt x="174" y="2600"/>
                </a:cubicBezTo>
                <a:cubicBezTo>
                  <a:pt x="348" y="2623"/>
                  <a:pt x="975" y="2608"/>
                  <a:pt x="1172" y="2600"/>
                </a:cubicBezTo>
                <a:cubicBezTo>
                  <a:pt x="1369" y="2592"/>
                  <a:pt x="1256" y="2600"/>
                  <a:pt x="1354" y="2555"/>
                </a:cubicBezTo>
                <a:cubicBezTo>
                  <a:pt x="1452" y="2510"/>
                  <a:pt x="1717" y="2381"/>
                  <a:pt x="1762" y="2328"/>
                </a:cubicBezTo>
                <a:cubicBezTo>
                  <a:pt x="1807" y="2275"/>
                  <a:pt x="1641" y="2275"/>
                  <a:pt x="1626" y="2237"/>
                </a:cubicBezTo>
                <a:cubicBezTo>
                  <a:pt x="1611" y="2199"/>
                  <a:pt x="1626" y="2146"/>
                  <a:pt x="1671" y="2101"/>
                </a:cubicBezTo>
                <a:cubicBezTo>
                  <a:pt x="1716" y="2056"/>
                  <a:pt x="1860" y="2010"/>
                  <a:pt x="1898" y="1965"/>
                </a:cubicBezTo>
                <a:cubicBezTo>
                  <a:pt x="1936" y="1920"/>
                  <a:pt x="1928" y="1844"/>
                  <a:pt x="1898" y="1829"/>
                </a:cubicBezTo>
                <a:cubicBezTo>
                  <a:pt x="1868" y="1814"/>
                  <a:pt x="1761" y="1851"/>
                  <a:pt x="1716" y="1874"/>
                </a:cubicBezTo>
                <a:cubicBezTo>
                  <a:pt x="1671" y="1897"/>
                  <a:pt x="1656" y="1965"/>
                  <a:pt x="1626" y="1965"/>
                </a:cubicBezTo>
                <a:cubicBezTo>
                  <a:pt x="1596" y="1965"/>
                  <a:pt x="1565" y="1881"/>
                  <a:pt x="1535" y="1874"/>
                </a:cubicBezTo>
                <a:cubicBezTo>
                  <a:pt x="1505" y="1867"/>
                  <a:pt x="1467" y="1935"/>
                  <a:pt x="1444" y="1920"/>
                </a:cubicBezTo>
                <a:cubicBezTo>
                  <a:pt x="1421" y="1905"/>
                  <a:pt x="1384" y="1814"/>
                  <a:pt x="1399" y="1784"/>
                </a:cubicBezTo>
                <a:cubicBezTo>
                  <a:pt x="1414" y="1754"/>
                  <a:pt x="1475" y="1791"/>
                  <a:pt x="1535" y="1738"/>
                </a:cubicBezTo>
                <a:cubicBezTo>
                  <a:pt x="1595" y="1685"/>
                  <a:pt x="1724" y="1481"/>
                  <a:pt x="1762" y="1466"/>
                </a:cubicBezTo>
                <a:cubicBezTo>
                  <a:pt x="1800" y="1451"/>
                  <a:pt x="1770" y="1603"/>
                  <a:pt x="1762" y="1648"/>
                </a:cubicBezTo>
                <a:cubicBezTo>
                  <a:pt x="1754" y="1693"/>
                  <a:pt x="1678" y="1753"/>
                  <a:pt x="1716" y="1738"/>
                </a:cubicBezTo>
                <a:cubicBezTo>
                  <a:pt x="1754" y="1723"/>
                  <a:pt x="1921" y="1632"/>
                  <a:pt x="1989" y="1557"/>
                </a:cubicBezTo>
                <a:cubicBezTo>
                  <a:pt x="2057" y="1482"/>
                  <a:pt x="2087" y="1330"/>
                  <a:pt x="2125" y="1285"/>
                </a:cubicBezTo>
                <a:cubicBezTo>
                  <a:pt x="2163" y="1240"/>
                  <a:pt x="2192" y="1300"/>
                  <a:pt x="2215" y="1285"/>
                </a:cubicBezTo>
                <a:cubicBezTo>
                  <a:pt x="2238" y="1270"/>
                  <a:pt x="2238" y="1217"/>
                  <a:pt x="2261" y="1194"/>
                </a:cubicBezTo>
                <a:cubicBezTo>
                  <a:pt x="2284" y="1171"/>
                  <a:pt x="2328" y="1172"/>
                  <a:pt x="2351" y="1149"/>
                </a:cubicBezTo>
                <a:cubicBezTo>
                  <a:pt x="2374" y="1126"/>
                  <a:pt x="2374" y="1058"/>
                  <a:pt x="2397" y="1058"/>
                </a:cubicBezTo>
                <a:cubicBezTo>
                  <a:pt x="2420" y="1058"/>
                  <a:pt x="2480" y="1194"/>
                  <a:pt x="2487" y="1149"/>
                </a:cubicBezTo>
                <a:cubicBezTo>
                  <a:pt x="2494" y="1104"/>
                  <a:pt x="2434" y="846"/>
                  <a:pt x="2442" y="786"/>
                </a:cubicBezTo>
                <a:cubicBezTo>
                  <a:pt x="2450" y="726"/>
                  <a:pt x="2503" y="862"/>
                  <a:pt x="2533" y="786"/>
                </a:cubicBezTo>
                <a:cubicBezTo>
                  <a:pt x="2563" y="710"/>
                  <a:pt x="2647" y="377"/>
                  <a:pt x="2624" y="332"/>
                </a:cubicBezTo>
                <a:cubicBezTo>
                  <a:pt x="2601" y="287"/>
                  <a:pt x="2473" y="506"/>
                  <a:pt x="2397" y="514"/>
                </a:cubicBezTo>
                <a:cubicBezTo>
                  <a:pt x="2321" y="522"/>
                  <a:pt x="2230" y="401"/>
                  <a:pt x="2170" y="378"/>
                </a:cubicBezTo>
                <a:cubicBezTo>
                  <a:pt x="2110" y="355"/>
                  <a:pt x="2094" y="431"/>
                  <a:pt x="2034" y="378"/>
                </a:cubicBezTo>
                <a:cubicBezTo>
                  <a:pt x="1974" y="325"/>
                  <a:pt x="1883" y="120"/>
                  <a:pt x="1807" y="60"/>
                </a:cubicBezTo>
                <a:cubicBezTo>
                  <a:pt x="1731" y="0"/>
                  <a:pt x="1663" y="0"/>
                  <a:pt x="1580" y="15"/>
                </a:cubicBezTo>
                <a:cubicBezTo>
                  <a:pt x="1497" y="30"/>
                  <a:pt x="1338" y="113"/>
                  <a:pt x="1308" y="151"/>
                </a:cubicBezTo>
                <a:cubicBezTo>
                  <a:pt x="1278" y="189"/>
                  <a:pt x="1406" y="197"/>
                  <a:pt x="1399" y="242"/>
                </a:cubicBezTo>
                <a:cubicBezTo>
                  <a:pt x="1392" y="287"/>
                  <a:pt x="1308" y="378"/>
                  <a:pt x="1308" y="423"/>
                </a:cubicBez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444600" y="608040"/>
            <a:ext cx="7043760" cy="2687760"/>
          </a:xfrm>
          <a:custGeom>
            <a:avLst/>
            <a:gdLst/>
            <a:ahLst/>
            <a:rect l="l" t="t" r="r" b="b"/>
            <a:pathLst>
              <a:path w="4437" h="1693">
                <a:moveTo>
                  <a:pt x="3961" y="8"/>
                </a:moveTo>
                <a:cubicBezTo>
                  <a:pt x="3938" y="16"/>
                  <a:pt x="3945" y="84"/>
                  <a:pt x="3915" y="99"/>
                </a:cubicBezTo>
                <a:cubicBezTo>
                  <a:pt x="3885" y="114"/>
                  <a:pt x="3809" y="69"/>
                  <a:pt x="3779" y="99"/>
                </a:cubicBezTo>
                <a:cubicBezTo>
                  <a:pt x="3749" y="129"/>
                  <a:pt x="3734" y="235"/>
                  <a:pt x="3734" y="280"/>
                </a:cubicBezTo>
                <a:cubicBezTo>
                  <a:pt x="3734" y="325"/>
                  <a:pt x="3749" y="363"/>
                  <a:pt x="3779" y="371"/>
                </a:cubicBezTo>
                <a:cubicBezTo>
                  <a:pt x="3809" y="379"/>
                  <a:pt x="3862" y="326"/>
                  <a:pt x="3915" y="326"/>
                </a:cubicBezTo>
                <a:cubicBezTo>
                  <a:pt x="3968" y="326"/>
                  <a:pt x="4067" y="348"/>
                  <a:pt x="4097" y="371"/>
                </a:cubicBezTo>
                <a:cubicBezTo>
                  <a:pt x="4127" y="394"/>
                  <a:pt x="4120" y="447"/>
                  <a:pt x="4097" y="462"/>
                </a:cubicBezTo>
                <a:cubicBezTo>
                  <a:pt x="4074" y="477"/>
                  <a:pt x="3999" y="455"/>
                  <a:pt x="3961" y="462"/>
                </a:cubicBezTo>
                <a:cubicBezTo>
                  <a:pt x="3923" y="469"/>
                  <a:pt x="3900" y="477"/>
                  <a:pt x="3870" y="507"/>
                </a:cubicBezTo>
                <a:cubicBezTo>
                  <a:pt x="3840" y="537"/>
                  <a:pt x="3817" y="613"/>
                  <a:pt x="3779" y="643"/>
                </a:cubicBezTo>
                <a:cubicBezTo>
                  <a:pt x="3741" y="673"/>
                  <a:pt x="3681" y="673"/>
                  <a:pt x="3643" y="688"/>
                </a:cubicBezTo>
                <a:cubicBezTo>
                  <a:pt x="3605" y="703"/>
                  <a:pt x="3583" y="734"/>
                  <a:pt x="3553" y="734"/>
                </a:cubicBezTo>
                <a:cubicBezTo>
                  <a:pt x="3523" y="734"/>
                  <a:pt x="3485" y="665"/>
                  <a:pt x="3462" y="688"/>
                </a:cubicBezTo>
                <a:cubicBezTo>
                  <a:pt x="3439" y="711"/>
                  <a:pt x="3431" y="817"/>
                  <a:pt x="3416" y="870"/>
                </a:cubicBezTo>
                <a:cubicBezTo>
                  <a:pt x="3401" y="923"/>
                  <a:pt x="3409" y="976"/>
                  <a:pt x="3371" y="1006"/>
                </a:cubicBezTo>
                <a:cubicBezTo>
                  <a:pt x="3333" y="1036"/>
                  <a:pt x="3243" y="1044"/>
                  <a:pt x="3190" y="1051"/>
                </a:cubicBezTo>
                <a:cubicBezTo>
                  <a:pt x="3137" y="1058"/>
                  <a:pt x="3092" y="1051"/>
                  <a:pt x="3054" y="1051"/>
                </a:cubicBezTo>
                <a:cubicBezTo>
                  <a:pt x="3016" y="1051"/>
                  <a:pt x="2986" y="1036"/>
                  <a:pt x="2963" y="1051"/>
                </a:cubicBezTo>
                <a:cubicBezTo>
                  <a:pt x="2940" y="1066"/>
                  <a:pt x="2956" y="1134"/>
                  <a:pt x="2918" y="1142"/>
                </a:cubicBezTo>
                <a:cubicBezTo>
                  <a:pt x="2880" y="1150"/>
                  <a:pt x="2796" y="1112"/>
                  <a:pt x="2736" y="1097"/>
                </a:cubicBezTo>
                <a:cubicBezTo>
                  <a:pt x="2676" y="1082"/>
                  <a:pt x="2600" y="1066"/>
                  <a:pt x="2555" y="1051"/>
                </a:cubicBezTo>
                <a:cubicBezTo>
                  <a:pt x="2510" y="1036"/>
                  <a:pt x="2502" y="1013"/>
                  <a:pt x="2464" y="1006"/>
                </a:cubicBezTo>
                <a:cubicBezTo>
                  <a:pt x="2426" y="999"/>
                  <a:pt x="2366" y="1013"/>
                  <a:pt x="2328" y="1006"/>
                </a:cubicBezTo>
                <a:cubicBezTo>
                  <a:pt x="2290" y="999"/>
                  <a:pt x="2267" y="961"/>
                  <a:pt x="2237" y="961"/>
                </a:cubicBezTo>
                <a:cubicBezTo>
                  <a:pt x="2207" y="961"/>
                  <a:pt x="2176" y="1014"/>
                  <a:pt x="2146" y="1006"/>
                </a:cubicBezTo>
                <a:cubicBezTo>
                  <a:pt x="2116" y="998"/>
                  <a:pt x="2079" y="945"/>
                  <a:pt x="2056" y="915"/>
                </a:cubicBezTo>
                <a:cubicBezTo>
                  <a:pt x="2033" y="885"/>
                  <a:pt x="2040" y="854"/>
                  <a:pt x="2010" y="824"/>
                </a:cubicBezTo>
                <a:cubicBezTo>
                  <a:pt x="1980" y="794"/>
                  <a:pt x="1911" y="757"/>
                  <a:pt x="1874" y="734"/>
                </a:cubicBezTo>
                <a:cubicBezTo>
                  <a:pt x="1837" y="711"/>
                  <a:pt x="1814" y="696"/>
                  <a:pt x="1784" y="688"/>
                </a:cubicBezTo>
                <a:cubicBezTo>
                  <a:pt x="1754" y="680"/>
                  <a:pt x="1701" y="718"/>
                  <a:pt x="1693" y="688"/>
                </a:cubicBezTo>
                <a:cubicBezTo>
                  <a:pt x="1685" y="658"/>
                  <a:pt x="1746" y="567"/>
                  <a:pt x="1738" y="507"/>
                </a:cubicBezTo>
                <a:cubicBezTo>
                  <a:pt x="1730" y="447"/>
                  <a:pt x="1677" y="356"/>
                  <a:pt x="1647" y="326"/>
                </a:cubicBezTo>
                <a:cubicBezTo>
                  <a:pt x="1617" y="296"/>
                  <a:pt x="1587" y="349"/>
                  <a:pt x="1557" y="326"/>
                </a:cubicBezTo>
                <a:cubicBezTo>
                  <a:pt x="1527" y="303"/>
                  <a:pt x="1504" y="204"/>
                  <a:pt x="1466" y="189"/>
                </a:cubicBezTo>
                <a:cubicBezTo>
                  <a:pt x="1428" y="174"/>
                  <a:pt x="1360" y="212"/>
                  <a:pt x="1330" y="235"/>
                </a:cubicBezTo>
                <a:cubicBezTo>
                  <a:pt x="1300" y="258"/>
                  <a:pt x="1308" y="311"/>
                  <a:pt x="1285" y="326"/>
                </a:cubicBezTo>
                <a:cubicBezTo>
                  <a:pt x="1262" y="341"/>
                  <a:pt x="1240" y="311"/>
                  <a:pt x="1194" y="326"/>
                </a:cubicBezTo>
                <a:cubicBezTo>
                  <a:pt x="1148" y="341"/>
                  <a:pt x="1057" y="378"/>
                  <a:pt x="1012" y="416"/>
                </a:cubicBezTo>
                <a:cubicBezTo>
                  <a:pt x="967" y="454"/>
                  <a:pt x="952" y="529"/>
                  <a:pt x="922" y="552"/>
                </a:cubicBezTo>
                <a:cubicBezTo>
                  <a:pt x="892" y="575"/>
                  <a:pt x="854" y="529"/>
                  <a:pt x="831" y="552"/>
                </a:cubicBezTo>
                <a:cubicBezTo>
                  <a:pt x="808" y="575"/>
                  <a:pt x="801" y="643"/>
                  <a:pt x="786" y="688"/>
                </a:cubicBezTo>
                <a:cubicBezTo>
                  <a:pt x="771" y="733"/>
                  <a:pt x="763" y="786"/>
                  <a:pt x="740" y="824"/>
                </a:cubicBezTo>
                <a:cubicBezTo>
                  <a:pt x="717" y="862"/>
                  <a:pt x="680" y="900"/>
                  <a:pt x="650" y="915"/>
                </a:cubicBezTo>
                <a:cubicBezTo>
                  <a:pt x="620" y="930"/>
                  <a:pt x="597" y="915"/>
                  <a:pt x="559" y="915"/>
                </a:cubicBezTo>
                <a:cubicBezTo>
                  <a:pt x="521" y="915"/>
                  <a:pt x="461" y="900"/>
                  <a:pt x="423" y="915"/>
                </a:cubicBezTo>
                <a:cubicBezTo>
                  <a:pt x="385" y="930"/>
                  <a:pt x="362" y="998"/>
                  <a:pt x="332" y="1006"/>
                </a:cubicBezTo>
                <a:cubicBezTo>
                  <a:pt x="302" y="1014"/>
                  <a:pt x="286" y="961"/>
                  <a:pt x="241" y="961"/>
                </a:cubicBezTo>
                <a:cubicBezTo>
                  <a:pt x="196" y="961"/>
                  <a:pt x="97" y="983"/>
                  <a:pt x="60" y="1006"/>
                </a:cubicBezTo>
                <a:cubicBezTo>
                  <a:pt x="23" y="1029"/>
                  <a:pt x="0" y="1074"/>
                  <a:pt x="15" y="1097"/>
                </a:cubicBezTo>
                <a:cubicBezTo>
                  <a:pt x="30" y="1120"/>
                  <a:pt x="106" y="1119"/>
                  <a:pt x="151" y="1142"/>
                </a:cubicBezTo>
                <a:cubicBezTo>
                  <a:pt x="196" y="1165"/>
                  <a:pt x="249" y="1203"/>
                  <a:pt x="287" y="1233"/>
                </a:cubicBezTo>
                <a:cubicBezTo>
                  <a:pt x="325" y="1263"/>
                  <a:pt x="347" y="1293"/>
                  <a:pt x="377" y="1323"/>
                </a:cubicBezTo>
                <a:cubicBezTo>
                  <a:pt x="407" y="1353"/>
                  <a:pt x="430" y="1376"/>
                  <a:pt x="468" y="1414"/>
                </a:cubicBezTo>
                <a:cubicBezTo>
                  <a:pt x="506" y="1452"/>
                  <a:pt x="559" y="1512"/>
                  <a:pt x="604" y="1550"/>
                </a:cubicBezTo>
                <a:cubicBezTo>
                  <a:pt x="649" y="1588"/>
                  <a:pt x="680" y="1633"/>
                  <a:pt x="740" y="1641"/>
                </a:cubicBezTo>
                <a:cubicBezTo>
                  <a:pt x="800" y="1649"/>
                  <a:pt x="884" y="1603"/>
                  <a:pt x="967" y="1596"/>
                </a:cubicBezTo>
                <a:cubicBezTo>
                  <a:pt x="1050" y="1589"/>
                  <a:pt x="1126" y="1611"/>
                  <a:pt x="1239" y="1596"/>
                </a:cubicBezTo>
                <a:cubicBezTo>
                  <a:pt x="1352" y="1581"/>
                  <a:pt x="1556" y="1535"/>
                  <a:pt x="1647" y="1505"/>
                </a:cubicBezTo>
                <a:cubicBezTo>
                  <a:pt x="1738" y="1475"/>
                  <a:pt x="1708" y="1429"/>
                  <a:pt x="1784" y="1414"/>
                </a:cubicBezTo>
                <a:cubicBezTo>
                  <a:pt x="1860" y="1399"/>
                  <a:pt x="2010" y="1414"/>
                  <a:pt x="2101" y="1414"/>
                </a:cubicBezTo>
                <a:cubicBezTo>
                  <a:pt x="2192" y="1414"/>
                  <a:pt x="2260" y="1399"/>
                  <a:pt x="2328" y="1414"/>
                </a:cubicBezTo>
                <a:cubicBezTo>
                  <a:pt x="2396" y="1429"/>
                  <a:pt x="2456" y="1475"/>
                  <a:pt x="2509" y="1505"/>
                </a:cubicBezTo>
                <a:cubicBezTo>
                  <a:pt x="2562" y="1535"/>
                  <a:pt x="2607" y="1566"/>
                  <a:pt x="2645" y="1596"/>
                </a:cubicBezTo>
                <a:cubicBezTo>
                  <a:pt x="2683" y="1626"/>
                  <a:pt x="2706" y="1679"/>
                  <a:pt x="2736" y="1686"/>
                </a:cubicBezTo>
                <a:cubicBezTo>
                  <a:pt x="2766" y="1693"/>
                  <a:pt x="2789" y="1656"/>
                  <a:pt x="2827" y="1641"/>
                </a:cubicBezTo>
                <a:cubicBezTo>
                  <a:pt x="2865" y="1626"/>
                  <a:pt x="2903" y="1611"/>
                  <a:pt x="2963" y="1596"/>
                </a:cubicBezTo>
                <a:cubicBezTo>
                  <a:pt x="3023" y="1581"/>
                  <a:pt x="3115" y="1588"/>
                  <a:pt x="3190" y="1550"/>
                </a:cubicBezTo>
                <a:cubicBezTo>
                  <a:pt x="3265" y="1512"/>
                  <a:pt x="3333" y="1414"/>
                  <a:pt x="3416" y="1369"/>
                </a:cubicBezTo>
                <a:cubicBezTo>
                  <a:pt x="3499" y="1324"/>
                  <a:pt x="3591" y="1331"/>
                  <a:pt x="3689" y="1278"/>
                </a:cubicBezTo>
                <a:cubicBezTo>
                  <a:pt x="3787" y="1225"/>
                  <a:pt x="3908" y="1112"/>
                  <a:pt x="4006" y="1051"/>
                </a:cubicBezTo>
                <a:cubicBezTo>
                  <a:pt x="4104" y="990"/>
                  <a:pt x="4210" y="953"/>
                  <a:pt x="4278" y="915"/>
                </a:cubicBezTo>
                <a:cubicBezTo>
                  <a:pt x="4346" y="877"/>
                  <a:pt x="4399" y="892"/>
                  <a:pt x="4414" y="824"/>
                </a:cubicBezTo>
                <a:cubicBezTo>
                  <a:pt x="4429" y="756"/>
                  <a:pt x="4369" y="575"/>
                  <a:pt x="4369" y="507"/>
                </a:cubicBezTo>
                <a:cubicBezTo>
                  <a:pt x="4369" y="439"/>
                  <a:pt x="4407" y="446"/>
                  <a:pt x="4414" y="416"/>
                </a:cubicBezTo>
                <a:cubicBezTo>
                  <a:pt x="4421" y="386"/>
                  <a:pt x="4437" y="341"/>
                  <a:pt x="4414" y="326"/>
                </a:cubicBezTo>
                <a:cubicBezTo>
                  <a:pt x="4391" y="311"/>
                  <a:pt x="4308" y="311"/>
                  <a:pt x="4278" y="326"/>
                </a:cubicBezTo>
                <a:cubicBezTo>
                  <a:pt x="4248" y="341"/>
                  <a:pt x="4256" y="401"/>
                  <a:pt x="4233" y="416"/>
                </a:cubicBezTo>
                <a:cubicBezTo>
                  <a:pt x="4210" y="431"/>
                  <a:pt x="4165" y="446"/>
                  <a:pt x="4142" y="416"/>
                </a:cubicBezTo>
                <a:cubicBezTo>
                  <a:pt x="4119" y="386"/>
                  <a:pt x="4104" y="280"/>
                  <a:pt x="4097" y="235"/>
                </a:cubicBezTo>
                <a:cubicBezTo>
                  <a:pt x="4090" y="190"/>
                  <a:pt x="4104" y="174"/>
                  <a:pt x="4097" y="144"/>
                </a:cubicBezTo>
                <a:cubicBezTo>
                  <a:pt x="4090" y="114"/>
                  <a:pt x="4082" y="68"/>
                  <a:pt x="4052" y="53"/>
                </a:cubicBezTo>
                <a:cubicBezTo>
                  <a:pt x="4022" y="38"/>
                  <a:pt x="3984" y="0"/>
                  <a:pt x="3961" y="8"/>
                </a:cubicBez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444600" y="2313000"/>
            <a:ext cx="4583160" cy="2700360"/>
          </a:xfrm>
          <a:custGeom>
            <a:avLst/>
            <a:gdLst/>
            <a:ahLst/>
            <a:rect l="l" t="t" r="r" b="b"/>
            <a:pathLst>
              <a:path w="2887" h="1822">
                <a:moveTo>
                  <a:pt x="15" y="23"/>
                </a:moveTo>
                <a:cubicBezTo>
                  <a:pt x="30" y="0"/>
                  <a:pt x="136" y="30"/>
                  <a:pt x="196" y="68"/>
                </a:cubicBezTo>
                <a:cubicBezTo>
                  <a:pt x="256" y="106"/>
                  <a:pt x="332" y="204"/>
                  <a:pt x="377" y="249"/>
                </a:cubicBezTo>
                <a:cubicBezTo>
                  <a:pt x="422" y="294"/>
                  <a:pt x="423" y="295"/>
                  <a:pt x="468" y="340"/>
                </a:cubicBezTo>
                <a:cubicBezTo>
                  <a:pt x="513" y="385"/>
                  <a:pt x="597" y="484"/>
                  <a:pt x="650" y="522"/>
                </a:cubicBezTo>
                <a:cubicBezTo>
                  <a:pt x="703" y="560"/>
                  <a:pt x="733" y="575"/>
                  <a:pt x="786" y="567"/>
                </a:cubicBezTo>
                <a:cubicBezTo>
                  <a:pt x="839" y="559"/>
                  <a:pt x="884" y="483"/>
                  <a:pt x="967" y="476"/>
                </a:cubicBezTo>
                <a:cubicBezTo>
                  <a:pt x="1050" y="469"/>
                  <a:pt x="1202" y="522"/>
                  <a:pt x="1285" y="522"/>
                </a:cubicBezTo>
                <a:cubicBezTo>
                  <a:pt x="1368" y="522"/>
                  <a:pt x="1413" y="491"/>
                  <a:pt x="1466" y="476"/>
                </a:cubicBezTo>
                <a:cubicBezTo>
                  <a:pt x="1519" y="461"/>
                  <a:pt x="1557" y="446"/>
                  <a:pt x="1602" y="431"/>
                </a:cubicBezTo>
                <a:cubicBezTo>
                  <a:pt x="1647" y="416"/>
                  <a:pt x="1700" y="400"/>
                  <a:pt x="1738" y="385"/>
                </a:cubicBezTo>
                <a:cubicBezTo>
                  <a:pt x="1776" y="370"/>
                  <a:pt x="1731" y="347"/>
                  <a:pt x="1829" y="340"/>
                </a:cubicBezTo>
                <a:cubicBezTo>
                  <a:pt x="1927" y="333"/>
                  <a:pt x="2192" y="310"/>
                  <a:pt x="2328" y="340"/>
                </a:cubicBezTo>
                <a:cubicBezTo>
                  <a:pt x="2464" y="370"/>
                  <a:pt x="2562" y="462"/>
                  <a:pt x="2645" y="522"/>
                </a:cubicBezTo>
                <a:cubicBezTo>
                  <a:pt x="2728" y="582"/>
                  <a:pt x="2797" y="627"/>
                  <a:pt x="2827" y="703"/>
                </a:cubicBezTo>
                <a:cubicBezTo>
                  <a:pt x="2857" y="779"/>
                  <a:pt x="2820" y="892"/>
                  <a:pt x="2827" y="975"/>
                </a:cubicBezTo>
                <a:cubicBezTo>
                  <a:pt x="2834" y="1058"/>
                  <a:pt x="2887" y="1119"/>
                  <a:pt x="2872" y="1202"/>
                </a:cubicBezTo>
                <a:cubicBezTo>
                  <a:pt x="2857" y="1285"/>
                  <a:pt x="2781" y="1391"/>
                  <a:pt x="2736" y="1474"/>
                </a:cubicBezTo>
                <a:cubicBezTo>
                  <a:pt x="2691" y="1557"/>
                  <a:pt x="2638" y="1656"/>
                  <a:pt x="2600" y="1701"/>
                </a:cubicBezTo>
                <a:cubicBezTo>
                  <a:pt x="2562" y="1746"/>
                  <a:pt x="2554" y="1739"/>
                  <a:pt x="2509" y="1746"/>
                </a:cubicBezTo>
                <a:cubicBezTo>
                  <a:pt x="2464" y="1753"/>
                  <a:pt x="2381" y="1753"/>
                  <a:pt x="2328" y="1746"/>
                </a:cubicBezTo>
                <a:cubicBezTo>
                  <a:pt x="2275" y="1739"/>
                  <a:pt x="2230" y="1724"/>
                  <a:pt x="2192" y="1701"/>
                </a:cubicBezTo>
                <a:cubicBezTo>
                  <a:pt x="2154" y="1678"/>
                  <a:pt x="2124" y="1610"/>
                  <a:pt x="2101" y="1610"/>
                </a:cubicBezTo>
                <a:cubicBezTo>
                  <a:pt x="2078" y="1610"/>
                  <a:pt x="2094" y="1686"/>
                  <a:pt x="2056" y="1701"/>
                </a:cubicBezTo>
                <a:cubicBezTo>
                  <a:pt x="2018" y="1716"/>
                  <a:pt x="1919" y="1694"/>
                  <a:pt x="1874" y="1701"/>
                </a:cubicBezTo>
                <a:cubicBezTo>
                  <a:pt x="1829" y="1708"/>
                  <a:pt x="1814" y="1731"/>
                  <a:pt x="1784" y="1746"/>
                </a:cubicBezTo>
                <a:cubicBezTo>
                  <a:pt x="1754" y="1761"/>
                  <a:pt x="1738" y="1784"/>
                  <a:pt x="1693" y="1792"/>
                </a:cubicBezTo>
                <a:cubicBezTo>
                  <a:pt x="1648" y="1800"/>
                  <a:pt x="1549" y="1822"/>
                  <a:pt x="1511" y="1792"/>
                </a:cubicBezTo>
                <a:cubicBezTo>
                  <a:pt x="1473" y="1762"/>
                  <a:pt x="1503" y="1640"/>
                  <a:pt x="1466" y="1610"/>
                </a:cubicBezTo>
                <a:cubicBezTo>
                  <a:pt x="1429" y="1580"/>
                  <a:pt x="1330" y="1595"/>
                  <a:pt x="1285" y="1610"/>
                </a:cubicBezTo>
                <a:cubicBezTo>
                  <a:pt x="1240" y="1625"/>
                  <a:pt x="1209" y="1701"/>
                  <a:pt x="1194" y="1701"/>
                </a:cubicBezTo>
                <a:cubicBezTo>
                  <a:pt x="1179" y="1701"/>
                  <a:pt x="1209" y="1625"/>
                  <a:pt x="1194" y="1610"/>
                </a:cubicBezTo>
                <a:cubicBezTo>
                  <a:pt x="1179" y="1595"/>
                  <a:pt x="1141" y="1610"/>
                  <a:pt x="1103" y="1610"/>
                </a:cubicBezTo>
                <a:cubicBezTo>
                  <a:pt x="1065" y="1610"/>
                  <a:pt x="1020" y="1625"/>
                  <a:pt x="967" y="1610"/>
                </a:cubicBezTo>
                <a:cubicBezTo>
                  <a:pt x="914" y="1595"/>
                  <a:pt x="824" y="1557"/>
                  <a:pt x="786" y="1519"/>
                </a:cubicBezTo>
                <a:cubicBezTo>
                  <a:pt x="748" y="1481"/>
                  <a:pt x="763" y="1413"/>
                  <a:pt x="740" y="1383"/>
                </a:cubicBezTo>
                <a:cubicBezTo>
                  <a:pt x="717" y="1353"/>
                  <a:pt x="680" y="1361"/>
                  <a:pt x="650" y="1338"/>
                </a:cubicBezTo>
                <a:cubicBezTo>
                  <a:pt x="620" y="1315"/>
                  <a:pt x="589" y="1262"/>
                  <a:pt x="559" y="1247"/>
                </a:cubicBezTo>
                <a:cubicBezTo>
                  <a:pt x="529" y="1232"/>
                  <a:pt x="506" y="1262"/>
                  <a:pt x="468" y="1247"/>
                </a:cubicBezTo>
                <a:cubicBezTo>
                  <a:pt x="430" y="1232"/>
                  <a:pt x="362" y="1195"/>
                  <a:pt x="332" y="1157"/>
                </a:cubicBezTo>
                <a:cubicBezTo>
                  <a:pt x="302" y="1119"/>
                  <a:pt x="294" y="1074"/>
                  <a:pt x="287" y="1021"/>
                </a:cubicBezTo>
                <a:cubicBezTo>
                  <a:pt x="280" y="968"/>
                  <a:pt x="272" y="862"/>
                  <a:pt x="287" y="839"/>
                </a:cubicBezTo>
                <a:cubicBezTo>
                  <a:pt x="302" y="816"/>
                  <a:pt x="370" y="907"/>
                  <a:pt x="377" y="884"/>
                </a:cubicBezTo>
                <a:cubicBezTo>
                  <a:pt x="384" y="861"/>
                  <a:pt x="339" y="756"/>
                  <a:pt x="332" y="703"/>
                </a:cubicBezTo>
                <a:cubicBezTo>
                  <a:pt x="325" y="650"/>
                  <a:pt x="355" y="597"/>
                  <a:pt x="332" y="567"/>
                </a:cubicBezTo>
                <a:cubicBezTo>
                  <a:pt x="309" y="537"/>
                  <a:pt x="226" y="560"/>
                  <a:pt x="196" y="522"/>
                </a:cubicBezTo>
                <a:cubicBezTo>
                  <a:pt x="166" y="484"/>
                  <a:pt x="174" y="378"/>
                  <a:pt x="151" y="340"/>
                </a:cubicBezTo>
                <a:cubicBezTo>
                  <a:pt x="128" y="302"/>
                  <a:pt x="68" y="318"/>
                  <a:pt x="60" y="295"/>
                </a:cubicBezTo>
                <a:cubicBezTo>
                  <a:pt x="52" y="272"/>
                  <a:pt x="112" y="242"/>
                  <a:pt x="105" y="204"/>
                </a:cubicBezTo>
                <a:cubicBezTo>
                  <a:pt x="98" y="166"/>
                  <a:pt x="0" y="46"/>
                  <a:pt x="15" y="23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708360" y="3645000"/>
            <a:ext cx="4260960" cy="2784240"/>
          </a:xfrm>
          <a:custGeom>
            <a:avLst/>
            <a:gdLst/>
            <a:ahLst/>
            <a:rect l="l" t="t" r="r" b="b"/>
            <a:pathLst>
              <a:path w="2684" h="1754">
                <a:moveTo>
                  <a:pt x="151" y="922"/>
                </a:moveTo>
                <a:cubicBezTo>
                  <a:pt x="98" y="937"/>
                  <a:pt x="219" y="953"/>
                  <a:pt x="196" y="1013"/>
                </a:cubicBezTo>
                <a:cubicBezTo>
                  <a:pt x="173" y="1073"/>
                  <a:pt x="30" y="1225"/>
                  <a:pt x="15" y="1285"/>
                </a:cubicBezTo>
                <a:cubicBezTo>
                  <a:pt x="0" y="1345"/>
                  <a:pt x="76" y="1361"/>
                  <a:pt x="106" y="1376"/>
                </a:cubicBezTo>
                <a:cubicBezTo>
                  <a:pt x="136" y="1391"/>
                  <a:pt x="181" y="1353"/>
                  <a:pt x="196" y="1376"/>
                </a:cubicBezTo>
                <a:cubicBezTo>
                  <a:pt x="211" y="1399"/>
                  <a:pt x="166" y="1467"/>
                  <a:pt x="196" y="1512"/>
                </a:cubicBezTo>
                <a:cubicBezTo>
                  <a:pt x="226" y="1557"/>
                  <a:pt x="332" y="1625"/>
                  <a:pt x="378" y="1648"/>
                </a:cubicBezTo>
                <a:cubicBezTo>
                  <a:pt x="424" y="1671"/>
                  <a:pt x="431" y="1671"/>
                  <a:pt x="469" y="1648"/>
                </a:cubicBezTo>
                <a:cubicBezTo>
                  <a:pt x="507" y="1625"/>
                  <a:pt x="552" y="1535"/>
                  <a:pt x="605" y="1512"/>
                </a:cubicBezTo>
                <a:cubicBezTo>
                  <a:pt x="658" y="1489"/>
                  <a:pt x="726" y="1527"/>
                  <a:pt x="786" y="1512"/>
                </a:cubicBezTo>
                <a:cubicBezTo>
                  <a:pt x="846" y="1497"/>
                  <a:pt x="923" y="1421"/>
                  <a:pt x="968" y="1421"/>
                </a:cubicBezTo>
                <a:cubicBezTo>
                  <a:pt x="1013" y="1421"/>
                  <a:pt x="1035" y="1474"/>
                  <a:pt x="1058" y="1512"/>
                </a:cubicBezTo>
                <a:cubicBezTo>
                  <a:pt x="1081" y="1550"/>
                  <a:pt x="1036" y="1625"/>
                  <a:pt x="1104" y="1648"/>
                </a:cubicBezTo>
                <a:cubicBezTo>
                  <a:pt x="1172" y="1671"/>
                  <a:pt x="1399" y="1633"/>
                  <a:pt x="1467" y="1648"/>
                </a:cubicBezTo>
                <a:cubicBezTo>
                  <a:pt x="1535" y="1663"/>
                  <a:pt x="1474" y="1754"/>
                  <a:pt x="1512" y="1739"/>
                </a:cubicBezTo>
                <a:cubicBezTo>
                  <a:pt x="1550" y="1724"/>
                  <a:pt x="1617" y="1602"/>
                  <a:pt x="1693" y="1557"/>
                </a:cubicBezTo>
                <a:cubicBezTo>
                  <a:pt x="1769" y="1512"/>
                  <a:pt x="1890" y="1505"/>
                  <a:pt x="1966" y="1467"/>
                </a:cubicBezTo>
                <a:cubicBezTo>
                  <a:pt x="2042" y="1429"/>
                  <a:pt x="2087" y="1384"/>
                  <a:pt x="2147" y="1331"/>
                </a:cubicBezTo>
                <a:cubicBezTo>
                  <a:pt x="2207" y="1278"/>
                  <a:pt x="2275" y="1202"/>
                  <a:pt x="2328" y="1149"/>
                </a:cubicBezTo>
                <a:cubicBezTo>
                  <a:pt x="2381" y="1096"/>
                  <a:pt x="2434" y="1066"/>
                  <a:pt x="2464" y="1013"/>
                </a:cubicBezTo>
                <a:cubicBezTo>
                  <a:pt x="2494" y="960"/>
                  <a:pt x="2480" y="892"/>
                  <a:pt x="2510" y="832"/>
                </a:cubicBezTo>
                <a:cubicBezTo>
                  <a:pt x="2540" y="772"/>
                  <a:pt x="2623" y="726"/>
                  <a:pt x="2646" y="650"/>
                </a:cubicBezTo>
                <a:cubicBezTo>
                  <a:pt x="2669" y="574"/>
                  <a:pt x="2684" y="408"/>
                  <a:pt x="2646" y="378"/>
                </a:cubicBezTo>
                <a:cubicBezTo>
                  <a:pt x="2608" y="348"/>
                  <a:pt x="2426" y="476"/>
                  <a:pt x="2419" y="469"/>
                </a:cubicBezTo>
                <a:cubicBezTo>
                  <a:pt x="2412" y="462"/>
                  <a:pt x="2586" y="378"/>
                  <a:pt x="2601" y="333"/>
                </a:cubicBezTo>
                <a:cubicBezTo>
                  <a:pt x="2616" y="288"/>
                  <a:pt x="2548" y="250"/>
                  <a:pt x="2510" y="197"/>
                </a:cubicBezTo>
                <a:cubicBezTo>
                  <a:pt x="2472" y="144"/>
                  <a:pt x="2472" y="0"/>
                  <a:pt x="2374" y="15"/>
                </a:cubicBezTo>
                <a:cubicBezTo>
                  <a:pt x="2276" y="30"/>
                  <a:pt x="2185" y="242"/>
                  <a:pt x="1920" y="287"/>
                </a:cubicBezTo>
                <a:cubicBezTo>
                  <a:pt x="1655" y="332"/>
                  <a:pt x="975" y="272"/>
                  <a:pt x="786" y="287"/>
                </a:cubicBezTo>
                <a:cubicBezTo>
                  <a:pt x="597" y="302"/>
                  <a:pt x="801" y="333"/>
                  <a:pt x="786" y="378"/>
                </a:cubicBezTo>
                <a:cubicBezTo>
                  <a:pt x="771" y="423"/>
                  <a:pt x="740" y="468"/>
                  <a:pt x="695" y="559"/>
                </a:cubicBezTo>
                <a:cubicBezTo>
                  <a:pt x="650" y="650"/>
                  <a:pt x="612" y="869"/>
                  <a:pt x="514" y="922"/>
                </a:cubicBezTo>
                <a:cubicBezTo>
                  <a:pt x="416" y="975"/>
                  <a:pt x="204" y="907"/>
                  <a:pt x="151" y="922"/>
                </a:cubicBezTo>
                <a:close/>
              </a:path>
            </a:pathLst>
          </a:custGeom>
          <a:solidFill>
            <a:srgbClr val="80808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5784840" y="6405480"/>
            <a:ext cx="453960" cy="373320"/>
          </a:xfrm>
          <a:custGeom>
            <a:avLst/>
            <a:gdLst/>
            <a:ahLst/>
            <a:rect l="l" t="t" r="r" b="b"/>
            <a:pathLst>
              <a:path w="286" h="235">
                <a:moveTo>
                  <a:pt x="279" y="30"/>
                </a:moveTo>
                <a:cubicBezTo>
                  <a:pt x="272" y="0"/>
                  <a:pt x="143" y="7"/>
                  <a:pt x="98" y="30"/>
                </a:cubicBezTo>
                <a:cubicBezTo>
                  <a:pt x="53" y="53"/>
                  <a:pt x="0" y="136"/>
                  <a:pt x="7" y="166"/>
                </a:cubicBezTo>
                <a:cubicBezTo>
                  <a:pt x="14" y="196"/>
                  <a:pt x="98" y="235"/>
                  <a:pt x="143" y="212"/>
                </a:cubicBezTo>
                <a:cubicBezTo>
                  <a:pt x="188" y="189"/>
                  <a:pt x="286" y="60"/>
                  <a:pt x="279" y="30"/>
                </a:cubicBezTo>
                <a:close/>
              </a:path>
            </a:pathLst>
          </a:custGeom>
          <a:solidFill>
            <a:srgbClr val="99cc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7848720" y="5218200"/>
            <a:ext cx="276120" cy="611280"/>
          </a:xfrm>
          <a:custGeom>
            <a:avLst/>
            <a:gdLst/>
            <a:ahLst/>
            <a:rect l="l" t="t" r="r" b="b"/>
            <a:pathLst>
              <a:path w="174" h="385">
                <a:moveTo>
                  <a:pt x="159" y="7"/>
                </a:moveTo>
                <a:cubicBezTo>
                  <a:pt x="144" y="14"/>
                  <a:pt x="46" y="98"/>
                  <a:pt x="23" y="143"/>
                </a:cubicBezTo>
                <a:cubicBezTo>
                  <a:pt x="0" y="188"/>
                  <a:pt x="8" y="241"/>
                  <a:pt x="23" y="279"/>
                </a:cubicBezTo>
                <a:cubicBezTo>
                  <a:pt x="38" y="317"/>
                  <a:pt x="90" y="385"/>
                  <a:pt x="113" y="370"/>
                </a:cubicBezTo>
                <a:cubicBezTo>
                  <a:pt x="136" y="355"/>
                  <a:pt x="159" y="233"/>
                  <a:pt x="159" y="188"/>
                </a:cubicBezTo>
                <a:cubicBezTo>
                  <a:pt x="159" y="143"/>
                  <a:pt x="113" y="128"/>
                  <a:pt x="113" y="98"/>
                </a:cubicBezTo>
                <a:cubicBezTo>
                  <a:pt x="113" y="68"/>
                  <a:pt x="174" y="0"/>
                  <a:pt x="159" y="7"/>
                </a:cubicBezTo>
                <a:close/>
              </a:path>
            </a:pathLst>
          </a:custGeom>
          <a:solidFill>
            <a:srgbClr val="99cc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6372360" y="3645000"/>
            <a:ext cx="5508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5580000" y="3213000"/>
            <a:ext cx="151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北方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5508720" y="4724280"/>
            <a:ext cx="165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南方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1763640" y="2060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西北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96" name="WordArt 12"/>
          <p:cNvSpPr txBox="1"/>
          <p:nvPr/>
        </p:nvSpPr>
        <p:spPr>
          <a:xfrm>
            <a:off x="2340000" y="3716280"/>
            <a:ext cx="165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cc"/>
                  </a:solidFill>
                  <a:round/>
                </a:ln>
                <a:solidFill>
                  <a:srgbClr val="0000cc"/>
                </a:solidFill>
                <a:latin typeface="华文新魏"/>
              </a:rPr>
              <a:t>青藏地区</a:t>
            </a:r>
            <a:endParaRPr b="1" lang="en-US" sz="1800" spc="1" strike="noStrike">
              <a:ln w="9360">
                <a:solidFill>
                  <a:srgbClr val="0000cc"/>
                </a:solidFill>
                <a:round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5045040"/>
          <a:ext cx="2759040" cy="1697040"/>
        </p:xfrm>
        <a:graphic>
          <a:graphicData uri="http://schemas.openxmlformats.org/drawingml/2006/table">
            <a:tbl>
              <a:tblPr/>
              <a:tblGrid>
                <a:gridCol w="1176480"/>
                <a:gridCol w="158256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主导因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界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cc0000"/>
                      </a:solidFill>
                    </a:lnL>
                    <a:lnR w="9360">
                      <a:solidFill>
                        <a:srgbClr val="cc0000"/>
                      </a:solidFill>
                    </a:lnR>
                    <a:lnT w="9360">
                      <a:solidFill>
                        <a:srgbClr val="cc0000"/>
                      </a:solidFill>
                    </a:lnT>
                    <a:lnB w="9360">
                      <a:solidFill>
                        <a:srgbClr val="cc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98" name="WordArt 30"/>
          <p:cNvSpPr txBox="1"/>
          <p:nvPr/>
        </p:nvSpPr>
        <p:spPr>
          <a:xfrm>
            <a:off x="6012000" y="2060640"/>
            <a:ext cx="5508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WordArt 31"/>
          <p:cNvSpPr txBox="1"/>
          <p:nvPr/>
        </p:nvSpPr>
        <p:spPr>
          <a:xfrm>
            <a:off x="3564000" y="2492280"/>
            <a:ext cx="5508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1944720" y="54388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降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1908000" y="5877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763640" y="623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2280" y="1190520"/>
            <a:ext cx="8991720" cy="5667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描述北方地区的范围、地形与气候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4419720" cy="3038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505320"/>
            <a:ext cx="4492800" cy="30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419720" y="457200"/>
            <a:ext cx="506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黑土地”指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黄土地”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70572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东北平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629400" y="1143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土高原华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8194"/>
          <p:cNvSpPr/>
          <p:nvPr/>
        </p:nvSpPr>
        <p:spPr>
          <a:xfrm>
            <a:off x="4495680" y="27255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概况三个城市气候的共同特征？气候类型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4800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季寒冷干燥，夏季炎热多雨，属温带季风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54864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石家庄和齐齐哈尔的气候差异，说明成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6095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比较石家庄和延安的气候差异，说明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90600" y="181080"/>
            <a:ext cx="8362800" cy="6495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8088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重要的旱作农业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92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北方地区的耕地类型？主要粮食作物及经济作物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553080" y="518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北地区春旱的原因及解决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116800" y="1069920"/>
            <a:ext cx="4999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幼圆"/>
              </a:rPr>
              <a:t>华北平原和黄土高原为世界上最大的黄土分布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幼圆"/>
              </a:rPr>
              <a:t>东北平原为肥沃的黑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666880"/>
          <a:ext cx="8458200" cy="284796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1523880"/>
                <a:gridCol w="1228680"/>
                <a:gridCol w="1295280"/>
                <a:gridCol w="1819440"/>
              </a:tblGrid>
              <a:tr h="99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温度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耕作制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土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主要粮食作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主要经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作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东北地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华北地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3"/>
          <p:cNvSpPr/>
          <p:nvPr/>
        </p:nvSpPr>
        <p:spPr>
          <a:xfrm>
            <a:off x="1758600" y="272880"/>
            <a:ext cx="52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Garamond"/>
                <a:ea typeface="隶书"/>
              </a:rPr>
              <a:t>⑵</a:t>
            </a:r>
            <a:r>
              <a:rPr b="1" lang="zh-CN" sz="3600" spc="-1" strike="noStrike">
                <a:solidFill>
                  <a:srgbClr val="bbe0e3"/>
                </a:solidFill>
                <a:latin typeface="Garamond"/>
                <a:ea typeface="隶书"/>
              </a:rPr>
              <a:t>东北黑土地和华北黄土地的农业差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4"/>
          <p:cNvSpPr txBox="1"/>
          <p:nvPr/>
        </p:nvSpPr>
        <p:spPr>
          <a:xfrm>
            <a:off x="6553080" y="6248520"/>
            <a:ext cx="211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北方地区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WordArt 35"/>
          <p:cNvSpPr txBox="1"/>
          <p:nvPr/>
        </p:nvSpPr>
        <p:spPr>
          <a:xfrm>
            <a:off x="457200" y="62485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国地理分区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1828800" y="3805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温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1828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暖温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2971800" y="3805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一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3048120" y="46483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年三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两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4510080" y="3805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黑土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449568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土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791320" y="3805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春小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57913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冬小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7010280" y="3805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豆、甜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701028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棉花、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2743200"/>
          <a:ext cx="8610480" cy="3048120"/>
        </p:xfrm>
        <a:graphic>
          <a:graphicData uri="http://schemas.openxmlformats.org/drawingml/2006/table">
            <a:tbl>
              <a:tblPr/>
              <a:tblGrid>
                <a:gridCol w="1523880"/>
                <a:gridCol w="1222560"/>
                <a:gridCol w="1558800"/>
                <a:gridCol w="1181160"/>
                <a:gridCol w="1447920"/>
                <a:gridCol w="1676160"/>
              </a:tblGrid>
              <a:tr h="743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032360" cy="3762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80880" y="4343400"/>
            <a:ext cx="8382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说出华北平原春季气温变化和降水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讨论华北平原春季气候特点对农作物生长的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4"/>
          <p:cNvSpPr/>
          <p:nvPr/>
        </p:nvSpPr>
        <p:spPr>
          <a:xfrm>
            <a:off x="2097000" y="6259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6553080" y="6248520"/>
            <a:ext cx="211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北方地区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457200" y="62485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国地理分区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2" name="Picture 4" descr="北方地区地形"/>
          <p:cNvPicPr/>
          <p:nvPr/>
        </p:nvPicPr>
        <p:blipFill>
          <a:blip r:embed="rId4"/>
          <a:stretch/>
        </p:blipFill>
        <p:spPr>
          <a:xfrm>
            <a:off x="85680" y="181080"/>
            <a:ext cx="6248520" cy="6019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324480" y="228240"/>
            <a:ext cx="2819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读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北方地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隶书"/>
                <a:ea typeface="隶书"/>
              </a:rPr>
              <a:t>，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山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A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B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C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D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E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F___________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553080" y="15717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大兴安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553080" y="2205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小兴安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553080" y="2971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长白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5530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太行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553080" y="44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六盘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553080" y="5257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Arial"/>
                <a:ea typeface="楷体_GB2312"/>
              </a:rPr>
              <a:t>秦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1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15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