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CE4-C4AB-4D82-809F-254C85FF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C48-1050-4D01-A70D-E46127EF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8B0-650D-402A-83E8-117B7443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894-B184-474F-AA3F-3DBBD55E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0B15-95A1-46B0-A239-A177F746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2756-B084-48A5-854B-61F4F50F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FC06-70C2-4566-8A10-35812EB2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EAC6-53B2-4E8B-BA6F-70668E37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4CCF-35CE-41CB-9BD5-EFF56AA8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DA8D-E92E-4138-8871-1E8442BF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2CE8-B461-4CB2-85C7-8BAC7EF1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711-DD31-45C1-AE5A-0BB0AAC9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5B90-57EE-4DA5-9C6A-5F839C46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2441-E6F5-475A-9D18-68200140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65A9-9AF8-42CE-B621-A4710F8C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B13A-59BE-4D14-9BF5-C7EEF626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5C49-D37E-4CF4-9741-575E9055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A0B-3B87-4134-9F61-EE0F4551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4EE-57FA-416A-A26F-7463BCF9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4C8-AD8E-4E39-B5F6-35A59391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6CB-8671-4D7B-BC6D-233FAEB7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7A5-9AAD-40FC-A571-D0CCF95E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548-6B5F-4462-814E-EA30502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CBC-6CD3-4673-A5F4-A5639A82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A89-3818-40E6-A479-57786FC3DE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CFB7-7971-4FE3-A7FF-EB735BFC33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316160" y="2505240"/>
            <a:ext cx="6372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66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忠实履行义务</a:t>
            </a:r>
            <a:r>
              <a:rPr b="1" lang="en-US" sz="4000" spc="1" strike="noStrike">
                <a:ln w="19080">
                  <a:solidFill>
                    <a:srgbClr val="9966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66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9080">
                <a:solidFill>
                  <a:srgbClr val="9966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WordArt 2"/>
          <p:cNvSpPr txBox="1"/>
          <p:nvPr/>
        </p:nvSpPr>
        <p:spPr>
          <a:xfrm>
            <a:off x="1482840" y="1341360"/>
            <a:ext cx="604836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第二课  我们应尽的义务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84" name="Picture 13" descr="1"/>
          <p:cNvPicPr/>
          <p:nvPr/>
        </p:nvPicPr>
        <p:blipFill>
          <a:blip r:embed="rId1"/>
          <a:stretch/>
        </p:blipFill>
        <p:spPr>
          <a:xfrm>
            <a:off x="6667560" y="3141720"/>
            <a:ext cx="2476440" cy="332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2"/>
          <p:cNvPicPr/>
          <p:nvPr/>
        </p:nvPicPr>
        <p:blipFill>
          <a:blip r:embed="rId2"/>
          <a:stretch/>
        </p:blipFill>
        <p:spPr>
          <a:xfrm rot="5851800">
            <a:off x="6605280" y="4417560"/>
            <a:ext cx="285840" cy="324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6"/>
          <p:cNvGrpSpPr/>
          <p:nvPr/>
        </p:nvGrpSpPr>
        <p:grpSpPr>
          <a:xfrm>
            <a:off x="6538680" y="3457440"/>
            <a:ext cx="1991160" cy="1440720"/>
            <a:chOff x="6538680" y="3457440"/>
            <a:chExt cx="1991160" cy="1440720"/>
          </a:xfrm>
        </p:grpSpPr>
        <p:sp>
          <p:nvSpPr>
            <p:cNvPr id="87" name="Text Box 15"/>
            <p:cNvSpPr/>
            <p:nvPr/>
          </p:nvSpPr>
          <p:spPr>
            <a:xfrm rot="19800000">
              <a:off x="6524640" y="3962520"/>
              <a:ext cx="202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要点探究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 rot="19800000">
              <a:off x="6517440" y="393336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000"/>
                  </a:solidFill>
                  <a:latin typeface="Arial"/>
                  <a:ea typeface="时尚中黑简体"/>
                </a:rPr>
                <a:t>要点探究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89" name="Group 16"/>
          <p:cNvGrpSpPr/>
          <p:nvPr/>
        </p:nvGrpSpPr>
        <p:grpSpPr>
          <a:xfrm>
            <a:off x="6807960" y="3980520"/>
            <a:ext cx="2042640" cy="1316160"/>
            <a:chOff x="6807960" y="3980520"/>
            <a:chExt cx="2042640" cy="1316160"/>
          </a:xfrm>
        </p:grpSpPr>
        <p:sp>
          <p:nvSpPr>
            <p:cNvPr id="90" name="Text Box 15"/>
            <p:cNvSpPr/>
            <p:nvPr/>
          </p:nvSpPr>
          <p:spPr>
            <a:xfrm rot="20023800">
              <a:off x="6804720" y="440532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课堂小结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91" name="Text Box 14"/>
            <p:cNvSpPr/>
            <p:nvPr/>
          </p:nvSpPr>
          <p:spPr>
            <a:xfrm rot="20023800">
              <a:off x="6825600" y="441144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ff00"/>
                  </a:solidFill>
                  <a:latin typeface="Arial"/>
                  <a:ea typeface="时尚中黑简体"/>
                </a:rPr>
                <a:t>课堂小结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92" name="Group 16"/>
          <p:cNvGrpSpPr/>
          <p:nvPr/>
        </p:nvGrpSpPr>
        <p:grpSpPr>
          <a:xfrm>
            <a:off x="7127280" y="4465440"/>
            <a:ext cx="1996200" cy="1413360"/>
            <a:chOff x="7127280" y="4465440"/>
            <a:chExt cx="1996200" cy="1413360"/>
          </a:xfrm>
        </p:grpSpPr>
        <p:sp>
          <p:nvSpPr>
            <p:cNvPr id="93" name="Text Box 15"/>
            <p:cNvSpPr/>
            <p:nvPr/>
          </p:nvSpPr>
          <p:spPr>
            <a:xfrm rot="19800000">
              <a:off x="7116480" y="4941360"/>
              <a:ext cx="20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我思我品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 rot="19800000">
              <a:off x="7106040" y="4942800"/>
              <a:ext cx="20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时尚中黑简体"/>
                </a:rPr>
                <a:t>我思我品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95" name="Picture 21" descr="2"/>
          <p:cNvPicPr/>
          <p:nvPr/>
        </p:nvPicPr>
        <p:blipFill>
          <a:blip r:embed="rId3"/>
          <a:stretch/>
        </p:blipFill>
        <p:spPr>
          <a:xfrm rot="5851800">
            <a:off x="6836040" y="4821840"/>
            <a:ext cx="287280" cy="32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2"/>
          <p:cNvPicPr/>
          <p:nvPr/>
        </p:nvPicPr>
        <p:blipFill>
          <a:blip r:embed="rId4"/>
          <a:stretch/>
        </p:blipFill>
        <p:spPr>
          <a:xfrm rot="5851800">
            <a:off x="7265520" y="5459040"/>
            <a:ext cx="285840" cy="3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2"/>
          <p:cNvPicPr/>
          <p:nvPr/>
        </p:nvPicPr>
        <p:blipFill>
          <a:blip r:embed="rId5"/>
          <a:stretch/>
        </p:blipFill>
        <p:spPr>
          <a:xfrm rot="5851800">
            <a:off x="7624440" y="5967000"/>
            <a:ext cx="285840" cy="324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7401960" y="4824360"/>
            <a:ext cx="1996200" cy="1413360"/>
            <a:chOff x="7401960" y="4824360"/>
            <a:chExt cx="1996200" cy="1413360"/>
          </a:xfrm>
        </p:grpSpPr>
        <p:sp>
          <p:nvSpPr>
            <p:cNvPr id="99" name="Text Box 15"/>
            <p:cNvSpPr/>
            <p:nvPr/>
          </p:nvSpPr>
          <p:spPr>
            <a:xfrm rot="19800000">
              <a:off x="7391160" y="5300280"/>
              <a:ext cx="20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典例精析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 rot="19800000">
              <a:off x="7380720" y="5301720"/>
              <a:ext cx="20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时尚中黑简体"/>
                </a:rPr>
                <a:t>典例精析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0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grpSp>
        <p:nvGrpSpPr>
          <p:cNvPr id="153" name="组合 23"/>
          <p:cNvGrpSpPr/>
          <p:nvPr/>
        </p:nvGrpSpPr>
        <p:grpSpPr>
          <a:xfrm>
            <a:off x="395280" y="1341360"/>
            <a:ext cx="2714760" cy="614520"/>
            <a:chOff x="395280" y="1341360"/>
            <a:chExt cx="2714760" cy="614520"/>
          </a:xfrm>
        </p:grpSpPr>
        <p:pic>
          <p:nvPicPr>
            <p:cNvPr id="154" name="Picture 20" descr=""/>
            <p:cNvPicPr/>
            <p:nvPr/>
          </p:nvPicPr>
          <p:blipFill>
            <a:blip r:embed="rId2"/>
            <a:stretch/>
          </p:blipFill>
          <p:spPr>
            <a:xfrm>
              <a:off x="395280" y="1341360"/>
              <a:ext cx="27147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22"/>
            <p:cNvSpPr/>
            <p:nvPr/>
          </p:nvSpPr>
          <p:spPr>
            <a:xfrm>
              <a:off x="1308960" y="134136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课 堂 小 结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156" name="Picture 7" descr="{F1M}8TK6N@4S0IQI~E{8HX"/>
          <p:cNvPicPr/>
          <p:nvPr/>
        </p:nvPicPr>
        <p:blipFill>
          <a:blip r:embed="rId3"/>
          <a:stretch/>
        </p:blipFill>
        <p:spPr>
          <a:xfrm>
            <a:off x="985680" y="3254400"/>
            <a:ext cx="1857600" cy="39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0AS@{%UX%W`N(VY7%PSM9Z4"/>
          <p:cNvPicPr/>
          <p:nvPr/>
        </p:nvPicPr>
        <p:blipFill>
          <a:blip r:embed="rId4"/>
          <a:stretch/>
        </p:blipFill>
        <p:spPr>
          <a:xfrm>
            <a:off x="3400560" y="2654280"/>
            <a:ext cx="1885680" cy="343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]}0JLRD5H8B1B1F7JI91F0"/>
          <p:cNvPicPr/>
          <p:nvPr/>
        </p:nvPicPr>
        <p:blipFill>
          <a:blip r:embed="rId5"/>
          <a:stretch/>
        </p:blipFill>
        <p:spPr>
          <a:xfrm>
            <a:off x="5867280" y="2637000"/>
            <a:ext cx="1333800" cy="36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)AK]H0@}SQQB_BDO_@KT(@J"/>
          <p:cNvPicPr/>
          <p:nvPr/>
        </p:nvPicPr>
        <p:blipFill>
          <a:blip r:embed="rId6"/>
          <a:stretch/>
        </p:blipFill>
        <p:spPr>
          <a:xfrm>
            <a:off x="3405240" y="3311640"/>
            <a:ext cx="1866960" cy="333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_P4RZF`ZABE(X]O[Z2W7RSE"/>
          <p:cNvPicPr/>
          <p:nvPr/>
        </p:nvPicPr>
        <p:blipFill>
          <a:blip r:embed="rId7"/>
          <a:stretch/>
        </p:blipFill>
        <p:spPr>
          <a:xfrm>
            <a:off x="5902200" y="3286080"/>
            <a:ext cx="1247760" cy="3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N4(%9E%]SNWNLQ~O_SP%TB7"/>
          <p:cNvPicPr/>
          <p:nvPr/>
        </p:nvPicPr>
        <p:blipFill>
          <a:blip r:embed="rId8"/>
          <a:stretch/>
        </p:blipFill>
        <p:spPr>
          <a:xfrm>
            <a:off x="3405240" y="3922560"/>
            <a:ext cx="1876320" cy="371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K[S[_SQ@Z3V$4QEKT]1C7TA"/>
          <p:cNvPicPr/>
          <p:nvPr/>
        </p:nvPicPr>
        <p:blipFill>
          <a:blip r:embed="rId9"/>
          <a:stretch/>
        </p:blipFill>
        <p:spPr>
          <a:xfrm>
            <a:off x="5888160" y="3860640"/>
            <a:ext cx="1333440" cy="3524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4"/>
          <p:cNvSpPr/>
          <p:nvPr/>
        </p:nvSpPr>
        <p:spPr>
          <a:xfrm>
            <a:off x="2982960" y="2637000"/>
            <a:ext cx="287280" cy="1657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7080"/>
              <a:gd name="textAreaBottom" fmla="*/ 161424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272200" y="2852640"/>
            <a:ext cx="649080" cy="360"/>
            <a:chOff x="5272200" y="2852640"/>
            <a:chExt cx="649080" cy="360"/>
          </a:xfrm>
        </p:grpSpPr>
        <p:sp>
          <p:nvSpPr>
            <p:cNvPr id="165" name="Line 15"/>
            <p:cNvSpPr/>
            <p:nvPr/>
          </p:nvSpPr>
          <p:spPr>
            <a:xfrm>
              <a:off x="5272200" y="285264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5272200" y="2852640"/>
              <a:ext cx="64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276880" y="3502080"/>
            <a:ext cx="649080" cy="360"/>
            <a:chOff x="5276880" y="3502080"/>
            <a:chExt cx="649080" cy="360"/>
          </a:xfrm>
        </p:grpSpPr>
        <p:sp>
          <p:nvSpPr>
            <p:cNvPr id="168" name="Line 16"/>
            <p:cNvSpPr/>
            <p:nvPr/>
          </p:nvSpPr>
          <p:spPr>
            <a:xfrm>
              <a:off x="5276880" y="350208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276880" y="3502080"/>
              <a:ext cx="64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276880" y="4076640"/>
            <a:ext cx="649080" cy="360"/>
            <a:chOff x="5276880" y="4076640"/>
            <a:chExt cx="649080" cy="360"/>
          </a:xfrm>
        </p:grpSpPr>
        <p:sp>
          <p:nvSpPr>
            <p:cNvPr id="171" name="Line 17"/>
            <p:cNvSpPr/>
            <p:nvPr/>
          </p:nvSpPr>
          <p:spPr>
            <a:xfrm>
              <a:off x="5276880" y="407664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5276880" y="4076640"/>
              <a:ext cx="64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15"/>
          <p:cNvGrpSpPr/>
          <p:nvPr/>
        </p:nvGrpSpPr>
        <p:grpSpPr>
          <a:xfrm>
            <a:off x="324000" y="1197000"/>
            <a:ext cx="2714400" cy="577800"/>
            <a:chOff x="324000" y="1197000"/>
            <a:chExt cx="2714400" cy="577800"/>
          </a:xfrm>
        </p:grpSpPr>
        <p:pic>
          <p:nvPicPr>
            <p:cNvPr id="176" name="Picture 11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27144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13"/>
            <p:cNvSpPr/>
            <p:nvPr/>
          </p:nvSpPr>
          <p:spPr>
            <a:xfrm>
              <a:off x="1221480" y="119988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我 思 我 品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78" name="Group 7"/>
          <p:cNvGrpSpPr/>
          <p:nvPr/>
        </p:nvGrpSpPr>
        <p:grpSpPr>
          <a:xfrm>
            <a:off x="179280" y="2593440"/>
            <a:ext cx="8856720" cy="4109040"/>
            <a:chOff x="179280" y="2593440"/>
            <a:chExt cx="8856720" cy="4109040"/>
          </a:xfrm>
        </p:grpSpPr>
        <p:sp>
          <p:nvSpPr>
            <p:cNvPr id="179" name="Rectangle 8"/>
            <p:cNvSpPr/>
            <p:nvPr/>
          </p:nvSpPr>
          <p:spPr>
            <a:xfrm>
              <a:off x="179280" y="2593440"/>
              <a:ext cx="885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解读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　漫画中小女孩折花的行为，其实质在于缺乏义务观念和道德素质，做出了道德所不允许的行为，损害了社会文明形象。作为公民，我们要具有高度法制观念和高尚道德，法律和道德提倡做的积极去做，法律和道德禁止做的坚决不做。 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80" name="Picture 9" descr="D8.TIF"/>
            <p:cNvPicPr/>
            <p:nvPr/>
          </p:nvPicPr>
          <p:blipFill>
            <a:blip r:embed="rId3"/>
            <a:stretch/>
          </p:blipFill>
          <p:spPr>
            <a:xfrm>
              <a:off x="3203640" y="4149720"/>
              <a:ext cx="2736720" cy="255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文本框 8199"/>
          <p:cNvSpPr/>
          <p:nvPr/>
        </p:nvSpPr>
        <p:spPr>
          <a:xfrm>
            <a:off x="3038400" y="1292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grpSp>
        <p:nvGrpSpPr>
          <p:cNvPr id="184" name="组合 15"/>
          <p:cNvGrpSpPr/>
          <p:nvPr/>
        </p:nvGrpSpPr>
        <p:grpSpPr>
          <a:xfrm>
            <a:off x="324000" y="1413000"/>
            <a:ext cx="2714400" cy="577800"/>
            <a:chOff x="324000" y="1413000"/>
            <a:chExt cx="2714400" cy="577800"/>
          </a:xfrm>
        </p:grpSpPr>
        <p:pic>
          <p:nvPicPr>
            <p:cNvPr id="185" name="Picture 11" descr=""/>
            <p:cNvPicPr/>
            <p:nvPr/>
          </p:nvPicPr>
          <p:blipFill>
            <a:blip r:embed="rId2"/>
            <a:stretch/>
          </p:blipFill>
          <p:spPr>
            <a:xfrm>
              <a:off x="324000" y="1413000"/>
              <a:ext cx="27144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Box 13"/>
            <p:cNvSpPr/>
            <p:nvPr/>
          </p:nvSpPr>
          <p:spPr>
            <a:xfrm>
              <a:off x="1221480" y="141588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典 例 精 析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87" name="Rectangle 7"/>
          <p:cNvSpPr/>
          <p:nvPr/>
        </p:nvSpPr>
        <p:spPr>
          <a:xfrm>
            <a:off x="324000" y="245376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下列行为中属于我国法律鼓励公民做的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依法纳税　②植树造林　③讲普通话，写规范字　④不得携带管制刀具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②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②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②④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③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7190280" y="234828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42920" y="54151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解析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]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　注意问题限定词语“法律鼓励公民做的”，即公民的道德义务，而非法定义务。①④属于法定义务，必须去做；②③属于道德义务，法律鼓励和提倡去做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179280" y="2230920"/>
            <a:ext cx="885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按照法律规定，公民要履行接受规定年限的义务教育、依法纳税等义务，如果不履行这些义务，国家就要强制其履行，情节严重的还要受到法律制裁。这告诉我们，公民在履行义务时应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做自己想做的事，做对自己有利的事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法律要求做的可以有选择地去做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以享有权利的多少作为是否履行义务的依据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凡是宪法和法律要求做的，就必须去做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843840" y="321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28BE-AA49-443F-B8D3-3261DDC811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08000" y="136692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在法律活动课模拟表演中，“德先生”对“法博士”说：“没有你的帮助，治理国家有时我有心无力。”“法博士”回答道：“没有你的支持，有时我也鞭长莫及。”这段对话表明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律即道德，道德即法律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道德与法律互相配合、互相促进、互相补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律体现并维护道德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道德补充法律的不足，并促进法律的贯彻实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②③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②③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②④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②③④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781560" y="289944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如何忠实履行义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法律鼓励做的，我们积极去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法律要求做的，我们必须去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法律禁止做的，我们坚决不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371600" y="254160"/>
            <a:ext cx="456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20"/>
          <p:cNvGrpSpPr/>
          <p:nvPr/>
        </p:nvGrpSpPr>
        <p:grpSpPr>
          <a:xfrm>
            <a:off x="250920" y="1322280"/>
            <a:ext cx="2714400" cy="594000"/>
            <a:chOff x="250920" y="1322280"/>
            <a:chExt cx="2714400" cy="594000"/>
          </a:xfrm>
        </p:grpSpPr>
        <p:pic>
          <p:nvPicPr>
            <p:cNvPr id="106" name="Picture 3" descr=""/>
            <p:cNvPicPr/>
            <p:nvPr/>
          </p:nvPicPr>
          <p:blipFill>
            <a:blip r:embed="rId2"/>
            <a:stretch/>
          </p:blipFill>
          <p:spPr>
            <a:xfrm>
              <a:off x="250920" y="1322280"/>
              <a:ext cx="271440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22"/>
            <p:cNvSpPr/>
            <p:nvPr/>
          </p:nvSpPr>
          <p:spPr>
            <a:xfrm>
              <a:off x="1148400" y="134424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要 点 探 究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08" name="Rectangle 7"/>
          <p:cNvSpPr/>
          <p:nvPr/>
        </p:nvSpPr>
        <p:spPr>
          <a:xfrm>
            <a:off x="0" y="26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553760" y="198792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探究点一　法律鼓励做的，我们积极去做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09840" y="2707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相关衔接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79280" y="36874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宁波市某中学举行了一场爱心义卖活动。学生把从自己家中带来的书籍、文具、碟片、工艺品等物品作为班级的商品，低价出售给前来购买的老师和同学，义卖活动非常火爆。据介绍，这次义卖所得的善款将全部捐献给四川省贫困地区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1"/>
          <p:cNvSpPr/>
          <p:nvPr/>
        </p:nvSpPr>
        <p:spPr>
          <a:xfrm>
            <a:off x="1835280" y="2162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609840" y="112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自主探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412000" y="162756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一：这种“义卖”的行为体现了法律提倡的什么公德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24000" y="22622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种“义卖”行为体现了法律提倡的爱祖国、爱人民、关爱他人的公德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24000" y="2995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二：你参加过哪些公益活动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24000" y="3917160"/>
            <a:ext cx="85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植树活动、义务宣传活动、关爱敬老院老人活动等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24000" y="47228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三：参加这些活动有什么收获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24000" y="5682600"/>
            <a:ext cx="85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会关爱他人、关心社会，增强自己的责任感，收获快乐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340280" y="141192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探究点二　法律要求做的，我们必须去做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09840" y="205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相关衔接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42920" y="33854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9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，只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岁的浙江省江阴市的灯娃连续两次横游长江，轰动了整个江阴市。之后，她在的父母陪同下，主动到江阴市地税局缴纳个人所得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，成了新中国成立以来最小的纳税人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09840" y="11959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自主探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206440" y="17722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一：灯娃只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岁，却主动纳税，说明了什么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50920" y="2470320"/>
            <a:ext cx="83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律要求做的，我们必须去做，而不能不做。依法纳税是公民的法定义务，必须履行，否则就要受到法律的制裁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050360" y="405036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二：请你列举生活中还有哪些行为是我们必须去做的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50920" y="48823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如，依法服兵役、完成规定的学习任务、遵守公共秩序、保护野生动物、遵守交通规则等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文本框 8199"/>
          <p:cNvSpPr/>
          <p:nvPr/>
        </p:nvSpPr>
        <p:spPr>
          <a:xfrm>
            <a:off x="2232000" y="1293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1413360" y="155628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探究点三　法律禁止做的，我们坚决不做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09840" y="22039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相关衔接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4000" y="40824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名中学生在学校附近被人抢劫，接到学生家长报案后，公安机关立即派出民警调查。当犯罪嫌疑人寇某再次出现在学校附近，并尾随一名中学生准备实施抢劫时，被民警当场抓获。据交代，寇某今年刚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岁，由于父母平日里都在工地打工，对寇某疏于照料，初中毕业后寇某便在外游荡。目前，犯罪嫌疑人寇某已被刑事拘留，此案正在进一步调查中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609840" y="1267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自主探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426400" y="184356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一：寇某为什么会被刑拘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2621880"/>
            <a:ext cx="85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寇某实施了法律禁止做的行为，触犯了刑法，所以会被刑拘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257640" y="364392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二：我们从这一案例中得到了什么警示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50920" y="4767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实施法律所禁止的行为必然会对社会、他人造成危害，实施法律所禁止的行为是违法行为，即触犯法律，对所造成的后果，自己要承担相应的法律责任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250920" y="1469160"/>
            <a:ext cx="87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三：请你评析“只要不做法律所禁止做的事情，就是忠实履行了义务”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4191840"/>
            <a:ext cx="880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种说法是片面的。①法律禁止做的坚决不做，是忠实履行公民义务的重要体现。为了维护公民的合法权益、确保国家的长治久安，我国法律明确规定禁止公民实施某些行为。实施法律所禁止的行为，就是触犯法律，会受到法律的制裁。②公民忠实履行义务，还要做到法律鼓励做的，我们积极去做；法律要求做的，我们必须去做。总之，我们只有做到正确地行使权利，忠实地履行义务，才是一个具有高度法制观念和高尚道德的合格公民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17Z</dcterms:modified>
  <cp:revision>1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