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1.jpeg" ContentType="image/jpeg"/>
  <Override PartName="/ppt/media/image6.gif" ContentType="image/gif"/>
  <Override PartName="/ppt/media/chimes.wav" ContentType="audio/x-wav"/>
  <Override PartName="/ppt/media/image20.jpeg" ContentType="image/jpeg"/>
  <Override PartName="/ppt/media/%E5%97%96.wav" ContentType="audio/x-wav"/>
  <Override PartName="/ppt/media/image19.jpeg" ContentType="image/jpeg"/>
  <Override PartName="/ppt/media/image25.png" ContentType="image/png"/>
  <Override PartName="/ppt/media/image18.png" ContentType="image/png"/>
  <Override PartName="/ppt/media/type.wav" ContentType="audio/x-wav"/>
  <Override PartName="/ppt/media/image14.jpeg" ContentType="image/jpeg"/>
  <Override PartName="/ppt/media/image41.jpeg" ContentType="image/jpeg"/>
  <Override PartName="/ppt/media/image12.wmf" ContentType="image/x-wmf"/>
  <Override PartName="/ppt/media/image23.jpeg" ContentType="image/jpeg"/>
  <Override PartName="/ppt/media/image2.jpeg" ContentType="image/jpeg"/>
  <Override PartName="/ppt/media/hammer.wav" ContentType="audio/x-wav"/>
  <Override PartName="/ppt/media/image36.jpeg" ContentType="image/jpeg"/>
  <Override PartName="/ppt/media/drumroll.wav" ContentType="audio/x-wav"/>
  <Override PartName="/ppt/media/image27.png" ContentType="image/png"/>
  <Override PartName="/ppt/media/image33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31.jpeg" ContentType="image/jpeg"/>
  <Override PartName="/ppt/media/image10.wmf" ContentType="image/x-wmf"/>
  <Override PartName="/ppt/media/ricochet.wav" ContentType="audio/x-wav"/>
  <Override PartName="/ppt/media/image16.png" ContentType="image/png"/>
  <Override PartName="/ppt/media/camera.wav" ContentType="audio/x-wav"/>
  <Override PartName="/ppt/media/image29.jpeg" ContentType="image/jpeg"/>
  <Override PartName="/ppt/media/image8.jpeg" ContentType="image/jpeg"/>
  <Override PartName="/ppt/media/image13.wmf" ContentType="image/x-wmf"/>
  <Override PartName="/ppt/media/image30.jpeg" ContentType="image/jpeg"/>
  <Override PartName="/ppt/media/image32.jpeg" ContentType="image/jpeg"/>
  <Override PartName="/ppt/media/image38.jpeg" ContentType="image/jpeg"/>
  <Override PartName="/ppt/media/image40.jpeg" ContentType="image/jpeg"/>
  <Override PartName="/ppt/media/image42.png" ContentType="image/png"/>
  <Override PartName="/ppt/media/image28.jpeg" ContentType="image/jpeg"/>
  <Override PartName="/ppt/media/image43.jpeg" ContentType="image/jpeg"/>
  <Override PartName="/ppt/media/image17.jpeg" ContentType="image/jpeg"/>
  <Override PartName="/ppt/media/image26.png" ContentType="image/png"/>
  <Override PartName="/ppt/media/image5.jpeg" ContentType="image/jpeg"/>
  <Override PartName="/ppt/media/image11.wmf" ContentType="image/x-wmf"/>
  <Override PartName="/ppt/media/explode.wav" ContentType="audio/x-wav"/>
  <Override PartName="/ppt/media/image34.jpeg" ContentType="image/jpeg"/>
  <Override PartName="/ppt/media/image37.png" ContentType="image/pn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9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6678-AFB1-4E38-925E-A1059312F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8C7B-CDAD-473E-9455-E657532C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A920-D7CD-4D4C-9479-A4383CF0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2E65-8129-4DE2-8AB6-454DFD1C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9B6F-6FBB-4B5F-B3EC-7F5615893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B992-646A-43F9-B432-A658E4FC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1645-A8AF-4680-871F-4505FE0D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FBAF-CC07-4018-A948-3D85B9D6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C695-BC79-4CFF-A937-CC9976BB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6982-1D19-43CF-999F-BDF26AB3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5750-46C0-4B1F-B281-AB3A7F7D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4AE4-065A-44BE-ACB2-448B0997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EBFB-01F9-4F80-96B1-949F273D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7185-0351-4E92-9CFA-246D6196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7A5B-63AE-411E-9199-7508A5A4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A426-16FB-4FF4-8282-5C683F311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8A31-96B1-47BB-8370-3F9E2406F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F498-068E-4757-94BF-AC826480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039D-DF5F-4CDB-8272-836E52F5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1C5A-202B-47BA-9F8F-8A7E8D37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9CA6-DC8F-48F2-AD87-F7F5AFF2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682A-3850-4D12-9105-904B5A10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0992-C2DE-4EEE-AD6E-024C2D55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A747-970D-4E99-BE44-CD71D035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1D30-7780-4EF1-B73D-6CE4EC80A3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68AF-011A-4436-B1E7-41272C0E4F0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7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hyperlink" Target="http://www.eeppt.com" TargetMode="External"/><Relationship Id="rId7" Type="http://schemas.openxmlformats.org/officeDocument/2006/relationships/hyperlink" Target="http://www.eeppt.com" TargetMode="External"/><Relationship Id="rId8" Type="http://schemas.openxmlformats.org/officeDocument/2006/relationships/audio" Target="../media/&#21974;.wav"/><Relationship Id="rId9" Type="http://schemas.openxmlformats.org/officeDocument/2006/relationships/audio" Target="../media/&#21974;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&#21974;.wav"/><Relationship Id="rId13" Type="http://schemas.openxmlformats.org/officeDocument/2006/relationships/audio" Target="../media/explode.wav"/><Relationship Id="rId1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7.png"/><Relationship Id="rId3" Type="http://schemas.openxmlformats.org/officeDocument/2006/relationships/audio" Target="../media/hammer.wav"/><Relationship Id="rId4" Type="http://schemas.openxmlformats.org/officeDocument/2006/relationships/audio" Target="../media/type.wav"/><Relationship Id="rId5" Type="http://schemas.openxmlformats.org/officeDocument/2006/relationships/audio" Target="../media/ricochet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png"/><Relationship Id="rId5" Type="http://schemas.openxmlformats.org/officeDocument/2006/relationships/image" Target="../media/image38.jpe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&#21974;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hyperlink" Target="http://www.eeppt.com" TargetMode="External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760320" y="1268280"/>
            <a:ext cx="7561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16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中外的交往与冲突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5003640" y="1989000"/>
            <a:ext cx="3384720" cy="4554720"/>
            <a:chOff x="5003640" y="1989000"/>
            <a:chExt cx="3384720" cy="4554720"/>
          </a:xfrm>
        </p:grpSpPr>
        <p:pic>
          <p:nvPicPr>
            <p:cNvPr id="137" name="Picture 3" descr="郑和船队编型图"/>
            <p:cNvPicPr/>
            <p:nvPr/>
          </p:nvPicPr>
          <p:blipFill>
            <a:blip r:embed="rId1"/>
            <a:stretch/>
          </p:blipFill>
          <p:spPr>
            <a:xfrm>
              <a:off x="5138640" y="2489400"/>
              <a:ext cx="3046320" cy="359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4" descr="画框03"/>
            <p:cNvPicPr/>
            <p:nvPr/>
          </p:nvPicPr>
          <p:blipFill>
            <a:blip r:embed="rId2"/>
            <a:stretch/>
          </p:blipFill>
          <p:spPr>
            <a:xfrm>
              <a:off x="5003640" y="1989000"/>
              <a:ext cx="3384720" cy="4554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9" name="Picture 5" descr="明代罗盘"/>
          <p:cNvPicPr/>
          <p:nvPr/>
        </p:nvPicPr>
        <p:blipFill>
          <a:blip r:embed="rId3"/>
          <a:stretch/>
        </p:blipFill>
        <p:spPr>
          <a:xfrm>
            <a:off x="5003640" y="189000"/>
            <a:ext cx="2953080" cy="20606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7810560" y="62064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代罗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4716360" y="616572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郑和船队编形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8"/>
          <p:cNvGrpSpPr/>
          <p:nvPr/>
        </p:nvGrpSpPr>
        <p:grpSpPr>
          <a:xfrm>
            <a:off x="0" y="-171360"/>
            <a:ext cx="5003640" cy="4868640"/>
            <a:chOff x="0" y="-171360"/>
            <a:chExt cx="5003640" cy="4868640"/>
          </a:xfrm>
        </p:grpSpPr>
        <p:pic>
          <p:nvPicPr>
            <p:cNvPr id="143" name="Picture 9" descr="郑和航海船"/>
            <p:cNvPicPr/>
            <p:nvPr/>
          </p:nvPicPr>
          <p:blipFill>
            <a:blip r:embed="rId4"/>
            <a:stretch/>
          </p:blipFill>
          <p:spPr>
            <a:xfrm>
              <a:off x="244080" y="202680"/>
              <a:ext cx="4515120" cy="40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10" descr="画框03"/>
            <p:cNvPicPr/>
            <p:nvPr/>
          </p:nvPicPr>
          <p:blipFill>
            <a:blip r:embed="rId5"/>
            <a:stretch/>
          </p:blipFill>
          <p:spPr>
            <a:xfrm>
              <a:off x="0" y="-171360"/>
              <a:ext cx="5003640" cy="486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Text Box 11"/>
          <p:cNvSpPr/>
          <p:nvPr/>
        </p:nvSpPr>
        <p:spPr>
          <a:xfrm>
            <a:off x="395280" y="4724280"/>
            <a:ext cx="345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号宝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1.8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      宽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1.6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3059280" y="5734080"/>
            <a:ext cx="151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------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返回"/>
          <p:cNvPicPr/>
          <p:nvPr/>
        </p:nvPicPr>
        <p:blipFill>
          <a:blip r:embed="rId6"/>
          <a:stretch/>
        </p:blipFill>
        <p:spPr>
          <a:xfrm>
            <a:off x="8388360" y="6270480"/>
            <a:ext cx="755640" cy="587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7"/>
          <p:cNvSpPr/>
          <p:nvPr/>
        </p:nvSpPr>
        <p:spPr>
          <a:xfrm>
            <a:off x="3423600" y="60930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郑和下西洋路线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6804000" y="479736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9"/>
          <p:cNvGrpSpPr/>
          <p:nvPr/>
        </p:nvGrpSpPr>
        <p:grpSpPr>
          <a:xfrm>
            <a:off x="324000" y="404640"/>
            <a:ext cx="8819640" cy="5688000"/>
            <a:chOff x="324000" y="404640"/>
            <a:chExt cx="8819640" cy="5688000"/>
          </a:xfrm>
        </p:grpSpPr>
        <p:pic>
          <p:nvPicPr>
            <p:cNvPr id="153" name="Picture 10" descr="地图a"/>
            <p:cNvPicPr/>
            <p:nvPr/>
          </p:nvPicPr>
          <p:blipFill>
            <a:blip r:embed="rId2"/>
            <a:stretch/>
          </p:blipFill>
          <p:spPr>
            <a:xfrm>
              <a:off x="324000" y="404640"/>
              <a:ext cx="8819640" cy="568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11"/>
            <p:cNvSpPr/>
            <p:nvPr/>
          </p:nvSpPr>
          <p:spPr>
            <a:xfrm>
              <a:off x="2710800" y="5048280"/>
              <a:ext cx="87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西     洋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2"/>
            <p:cNvSpPr/>
            <p:nvPr/>
          </p:nvSpPr>
          <p:spPr>
            <a:xfrm>
              <a:off x="1496160" y="4296600"/>
              <a:ext cx="3278520" cy="590400"/>
            </a:xfrm>
            <a:custGeom>
              <a:avLst/>
              <a:gdLst/>
              <a:ahLst/>
              <a:rect l="l" t="t" r="r" b="b"/>
              <a:pathLst>
                <a:path w="1762" h="369">
                  <a:moveTo>
                    <a:pt x="0" y="260"/>
                  </a:moveTo>
                  <a:cubicBezTo>
                    <a:pt x="80" y="275"/>
                    <a:pt x="144" y="296"/>
                    <a:pt x="226" y="305"/>
                  </a:cubicBezTo>
                  <a:cubicBezTo>
                    <a:pt x="424" y="369"/>
                    <a:pt x="652" y="312"/>
                    <a:pt x="859" y="294"/>
                  </a:cubicBezTo>
                  <a:cubicBezTo>
                    <a:pt x="935" y="267"/>
                    <a:pt x="844" y="297"/>
                    <a:pt x="972" y="271"/>
                  </a:cubicBezTo>
                  <a:cubicBezTo>
                    <a:pt x="1053" y="255"/>
                    <a:pt x="1116" y="236"/>
                    <a:pt x="1198" y="226"/>
                  </a:cubicBezTo>
                  <a:cubicBezTo>
                    <a:pt x="1328" y="194"/>
                    <a:pt x="1462" y="183"/>
                    <a:pt x="1593" y="158"/>
                  </a:cubicBezTo>
                  <a:cubicBezTo>
                    <a:pt x="1642" y="83"/>
                    <a:pt x="1584" y="156"/>
                    <a:pt x="1649" y="113"/>
                  </a:cubicBezTo>
                  <a:cubicBezTo>
                    <a:pt x="1734" y="57"/>
                    <a:pt x="1636" y="94"/>
                    <a:pt x="1717" y="68"/>
                  </a:cubicBezTo>
                  <a:cubicBezTo>
                    <a:pt x="1748" y="47"/>
                    <a:pt x="1762" y="40"/>
                    <a:pt x="1762" y="0"/>
                  </a:cubicBez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AutoShape 13"/>
          <p:cNvSpPr/>
          <p:nvPr/>
        </p:nvSpPr>
        <p:spPr>
          <a:xfrm>
            <a:off x="6300720" y="476280"/>
            <a:ext cx="2843280" cy="708120"/>
          </a:xfrm>
          <a:prstGeom prst="wedgeRoundRectCallout">
            <a:avLst>
              <a:gd name="adj1" fmla="val 36990"/>
              <a:gd name="adj2" fmla="val 143050"/>
              <a:gd name="adj3" fmla="val 16667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宋体"/>
              </a:rPr>
              <a:t>刘家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4"/>
          <p:cNvSpPr/>
          <p:nvPr/>
        </p:nvSpPr>
        <p:spPr>
          <a:xfrm>
            <a:off x="826920" y="1341360"/>
            <a:ext cx="3168720" cy="792360"/>
          </a:xfrm>
          <a:prstGeom prst="wedgeRectCallout">
            <a:avLst>
              <a:gd name="adj1" fmla="val -47393"/>
              <a:gd name="adj2" fmla="val 140583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宋体"/>
              </a:rPr>
              <a:t>红海沿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5"/>
          <p:cNvSpPr/>
          <p:nvPr/>
        </p:nvSpPr>
        <p:spPr>
          <a:xfrm>
            <a:off x="539640" y="3357720"/>
            <a:ext cx="3024360" cy="718920"/>
          </a:xfrm>
          <a:prstGeom prst="wedgeRectCallout">
            <a:avLst>
              <a:gd name="adj1" fmla="val -30787"/>
              <a:gd name="adj2" fmla="val 149777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宋体"/>
              </a:rPr>
              <a:t>非洲东海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6"/>
          <p:cNvSpPr/>
          <p:nvPr/>
        </p:nvSpPr>
        <p:spPr>
          <a:xfrm>
            <a:off x="971640" y="1341360"/>
            <a:ext cx="2663640" cy="863640"/>
          </a:xfrm>
          <a:prstGeom prst="ellipse">
            <a:avLst/>
          </a:prstGeom>
          <a:noFill/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7"/>
          <p:cNvSpPr/>
          <p:nvPr/>
        </p:nvSpPr>
        <p:spPr>
          <a:xfrm>
            <a:off x="682560" y="3357720"/>
            <a:ext cx="2737080" cy="792000"/>
          </a:xfrm>
          <a:prstGeom prst="ellipse">
            <a:avLst/>
          </a:prstGeom>
          <a:noFill/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" name=""/>
          <p:cNvGraphicFramePr/>
          <p:nvPr/>
        </p:nvGraphicFramePr>
        <p:xfrm>
          <a:off x="206280" y="981000"/>
          <a:ext cx="8686800" cy="5710320"/>
        </p:xfrm>
        <a:graphic>
          <a:graphicData uri="http://schemas.openxmlformats.org/drawingml/2006/table">
            <a:tbl>
              <a:tblPr/>
              <a:tblGrid>
                <a:gridCol w="1403280"/>
                <a:gridCol w="7283520"/>
              </a:tblGrid>
              <a:tr h="863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时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次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规模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人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14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到达范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 Box 24"/>
          <p:cNvSpPr/>
          <p:nvPr/>
        </p:nvSpPr>
        <p:spPr>
          <a:xfrm>
            <a:off x="-92160" y="189000"/>
            <a:ext cx="876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郑和下西洋盛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8"/>
          <p:cNvSpPr/>
          <p:nvPr/>
        </p:nvSpPr>
        <p:spPr>
          <a:xfrm>
            <a:off x="4932360" y="134136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9"/>
          <p:cNvSpPr/>
          <p:nvPr/>
        </p:nvSpPr>
        <p:spPr>
          <a:xfrm>
            <a:off x="1692360" y="105264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宋体"/>
              </a:rPr>
              <a:t>1405~1433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0"/>
          <p:cNvSpPr/>
          <p:nvPr/>
        </p:nvSpPr>
        <p:spPr>
          <a:xfrm>
            <a:off x="1835280" y="1989000"/>
            <a:ext cx="20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先后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宋体"/>
              </a:rPr>
              <a:t>7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1"/>
          <p:cNvSpPr/>
          <p:nvPr/>
        </p:nvSpPr>
        <p:spPr>
          <a:xfrm>
            <a:off x="1763640" y="270828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最大的海船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宋体"/>
              </a:rPr>
              <a:t>44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丈，宽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宋体"/>
              </a:rPr>
              <a:t>18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丈。每次航行大小船只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宋体"/>
              </a:rPr>
              <a:t>200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多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2"/>
          <p:cNvSpPr/>
          <p:nvPr/>
        </p:nvSpPr>
        <p:spPr>
          <a:xfrm>
            <a:off x="1743120" y="523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3"/>
          <p:cNvSpPr/>
          <p:nvPr/>
        </p:nvSpPr>
        <p:spPr>
          <a:xfrm>
            <a:off x="1619280" y="414972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每次出海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宋体"/>
              </a:rPr>
              <a:t>2.7~2.8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万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4"/>
          <p:cNvSpPr/>
          <p:nvPr/>
        </p:nvSpPr>
        <p:spPr>
          <a:xfrm>
            <a:off x="1476360" y="5013360"/>
            <a:ext cx="74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亚非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宋体"/>
              </a:rPr>
              <a:t>30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多个国家和地区，最远到达红海沿岸和非洲东岸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36"/>
          <p:cNvSpPr/>
          <p:nvPr/>
        </p:nvSpPr>
        <p:spPr>
          <a:xfrm>
            <a:off x="2843280" y="1916280"/>
            <a:ext cx="1081080" cy="72072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37"/>
          <p:cNvSpPr/>
          <p:nvPr/>
        </p:nvSpPr>
        <p:spPr>
          <a:xfrm>
            <a:off x="7164360" y="5013360"/>
            <a:ext cx="1081080" cy="72072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38"/>
          <p:cNvSpPr/>
          <p:nvPr/>
        </p:nvSpPr>
        <p:spPr>
          <a:xfrm>
            <a:off x="1979640" y="5589720"/>
            <a:ext cx="4753080" cy="86184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2561040" y="40176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郑和下西洋与欧洲航海家远航比较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3"/>
          <p:cNvGrpSpPr/>
          <p:nvPr/>
        </p:nvGrpSpPr>
        <p:grpSpPr>
          <a:xfrm>
            <a:off x="324000" y="981000"/>
            <a:ext cx="8515440" cy="5486760"/>
            <a:chOff x="324000" y="981000"/>
            <a:chExt cx="8515440" cy="5486760"/>
          </a:xfrm>
        </p:grpSpPr>
        <p:sp>
          <p:nvSpPr>
            <p:cNvPr id="177" name="Rectangle 4"/>
            <p:cNvSpPr/>
            <p:nvPr/>
          </p:nvSpPr>
          <p:spPr>
            <a:xfrm>
              <a:off x="6568920" y="4799160"/>
              <a:ext cx="2270160" cy="1668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120</a:t>
              </a: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100</a:t>
              </a: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50</a:t>
              </a: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5"/>
            <p:cNvSpPr/>
            <p:nvPr/>
          </p:nvSpPr>
          <p:spPr>
            <a:xfrm>
              <a:off x="3811680" y="4799160"/>
              <a:ext cx="2757240" cy="1668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长</a:t>
              </a:r>
              <a:r>
                <a:rPr b="1" lang="en-US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24.5</a:t>
              </a: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宽</a:t>
              </a:r>
              <a:r>
                <a:rPr b="1" lang="en-US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6</a:t>
              </a: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6"/>
            <p:cNvSpPr/>
            <p:nvPr/>
          </p:nvSpPr>
          <p:spPr>
            <a:xfrm>
              <a:off x="1298520" y="4799160"/>
              <a:ext cx="2513160" cy="1668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大号宝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长</a:t>
              </a:r>
              <a:r>
                <a:rPr b="1" lang="en-US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151.8</a:t>
              </a: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宽</a:t>
              </a:r>
              <a:r>
                <a:rPr b="1" lang="en-US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61.6</a:t>
              </a: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"/>
            <p:cNvSpPr/>
            <p:nvPr/>
          </p:nvSpPr>
          <p:spPr>
            <a:xfrm>
              <a:off x="324000" y="4799160"/>
              <a:ext cx="974520" cy="1668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船只大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8"/>
            <p:cNvSpPr/>
            <p:nvPr/>
          </p:nvSpPr>
          <p:spPr>
            <a:xfrm>
              <a:off x="6568920" y="3867120"/>
              <a:ext cx="2270160" cy="932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4</a:t>
              </a: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9"/>
            <p:cNvSpPr/>
            <p:nvPr/>
          </p:nvSpPr>
          <p:spPr>
            <a:xfrm>
              <a:off x="3809880" y="3876840"/>
              <a:ext cx="275760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17</a:t>
              </a: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0"/>
            <p:cNvSpPr/>
            <p:nvPr/>
          </p:nvSpPr>
          <p:spPr>
            <a:xfrm>
              <a:off x="1298520" y="3867120"/>
              <a:ext cx="2513160" cy="932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大号宝船</a:t>
              </a:r>
              <a:r>
                <a:rPr b="1" lang="en-US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62</a:t>
              </a: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艘（共百余艘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1"/>
            <p:cNvSpPr/>
            <p:nvPr/>
          </p:nvSpPr>
          <p:spPr>
            <a:xfrm>
              <a:off x="324000" y="3867120"/>
              <a:ext cx="974520" cy="932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船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2"/>
            <p:cNvSpPr/>
            <p:nvPr/>
          </p:nvSpPr>
          <p:spPr>
            <a:xfrm>
              <a:off x="6568920" y="3382920"/>
              <a:ext cx="2270160" cy="484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160</a:t>
              </a: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3"/>
            <p:cNvSpPr/>
            <p:nvPr/>
          </p:nvSpPr>
          <p:spPr>
            <a:xfrm>
              <a:off x="3811680" y="3382920"/>
              <a:ext cx="2757240" cy="484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1000-1500</a:t>
              </a: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4"/>
            <p:cNvSpPr/>
            <p:nvPr/>
          </p:nvSpPr>
          <p:spPr>
            <a:xfrm>
              <a:off x="1298520" y="3382920"/>
              <a:ext cx="2513160" cy="484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27800</a:t>
              </a: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5"/>
            <p:cNvSpPr/>
            <p:nvPr/>
          </p:nvSpPr>
          <p:spPr>
            <a:xfrm>
              <a:off x="324000" y="3382920"/>
              <a:ext cx="974520" cy="484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人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6"/>
            <p:cNvSpPr/>
            <p:nvPr/>
          </p:nvSpPr>
          <p:spPr>
            <a:xfrm>
              <a:off x="6568920" y="2900520"/>
              <a:ext cx="2270160" cy="48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7"/>
            <p:cNvSpPr/>
            <p:nvPr/>
          </p:nvSpPr>
          <p:spPr>
            <a:xfrm>
              <a:off x="3811680" y="2900520"/>
              <a:ext cx="2757240" cy="48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4</a:t>
              </a: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8"/>
            <p:cNvSpPr/>
            <p:nvPr/>
          </p:nvSpPr>
          <p:spPr>
            <a:xfrm>
              <a:off x="1298520" y="2900520"/>
              <a:ext cx="2513160" cy="48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7</a:t>
              </a: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9"/>
            <p:cNvSpPr/>
            <p:nvPr/>
          </p:nvSpPr>
          <p:spPr>
            <a:xfrm>
              <a:off x="324000" y="2900520"/>
              <a:ext cx="974520" cy="48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次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0"/>
            <p:cNvSpPr/>
            <p:nvPr/>
          </p:nvSpPr>
          <p:spPr>
            <a:xfrm>
              <a:off x="6568920" y="2416320"/>
              <a:ext cx="227016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1497-1498</a:t>
              </a:r>
              <a:r>
                <a:rPr b="0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1"/>
            <p:cNvSpPr/>
            <p:nvPr/>
          </p:nvSpPr>
          <p:spPr>
            <a:xfrm>
              <a:off x="3811680" y="2416320"/>
              <a:ext cx="2757240" cy="484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1492-1504</a:t>
              </a: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2"/>
            <p:cNvSpPr/>
            <p:nvPr/>
          </p:nvSpPr>
          <p:spPr>
            <a:xfrm>
              <a:off x="1298520" y="2416320"/>
              <a:ext cx="2513160" cy="484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1405-1433</a:t>
              </a: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3"/>
            <p:cNvSpPr/>
            <p:nvPr/>
          </p:nvSpPr>
          <p:spPr>
            <a:xfrm>
              <a:off x="324000" y="2416320"/>
              <a:ext cx="974520" cy="484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时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4"/>
            <p:cNvSpPr/>
            <p:nvPr/>
          </p:nvSpPr>
          <p:spPr>
            <a:xfrm>
              <a:off x="6568920" y="1447920"/>
              <a:ext cx="21942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绕过非洲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端到达印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5"/>
            <p:cNvSpPr/>
            <p:nvPr/>
          </p:nvSpPr>
          <p:spPr>
            <a:xfrm>
              <a:off x="3811680" y="1482840"/>
              <a:ext cx="275724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到达美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6"/>
            <p:cNvSpPr/>
            <p:nvPr/>
          </p:nvSpPr>
          <p:spPr>
            <a:xfrm>
              <a:off x="1298520" y="1482840"/>
              <a:ext cx="25131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下西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7"/>
            <p:cNvSpPr/>
            <p:nvPr/>
          </p:nvSpPr>
          <p:spPr>
            <a:xfrm>
              <a:off x="324000" y="1482840"/>
              <a:ext cx="9745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地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28"/>
            <p:cNvSpPr/>
            <p:nvPr/>
          </p:nvSpPr>
          <p:spPr>
            <a:xfrm>
              <a:off x="6568920" y="998640"/>
              <a:ext cx="2270160" cy="484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达</a:t>
              </a:r>
              <a:r>
                <a:rPr b="1" lang="en-US" sz="3200" spc="-1" strike="noStrike">
                  <a:solidFill>
                    <a:srgbClr val="009999"/>
                  </a:solidFill>
                  <a:latin typeface="Times New Roman"/>
                  <a:ea typeface="楷体_GB2312"/>
                </a:rPr>
                <a:t>·</a:t>
              </a: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伽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29"/>
            <p:cNvSpPr/>
            <p:nvPr/>
          </p:nvSpPr>
          <p:spPr>
            <a:xfrm>
              <a:off x="3811680" y="998640"/>
              <a:ext cx="2757240" cy="484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哥伦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30"/>
            <p:cNvSpPr/>
            <p:nvPr/>
          </p:nvSpPr>
          <p:spPr>
            <a:xfrm>
              <a:off x="1298520" y="998640"/>
              <a:ext cx="2513160" cy="484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郑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31"/>
            <p:cNvSpPr/>
            <p:nvPr/>
          </p:nvSpPr>
          <p:spPr>
            <a:xfrm>
              <a:off x="324000" y="998640"/>
              <a:ext cx="974520" cy="484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姓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324000" y="998640"/>
              <a:ext cx="8515080" cy="360"/>
              <a:chOff x="324000" y="998640"/>
              <a:chExt cx="8515080" cy="360"/>
            </a:xfrm>
          </p:grpSpPr>
          <p:sp>
            <p:nvSpPr>
              <p:cNvPr id="206" name="Line 32"/>
              <p:cNvSpPr/>
              <p:nvPr/>
            </p:nvSpPr>
            <p:spPr>
              <a:xfrm>
                <a:off x="324000" y="998640"/>
                <a:ext cx="85150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 txBox="1"/>
              <p:nvPr/>
            </p:nvSpPr>
            <p:spPr>
              <a:xfrm>
                <a:off x="324000" y="998640"/>
                <a:ext cx="8515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324000" y="1482840"/>
              <a:ext cx="8515080" cy="360"/>
              <a:chOff x="324000" y="1482840"/>
              <a:chExt cx="8515080" cy="360"/>
            </a:xfrm>
          </p:grpSpPr>
          <p:sp>
            <p:nvSpPr>
              <p:cNvPr id="209" name="Line 33"/>
              <p:cNvSpPr/>
              <p:nvPr/>
            </p:nvSpPr>
            <p:spPr>
              <a:xfrm>
                <a:off x="324000" y="1482840"/>
                <a:ext cx="8515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 txBox="1"/>
              <p:nvPr/>
            </p:nvSpPr>
            <p:spPr>
              <a:xfrm>
                <a:off x="324000" y="1482840"/>
                <a:ext cx="8515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324000" y="2416320"/>
              <a:ext cx="8515080" cy="360"/>
              <a:chOff x="324000" y="2416320"/>
              <a:chExt cx="8515080" cy="360"/>
            </a:xfrm>
          </p:grpSpPr>
          <p:sp>
            <p:nvSpPr>
              <p:cNvPr id="212" name="Line 34"/>
              <p:cNvSpPr/>
              <p:nvPr/>
            </p:nvSpPr>
            <p:spPr>
              <a:xfrm>
                <a:off x="324000" y="2416320"/>
                <a:ext cx="8515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 txBox="1"/>
              <p:nvPr/>
            </p:nvSpPr>
            <p:spPr>
              <a:xfrm>
                <a:off x="324000" y="2416320"/>
                <a:ext cx="8515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324000" y="3382920"/>
              <a:ext cx="8515080" cy="360"/>
              <a:chOff x="324000" y="3382920"/>
              <a:chExt cx="8515080" cy="360"/>
            </a:xfrm>
          </p:grpSpPr>
          <p:sp>
            <p:nvSpPr>
              <p:cNvPr id="215" name="Line 35"/>
              <p:cNvSpPr/>
              <p:nvPr/>
            </p:nvSpPr>
            <p:spPr>
              <a:xfrm>
                <a:off x="324000" y="3382920"/>
                <a:ext cx="8515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 txBox="1"/>
              <p:nvPr/>
            </p:nvSpPr>
            <p:spPr>
              <a:xfrm>
                <a:off x="324000" y="3382920"/>
                <a:ext cx="8515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324000" y="4799160"/>
              <a:ext cx="8515080" cy="360"/>
              <a:chOff x="324000" y="4799160"/>
              <a:chExt cx="8515080" cy="360"/>
            </a:xfrm>
          </p:grpSpPr>
          <p:sp>
            <p:nvSpPr>
              <p:cNvPr id="218" name="Line 36"/>
              <p:cNvSpPr/>
              <p:nvPr/>
            </p:nvSpPr>
            <p:spPr>
              <a:xfrm>
                <a:off x="324000" y="4799160"/>
                <a:ext cx="8515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 txBox="1"/>
              <p:nvPr/>
            </p:nvSpPr>
            <p:spPr>
              <a:xfrm>
                <a:off x="324000" y="4799160"/>
                <a:ext cx="8515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324000" y="6467400"/>
              <a:ext cx="8515080" cy="360"/>
              <a:chOff x="324000" y="6467400"/>
              <a:chExt cx="8515080" cy="360"/>
            </a:xfrm>
          </p:grpSpPr>
          <p:sp>
            <p:nvSpPr>
              <p:cNvPr id="221" name="Line 37"/>
              <p:cNvSpPr/>
              <p:nvPr/>
            </p:nvSpPr>
            <p:spPr>
              <a:xfrm>
                <a:off x="324000" y="6467400"/>
                <a:ext cx="85150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 txBox="1"/>
              <p:nvPr/>
            </p:nvSpPr>
            <p:spPr>
              <a:xfrm>
                <a:off x="324000" y="6467400"/>
                <a:ext cx="8515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324000" y="998640"/>
              <a:ext cx="360" cy="5468760"/>
              <a:chOff x="324000" y="998640"/>
              <a:chExt cx="360" cy="5468760"/>
            </a:xfrm>
          </p:grpSpPr>
          <p:sp>
            <p:nvSpPr>
              <p:cNvPr id="224" name="Line 38"/>
              <p:cNvSpPr/>
              <p:nvPr/>
            </p:nvSpPr>
            <p:spPr>
              <a:xfrm>
                <a:off x="324000" y="998640"/>
                <a:ext cx="0" cy="54687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 txBox="1"/>
              <p:nvPr/>
            </p:nvSpPr>
            <p:spPr>
              <a:xfrm>
                <a:off x="324000" y="998640"/>
                <a:ext cx="360" cy="5468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1298520" y="998640"/>
              <a:ext cx="360" cy="5468760"/>
              <a:chOff x="1298520" y="998640"/>
              <a:chExt cx="360" cy="5468760"/>
            </a:xfrm>
          </p:grpSpPr>
          <p:sp>
            <p:nvSpPr>
              <p:cNvPr id="227" name="Line 39"/>
              <p:cNvSpPr/>
              <p:nvPr/>
            </p:nvSpPr>
            <p:spPr>
              <a:xfrm>
                <a:off x="1298520" y="998640"/>
                <a:ext cx="0" cy="546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 txBox="1"/>
              <p:nvPr/>
            </p:nvSpPr>
            <p:spPr>
              <a:xfrm>
                <a:off x="1298520" y="998640"/>
                <a:ext cx="360" cy="5468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811680" y="998640"/>
              <a:ext cx="360" cy="5468760"/>
              <a:chOff x="3811680" y="998640"/>
              <a:chExt cx="360" cy="5468760"/>
            </a:xfrm>
          </p:grpSpPr>
          <p:sp>
            <p:nvSpPr>
              <p:cNvPr id="230" name="Line 40"/>
              <p:cNvSpPr/>
              <p:nvPr/>
            </p:nvSpPr>
            <p:spPr>
              <a:xfrm>
                <a:off x="3811680" y="998640"/>
                <a:ext cx="0" cy="546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 txBox="1"/>
              <p:nvPr/>
            </p:nvSpPr>
            <p:spPr>
              <a:xfrm>
                <a:off x="3811680" y="998640"/>
                <a:ext cx="360" cy="5468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6572160" y="981000"/>
              <a:ext cx="360" cy="5486400"/>
              <a:chOff x="6572160" y="981000"/>
              <a:chExt cx="360" cy="5486400"/>
            </a:xfrm>
          </p:grpSpPr>
          <p:sp>
            <p:nvSpPr>
              <p:cNvPr id="233" name="Line 41"/>
              <p:cNvSpPr/>
              <p:nvPr/>
            </p:nvSpPr>
            <p:spPr>
              <a:xfrm>
                <a:off x="6572160" y="981000"/>
                <a:ext cx="0" cy="54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 txBox="1"/>
              <p:nvPr/>
            </p:nvSpPr>
            <p:spPr>
              <a:xfrm>
                <a:off x="6572160" y="981000"/>
                <a:ext cx="360" cy="5486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8839080" y="998640"/>
              <a:ext cx="360" cy="5468760"/>
              <a:chOff x="8839080" y="998640"/>
              <a:chExt cx="360" cy="5468760"/>
            </a:xfrm>
          </p:grpSpPr>
          <p:sp>
            <p:nvSpPr>
              <p:cNvPr id="236" name="Line 42"/>
              <p:cNvSpPr/>
              <p:nvPr/>
            </p:nvSpPr>
            <p:spPr>
              <a:xfrm>
                <a:off x="8839080" y="998640"/>
                <a:ext cx="0" cy="54687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 txBox="1"/>
              <p:nvPr/>
            </p:nvSpPr>
            <p:spPr>
              <a:xfrm>
                <a:off x="8839080" y="998640"/>
                <a:ext cx="360" cy="5468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8" name="Text Box 43"/>
          <p:cNvSpPr/>
          <p:nvPr/>
        </p:nvSpPr>
        <p:spPr>
          <a:xfrm>
            <a:off x="250920" y="1773360"/>
            <a:ext cx="8569080" cy="375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a50021"/>
            </a:solidFill>
            <a:miter/>
          </a:ln>
          <a:effectLst>
            <a:outerShdw dist="107932" dir="2700000" blurRad="0" rotWithShape="0">
              <a:srgbClr val="a5002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a50021"/>
                </a:solidFill>
                <a:latin typeface="Arial"/>
                <a:ea typeface="隶书"/>
              </a:rPr>
              <a:t>       </a:t>
            </a:r>
            <a:r>
              <a:rPr b="1" lang="zh-CN" sz="6000" spc="-1" strike="noStrike">
                <a:solidFill>
                  <a:srgbClr val="a50021"/>
                </a:solidFill>
                <a:latin typeface="Arial"/>
                <a:ea typeface="隶书"/>
              </a:rPr>
              <a:t>郑和下西洋是世界航海史上的壮举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a50021"/>
                </a:solidFill>
                <a:latin typeface="Arial"/>
                <a:ea typeface="隶书"/>
              </a:rPr>
              <a:t>       </a:t>
            </a:r>
            <a:r>
              <a:rPr b="1" lang="zh-CN" sz="6000" spc="-1" strike="noStrike" u="sng">
                <a:solidFill>
                  <a:srgbClr val="ff0000"/>
                </a:solidFill>
                <a:uFillTx/>
                <a:latin typeface="Arial"/>
                <a:ea typeface="隶书"/>
              </a:rPr>
              <a:t>郑和是我国也是世界历史上的伟大航海家</a:t>
            </a:r>
            <a:r>
              <a:rPr b="1" lang="zh-CN" sz="6000" spc="-1" strike="noStrike">
                <a:solidFill>
                  <a:srgbClr val="a50021"/>
                </a:solidFill>
                <a:latin typeface="Arial"/>
                <a:ea typeface="隶书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7" descr="返回"/>
          <p:cNvPicPr/>
          <p:nvPr/>
        </p:nvPicPr>
        <p:blipFill>
          <a:blip r:embed="rId2"/>
          <a:stretch/>
        </p:blipFill>
        <p:spPr>
          <a:xfrm>
            <a:off x="8028000" y="0"/>
            <a:ext cx="1116000" cy="8683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24000" y="1600200"/>
            <a:ext cx="864072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材料一：郑和下西洋后，浡泥、满剌加、苏禄的国王和王后回访中国。苏禄国王率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30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多人访问中国，归国途中病逝于中国，即在中国安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684360" y="3933720"/>
            <a:ext cx="813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材料二：郑和下西洋过程中和下西洋后，明朝有许多人到南洋（即今东南亚）去做工和经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3637080" y="620640"/>
            <a:ext cx="45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阅读下列材料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WordArt 6"/>
          <p:cNvSpPr txBox="1"/>
          <p:nvPr/>
        </p:nvSpPr>
        <p:spPr>
          <a:xfrm>
            <a:off x="826920" y="5805360"/>
            <a:ext cx="807408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80"/>
                  </a:solidFill>
                  <a:round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思考：郑和下西洋带来了什么影响和贡献？</a:t>
            </a:r>
            <a:endParaRPr b="1" lang="en-US" sz="4800" spc="1" strike="noStrike">
              <a:ln w="12600">
                <a:solidFill>
                  <a:srgbClr val="000080"/>
                </a:solidFill>
                <a:round/>
              </a:ln>
              <a:gradFill rotWithShape="0">
                <a:gsLst>
                  <a:gs pos="0">
                    <a:srgbClr val="ff3399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24000" y="4221000"/>
            <a:ext cx="854064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ff00"/>
                </a:solidFill>
                <a:uFillTx/>
                <a:latin typeface="华文新魏"/>
                <a:ea typeface="华文新魏"/>
              </a:rPr>
              <a:t>（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华文新魏"/>
                <a:ea typeface="华文新魏"/>
              </a:rPr>
              <a:t>2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华文新魏"/>
                <a:ea typeface="华文新魏"/>
              </a:rPr>
              <a:t>）郑和下西洋促进了中国同亚非各国的经济文化的交流，加强了我国同亚非各国的友好交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WordArt 3"/>
          <p:cNvSpPr txBox="1"/>
          <p:nvPr/>
        </p:nvSpPr>
        <p:spPr>
          <a:xfrm>
            <a:off x="1187280" y="1916280"/>
            <a:ext cx="6705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80"/>
                  </a:solidFill>
                  <a:round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郑和下西洋的影响和贡献</a:t>
            </a:r>
            <a:endParaRPr b="1" lang="en-US" sz="4800" spc="1" strike="noStrike">
              <a:ln w="12600">
                <a:solidFill>
                  <a:srgbClr val="000080"/>
                </a:solidFill>
                <a:round/>
              </a:ln>
              <a:gradFill rotWithShape="0">
                <a:gsLst>
                  <a:gs pos="0">
                    <a:srgbClr val="ff3399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539640" y="2997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郑和下西洋的时间早，规模大，到达地区广，是世界航海史上的壮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4"/>
          <p:cNvSpPr/>
          <p:nvPr/>
        </p:nvSpPr>
        <p:spPr>
          <a:xfrm>
            <a:off x="2987640" y="260280"/>
            <a:ext cx="63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二、戚继光抗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79280" y="2637000"/>
            <a:ext cx="8964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、倭寇指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、明朝中期为什么倭患严重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3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、倭患对我国东南沿海的骚扰造成了什么严重的后果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2700360" y="141300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自主探究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3400560" y="436680"/>
            <a:ext cx="183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4500720" y="1268280"/>
            <a:ext cx="4464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 Black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戚继光：山东蓬莱人。明代杰出军事家，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17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岁承袭父职，担负起防御倭寇的任务。先后在东南沿海抗倭，取得了决定性的胜利，其军队被称为“戚家军”。戚继光是中国历史上的民族英雄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-92160" y="-152280"/>
            <a:ext cx="3440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5"/>
          <p:cNvGrpSpPr/>
          <p:nvPr/>
        </p:nvGrpSpPr>
        <p:grpSpPr>
          <a:xfrm>
            <a:off x="108000" y="1054080"/>
            <a:ext cx="4392720" cy="5903640"/>
            <a:chOff x="108000" y="1054080"/>
            <a:chExt cx="4392720" cy="5903640"/>
          </a:xfrm>
        </p:grpSpPr>
        <p:pic>
          <p:nvPicPr>
            <p:cNvPr id="254" name="Picture 6" descr="戚"/>
            <p:cNvPicPr/>
            <p:nvPr/>
          </p:nvPicPr>
          <p:blipFill>
            <a:blip r:embed="rId2"/>
            <a:stretch/>
          </p:blipFill>
          <p:spPr>
            <a:xfrm>
              <a:off x="293400" y="1544400"/>
              <a:ext cx="4021560" cy="48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7" descr="画框03"/>
            <p:cNvPicPr/>
            <p:nvPr/>
          </p:nvPicPr>
          <p:blipFill>
            <a:blip r:embed="rId3"/>
            <a:stretch/>
          </p:blipFill>
          <p:spPr>
            <a:xfrm>
              <a:off x="108000" y="1054080"/>
              <a:ext cx="4392720" cy="590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6" name="Oval 9"/>
          <p:cNvSpPr/>
          <p:nvPr/>
        </p:nvSpPr>
        <p:spPr>
          <a:xfrm>
            <a:off x="5292720" y="1268280"/>
            <a:ext cx="1440000" cy="72072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0"/>
          <p:cNvSpPr/>
          <p:nvPr/>
        </p:nvSpPr>
        <p:spPr>
          <a:xfrm>
            <a:off x="6443640" y="4797360"/>
            <a:ext cx="1873440" cy="72072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1"/>
          <p:cNvSpPr/>
          <p:nvPr/>
        </p:nvSpPr>
        <p:spPr>
          <a:xfrm>
            <a:off x="4500720" y="5948280"/>
            <a:ext cx="1873080" cy="72072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戚继1"/>
          <p:cNvPicPr/>
          <p:nvPr/>
        </p:nvPicPr>
        <p:blipFill>
          <a:blip r:embed="rId2"/>
          <a:stretch/>
        </p:blipFill>
        <p:spPr>
          <a:xfrm>
            <a:off x="1547640" y="1125360"/>
            <a:ext cx="6004080" cy="508500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260" name="Picture 3" descr="戚2"/>
          <p:cNvPicPr/>
          <p:nvPr/>
        </p:nvPicPr>
        <p:blipFill>
          <a:blip r:embed="rId3"/>
          <a:stretch/>
        </p:blipFill>
        <p:spPr>
          <a:xfrm>
            <a:off x="3851280" y="1125360"/>
            <a:ext cx="1828800" cy="15242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戚3"/>
          <p:cNvPicPr/>
          <p:nvPr/>
        </p:nvPicPr>
        <p:blipFill>
          <a:blip r:embed="rId4"/>
          <a:stretch/>
        </p:blipFill>
        <p:spPr>
          <a:xfrm>
            <a:off x="3635280" y="1341360"/>
            <a:ext cx="294660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戚1"/>
          <p:cNvPicPr/>
          <p:nvPr/>
        </p:nvPicPr>
        <p:blipFill>
          <a:blip r:embed="rId5"/>
          <a:stretch/>
        </p:blipFill>
        <p:spPr>
          <a:xfrm>
            <a:off x="2556000" y="4365720"/>
            <a:ext cx="2286000" cy="1752480"/>
          </a:xfrm>
          <a:prstGeom prst="rect">
            <a:avLst/>
          </a:prstGeom>
          <a:ln w="0">
            <a:noFill/>
          </a:ln>
        </p:spPr>
      </p:pic>
      <p:sp>
        <p:nvSpPr>
          <p:cNvPr id="263" name="AutoShape 6"/>
          <p:cNvSpPr/>
          <p:nvPr/>
        </p:nvSpPr>
        <p:spPr>
          <a:xfrm>
            <a:off x="3851280" y="3284640"/>
            <a:ext cx="1143000" cy="91440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台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3241800" y="1905120"/>
            <a:ext cx="7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登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8"/>
          <p:cNvSpPr/>
          <p:nvPr/>
        </p:nvSpPr>
        <p:spPr>
          <a:xfrm>
            <a:off x="3851280" y="1628640"/>
            <a:ext cx="228600" cy="22860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9"/>
          <p:cNvSpPr/>
          <p:nvPr/>
        </p:nvSpPr>
        <p:spPr>
          <a:xfrm>
            <a:off x="3419640" y="4005360"/>
            <a:ext cx="1143000" cy="91440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福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0"/>
          <p:cNvSpPr/>
          <p:nvPr/>
        </p:nvSpPr>
        <p:spPr>
          <a:xfrm>
            <a:off x="2627280" y="4653000"/>
            <a:ext cx="1143000" cy="91440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广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8198"/>
          <p:cNvSpPr/>
          <p:nvPr/>
        </p:nvSpPr>
        <p:spPr>
          <a:xfrm>
            <a:off x="3770280" y="49068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E5%97%9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dur="indefinite" nodeType="afterEffect" fill="hold" presetClass="entr" presetID="18" presetSubtype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E5%97%9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7000"/>
                            </p:stCondLst>
                            <p:childTnLst>
                              <p:par>
                                <p:cTn id="288" dur="indefinite" nodeType="afterEffect" fill="hold" presetClass="entr" presetID="23" presetSubtype="3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5" dur="indefinite" nodeType="afterEffect" fill="hold" presetClass="entr" presetID="23" presetSubtype="3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0"/>
                            </p:stCondLst>
                            <p:childTnLst>
                              <p:par>
                                <p:cTn id="302" dur="indefinite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E5%97%9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0"/>
                            </p:stCondLst>
                            <p:childTnLst>
                              <p:par>
                                <p:cTn id="306" dur="indefinite" nodeType="afterEffect" fill="hold" presetClass="entr" presetID="23" presetSubtype="3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4_1"/>
          <p:cNvPicPr/>
          <p:nvPr/>
        </p:nvPicPr>
        <p:blipFill>
          <a:blip r:embed="rId2"/>
          <a:stretch/>
        </p:blipFill>
        <p:spPr>
          <a:xfrm>
            <a:off x="1116000" y="549360"/>
            <a:ext cx="6769080" cy="291312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4"/>
          <p:cNvSpPr/>
          <p:nvPr/>
        </p:nvSpPr>
        <p:spPr>
          <a:xfrm>
            <a:off x="3272760" y="3500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</a:rPr>
              <a:t>平定了浙江的倭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4267080" y="4110120"/>
            <a:ext cx="60984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e46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3832560" y="4653000"/>
            <a:ext cx="13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</a:rPr>
              <a:t>1564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</a:rPr>
              <a:t>年，与其他军队配合，扫除福建、广东的倭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7"/>
          <p:cNvSpPr/>
          <p:nvPr/>
        </p:nvSpPr>
        <p:spPr>
          <a:xfrm>
            <a:off x="4267080" y="5329080"/>
            <a:ext cx="60984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3629520" y="59072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</a:rPr>
              <a:t>倭患基本解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1908000" y="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想一想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戚继光抗倭为什么能够取得胜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Img258695533"/>
          <p:cNvPicPr/>
          <p:nvPr/>
        </p:nvPicPr>
        <p:blipFill>
          <a:blip r:embed="rId1"/>
          <a:stretch/>
        </p:blipFill>
        <p:spPr>
          <a:xfrm>
            <a:off x="0" y="2781360"/>
            <a:ext cx="4762440" cy="3889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Img421487_t"/>
          <p:cNvPicPr/>
          <p:nvPr/>
        </p:nvPicPr>
        <p:blipFill>
          <a:blip r:embed="rId2"/>
          <a:stretch/>
        </p:blipFill>
        <p:spPr>
          <a:xfrm>
            <a:off x="4572000" y="2781360"/>
            <a:ext cx="4572000" cy="38894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3382920" y="11592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2008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年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月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日，北京第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29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届奥林匹克运动会开幕式上的文艺表演展现了中国的灿烂文明，其中“郑和下西洋”一幕再现了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600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多年前明朝的郑和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7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次率船队远航，创造航海奇迹的辉煌历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戚家军取得胜利的原因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90400" y="242100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戚继光有远大志向，爱民的情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11280" y="3213000"/>
            <a:ext cx="770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戚家军纪律严明，作战勇敢，卓越的指挥才能和指挥策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612720" y="4508640"/>
            <a:ext cx="770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战争是正义的，符合人民的利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WordArt 8"/>
          <p:cNvSpPr txBox="1"/>
          <p:nvPr/>
        </p:nvSpPr>
        <p:spPr>
          <a:xfrm>
            <a:off x="0" y="5877000"/>
            <a:ext cx="914400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民族英雄戚继光的抗金业绩，永远载入史册。</a:t>
            </a:r>
            <a:endParaRPr b="1" lang="en-US" sz="2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guan"/>
          <p:cNvPicPr/>
          <p:nvPr/>
        </p:nvPicPr>
        <p:blipFill>
          <a:blip r:embed="rId2"/>
          <a:stretch/>
        </p:blipFill>
        <p:spPr>
          <a:xfrm>
            <a:off x="755640" y="1197000"/>
            <a:ext cx="3502080" cy="48243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suxiang"/>
          <p:cNvPicPr/>
          <p:nvPr/>
        </p:nvPicPr>
        <p:blipFill>
          <a:blip r:embed="rId3"/>
          <a:stretch/>
        </p:blipFill>
        <p:spPr>
          <a:xfrm>
            <a:off x="4572000" y="1125360"/>
            <a:ext cx="3745080" cy="482472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2627280" y="602136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戚继光纪念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3" descr="平倭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4356000" y="2367000"/>
            <a:ext cx="4464000" cy="336708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4"/>
          <p:cNvSpPr/>
          <p:nvPr/>
        </p:nvSpPr>
        <p:spPr>
          <a:xfrm>
            <a:off x="231840" y="4613400"/>
            <a:ext cx="183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287280" y="1268280"/>
            <a:ext cx="896472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</a:rPr>
              <a:t>你认为他有哪些高尚的品质值得我们学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977400" y="1794960"/>
            <a:ext cx="237384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华文行楷"/>
              </a:rPr>
              <a:t>封侯非我意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华文行楷"/>
              </a:rPr>
              <a:t>但愿海波平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华文行楷"/>
              </a:rPr>
              <a:t>—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行楷"/>
              </a:rPr>
              <a:t>戚继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1330200" y="5734080"/>
            <a:ext cx="62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淡泊名利，抵抗侵略，维护祖国领土主权完整的爱国主义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0" descr="葡萄牙初占澳门图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0" y="0"/>
            <a:ext cx="9144000" cy="7520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葡萄牙攫取在澳门的居住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6156360" y="0"/>
            <a:ext cx="262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5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年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7"/>
          <p:cNvGrpSpPr/>
          <p:nvPr/>
        </p:nvGrpSpPr>
        <p:grpSpPr>
          <a:xfrm>
            <a:off x="0" y="765000"/>
            <a:ext cx="9144000" cy="6093000"/>
            <a:chOff x="0" y="765000"/>
            <a:chExt cx="9144000" cy="6093000"/>
          </a:xfrm>
        </p:grpSpPr>
        <p:pic>
          <p:nvPicPr>
            <p:cNvPr id="293" name="Picture 8" descr="一五九八年以前荷兰画家布里绘制的早期澳门全图"/>
            <p:cNvPicPr/>
            <p:nvPr/>
          </p:nvPicPr>
          <p:blipFill>
            <a:blip r:embed="rId2"/>
            <a:stretch/>
          </p:blipFill>
          <p:spPr>
            <a:xfrm>
              <a:off x="0" y="765000"/>
              <a:ext cx="9144000" cy="6093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94" name="Rectangle 9"/>
            <p:cNvSpPr/>
            <p:nvPr/>
          </p:nvSpPr>
          <p:spPr>
            <a:xfrm>
              <a:off x="0" y="6154200"/>
              <a:ext cx="7164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</a:rPr>
                <a:t>1598</a:t>
              </a: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</a:rPr>
                <a:t>年以前荷兰画家布里绘制的早期澳门全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3" descr="中葡联合声明签字"/>
          <p:cNvPicPr/>
          <p:nvPr/>
        </p:nvPicPr>
        <p:blipFill>
          <a:blip r:embed="rId1"/>
          <a:stretch/>
        </p:blipFill>
        <p:spPr>
          <a:xfrm>
            <a:off x="468360" y="333360"/>
            <a:ext cx="7696080" cy="462456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4"/>
          <p:cNvSpPr/>
          <p:nvPr/>
        </p:nvSpPr>
        <p:spPr>
          <a:xfrm>
            <a:off x="431640" y="5057640"/>
            <a:ext cx="82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8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，中国政府和葡萄牙政府在北京签署了关于澳门问题的联合声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宣布：中国政府将于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999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年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澳门恢复行使主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324000" y="549360"/>
            <a:ext cx="5580000" cy="16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4"/>
          <p:cNvSpPr/>
          <p:nvPr/>
        </p:nvSpPr>
        <p:spPr>
          <a:xfrm>
            <a:off x="0" y="1341360"/>
            <a:ext cx="5148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你可知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</a:rPr>
              <a:t>MACAU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不是我真姓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我离开你太久了，母亲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但是他们掠去的是我的肉体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你依然保管我 内心的灵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你可知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</a:rPr>
              <a:t>MACAU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不是我真姓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我离开你太久了，母亲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但是他们掳去的是我的肉体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你依然保管我 内心的灵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百年来梦寐不忘的生母啊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请叫儿的乳名，叫我一声“澳门”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母亲啊母亲！我要回来！母亲 母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971640" y="40464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七子之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4" descr="桥"/>
          <p:cNvPicPr/>
          <p:nvPr/>
        </p:nvPicPr>
        <p:blipFill>
          <a:blip r:embed="rId2"/>
          <a:stretch/>
        </p:blipFill>
        <p:spPr>
          <a:xfrm>
            <a:off x="4965840" y="907920"/>
            <a:ext cx="4286160" cy="54738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5" descr="西湾大桥"/>
          <p:cNvPicPr/>
          <p:nvPr/>
        </p:nvPicPr>
        <p:blipFill>
          <a:blip r:embed="rId3"/>
          <a:stretch/>
        </p:blipFill>
        <p:spPr>
          <a:xfrm>
            <a:off x="4957920" y="907920"/>
            <a:ext cx="4186080" cy="54738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6" descr="赌场"/>
          <p:cNvPicPr/>
          <p:nvPr/>
        </p:nvPicPr>
        <p:blipFill>
          <a:blip r:embed="rId4"/>
          <a:stretch/>
        </p:blipFill>
        <p:spPr>
          <a:xfrm>
            <a:off x="5114880" y="981000"/>
            <a:ext cx="4029120" cy="5372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7" descr="荷花"/>
          <p:cNvPicPr/>
          <p:nvPr/>
        </p:nvPicPr>
        <p:blipFill>
          <a:blip r:embed="rId5"/>
          <a:stretch/>
        </p:blipFill>
        <p:spPr>
          <a:xfrm>
            <a:off x="4978440" y="907920"/>
            <a:ext cx="4165560" cy="5473800"/>
          </a:xfrm>
          <a:prstGeom prst="rect">
            <a:avLst/>
          </a:prstGeom>
          <a:ln w="0">
            <a:noFill/>
          </a:ln>
        </p:spPr>
      </p:pic>
      <p:pic>
        <p:nvPicPr>
          <p:cNvPr id="305" name="儿歌 - 七子之歌.mp3" descr=""/>
          <p:cNvPicPr/>
          <p:nvPr/>
        </p:nvPicPr>
        <p:blipFill>
          <a:blip r:embed="rId6"/>
          <a:stretch/>
        </p:blipFill>
        <p:spPr>
          <a:xfrm>
            <a:off x="3851280" y="404640"/>
            <a:ext cx="728640" cy="7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2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0" dur="223870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3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3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3000"/>
                            </p:stCondLst>
                            <p:childTnLst>
                              <p:par>
                                <p:cTn id="439" dur="indefinite" nodeType="after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0" dur="3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7000"/>
                            </p:stCondLst>
                            <p:childTnLst>
                              <p:par>
                                <p:cTn id="443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5" dur="3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7" dur="indefinite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8" dur="3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1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3" dur="3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55" dur="indefinite" nodeType="after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6" dur="3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1000"/>
                            </p:stCondLst>
                            <p:childTnLst>
                              <p:par>
                                <p:cTn id="460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2" dur="3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5546880"/>
            <a:ext cx="9144000" cy="1311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1999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年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12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月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20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日</a:t>
            </a:r>
            <a:br>
              <a:rPr sz="3600"/>
            </a:b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中国政府恢复对澳门行使主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3" descr="1澳门回归"/>
          <p:cNvPicPr/>
          <p:nvPr/>
        </p:nvPicPr>
        <p:blipFill>
          <a:blip r:embed="rId1"/>
          <a:stretch/>
        </p:blipFill>
        <p:spPr>
          <a:xfrm>
            <a:off x="0" y="0"/>
            <a:ext cx="9144000" cy="561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AutoShape 2"/>
          <p:cNvSpPr/>
          <p:nvPr/>
        </p:nvSpPr>
        <p:spPr>
          <a:xfrm>
            <a:off x="7236000" y="2492280"/>
            <a:ext cx="431640" cy="2089080"/>
          </a:xfrm>
          <a:custGeom>
            <a:avLst/>
            <a:gdLst>
              <a:gd name="textAreaLeft" fmla="*/ 0 w 431640"/>
              <a:gd name="textAreaRight" fmla="*/ 155880 w 431640"/>
              <a:gd name="textAreaTop" fmla="*/ 54360 h 2089080"/>
              <a:gd name="textAreaBottom" fmla="*/ 203472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314"/>
                </a:lnTo>
                <a:cubicBezTo>
                  <a:pt x="10800" y="10213"/>
                  <a:pt x="16200" y="11112"/>
                  <a:pt x="21600" y="11112"/>
                </a:cubicBezTo>
                <a:cubicBezTo>
                  <a:pt x="16200" y="11112"/>
                  <a:pt x="10800" y="12011"/>
                  <a:pt x="10800" y="12910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7451640" y="1600200"/>
            <a:ext cx="505080" cy="360"/>
            <a:chOff x="7451640" y="1600200"/>
            <a:chExt cx="505080" cy="360"/>
          </a:xfrm>
        </p:grpSpPr>
        <p:sp>
          <p:nvSpPr>
            <p:cNvPr id="310" name="Line 3"/>
            <p:cNvSpPr/>
            <p:nvPr/>
          </p:nvSpPr>
          <p:spPr>
            <a:xfrm>
              <a:off x="7451640" y="1600200"/>
              <a:ext cx="505080" cy="0"/>
            </a:xfrm>
            <a:prstGeom prst="line">
              <a:avLst/>
            </a:prstGeom>
            <a:ln w="414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7451640" y="1600200"/>
              <a:ext cx="50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900000" y="1989000"/>
            <a:ext cx="360" cy="1224000"/>
            <a:chOff x="900000" y="1989000"/>
            <a:chExt cx="360" cy="1224000"/>
          </a:xfrm>
        </p:grpSpPr>
        <p:sp>
          <p:nvSpPr>
            <p:cNvPr id="313" name="Line 4"/>
            <p:cNvSpPr/>
            <p:nvPr/>
          </p:nvSpPr>
          <p:spPr>
            <a:xfrm>
              <a:off x="900000" y="1989000"/>
              <a:ext cx="0" cy="1224000"/>
            </a:xfrm>
            <a:prstGeom prst="line">
              <a:avLst/>
            </a:prstGeom>
            <a:ln w="108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900000" y="1989000"/>
              <a:ext cx="36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3348000" y="1989000"/>
            <a:ext cx="360" cy="1079640"/>
            <a:chOff x="3348000" y="1989000"/>
            <a:chExt cx="360" cy="1079640"/>
          </a:xfrm>
        </p:grpSpPr>
        <p:sp>
          <p:nvSpPr>
            <p:cNvPr id="316" name="Line 5"/>
            <p:cNvSpPr/>
            <p:nvPr/>
          </p:nvSpPr>
          <p:spPr>
            <a:xfrm>
              <a:off x="3348000" y="1989000"/>
              <a:ext cx="0" cy="1079640"/>
            </a:xfrm>
            <a:prstGeom prst="line">
              <a:avLst/>
            </a:prstGeom>
            <a:ln w="108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3348000" y="1989000"/>
              <a:ext cx="360" cy="107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Rectangle 6"/>
          <p:cNvSpPr/>
          <p:nvPr/>
        </p:nvSpPr>
        <p:spPr>
          <a:xfrm>
            <a:off x="36360" y="1340640"/>
            <a:ext cx="799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明朝前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国力强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郑和七下西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0" y="3283560"/>
            <a:ext cx="42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明中后期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国势衰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7559640" y="357336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冲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7661160" y="1182600"/>
            <a:ext cx="148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交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4284720" y="2349360"/>
            <a:ext cx="3240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●</a:t>
            </a:r>
            <a:r>
              <a:rPr b="1" lang="zh-CN" sz="3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戚继光抗倭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●</a:t>
            </a:r>
            <a:r>
              <a:rPr b="1" lang="zh-CN" sz="3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葡萄牙殖民者攫取在我国澳门的居住权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1"/>
          <p:cNvSpPr/>
          <p:nvPr/>
        </p:nvSpPr>
        <p:spPr>
          <a:xfrm rot="10800000">
            <a:off x="4140000" y="2636640"/>
            <a:ext cx="223560" cy="1657080"/>
          </a:xfrm>
          <a:custGeom>
            <a:avLst/>
            <a:gdLst>
              <a:gd name="textAreaLeft" fmla="*/ 0 w 223560"/>
              <a:gd name="textAreaRight" fmla="*/ 80640 w 223560"/>
              <a:gd name="textAreaTop" fmla="*/ 42840 h 1657080"/>
              <a:gd name="textAreaBottom" fmla="*/ 1614240 h 165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525"/>
                </a:lnTo>
                <a:cubicBezTo>
                  <a:pt x="10800" y="10424"/>
                  <a:pt x="16200" y="11323"/>
                  <a:pt x="21600" y="11323"/>
                </a:cubicBezTo>
                <a:cubicBezTo>
                  <a:pt x="16200" y="11323"/>
                  <a:pt x="10800" y="12222"/>
                  <a:pt x="10800" y="13121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8388360" y="1916280"/>
            <a:ext cx="360" cy="1655640"/>
            <a:chOff x="8388360" y="1916280"/>
            <a:chExt cx="360" cy="1655640"/>
          </a:xfrm>
        </p:grpSpPr>
        <p:sp>
          <p:nvSpPr>
            <p:cNvPr id="325" name="Line 12"/>
            <p:cNvSpPr/>
            <p:nvPr/>
          </p:nvSpPr>
          <p:spPr>
            <a:xfrm>
              <a:off x="8388360" y="1916280"/>
              <a:ext cx="0" cy="1655640"/>
            </a:xfrm>
            <a:prstGeom prst="line">
              <a:avLst/>
            </a:prstGeom>
            <a:ln w="108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8388360" y="1916280"/>
              <a:ext cx="360" cy="165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Rectangle 16"/>
          <p:cNvSpPr/>
          <p:nvPr/>
        </p:nvSpPr>
        <p:spPr>
          <a:xfrm>
            <a:off x="539640" y="5389560"/>
            <a:ext cx="7074000" cy="507960"/>
          </a:xfrm>
          <a:prstGeom prst="rect">
            <a:avLst/>
          </a:prstGeom>
          <a:solidFill>
            <a:srgbClr val="ffff00"/>
          </a:solidFill>
          <a:ln w="507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14b8"/>
                </a:solidFill>
                <a:latin typeface="Times New Roman"/>
                <a:ea typeface="隶书"/>
              </a:rPr>
              <a:t>当时处于封建社会的中国，在世界范围内已经由强盛逐渐转向衰弱了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7"/>
          <p:cNvGrpSpPr/>
          <p:nvPr/>
        </p:nvGrpSpPr>
        <p:grpSpPr>
          <a:xfrm>
            <a:off x="7596360" y="4365360"/>
            <a:ext cx="1008000" cy="1655640"/>
            <a:chOff x="7596360" y="4365360"/>
            <a:chExt cx="1008000" cy="1655640"/>
          </a:xfrm>
        </p:grpSpPr>
        <p:sp>
          <p:nvSpPr>
            <p:cNvPr id="329" name="AutoShape 18"/>
            <p:cNvSpPr/>
            <p:nvPr/>
          </p:nvSpPr>
          <p:spPr>
            <a:xfrm rot="10800000">
              <a:off x="7596360" y="4365360"/>
              <a:ext cx="1008000" cy="1655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9"/>
            <p:cNvSpPr/>
            <p:nvPr/>
          </p:nvSpPr>
          <p:spPr>
            <a:xfrm>
              <a:off x="8158320" y="4653000"/>
              <a:ext cx="325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反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Text Box 18"/>
          <p:cNvSpPr/>
          <p:nvPr/>
        </p:nvSpPr>
        <p:spPr>
          <a:xfrm>
            <a:off x="1258920" y="401760"/>
            <a:ext cx="194472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课堂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图片10"/>
          <p:cNvPicPr/>
          <p:nvPr/>
        </p:nvPicPr>
        <p:blipFill>
          <a:blip r:embed="rId1"/>
          <a:stretch/>
        </p:blipFill>
        <p:spPr>
          <a:xfrm>
            <a:off x="-21744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755280" y="1557000"/>
            <a:ext cx="74883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印尼有个港口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宝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马来西亚有个地方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宝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这些名称的由来与下列哪一事件有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靖难之役        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戚继光抗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郑和下西洋      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土木之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下列人物是我国古代民族英雄的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岳飞            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戚继光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文天祥          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郑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WordArt 4"/>
          <p:cNvSpPr txBox="1"/>
          <p:nvPr/>
        </p:nvSpPr>
        <p:spPr>
          <a:xfrm>
            <a:off x="2268360" y="404640"/>
            <a:ext cx="3816360" cy="109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练一练</a:t>
            </a:r>
            <a:endParaRPr b="1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4067280" y="234936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  <a:ea typeface="宋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7017480" y="4076640"/>
            <a:ext cx="4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  <a:ea typeface="宋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1116000" y="404640"/>
            <a:ext cx="2160720" cy="64260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e9"/>
                </a:solidFill>
                <a:latin typeface="Times New Roman"/>
              </a:rPr>
              <a:t>巩固新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3" descr="5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8001000" y="30240"/>
            <a:ext cx="960480" cy="96048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4"/>
          <p:cNvSpPr/>
          <p:nvPr/>
        </p:nvSpPr>
        <p:spPr>
          <a:xfrm>
            <a:off x="250920" y="173052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．郑和的舰队最远到达的是（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．红海沿岸和非洲东海岸　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．古里和锡兰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．苏门答腊岛和满刺加　　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．占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324000" y="3500280"/>
            <a:ext cx="66243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108000" y="3490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、“封侯非我意，但愿海波平”是谁的诗句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、戚继光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、郑和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、郑成功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、岳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179280" y="497052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153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年骗取在我国广东澳门的居住权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、荷兰殖民者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、葡萄牙殖民者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、英国殖民者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、西班牙殖民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8"/>
          <p:cNvSpPr/>
          <p:nvPr/>
        </p:nvSpPr>
        <p:spPr>
          <a:xfrm>
            <a:off x="5869080" y="155736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宋体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8099280" y="34592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宋体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7991640" y="4948200"/>
            <a:ext cx="97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宋体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2050920" y="1341360"/>
            <a:ext cx="3457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华文新魏"/>
              </a:rPr>
              <a:t>郑和下西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835280" y="3068640"/>
            <a:ext cx="6769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华文新魏"/>
              </a:rPr>
              <a:t>戚继光抗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1908000" y="4724280"/>
            <a:ext cx="6697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华文新魏"/>
              </a:rPr>
              <a:t>葡萄牙攫取在澳门的居住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1187280" y="3429000"/>
            <a:ext cx="720720" cy="1800360"/>
          </a:xfrm>
          <a:custGeom>
            <a:avLst/>
            <a:gdLst>
              <a:gd name="textAreaLeft" fmla="*/ 460440 w 720720"/>
              <a:gd name="textAreaRight" fmla="*/ 721080 w 72072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-475920" y="3573360"/>
            <a:ext cx="16426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冲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468360" y="1341360"/>
            <a:ext cx="18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交往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C882-1BE0-461A-BFC5-A501DFD3549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11"/>
          <p:cNvSpPr/>
          <p:nvPr/>
        </p:nvSpPr>
        <p:spPr>
          <a:xfrm>
            <a:off x="0" y="692280"/>
            <a:ext cx="846468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浙江有戚家村，温岭有继光路，这里纪念的英雄的历史功绩是（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收复台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抗击倭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抗击沙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出使西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0"/>
          <p:cNvSpPr/>
          <p:nvPr/>
        </p:nvSpPr>
        <p:spPr>
          <a:xfrm>
            <a:off x="0" y="2427120"/>
            <a:ext cx="9144000" cy="43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葡萄牙殖民者攫取在我国广东澳门居住权的时间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6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5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5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5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郑和下西洋的目的是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强同海外各国的联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炫耀明朝的强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换回西洋各国的珠宝、香料、药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推销本国的丝绸和青花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1"/>
          <p:cNvSpPr/>
          <p:nvPr/>
        </p:nvSpPr>
        <p:spPr>
          <a:xfrm>
            <a:off x="2916360" y="10526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2"/>
          <p:cNvSpPr/>
          <p:nvPr/>
        </p:nvSpPr>
        <p:spPr>
          <a:xfrm>
            <a:off x="7956720" y="28526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3"/>
          <p:cNvSpPr/>
          <p:nvPr/>
        </p:nvSpPr>
        <p:spPr>
          <a:xfrm>
            <a:off x="3995640" y="39337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6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0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4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500"/>
                            </p:stCondLst>
                            <p:childTnLst>
                              <p:par>
                                <p:cTn id="576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8" dur="5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2" dur="5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500"/>
                            </p:stCondLst>
                            <p:childTnLst>
                              <p:par>
                                <p:cTn id="584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6" dur="500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8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0" dur="500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3500"/>
                            </p:stCondLst>
                            <p:childTnLst>
                              <p:par>
                                <p:cTn id="592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4" dur="500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U36P27T1D283317F3DT20050424160912"/>
          <p:cNvPicPr/>
          <p:nvPr/>
        </p:nvPicPr>
        <p:blipFill>
          <a:blip r:embed="rId1"/>
          <a:stretch/>
        </p:blipFill>
        <p:spPr>
          <a:xfrm>
            <a:off x="395280" y="1125360"/>
            <a:ext cx="2874960" cy="38894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3471840" y="482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400560" y="509760"/>
            <a:ext cx="183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780000" y="836640"/>
            <a:ext cx="4608360" cy="6786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郑和：回族，出身于世代穆斯林家庭。他从小听说了许多海外的情况，学到了很多航海知识，培养了吃苦耐劳的精神和英勇无畏的气概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40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年明成祖朱棣命他率领船队出使西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55400" y="5229360"/>
            <a:ext cx="25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郑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(137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43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明代杰出的航海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8"/>
          <p:cNvSpPr/>
          <p:nvPr/>
        </p:nvSpPr>
        <p:spPr>
          <a:xfrm>
            <a:off x="5938920" y="4365720"/>
            <a:ext cx="1297080" cy="72072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440"/>
                            </p:stCondLst>
                            <p:childTnLst>
                              <p:par>
                                <p:cTn id="3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下西洋"/>
          <p:cNvPicPr/>
          <p:nvPr/>
        </p:nvPicPr>
        <p:blipFill>
          <a:blip r:embed="rId1"/>
          <a:stretch/>
        </p:blipFill>
        <p:spPr>
          <a:xfrm>
            <a:off x="228600" y="380880"/>
            <a:ext cx="8686800" cy="4800600"/>
          </a:xfrm>
          <a:prstGeom prst="rect">
            <a:avLst/>
          </a:prstGeom>
          <a:ln w="76320">
            <a:solidFill>
              <a:srgbClr val="ccffcc"/>
            </a:solidFill>
            <a:miter/>
          </a:ln>
        </p:spPr>
      </p:pic>
      <p:sp>
        <p:nvSpPr>
          <p:cNvPr id="100" name="Text Box 3"/>
          <p:cNvSpPr/>
          <p:nvPr/>
        </p:nvSpPr>
        <p:spPr>
          <a:xfrm>
            <a:off x="1042920" y="544500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西洋：指现在文莱以西的东南亚、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印度洋及沿岸地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315200" y="3429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5"/>
          <p:cNvSpPr/>
          <p:nvPr/>
        </p:nvSpPr>
        <p:spPr>
          <a:xfrm>
            <a:off x="7620120" y="3733920"/>
            <a:ext cx="228600" cy="22860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1692360" y="2781360"/>
            <a:ext cx="5904000" cy="2448000"/>
          </a:xfrm>
          <a:prstGeom prst="ellipse">
            <a:avLst/>
          </a:pr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dur="indefinite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5%97%9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0" y="3068640"/>
            <a:ext cx="3457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郑和下西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2989440" y="1628640"/>
            <a:ext cx="287280" cy="3816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419640" y="3789360"/>
            <a:ext cx="3457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过程、概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3419640" y="1484280"/>
            <a:ext cx="3457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目的（原因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3492360" y="2637000"/>
            <a:ext cx="2376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条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492360" y="4869000"/>
            <a:ext cx="345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影响（贡献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2" descr="bang1"/>
          <p:cNvPicPr/>
          <p:nvPr/>
        </p:nvPicPr>
        <p:blipFill>
          <a:blip r:embed="rId1"/>
          <a:stretch/>
        </p:blipFill>
        <p:spPr>
          <a:xfrm>
            <a:off x="6804000" y="1341360"/>
            <a:ext cx="1130400" cy="1025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bang1"/>
          <p:cNvPicPr/>
          <p:nvPr/>
        </p:nvPicPr>
        <p:blipFill>
          <a:blip r:embed="rId2"/>
          <a:stretch/>
        </p:blipFill>
        <p:spPr>
          <a:xfrm>
            <a:off x="5580000" y="2565360"/>
            <a:ext cx="1130400" cy="1025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7" descr="bang1"/>
          <p:cNvPicPr/>
          <p:nvPr/>
        </p:nvPicPr>
        <p:blipFill>
          <a:blip r:embed="rId3"/>
          <a:stretch/>
        </p:blipFill>
        <p:spPr>
          <a:xfrm>
            <a:off x="7093080" y="3789360"/>
            <a:ext cx="1130040" cy="1025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8" descr="bang1"/>
          <p:cNvPicPr/>
          <p:nvPr/>
        </p:nvPicPr>
        <p:blipFill>
          <a:blip r:embed="rId4"/>
          <a:stretch/>
        </p:blipFill>
        <p:spPr>
          <a:xfrm>
            <a:off x="7236000" y="4941720"/>
            <a:ext cx="11300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560" y="1348920"/>
            <a:ext cx="6985080" cy="128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阅读教材和下列材料，思考：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郑和为什么要七下西洋？（目的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24000" y="2781000"/>
            <a:ext cx="9396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成祖疑惠帝亡海外，欲踪迹之，且欲耀兵异域，示中国富强。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明史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郑和传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474920" y="4095720"/>
            <a:ext cx="576108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ff00"/>
                </a:solidFill>
                <a:uFillTx/>
                <a:latin typeface="Comic Sans MS"/>
              </a:rPr>
              <a:t>加强与海外的联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omic Sans MS"/>
              </a:rPr>
              <a:t>宣扬明朝的国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omic Sans MS"/>
              </a:rPr>
              <a:t>寻找失踪的建文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返回"/>
          <p:cNvPicPr/>
          <p:nvPr/>
        </p:nvPicPr>
        <p:blipFill>
          <a:blip r:embed="rId1"/>
          <a:stretch/>
        </p:blipFill>
        <p:spPr>
          <a:xfrm>
            <a:off x="8101080" y="6157800"/>
            <a:ext cx="104292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郑和"/>
          <p:cNvPicPr/>
          <p:nvPr/>
        </p:nvPicPr>
        <p:blipFill>
          <a:blip r:embed="rId1"/>
          <a:stretch/>
        </p:blipFill>
        <p:spPr>
          <a:xfrm>
            <a:off x="2987640" y="1268280"/>
            <a:ext cx="3703680" cy="3969000"/>
          </a:xfrm>
          <a:prstGeom prst="rect">
            <a:avLst/>
          </a:prstGeom>
          <a:ln w="0">
            <a:noFill/>
          </a:ln>
        </p:spPr>
      </p:pic>
      <p:pic>
        <p:nvPicPr>
          <p:cNvPr id="119" name="Object 3" descr=""/>
          <p:cNvPicPr/>
          <p:nvPr/>
        </p:nvPicPr>
        <p:blipFill>
          <a:blip r:embed="rId2"/>
          <a:stretch/>
        </p:blipFill>
        <p:spPr>
          <a:xfrm>
            <a:off x="0" y="4944960"/>
            <a:ext cx="4233960" cy="1436760"/>
          </a:xfrm>
          <a:prstGeom prst="rect">
            <a:avLst/>
          </a:prstGeom>
          <a:ln w="0">
            <a:noFill/>
          </a:ln>
        </p:spPr>
      </p:pic>
      <p:pic>
        <p:nvPicPr>
          <p:cNvPr id="120" name="Object 4" descr=""/>
          <p:cNvPicPr/>
          <p:nvPr/>
        </p:nvPicPr>
        <p:blipFill>
          <a:blip r:embed="rId3"/>
          <a:stretch/>
        </p:blipFill>
        <p:spPr>
          <a:xfrm>
            <a:off x="4211640" y="5013360"/>
            <a:ext cx="4064040" cy="136836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324000" y="2421000"/>
            <a:ext cx="2361600" cy="3336840"/>
            <a:chOff x="324000" y="2421000"/>
            <a:chExt cx="2361600" cy="3336840"/>
          </a:xfrm>
        </p:grpSpPr>
        <p:pic>
          <p:nvPicPr>
            <p:cNvPr id="122" name="Object 6" descr=""/>
            <p:cNvPicPr/>
            <p:nvPr/>
          </p:nvPicPr>
          <p:blipFill>
            <a:blip r:embed="rId4"/>
            <a:stretch/>
          </p:blipFill>
          <p:spPr>
            <a:xfrm>
              <a:off x="324000" y="2421000"/>
              <a:ext cx="2234880" cy="333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Object 7" descr=""/>
            <p:cNvPicPr/>
            <p:nvPr/>
          </p:nvPicPr>
          <p:blipFill>
            <a:blip r:embed="rId5"/>
            <a:stretch/>
          </p:blipFill>
          <p:spPr>
            <a:xfrm>
              <a:off x="1390320" y="2801880"/>
              <a:ext cx="1295280" cy="2803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4" name="Object 8" descr=""/>
          <p:cNvPicPr/>
          <p:nvPr/>
        </p:nvPicPr>
        <p:blipFill>
          <a:blip r:embed="rId6"/>
          <a:stretch/>
        </p:blipFill>
        <p:spPr>
          <a:xfrm>
            <a:off x="4910040" y="4944960"/>
            <a:ext cx="4233960" cy="136368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9"/>
          <p:cNvSpPr/>
          <p:nvPr/>
        </p:nvSpPr>
        <p:spPr>
          <a:xfrm>
            <a:off x="3352680" y="3809880"/>
            <a:ext cx="1524240" cy="457200"/>
          </a:xfrm>
          <a:prstGeom prst="rightArrow">
            <a:avLst>
              <a:gd name="adj1" fmla="val 50000"/>
              <a:gd name="adj2" fmla="val 8331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4220280" y="63972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你知道我的远航为什么能成行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13"/>
          <p:cNvSpPr txBox="1"/>
          <p:nvPr/>
        </p:nvSpPr>
        <p:spPr>
          <a:xfrm>
            <a:off x="3425760" y="44280"/>
            <a:ext cx="2514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P94</a:t>
            </a:r>
            <a:r>
              <a:rPr b="0" i="1" lang="zh-CN" sz="2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动脑筋：</a:t>
            </a:r>
            <a:endParaRPr b="0" i="1" lang="en-US" sz="28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8" name="文本框 8198"/>
          <p:cNvSpPr/>
          <p:nvPr/>
        </p:nvSpPr>
        <p:spPr>
          <a:xfrm>
            <a:off x="1898640" y="638172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8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隶书"/>
              </a:rPr>
              <a:t>郑和下西洋的条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68360" y="2924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物质前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95280" y="39466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技术条件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95280" y="502596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主观因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987640" y="299412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明朝前期经济发展，国力强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2951280" y="387360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造船水平的高超；航海技术的掌握；指南针的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2916360" y="524196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郑和的个人因素；优秀的船长、水手的通力合作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11:34:4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2:28Z</dcterms:modified>
  <cp:revision>3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