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07D-51CF-4564-9725-7E2CEB14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CA1-612B-475B-8A37-EAB22F3E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380-383A-4F0D-9174-CA19A278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420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420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534-C14A-451B-8B04-FD8FDEAE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C43C-4614-49A4-A08B-97DF6F5F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1311-E9CB-4209-B95A-1A916857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5DA3-7F93-4699-A149-DA222F0D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DD95-7032-4D87-9A8F-BF24F99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171F-01D0-415D-9B57-AE00E70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6280" y="107748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C770-48DD-4EBF-B157-AE0FC7B3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2C5A-C6C0-4FE4-9A7F-280C4936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084-F386-4213-8A03-2494A6F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BCED-E6D0-4CED-87DB-2E0D4D0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BC22-0C01-4EA7-97EB-7A08A7CA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3496-E098-40C9-9A62-6D7E005F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6F1C-84A5-4D9B-BD07-5C0B7C57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420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212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420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212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5324-AE20-4AE6-983E-78B2ABA6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E682-2454-4C1D-8014-559064D2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CEA8-F6E1-4AA4-BA31-858FAE11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83C3-ED21-4AF5-9C3D-7E316891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423F-C37D-4CCA-BBCA-7293B4A5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3400-CB12-4370-B9E4-656142FD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F2A-6833-4277-8AFF-BD86422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66280" y="107748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DCFC-126C-43FC-8953-1F31CC08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5428-9DF9-42AC-B4C6-8D554A0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4F69F-7A41-44CB-ACCF-CEC7761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94A1-1C5F-4863-92C8-2CAA5FD6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3D3F-7E37-4916-BEA6-289A180D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EFCF-6594-471E-A7F5-7214CB31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420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82120" y="188100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420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82120" y="4218480"/>
            <a:ext cx="257868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7C66-F53E-401A-85E1-DD93974C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AC9-9977-4F25-9180-86A4152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501-73A6-4A6A-BAE5-873983F2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6280" y="1077480"/>
            <a:ext cx="800892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016-A61E-4B36-A69C-12C101F8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E8F-2CF8-4FFA-80A3-21E9AF7B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21848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641-186B-4DD9-89EC-E22B015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81000"/>
            <a:ext cx="390816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4218480"/>
            <a:ext cx="8008920" cy="21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B55-B552-42F0-A3C0-55F99CC5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FC5C-C4AB-4163-B5E7-4DCB3B87496A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aa30"/>
                </a:solidFill>
                <a:latin typeface="Tempus Sans ITC"/>
              </a:rPr>
              <a:t>Click to edit the title text format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4166-0E28-4B0D-ACFB-6EB8C3F378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-7920"/>
            <a:ext cx="916164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aa30"/>
                </a:solidFill>
                <a:latin typeface="Tempus Sans ITC"/>
              </a:rPr>
              <a:t>Click to edit the title text format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289D-73AA-4452-8F42-17C47BCC35E7}" type="slidenum">
              <a:rPr b="0" lang="zh-CN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ngxing365.com/p.asp?id=24838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6aa30"/>
                </a:solidFill>
                <a:latin typeface="宋体"/>
                <a:ea typeface="宋体"/>
              </a:rPr>
              <a:t>植物新生命的开始课件</a:t>
            </a:r>
            <a:r>
              <a:rPr b="1" lang="en-US" sz="4000" spc="-1" strike="noStrike">
                <a:solidFill>
                  <a:srgbClr val="76aa3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76aa3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f5f5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68000" y="1341000"/>
            <a:ext cx="767556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同植物的种子，它们的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形状、大小、颜色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各不相同。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828720" y="2781360"/>
            <a:ext cx="746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b032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9cb032"/>
                </a:solidFill>
                <a:latin typeface="黑体"/>
                <a:ea typeface="黑体"/>
              </a:rPr>
              <a:t>但它们都能生长成一株植物。</a:t>
            </a:r>
            <a:endParaRPr b="0" lang="en-US" sz="3600" spc="-1" strike="noStrike">
              <a:solidFill>
                <a:srgbClr val="5f5f5f"/>
              </a:solidFill>
              <a:latin typeface="Garamond"/>
            </a:endParaRPr>
          </a:p>
        </p:txBody>
      </p:sp>
      <p:pic>
        <p:nvPicPr>
          <p:cNvPr id="147" name="Picture 4" descr="yeguo2_0531_副本"/>
          <p:cNvPicPr/>
          <p:nvPr/>
        </p:nvPicPr>
        <p:blipFill>
          <a:blip r:embed="rId1"/>
          <a:stretch/>
        </p:blipFill>
        <p:spPr>
          <a:xfrm>
            <a:off x="8694720" y="6324480"/>
            <a:ext cx="449280" cy="533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044720" y="42210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让我们剥开种子，看看能发现什么？</a:t>
            </a:r>
            <a:endParaRPr b="0" lang="en-US" sz="40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6280" y="1077840"/>
            <a:ext cx="8008920" cy="4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empus Sans ITC"/>
                <a:ea typeface="黑体"/>
              </a:rPr>
              <a:t>掰开一粒种子看一看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537080" cy="382284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0201-01"/>
          <p:cNvPicPr/>
          <p:nvPr/>
        </p:nvPicPr>
        <p:blipFill>
          <a:blip r:embed="rId1"/>
          <a:srcRect l="0" t="0" r="-94" b="0"/>
          <a:stretch/>
        </p:blipFill>
        <p:spPr>
          <a:xfrm>
            <a:off x="1116000" y="1916280"/>
            <a:ext cx="2016000" cy="3671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jg"/>
          <p:cNvPicPr/>
          <p:nvPr/>
        </p:nvPicPr>
        <p:blipFill>
          <a:blip r:embed="rId2"/>
          <a:stretch/>
        </p:blipFill>
        <p:spPr>
          <a:xfrm>
            <a:off x="4140360" y="1916280"/>
            <a:ext cx="3025440" cy="3106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79280" y="260280"/>
            <a:ext cx="849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这些种子形状和大小有各种各样的，</a:t>
            </a:r>
            <a:endParaRPr b="0" lang="en-US" sz="3200" spc="-1" strike="noStrike">
              <a:solidFill>
                <a:srgbClr val="5f5f5f"/>
              </a:solidFill>
              <a:latin typeface="Garamond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黑体"/>
              </a:rPr>
              <a:t>但它们的结构基本相同</a:t>
            </a:r>
            <a:endParaRPr b="0" lang="en-US" sz="32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771640" y="2349360"/>
            <a:ext cx="13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芽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987640" y="357336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叶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256536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根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1916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轴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50920" y="3933720"/>
            <a:ext cx="10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种皮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923160" y="1773360"/>
            <a:ext cx="22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皮和种皮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16436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乳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30872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芽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7236000" y="29242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叶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7308720" y="436572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根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380360" y="38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胚轴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826920" y="57340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黑体"/>
              </a:rPr>
              <a:t>菜豆的种子</a:t>
            </a:r>
            <a:endParaRPr b="0" lang="en-US" sz="24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5219640" y="5445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黑体"/>
              </a:rPr>
              <a:t>玉米的种子</a:t>
            </a:r>
            <a:endParaRPr b="0" lang="en-US" sz="24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292536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empus Sans ITC"/>
              </a:rPr>
              <a:t>种子的里面都是相同的，都有</a:t>
            </a:r>
            <a:r>
              <a:rPr b="1" lang="zh-CN" sz="4000" spc="-1" strike="noStrike">
                <a:solidFill>
                  <a:srgbClr val="ff0066"/>
                </a:solidFill>
                <a:latin typeface="Tempus Sans ITC"/>
              </a:rPr>
              <a:t>胚根</a:t>
            </a:r>
            <a:r>
              <a:rPr b="1" lang="zh-CN" sz="4000" spc="-1" strike="noStrike">
                <a:solidFill>
                  <a:srgbClr val="000000"/>
                </a:solidFill>
                <a:latin typeface="Tempus Sans ITC"/>
              </a:rPr>
              <a:t>和</a:t>
            </a:r>
            <a:r>
              <a:rPr b="1" lang="zh-CN" sz="4000" spc="-1" strike="noStrike">
                <a:solidFill>
                  <a:srgbClr val="ff0066"/>
                </a:solidFill>
                <a:latin typeface="Tempus Sans ITC"/>
              </a:rPr>
              <a:t>胚芽</a:t>
            </a:r>
            <a:r>
              <a:rPr b="1" lang="zh-CN" sz="4000" spc="-1" strike="noStrike">
                <a:solidFill>
                  <a:srgbClr val="000000"/>
                </a:solidFill>
                <a:latin typeface="Tempus Sans ITC"/>
              </a:rPr>
              <a:t>。</a:t>
            </a:r>
            <a:endParaRPr b="0" lang="en-US" sz="4000" spc="-1" strike="noStrike">
              <a:solidFill>
                <a:srgbClr val="76aa3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755A-E98F-46F4-A472-93F553558560}" type="slidenum">
              <a:rPr b="0" lang="zh-CN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empus Sans ITC"/>
                <a:ea typeface="黑体"/>
              </a:rPr>
              <a:t>下节课准备</a:t>
            </a:r>
            <a:endParaRPr b="0" lang="en-US" sz="40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881000"/>
            <a:ext cx="80089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凤仙花的种子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查阅凤仙花的有关资料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了解凤仙花的栽培方法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76aa30"/>
              </a:buClr>
              <a:buSzPct val="8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准备播种所需要的材料和工具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endParaRPr b="0" lang="en-US" sz="3600" spc="-1" strike="noStrike">
              <a:solidFill>
                <a:srgbClr val="9cb0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6aa30"/>
                </a:solidFill>
                <a:latin typeface="Tempus Sans ITC"/>
                <a:ea typeface="黑体"/>
              </a:rPr>
              <a:t>下面的图片中是些什么动物，你知道是怎么来的吗？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28" name="Picture 3" descr="u=1392497312,1078439128&amp;fm=0&amp;gp=0"/>
          <p:cNvPicPr/>
          <p:nvPr/>
        </p:nvPicPr>
        <p:blipFill>
          <a:blip r:embed="rId1"/>
          <a:stretch/>
        </p:blipFill>
        <p:spPr>
          <a:xfrm>
            <a:off x="468360" y="1486080"/>
            <a:ext cx="395928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u=3153072435,1193660980&amp;fm=0&amp;gp=0"/>
          <p:cNvPicPr/>
          <p:nvPr/>
        </p:nvPicPr>
        <p:blipFill>
          <a:blip r:embed="rId2"/>
          <a:stretch/>
        </p:blipFill>
        <p:spPr>
          <a:xfrm>
            <a:off x="4572000" y="3070080"/>
            <a:ext cx="4194000" cy="3353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324000" y="4508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Garamond"/>
                <a:ea typeface="黑体"/>
              </a:rPr>
              <a:t>狗妈妈生出来的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932360" y="2349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Garamond"/>
                <a:ea typeface="黑体"/>
              </a:rPr>
              <a:t>从鸡蛋里孵出来的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6280" y="1077480"/>
            <a:ext cx="80089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学期我们已经知道了：</a:t>
            </a:r>
            <a:endParaRPr b="0" lang="en-US" sz="40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436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植物在它们的生命过程中都要经历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出生、繁殖、成长、衰老直至死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6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empus Sans ITC"/>
                <a:ea typeface="黑体"/>
              </a:rPr>
              <a:t>你还知道植物是从哪里来的吗？</a:t>
            </a:r>
            <a:endParaRPr b="0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35" name="Picture 3" descr="200611240944563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93080" cy="53197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9"/>
          <p:cNvSpPr/>
          <p:nvPr/>
        </p:nvSpPr>
        <p:spPr>
          <a:xfrm>
            <a:off x="194472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empus Sans ITC"/>
                <a:ea typeface="黑体"/>
              </a:rPr>
              <a:t>我们还知道：植物繁殖后代的方法有</a:t>
            </a:r>
            <a:endParaRPr b="0" lang="en-US" sz="32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38" name="Picture 3" descr="图片1"/>
          <p:cNvPicPr/>
          <p:nvPr/>
        </p:nvPicPr>
        <p:blipFill>
          <a:blip r:embed="rId1"/>
          <a:stretch/>
        </p:blipFill>
        <p:spPr>
          <a:xfrm>
            <a:off x="755640" y="1125360"/>
            <a:ext cx="727380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图片2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图片3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68360" y="558972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Garamond"/>
              </a:rPr>
              <a:t>绿色开花植物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几乎都是从</a:t>
            </a:r>
            <a:r>
              <a:rPr b="1" lang="zh-CN" sz="2800" spc="-1" strike="noStrike">
                <a:solidFill>
                  <a:srgbClr val="ff0066"/>
                </a:solidFill>
                <a:latin typeface="Garamond"/>
              </a:rPr>
              <a:t>种子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开始它们的新生命的，有些植物可以用根、茎、叶繁殖后代。</a:t>
            </a: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Garamond"/>
            </a:endParaRPr>
          </a:p>
        </p:txBody>
      </p:sp>
      <p:pic>
        <p:nvPicPr>
          <p:cNvPr id="142" name="Picture 3" descr="IMG_0157"/>
          <p:cNvPicPr/>
          <p:nvPr/>
        </p:nvPicPr>
        <p:blipFill>
          <a:blip r:embed="rId1"/>
          <a:stretch/>
        </p:blipFill>
        <p:spPr>
          <a:xfrm>
            <a:off x="828720" y="189000"/>
            <a:ext cx="72007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empus Sans ITC"/>
                <a:ea typeface="黑体"/>
              </a:rPr>
              <a:t>让我们一起来看看植物的种子</a:t>
            </a:r>
            <a:endParaRPr b="0" lang="en-US" sz="3200" spc="-1" strike="noStrike">
              <a:solidFill>
                <a:srgbClr val="76aa30"/>
              </a:solidFill>
              <a:latin typeface="Tempus Sans ITC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2738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1:38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1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1a07000000000001024120</vt:lpwstr>
  </property>
</Properties>
</file>