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5.png" ContentType="image/png"/>
  <Override PartName="/ppt/media/image21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C7EC0-F5C7-4038-8AE7-5EF95F610E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65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E0705-DF99-47AE-B129-2353C7EE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65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043B0-5D0B-4A2B-9E0F-856BA3A9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65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01CCD-F9DD-47D1-BFD6-30DEA028B2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20DBD-BD9B-4E8F-83AB-5B608AA9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65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B0D1A-6650-4739-BF97-AA800030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65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2FE72-4D5F-4ED7-A718-50CCAE2F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5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13DF5-E39A-43FD-B1F5-311E283A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65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B8A2F-9944-4AE8-B012-928F4E61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6560" y="124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92C48-7421-41E3-AEA2-A92709E9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5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4793C-9623-43D9-94FF-6DC482B0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65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9847C-4FEC-4DC8-9C37-893369E0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65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A5855-7393-45D6-9EDB-51379B39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65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FF4B2-3E5F-46AB-9CE5-A10F7FED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65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68E9D-AFDB-4C35-9371-D5A2C70E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65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0BD69-3519-4478-A7E0-690DB7B4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65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229A0-8D7A-40C0-81B1-E88366D7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65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03FDD-EE69-42F1-8245-999D8D35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65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A99D8-78A9-4130-BA42-420A1468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65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6746A-F89F-4254-9129-F37C092F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6560" y="124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58B70-79E3-4931-A495-58B15A7B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65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8A8D5-4672-45D9-B8B2-EB07530F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65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FAD38-635E-489C-BA2E-06F42693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65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52843-3997-46B9-86A9-67A46948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042920" y="6308640"/>
            <a:ext cx="299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ffffff"/>
                </a:solidFill>
                <a:latin typeface="나눔명조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나눔명조"/>
                <a:ea typeface="宋体"/>
              </a:rPr>
              <a:t>이 문서는 나눔 글꼴로 작성되었습니다</a:t>
            </a:r>
            <a:r>
              <a:rPr b="1" lang="en-US" sz="900" spc="-1" strike="noStrike">
                <a:solidFill>
                  <a:srgbClr val="ffffff"/>
                </a:solidFill>
                <a:latin typeface="나눔명조"/>
                <a:ea typeface="宋体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156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나눔명조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명조"/>
                <a:ea typeface="宋体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D72A-D05B-412A-A171-EB9C0F4E1E6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BE04-2E31-4BD6-901D-75A639A58CE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5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jpeg"/><Relationship Id="rId16" Type="http://schemas.openxmlformats.org/officeDocument/2006/relationships/image" Target="../media/image18.png"/><Relationship Id="rId17" Type="http://schemas.openxmlformats.org/officeDocument/2006/relationships/image" Target="../media/image19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828720" y="496800"/>
            <a:ext cx="7610400" cy="123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828720" y="6165720"/>
            <a:ext cx="7610400" cy="123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1908000" y="1820880"/>
            <a:ext cx="5400720" cy="3697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4"/>
          <a:stretch/>
        </p:blipFill>
        <p:spPr>
          <a:xfrm>
            <a:off x="2124000" y="1979640"/>
            <a:ext cx="4961160" cy="336384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328680" y="836640"/>
            <a:ext cx="85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植物学专业论文答辩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80360" cy="134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 rot="10552200">
            <a:off x="2493360" y="2152440"/>
            <a:ext cx="2128680" cy="1741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 rot="21342600">
            <a:off x="2619000" y="2233440"/>
            <a:ext cx="1865160" cy="1258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4467240" y="1638360"/>
            <a:ext cx="2114640" cy="196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5"/>
          <a:stretch/>
        </p:blipFill>
        <p:spPr>
          <a:xfrm rot="21277200">
            <a:off x="539640" y="4239720"/>
            <a:ext cx="2212920" cy="2009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6"/>
          <a:stretch/>
        </p:blipFill>
        <p:spPr>
          <a:xfrm>
            <a:off x="4578480" y="1803240"/>
            <a:ext cx="1888920" cy="1335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7"/>
          <a:stretch/>
        </p:blipFill>
        <p:spPr>
          <a:xfrm rot="10913400">
            <a:off x="599760" y="1885680"/>
            <a:ext cx="2143080" cy="1755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8"/>
          <a:stretch/>
        </p:blipFill>
        <p:spPr>
          <a:xfrm rot="108600">
            <a:off x="701280" y="1969920"/>
            <a:ext cx="1922400" cy="1256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9"/>
          <a:stretch/>
        </p:blipFill>
        <p:spPr>
          <a:xfrm rot="16436400">
            <a:off x="4773600" y="3779640"/>
            <a:ext cx="1815840" cy="232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10"/>
          <a:stretch/>
        </p:blipFill>
        <p:spPr>
          <a:xfrm rot="236400">
            <a:off x="4727520" y="4162320"/>
            <a:ext cx="1871640" cy="1265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11"/>
          <a:stretch/>
        </p:blipFill>
        <p:spPr>
          <a:xfrm rot="21276000">
            <a:off x="685800" y="4429080"/>
            <a:ext cx="1933560" cy="1293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12"/>
          <a:stretch/>
        </p:blipFill>
        <p:spPr>
          <a:xfrm rot="11176800">
            <a:off x="6397560" y="2055240"/>
            <a:ext cx="2130480" cy="174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13"/>
          <a:stretch/>
        </p:blipFill>
        <p:spPr>
          <a:xfrm rot="367200">
            <a:off x="6524280" y="2165040"/>
            <a:ext cx="1905120" cy="1292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14"/>
          <a:stretch/>
        </p:blipFill>
        <p:spPr>
          <a:xfrm rot="10974600">
            <a:off x="2658600" y="4544640"/>
            <a:ext cx="2254320" cy="1824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15"/>
          <a:stretch/>
        </p:blipFill>
        <p:spPr>
          <a:xfrm rot="177000">
            <a:off x="2789280" y="4665240"/>
            <a:ext cx="2001960" cy="135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16"/>
          <a:stretch/>
        </p:blipFill>
        <p:spPr>
          <a:xfrm rot="11238000">
            <a:off x="6435720" y="4458600"/>
            <a:ext cx="2168640" cy="1839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17"/>
          <a:stretch/>
        </p:blipFill>
        <p:spPr>
          <a:xfrm rot="426600">
            <a:off x="6588000" y="4587480"/>
            <a:ext cx="1911600" cy="1287360"/>
          </a:xfrm>
          <a:prstGeom prst="rect">
            <a:avLst/>
          </a:prstGeom>
          <a:ln w="0">
            <a:noFill/>
          </a:ln>
        </p:spPr>
      </p:pic>
      <p:sp>
        <p:nvSpPr>
          <p:cNvPr id="103" name="직사각형 50"/>
          <p:cNvSpPr/>
          <p:nvPr/>
        </p:nvSpPr>
        <p:spPr>
          <a:xfrm rot="120000">
            <a:off x="610920" y="3252960"/>
            <a:ext cx="20178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3300"/>
                </a:solidFill>
                <a:latin typeface="나눔고딕"/>
                <a:ea typeface="나눔고딕"/>
              </a:rPr>
              <a:t>내용을 적어주세요</a:t>
            </a:r>
            <a:r>
              <a:rPr b="1" lang="en-US" sz="800" spc="-1" strike="noStrike">
                <a:solidFill>
                  <a:srgbClr val="003300"/>
                </a:solidFill>
                <a:latin typeface="나눔고딕"/>
                <a:ea typeface="나눔고딕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1"/>
          <p:cNvSpPr/>
          <p:nvPr/>
        </p:nvSpPr>
        <p:spPr>
          <a:xfrm rot="180000">
            <a:off x="2665080" y="5982840"/>
            <a:ext cx="2124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3300"/>
                </a:solidFill>
                <a:latin typeface="나눔고딕"/>
                <a:ea typeface="나눔고딕"/>
              </a:rPr>
              <a:t>내용을 적어주세요</a:t>
            </a:r>
            <a:r>
              <a:rPr b="1" lang="en-US" sz="800" spc="-1" strike="noStrike">
                <a:solidFill>
                  <a:srgbClr val="003300"/>
                </a:solidFill>
                <a:latin typeface="나눔고딕"/>
                <a:ea typeface="나눔고딕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직사각형 52"/>
          <p:cNvSpPr/>
          <p:nvPr/>
        </p:nvSpPr>
        <p:spPr>
          <a:xfrm rot="360000">
            <a:off x="6334200" y="3397320"/>
            <a:ext cx="20606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3300"/>
                </a:solidFill>
                <a:latin typeface="나눔고딕"/>
                <a:ea typeface="나눔고딕"/>
              </a:rPr>
              <a:t>내용을 적어주세요</a:t>
            </a:r>
            <a:r>
              <a:rPr b="1" lang="en-US" sz="800" spc="-1" strike="noStrike">
                <a:solidFill>
                  <a:srgbClr val="003300"/>
                </a:solidFill>
                <a:latin typeface="나눔고딕"/>
                <a:ea typeface="나눔고딕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직사각형 53"/>
          <p:cNvSpPr/>
          <p:nvPr/>
        </p:nvSpPr>
        <p:spPr>
          <a:xfrm>
            <a:off x="4500720" y="3112920"/>
            <a:ext cx="1800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3300"/>
                </a:solidFill>
                <a:latin typeface="나눔고딕"/>
                <a:ea typeface="나눔고딕"/>
              </a:rPr>
              <a:t>내용을 적어주세요</a:t>
            </a:r>
            <a:r>
              <a:rPr b="1" lang="en-US" sz="800" spc="-1" strike="noStrike">
                <a:solidFill>
                  <a:srgbClr val="003300"/>
                </a:solidFill>
                <a:latin typeface="나눔고딕"/>
                <a:ea typeface="나눔고딕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직사각형 54"/>
          <p:cNvSpPr/>
          <p:nvPr/>
        </p:nvSpPr>
        <p:spPr>
          <a:xfrm rot="420000">
            <a:off x="6388200" y="5875200"/>
            <a:ext cx="20858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3300"/>
                </a:solidFill>
                <a:latin typeface="나눔고딕"/>
                <a:ea typeface="나눔고딕"/>
              </a:rPr>
              <a:t>내용을 적어주세요</a:t>
            </a:r>
            <a:r>
              <a:rPr b="1" lang="en-US" sz="800" spc="-1" strike="noStrike">
                <a:solidFill>
                  <a:srgbClr val="003300"/>
                </a:solidFill>
                <a:latin typeface="나눔고딕"/>
                <a:ea typeface="나눔고딕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직사각형 55"/>
          <p:cNvSpPr/>
          <p:nvPr/>
        </p:nvSpPr>
        <p:spPr>
          <a:xfrm rot="21300000">
            <a:off x="2590560" y="3517560"/>
            <a:ext cx="1911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3300"/>
                </a:solidFill>
                <a:latin typeface="나눔고딕"/>
                <a:ea typeface="나눔고딕"/>
              </a:rPr>
              <a:t>내용을 적어주세요</a:t>
            </a:r>
            <a:r>
              <a:rPr b="1" lang="en-US" sz="800" spc="-1" strike="noStrike">
                <a:solidFill>
                  <a:srgbClr val="003300"/>
                </a:solidFill>
                <a:latin typeface="나눔고딕"/>
                <a:ea typeface="나눔고딕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6"/>
          <p:cNvSpPr/>
          <p:nvPr/>
        </p:nvSpPr>
        <p:spPr>
          <a:xfrm rot="21240000">
            <a:off x="696600" y="5722560"/>
            <a:ext cx="19368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3300"/>
                </a:solidFill>
                <a:latin typeface="나눔고딕"/>
                <a:ea typeface="나눔고딕"/>
              </a:rPr>
              <a:t>내용을 적어주세요</a:t>
            </a:r>
            <a:r>
              <a:rPr b="1" lang="en-US" sz="800" spc="-1" strike="noStrike">
                <a:solidFill>
                  <a:srgbClr val="003300"/>
                </a:solidFill>
                <a:latin typeface="나눔고딕"/>
                <a:ea typeface="나눔고딕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직사각형 57"/>
          <p:cNvSpPr/>
          <p:nvPr/>
        </p:nvSpPr>
        <p:spPr>
          <a:xfrm rot="240000">
            <a:off x="4873680" y="5427720"/>
            <a:ext cx="1576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3300"/>
                </a:solidFill>
                <a:latin typeface="나눔고딕"/>
                <a:ea typeface="나눔고딕"/>
              </a:rPr>
              <a:t>내용을 적어주세요</a:t>
            </a:r>
            <a:r>
              <a:rPr b="1" lang="en-US" sz="800" spc="-1" strike="noStrike">
                <a:solidFill>
                  <a:srgbClr val="003300"/>
                </a:solidFill>
                <a:latin typeface="나눔고딕"/>
                <a:ea typeface="나눔고딕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15636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명조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5121"/>
          <p:cNvGrpSpPr/>
          <p:nvPr/>
        </p:nvGrpSpPr>
        <p:grpSpPr>
          <a:xfrm>
            <a:off x="1171440" y="1333440"/>
            <a:ext cx="3400560" cy="4040280"/>
            <a:chOff x="1171440" y="1333440"/>
            <a:chExt cx="3400560" cy="4040280"/>
          </a:xfrm>
        </p:grpSpPr>
        <p:pic>
          <p:nvPicPr>
            <p:cNvPr id="113" name="Picture 12" descr=""/>
            <p:cNvPicPr/>
            <p:nvPr/>
          </p:nvPicPr>
          <p:blipFill>
            <a:blip r:embed="rId1"/>
            <a:stretch/>
          </p:blipFill>
          <p:spPr>
            <a:xfrm>
              <a:off x="1171440" y="1333440"/>
              <a:ext cx="3382920" cy="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2" descr=""/>
            <p:cNvPicPr/>
            <p:nvPr/>
          </p:nvPicPr>
          <p:blipFill>
            <a:blip r:embed="rId2"/>
            <a:stretch/>
          </p:blipFill>
          <p:spPr>
            <a:xfrm>
              <a:off x="1171440" y="5250240"/>
              <a:ext cx="3304080" cy="1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2" descr=""/>
            <p:cNvPicPr/>
            <p:nvPr/>
          </p:nvPicPr>
          <p:blipFill>
            <a:blip r:embed="rId3"/>
            <a:stretch/>
          </p:blipFill>
          <p:spPr>
            <a:xfrm>
              <a:off x="1189080" y="2117160"/>
              <a:ext cx="3382920" cy="7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직사각형 12"/>
          <p:cNvSpPr/>
          <p:nvPr/>
        </p:nvSpPr>
        <p:spPr>
          <a:xfrm>
            <a:off x="1619280" y="2379600"/>
            <a:ext cx="865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00"/>
                </a:solidFill>
                <a:latin typeface="나눔고딕OTF"/>
                <a:ea typeface="나눔고딕OTF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4"/>
          <a:stretch/>
        </p:blipFill>
        <p:spPr>
          <a:xfrm>
            <a:off x="5219640" y="1268280"/>
            <a:ext cx="3168720" cy="4148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5"/>
          <a:stretch/>
        </p:blipFill>
        <p:spPr>
          <a:xfrm rot="10222800">
            <a:off x="6296760" y="847440"/>
            <a:ext cx="1065240" cy="917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6"/>
          <a:stretch/>
        </p:blipFill>
        <p:spPr>
          <a:xfrm>
            <a:off x="5479920" y="1461960"/>
            <a:ext cx="2583000" cy="292896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8200"/>
          <p:cNvSpPr/>
          <p:nvPr/>
        </p:nvSpPr>
        <p:spPr>
          <a:xfrm>
            <a:off x="776160" y="166860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4f6128"/>
                </a:solidFill>
                <a:uFillTx/>
                <a:latin typeface="Arial"/>
                <a:ea typeface="宋体"/>
                <a:hlinkClick r:id="rId7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D6D0-6E0B-480A-9145-B1F69D643C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828720" y="496800"/>
            <a:ext cx="7610400" cy="123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828720" y="6165720"/>
            <a:ext cx="7610400" cy="123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4760" y="286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SzPct val="10285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나눔명조"/>
                <a:ea typeface="宋体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07:2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2:26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