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D08-7031-4013-AAED-2837E734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C12-4FAF-48B6-90FC-DE04B67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46D-DDD3-4A81-BAA3-F2CFFA74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A9C-DFB5-4EA0-96AB-925A4BFD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FD7-051F-4116-9181-62CEFB1D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A622-4DA4-40E5-AA6E-8F627C7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6C11-8E33-46BD-B495-3F69CC9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7F25-367A-445E-B58A-E3BADF8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382-7B12-4D3A-9866-D8EC5733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0B1-E76A-4BEC-880C-445B041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694-43E0-4EFF-8A36-46D35DE3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913-1614-4E88-9A5D-ABDC9538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AF6F-F425-4EC4-ABBF-0808BF5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B68-F74C-4A18-A1F2-04107F59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749B-2622-4DEE-8CC5-1C1DA975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DFDB-AEC4-4A61-9E8C-C00CE2C9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F746-7E64-4E81-B340-D4A051DC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F1E-78E8-4A9C-ADAA-E56D1A32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E51-C747-4F8E-BE4D-921F406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C56-0D97-40F9-B4B2-89E5033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2E4-1A67-480D-832D-823E31EF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391-4E0E-405C-80C6-423ECB0D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656-4468-44B4-9D69-42D154E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FD2-3357-47A3-A04E-43BC7F1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A854-04EB-4B8E-B798-122D8A433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4FBE-1C0C-4D0C-960E-1DC067DA25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357120" y="1413000"/>
            <a:ext cx="842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植物有哪些相同特点</a:t>
            </a:r>
            <a:r>
              <a:rPr b="1" lang="en-US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发芽破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5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1231321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长成幼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35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图片7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植株成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7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图片12"/>
          <p:cNvPicPr/>
          <p:nvPr/>
        </p:nvPicPr>
        <p:blipFill>
          <a:blip r:embed="rId1"/>
          <a:stretch/>
        </p:blipFill>
        <p:spPr>
          <a:xfrm>
            <a:off x="0" y="0"/>
            <a:ext cx="74296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花蕾生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96360" y="112536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图片15"/>
          <p:cNvPicPr/>
          <p:nvPr/>
        </p:nvPicPr>
        <p:blipFill>
          <a:blip r:embed="rId1"/>
          <a:stretch/>
        </p:blipFill>
        <p:spPr>
          <a:xfrm>
            <a:off x="0" y="0"/>
            <a:ext cx="74296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鲜花盛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451640" y="112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05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图片18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8199"/>
          <p:cNvSpPr/>
          <p:nvPr/>
        </p:nvSpPr>
        <p:spPr>
          <a:xfrm>
            <a:off x="1525680" y="281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花落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451640" y="112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3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图片20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451640" y="112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170</a:t>
            </a:r>
            <a:r>
              <a:rPr b="1" lang="zh-CN" sz="2800" spc="-1" strike="noStrike">
                <a:solidFill>
                  <a:srgbClr val="000099"/>
                </a:solidFill>
                <a:latin typeface="微软雅黑"/>
                <a:ea typeface="微软雅黑"/>
              </a:rPr>
              <a:t>天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85080" y="213372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植株枯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deab41cf355eeb22f9dc612a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5"/>
          <p:cNvSpPr/>
          <p:nvPr/>
        </p:nvSpPr>
        <p:spPr>
          <a:xfrm>
            <a:off x="7020000" y="69228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68360" y="18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向日葵一生的生长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064200" y="487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3"/>
          <p:cNvGrpSpPr/>
          <p:nvPr/>
        </p:nvGrpSpPr>
        <p:grpSpPr>
          <a:xfrm>
            <a:off x="2771640" y="3933720"/>
            <a:ext cx="2009880" cy="2536920"/>
            <a:chOff x="2771640" y="3933720"/>
            <a:chExt cx="2009880" cy="2536920"/>
          </a:xfrm>
        </p:grpSpPr>
        <p:pic>
          <p:nvPicPr>
            <p:cNvPr id="140" name="Picture 12" descr="图片20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20098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2"/>
            <p:cNvSpPr/>
            <p:nvPr/>
          </p:nvSpPr>
          <p:spPr>
            <a:xfrm>
              <a:off x="3348000" y="595008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0"/>
          <p:cNvGrpSpPr/>
          <p:nvPr/>
        </p:nvGrpSpPr>
        <p:grpSpPr>
          <a:xfrm>
            <a:off x="4859280" y="981000"/>
            <a:ext cx="1871640" cy="2527200"/>
            <a:chOff x="4859280" y="981000"/>
            <a:chExt cx="1871640" cy="2527200"/>
          </a:xfrm>
        </p:grpSpPr>
        <p:pic>
          <p:nvPicPr>
            <p:cNvPr id="143" name="Picture 7" descr="图片7"/>
            <p:cNvPicPr/>
            <p:nvPr/>
          </p:nvPicPr>
          <p:blipFill>
            <a:blip r:embed="rId2"/>
            <a:stretch/>
          </p:blipFill>
          <p:spPr>
            <a:xfrm>
              <a:off x="4859280" y="981000"/>
              <a:ext cx="1871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3"/>
            <p:cNvSpPr/>
            <p:nvPr/>
          </p:nvSpPr>
          <p:spPr>
            <a:xfrm>
              <a:off x="5364000" y="2987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幼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2"/>
          <p:cNvGrpSpPr/>
          <p:nvPr/>
        </p:nvGrpSpPr>
        <p:grpSpPr>
          <a:xfrm>
            <a:off x="5580000" y="3933720"/>
            <a:ext cx="3564000" cy="2536920"/>
            <a:chOff x="5580000" y="3933720"/>
            <a:chExt cx="3564000" cy="2536920"/>
          </a:xfrm>
        </p:grpSpPr>
        <p:pic>
          <p:nvPicPr>
            <p:cNvPr id="146" name="Picture 10" descr="图片15"/>
            <p:cNvPicPr/>
            <p:nvPr/>
          </p:nvPicPr>
          <p:blipFill>
            <a:blip r:embed="rId3"/>
            <a:stretch/>
          </p:blipFill>
          <p:spPr>
            <a:xfrm>
              <a:off x="7451640" y="3933720"/>
              <a:ext cx="1692360" cy="20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1" descr="图片18"/>
            <p:cNvPicPr/>
            <p:nvPr/>
          </p:nvPicPr>
          <p:blipFill>
            <a:blip r:embed="rId4"/>
            <a:stretch/>
          </p:blipFill>
          <p:spPr>
            <a:xfrm>
              <a:off x="5580000" y="3933720"/>
              <a:ext cx="194472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4"/>
            <p:cNvSpPr/>
            <p:nvPr/>
          </p:nvSpPr>
          <p:spPr>
            <a:xfrm>
              <a:off x="7093080" y="595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开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4"/>
          <p:cNvGrpSpPr/>
          <p:nvPr/>
        </p:nvGrpSpPr>
        <p:grpSpPr>
          <a:xfrm>
            <a:off x="0" y="3933720"/>
            <a:ext cx="1835280" cy="2536920"/>
            <a:chOff x="0" y="3933720"/>
            <a:chExt cx="1835280" cy="2536920"/>
          </a:xfrm>
        </p:grpSpPr>
        <p:pic>
          <p:nvPicPr>
            <p:cNvPr id="150" name="Picture 14" descr="deab41cf355eeb22f9dc612a"/>
            <p:cNvPicPr/>
            <p:nvPr/>
          </p:nvPicPr>
          <p:blipFill>
            <a:blip r:embed="rId5"/>
            <a:stretch/>
          </p:blipFill>
          <p:spPr>
            <a:xfrm>
              <a:off x="0" y="3933720"/>
              <a:ext cx="18352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26"/>
            <p:cNvSpPr/>
            <p:nvPr/>
          </p:nvSpPr>
          <p:spPr>
            <a:xfrm>
              <a:off x="468360" y="595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枯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8"/>
          <p:cNvSpPr/>
          <p:nvPr/>
        </p:nvSpPr>
        <p:spPr>
          <a:xfrm rot="10800000">
            <a:off x="4788000" y="4868640"/>
            <a:ext cx="72072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9"/>
          <p:cNvSpPr/>
          <p:nvPr/>
        </p:nvSpPr>
        <p:spPr>
          <a:xfrm rot="5400000">
            <a:off x="8353080" y="3321000"/>
            <a:ext cx="718920" cy="36036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0"/>
          <p:cNvSpPr/>
          <p:nvPr/>
        </p:nvSpPr>
        <p:spPr>
          <a:xfrm rot="10800000">
            <a:off x="1907640" y="4868640"/>
            <a:ext cx="72108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1979640" y="198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8"/>
          <p:cNvGrpSpPr/>
          <p:nvPr/>
        </p:nvGrpSpPr>
        <p:grpSpPr>
          <a:xfrm>
            <a:off x="0" y="981000"/>
            <a:ext cx="1835280" cy="2538360"/>
            <a:chOff x="0" y="981000"/>
            <a:chExt cx="1835280" cy="2538360"/>
          </a:xfrm>
        </p:grpSpPr>
        <p:pic>
          <p:nvPicPr>
            <p:cNvPr id="157" name="Picture 20" descr="1273728538"/>
            <p:cNvPicPr/>
            <p:nvPr/>
          </p:nvPicPr>
          <p:blipFill>
            <a:blip r:embed="rId6"/>
            <a:stretch/>
          </p:blipFill>
          <p:spPr>
            <a:xfrm>
              <a:off x="0" y="981000"/>
              <a:ext cx="1835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33"/>
            <p:cNvSpPr/>
            <p:nvPr/>
          </p:nvSpPr>
          <p:spPr>
            <a:xfrm>
              <a:off x="466560" y="299880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34"/>
          <p:cNvSpPr/>
          <p:nvPr/>
        </p:nvSpPr>
        <p:spPr>
          <a:xfrm>
            <a:off x="6804000" y="1916280"/>
            <a:ext cx="360360" cy="360360"/>
          </a:xfrm>
          <a:prstGeom prst="rightArrow">
            <a:avLst>
              <a:gd name="adj1" fmla="val 50000"/>
              <a:gd name="adj2" fmla="val 2498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427640" y="1916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1"/>
          <p:cNvGrpSpPr/>
          <p:nvPr/>
        </p:nvGrpSpPr>
        <p:grpSpPr>
          <a:xfrm>
            <a:off x="7308720" y="981000"/>
            <a:ext cx="1835280" cy="2536920"/>
            <a:chOff x="7308720" y="981000"/>
            <a:chExt cx="1835280" cy="2536920"/>
          </a:xfrm>
        </p:grpSpPr>
        <p:pic>
          <p:nvPicPr>
            <p:cNvPr id="162" name="Picture 8" descr="图片12"/>
            <p:cNvPicPr/>
            <p:nvPr/>
          </p:nvPicPr>
          <p:blipFill>
            <a:blip r:embed="rId7"/>
            <a:stretch/>
          </p:blipFill>
          <p:spPr>
            <a:xfrm>
              <a:off x="7308720" y="981000"/>
              <a:ext cx="1835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6"/>
            <p:cNvSpPr/>
            <p:nvPr/>
          </p:nvSpPr>
          <p:spPr>
            <a:xfrm>
              <a:off x="7667640" y="299736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成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2411280" y="981000"/>
            <a:ext cx="1944720" cy="2520720"/>
            <a:chOff x="2411280" y="981000"/>
            <a:chExt cx="1944720" cy="2520720"/>
          </a:xfrm>
        </p:grpSpPr>
        <p:sp>
          <p:nvSpPr>
            <p:cNvPr id="165" name="Text Box 25"/>
            <p:cNvSpPr/>
            <p:nvPr/>
          </p:nvSpPr>
          <p:spPr>
            <a:xfrm>
              <a:off x="2987640" y="29811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发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7" descr="21231321"/>
            <p:cNvPicPr/>
            <p:nvPr/>
          </p:nvPicPr>
          <p:blipFill>
            <a:blip r:embed="rId8"/>
            <a:stretch/>
          </p:blipFill>
          <p:spPr>
            <a:xfrm>
              <a:off x="2411280" y="981000"/>
              <a:ext cx="1944720" cy="2033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475080" y="62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大树一生的生长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-109440" y="5300640"/>
            <a:ext cx="92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发芽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幼苗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成熟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衰老</a:t>
            </a:r>
            <a:r>
              <a:rPr b="1" lang="en-US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枯萎          枯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939492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324000" y="189000"/>
            <a:ext cx="25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比一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73080" y="3573360"/>
            <a:ext cx="62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大树与向日葵一生的相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971640" y="40622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它们都有经历发芽、幼苗、成熟、枯死四个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71280" y="479736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大树与向日葵一生的不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971640" y="530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寿命的长短不同，大树的寿命长，向日葵的寿命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1806480" y="595008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（看</a:t>
            </a:r>
            <a:r>
              <a:rPr b="1" lang="en-US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19</a:t>
            </a: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页“植物的寿命有长有短”看完后说说你有什么体会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9"/>
          <p:cNvGrpSpPr/>
          <p:nvPr/>
        </p:nvGrpSpPr>
        <p:grpSpPr>
          <a:xfrm>
            <a:off x="0" y="907560"/>
            <a:ext cx="4643280" cy="2521080"/>
            <a:chOff x="0" y="907560"/>
            <a:chExt cx="4643280" cy="2521080"/>
          </a:xfrm>
        </p:grpSpPr>
        <p:pic>
          <p:nvPicPr>
            <p:cNvPr id="177" name="Picture 10" descr="图片3"/>
            <p:cNvPicPr/>
            <p:nvPr/>
          </p:nvPicPr>
          <p:blipFill>
            <a:blip r:embed="rId1"/>
            <a:stretch/>
          </p:blipFill>
          <p:spPr>
            <a:xfrm>
              <a:off x="1183320" y="907920"/>
              <a:ext cx="125388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2" descr="图片12"/>
            <p:cNvPicPr/>
            <p:nvPr/>
          </p:nvPicPr>
          <p:blipFill>
            <a:blip r:embed="rId2"/>
            <a:stretch/>
          </p:blipFill>
          <p:spPr>
            <a:xfrm>
              <a:off x="3552120" y="907920"/>
              <a:ext cx="10911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图片15"/>
            <p:cNvPicPr/>
            <p:nvPr/>
          </p:nvPicPr>
          <p:blipFill>
            <a:blip r:embed="rId3"/>
            <a:stretch/>
          </p:blipFill>
          <p:spPr>
            <a:xfrm>
              <a:off x="0" y="2145960"/>
              <a:ext cx="1183320" cy="12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7" descr="1273728538"/>
            <p:cNvPicPr/>
            <p:nvPr/>
          </p:nvPicPr>
          <p:blipFill>
            <a:blip r:embed="rId4"/>
            <a:stretch/>
          </p:blipFill>
          <p:spPr>
            <a:xfrm rot="16200000">
              <a:off x="-40680" y="948600"/>
              <a:ext cx="1265400" cy="118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8" descr="图片7"/>
            <p:cNvPicPr/>
            <p:nvPr/>
          </p:nvPicPr>
          <p:blipFill>
            <a:blip r:embed="rId5"/>
            <a:stretch/>
          </p:blipFill>
          <p:spPr>
            <a:xfrm>
              <a:off x="2437200" y="907920"/>
              <a:ext cx="11145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" descr="图片18"/>
            <p:cNvPicPr/>
            <p:nvPr/>
          </p:nvPicPr>
          <p:blipFill>
            <a:blip r:embed="rId6"/>
            <a:stretch/>
          </p:blipFill>
          <p:spPr>
            <a:xfrm>
              <a:off x="1183320" y="2145960"/>
              <a:ext cx="125388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6" descr="deab41cf355eeb22f9dc612a"/>
            <p:cNvPicPr/>
            <p:nvPr/>
          </p:nvPicPr>
          <p:blipFill>
            <a:blip r:embed="rId7"/>
            <a:stretch/>
          </p:blipFill>
          <p:spPr>
            <a:xfrm>
              <a:off x="3552120" y="2145960"/>
              <a:ext cx="109008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5" descr="图片20"/>
            <p:cNvPicPr/>
            <p:nvPr/>
          </p:nvPicPr>
          <p:blipFill>
            <a:blip r:embed="rId8"/>
            <a:stretch/>
          </p:blipFill>
          <p:spPr>
            <a:xfrm>
              <a:off x="2437200" y="2145960"/>
              <a:ext cx="1114560" cy="128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20" descr=""/>
          <p:cNvPicPr/>
          <p:nvPr/>
        </p:nvPicPr>
        <p:blipFill>
          <a:blip r:embed="rId9"/>
          <a:stretch/>
        </p:blipFill>
        <p:spPr>
          <a:xfrm>
            <a:off x="4643280" y="907920"/>
            <a:ext cx="4500720" cy="2521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111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春暖花开的季节，许多植物很快地进入生长期、发芽、长大、开花结果。秋天里，从开学到现在，好几个星期过去了，校园里和路边的植物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梧桐树枯黄"/>
          <p:cNvPicPr/>
          <p:nvPr/>
        </p:nvPicPr>
        <p:blipFill>
          <a:blip r:embed="rId1"/>
          <a:stretch/>
        </p:blipFill>
        <p:spPr>
          <a:xfrm>
            <a:off x="0" y="151596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12"/>
          <p:cNvGrpSpPr/>
          <p:nvPr/>
        </p:nvGrpSpPr>
        <p:grpSpPr>
          <a:xfrm>
            <a:off x="0" y="0"/>
            <a:ext cx="4716360" cy="4365720"/>
            <a:chOff x="0" y="0"/>
            <a:chExt cx="4716360" cy="4365720"/>
          </a:xfrm>
        </p:grpSpPr>
        <p:pic>
          <p:nvPicPr>
            <p:cNvPr id="187" name="Picture 4" descr="2aa4c6c3fcc1fcd818e8ba436b4ce6c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1636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6"/>
            <p:cNvSpPr/>
            <p:nvPr/>
          </p:nvSpPr>
          <p:spPr>
            <a:xfrm>
              <a:off x="0" y="2421000"/>
              <a:ext cx="2411280" cy="1871640"/>
            </a:xfrm>
            <a:prstGeom prst="cloudCallout">
              <a:avLst>
                <a:gd name="adj1" fmla="val 63430"/>
                <a:gd name="adj2" fmla="val -91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  <a:ea typeface="微软雅黑"/>
                </a:rPr>
                <a:t>这是南山古柏，是一棵千年老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4716360" y="0"/>
            <a:ext cx="4427640" cy="4365720"/>
            <a:chOff x="4716360" y="0"/>
            <a:chExt cx="4427640" cy="4365720"/>
          </a:xfrm>
        </p:grpSpPr>
        <p:pic>
          <p:nvPicPr>
            <p:cNvPr id="190" name="Picture 7" descr="2006112211582791016"/>
            <p:cNvPicPr/>
            <p:nvPr/>
          </p:nvPicPr>
          <p:blipFill>
            <a:blip r:embed="rId2"/>
            <a:stretch/>
          </p:blipFill>
          <p:spPr>
            <a:xfrm>
              <a:off x="4716360" y="0"/>
              <a:ext cx="442764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AutoShape 8"/>
            <p:cNvSpPr/>
            <p:nvPr/>
          </p:nvSpPr>
          <p:spPr>
            <a:xfrm>
              <a:off x="5003640" y="2708280"/>
              <a:ext cx="1944720" cy="1511280"/>
            </a:xfrm>
            <a:prstGeom prst="cloudCallout">
              <a:avLst>
                <a:gd name="adj1" fmla="val 57916"/>
                <a:gd name="adj2" fmla="val -493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Arial"/>
                  <a:ea typeface="微软雅黑"/>
                </a:rPr>
                <a:t>这是一棵枯死的胡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4"/>
          <p:cNvSpPr/>
          <p:nvPr/>
        </p:nvSpPr>
        <p:spPr>
          <a:xfrm>
            <a:off x="179280" y="4883040"/>
            <a:ext cx="88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每种植物都有几种生长不同的阶段，寿命有长也有短，但最终这些植物还是会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9280" y="260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在我们对植物进行了这些观察和研究之后，我们能够说出植物的哪些相同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340000" y="164772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微软雅黑"/>
              </a:rPr>
              <a:t>植物的相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2274840"/>
            <a:ext cx="67690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植物都生长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一定的环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需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水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阳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空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生长发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，都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繁殖后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从生到死的生命过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都有相同的基本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79280" y="9460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桉树。最高可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爷。树干的周径竟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长寿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龙血树。树龄大约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最小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花果。它的花要用显微镜才能看得清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重的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南西双版纳的铁力木。放在水中也不会浮于水面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轻的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南、广西等地的巴沙木。每立方米只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重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矮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矮柳。高度仅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粗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栗树。树身周长为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咸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龙江的木盐树。含盐量竟与普通食用盐相差无几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甜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槭树。含糖量可达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硬的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东北的铁桦树。比普通钢板还要硬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亮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魔树。晚上在树下可以看清楚小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楷书大小的字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毒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南和海南的箭毒木。见血就要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耐火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松树和水瓶树。发生火灾，来年照样发新叶，正常开花结果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珍贵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杉和银杏。世界上唯有四川、湖北、湖南和广西等地才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长最慢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极林带的希特卡云杉。每百年的高度只有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长最快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佚名树。一年就可以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冠最大的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榕树。树冠下能容纳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左右乘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79280" y="189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微软雅黑"/>
              </a:rPr>
              <a:t>课题拓展：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微软雅黑"/>
              </a:rPr>
              <a:t>你了解树木之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60C-C2E9-4580-A735-1BE9F90530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 rot="285600">
            <a:off x="2182680" y="258840"/>
            <a:ext cx="4896000" cy="31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休息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银杏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6372360" y="3175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银杏叶黄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银杏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6732720" y="317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菊花开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9122044_145905600185_2"/>
          <p:cNvPicPr/>
          <p:nvPr/>
        </p:nvPicPr>
        <p:blipFill>
          <a:blip r:embed="rId2"/>
          <a:stretch/>
        </p:blipFill>
        <p:spPr>
          <a:xfrm>
            <a:off x="53964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5"/>
          <p:cNvSpPr/>
          <p:nvPr/>
        </p:nvSpPr>
        <p:spPr>
          <a:xfrm>
            <a:off x="169236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银杏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狗尾草枯黄"/>
          <p:cNvPicPr/>
          <p:nvPr/>
        </p:nvPicPr>
        <p:blipFill>
          <a:blip r:embed="rId2"/>
          <a:stretch/>
        </p:blipFill>
        <p:spPr>
          <a:xfrm>
            <a:off x="539640" y="765000"/>
            <a:ext cx="7920000" cy="5472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083280" y="333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狗尾草枯萎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260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我们周围生长着许多植物，我们已经认识了一些大树、狗尾草、水葫芦、金鱼藻等。你还知道哪些陆生植物和水生植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20720" y="2139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微软雅黑"/>
              </a:rPr>
              <a:t>陆生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365800" y="2139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微软雅黑"/>
              </a:rPr>
              <a:t>水生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53520" y="2924280"/>
            <a:ext cx="9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三叶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蒲公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车前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柳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银杏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樟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897160" y="2924280"/>
            <a:ext cx="9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芦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睡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水花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浮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荷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微软雅黑"/>
              </a:rPr>
              <a:t>水仙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179280" y="76500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陆生植物的生长需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52276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泥土、养料、水分、阳光和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79280" y="23446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水生植物的生长需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619160" y="28386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水分、阳光和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79280" y="392904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植物的生长需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44364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619160" y="44226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水分、阳光和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2885760" y="52293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（阅读</a:t>
            </a:r>
            <a:r>
              <a:rPr b="1" lang="en-US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000099"/>
                </a:solidFill>
                <a:latin typeface="微软雅黑"/>
                <a:ea typeface="微软雅黑"/>
              </a:rPr>
              <a:t>页的“植物需要阳光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199"/>
          <p:cNvSpPr/>
          <p:nvPr/>
        </p:nvSpPr>
        <p:spPr>
          <a:xfrm>
            <a:off x="1093680" y="268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144360" y="279360"/>
            <a:ext cx="89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来看看向日葵的一生经历了哪些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19300001338703133421580854358"/>
          <p:cNvPicPr/>
          <p:nvPr/>
        </p:nvPicPr>
        <p:blipFill>
          <a:blip r:embed="rId1"/>
          <a:stretch/>
        </p:blipFill>
        <p:spPr>
          <a:xfrm>
            <a:off x="179280" y="1103400"/>
            <a:ext cx="8785440" cy="5781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206480" y="1844640"/>
            <a:ext cx="1399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微软雅黑"/>
              </a:rPr>
              <a:t>耕地播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273728538"/>
          <p:cNvPicPr/>
          <p:nvPr/>
        </p:nvPicPr>
        <p:blipFill>
          <a:blip r:embed="rId2"/>
          <a:stretch/>
        </p:blipFill>
        <p:spPr>
          <a:xfrm>
            <a:off x="3348000" y="0"/>
            <a:ext cx="4197240" cy="2806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5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1Z</dcterms:modified>
  <cp:revision>4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