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AD5-40FD-46B8-9BA3-F563CBD4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0FC-69CD-40B2-8C9F-25B96402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DE4-DB71-4E19-91F4-11DD86BF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43F-F82D-4393-BE08-DED1966F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FD29-E54D-44B3-9423-30D6A596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FEE0-0950-4328-876F-7EE6D7FE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6DCC-03C9-4FB3-9455-3AA91517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532D-B143-4053-9188-93F87C08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7045-CA2C-4252-A1C3-6B09153C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F515-0833-43DE-9F7F-4D398E97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7C9B-E1BB-4258-91D4-C3EA987B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035-11B9-4EB7-8995-329E4913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63BE-64BA-467C-92EC-913CC1AA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6359-314E-4440-B80C-BFC25EA7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D75E-423A-4B52-93D1-508A68E8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B8D2-775E-4CCF-88DC-E328EE41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A596-EC94-46A5-BF2A-80A30F24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83F-0DB6-48C7-AAEA-4DCDC057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F63-E51E-46EF-A0C1-11979953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44D-BEDA-44E5-9645-E8F7BF08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A4B-BDC8-4978-A12A-99D4D77E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E37-1B00-4B38-BAF0-72B0E161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F5D-70EB-4A08-AD3E-B7366A85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04D-C469-4210-B8EE-A9FF515C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1289-94D1-43D6-8CC4-2739242B3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4F14-008B-4DEF-A1FB-16AA2DD97B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&#31532;&#20108;&#35838;.p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课 扬起自信的风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971640" y="2708280"/>
            <a:ext cx="705636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自信是成功的基石</a:t>
            </a:r>
            <a:r>
              <a:rPr b="1" lang="en-US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必须受到所有人的尊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必须避免任何错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我必须永远高人一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必须在什么方面都不落人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必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面的这些想法的共同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2627280" y="3860640"/>
            <a:ext cx="3673440" cy="12970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自负与自卑是一对孪生子，二者都是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</a:rPr>
              <a:t>以自我为中心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几位同学上台来表演自信、自负和自卑的人是什么样子？台下的同学来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参考：从外观形象、举止仪态、待人接物和言谈几方面表演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042920" y="404640"/>
            <a:ext cx="3529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来表演，我来猜！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"/>
              </a:rPr>
              <a:t>自信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默念“我行”“我能行”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极的心理暗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客观评价自己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开一张清单，不仅列出你的缺点，更重要的是列出你的优点（任何一点优点都不要放过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开放自己，走到人群中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真诚地敞开心扉，别人一定会很快理解你，接受你。有了心事，便向同学、朋友倾诉，不要闷在心里。在交往中，你会变得心胸豁达，增强自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极参加体育锻炼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育锻炼可以振奋人心，消除人的惰性，使人变得勇敢、果断。经常参加体育锻炼的人，大多性格开朗，对生活抱有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196"/>
          <p:cNvSpPr/>
          <p:nvPr/>
        </p:nvSpPr>
        <p:spPr>
          <a:xfrm>
            <a:off x="1163520" y="56894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</a:rPr>
              <a:t>二、自信有助于成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636640"/>
            <a:ext cx="6765840" cy="27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有自信心的人，可以化渺小为伟大，化平庸为神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乐观者在每次危难中都看到了机会，而悲观的人在每个机会中都看到了危难。父亲欲对一对孪生兄弟作“性格改造”，因为其中一个过分乐观，而另一个则过分悲观。一天，他买了许多色泽鲜艳的新玩具给悲观孩子，又把乐观孩子送进了一间堆满马粪的车房里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二天清晨，父亲看到悲观孩子正泣不成声，便问：“为什么不玩那些玩具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玩了就会坏的。”孩子仍在哭泣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父亲叹了口气，走进车房，却发现那乐观孩子正兴高采烈地在马粪里掏着什么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告诉你，爸爸。”那孩子得意洋洋地向父亲宣称，“我想马粪堆里一定还藏着一匹小马呢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温馨提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乐观者与悲观者之间，其差别是很有趣的：乐观者看到的是油炸圈饼，悲观者看到的是一个窟窿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6300720" y="260280"/>
            <a:ext cx="24116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乐观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-360" y="836640"/>
            <a:ext cx="8893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著名科学家都可以说具有好奇心的。 牛顿对一个苹果产生好奇，于是发现了万有引力。瓦特对烧水壶上冒出的蒸汽也是十分好奇，最后改良了蒸汽机。 爱因斯坦从小比较孤僻喜欢玩罗盘有很强的好奇心。伽利略也是看吊灯摇晃而好奇发现了单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6156360" y="5229360"/>
            <a:ext cx="269856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好奇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9280" y="836280"/>
            <a:ext cx="734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德摩斯梯尼天生口吃，嗓音微弱，还有耸肩的坏习惯。在常人看来，他似乎没有一点当演说家的天赋，因为在当时的雅典，一名出色的演说家必须声音洪亮，发音清晰，姿势优美，富有辩才。为了成为卓越的政治演说家，德摩斯梯尼做了超过常人几倍的努力，进行了异常刻苦的学习和训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01000000000000119093584694335"/>
          <p:cNvPicPr/>
          <p:nvPr/>
        </p:nvPicPr>
        <p:blipFill>
          <a:blip r:embed="rId1"/>
          <a:stretch/>
        </p:blipFill>
        <p:spPr>
          <a:xfrm>
            <a:off x="7020000" y="4076640"/>
            <a:ext cx="2124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4920" y="549360"/>
            <a:ext cx="8497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最初的政治演说是很不成功的，由于发音不清，论证无力，多次被轰下讲坛。为此，他刻苦读书学习。据说，他抄写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伯罗奔尼撒战争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遍；他虚心向著名的演员请教发音的方法；为了改进发音，他把小石子含在嘴里朗读，迎着大风和波涛讲话；为了去掉气短的毛病，他一边在陡峭的山路上攀登，一边不停地吟诗；他在家里装了一面大镜子，每天起早贪黑地对着镜子练习演说；为了改掉说话耸肩的坏习惯，他在头顶上悬挂一柄剑，或悬挂一把铁权；他把自己剃成阴阳头，以便能安心躲起来练习演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6948360" y="5661000"/>
            <a:ext cx="205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专注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7"/>
          <p:cNvSpPr txBox="1"/>
          <p:nvPr/>
        </p:nvSpPr>
        <p:spPr>
          <a:xfrm>
            <a:off x="900000" y="692280"/>
            <a:ext cx="2087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乐观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900000" y="5084640"/>
            <a:ext cx="24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新魏"/>
              </a:rPr>
              <a:t>好奇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4932360" y="5157720"/>
            <a:ext cx="2158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专注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84360" y="2133720"/>
            <a:ext cx="8064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自信者有助于成功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心理品质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信者成功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2421000"/>
            <a:ext cx="842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正是由于自信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乐观、好奇与专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有目标，注重行动，体验过程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所以他们可以减少外界的干扰，全身心的投入到工作中，最快、最好的到达胜利的终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58280" y="4724280"/>
            <a:ext cx="1485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620640"/>
            <a:ext cx="712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鸟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的动物都是四条腿，而我只有两条，实在不公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鱼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根本没有腿，被剥夺了参加年度田径大奖赛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青蛙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身份特殊，既不属于水族，又不属于陆族，以至不能取得参加动物代表大会的合法资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马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不够强壮，不能参加相扑大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象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腿太粗了，不敢穿裙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信是成功的基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“一对孪生子”共有的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负和自卑的共同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自信有助于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信者的哪些心理品质有助于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信者成功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971640" y="333360"/>
            <a:ext cx="273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的收获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324000" y="5805360"/>
            <a:ext cx="647640" cy="7923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92360"/>
              <a:gd name="textAreaBottom" fmla="*/ 750600 h 792360"/>
            </a:gdLst>
            <a:ahLst/>
            <a:rect l="textAreaLeft" t="textAreaTop" r="textAreaRight" b="textAreaBottom"/>
            <a:pathLst>
              <a:path w="21600" h="26424">
                <a:moveTo>
                  <a:pt x="0" y="0"/>
                </a:moveTo>
                <a:lnTo>
                  <a:pt x="21600" y="0"/>
                </a:lnTo>
                <a:lnTo>
                  <a:pt x="21600" y="26424"/>
                </a:lnTo>
                <a:lnTo>
                  <a:pt x="0" y="26424"/>
                </a:lnTo>
                <a:close/>
              </a:path>
              <a:path fill="lightenLess" w="21600" h="26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24">
                <a:moveTo>
                  <a:pt x="21600" y="0"/>
                </a:moveTo>
                <a:lnTo>
                  <a:pt x="21600" y="26424"/>
                </a:lnTo>
                <a:lnTo>
                  <a:pt x="20200" y="25024"/>
                </a:lnTo>
                <a:lnTo>
                  <a:pt x="20200" y="1400"/>
                </a:lnTo>
                <a:close/>
              </a:path>
              <a:path fill="darkenLess" w="21600" h="26424">
                <a:moveTo>
                  <a:pt x="21600" y="26424"/>
                </a:moveTo>
                <a:lnTo>
                  <a:pt x="0" y="26424"/>
                </a:lnTo>
                <a:lnTo>
                  <a:pt x="1400" y="25024"/>
                </a:lnTo>
                <a:lnTo>
                  <a:pt x="20200" y="25024"/>
                </a:lnTo>
                <a:close/>
              </a:path>
              <a:path fill="lighten" w="21600" h="26424">
                <a:moveTo>
                  <a:pt x="0" y="26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24"/>
                </a:lnTo>
                <a:close/>
              </a:path>
              <a:path fill="darken" w="21600" h="26424">
                <a:moveTo>
                  <a:pt x="10800" y="6249"/>
                </a:moveTo>
                <a:lnTo>
                  <a:pt x="13376" y="8860"/>
                </a:lnTo>
                <a:lnTo>
                  <a:pt x="13376" y="7119"/>
                </a:lnTo>
                <a:lnTo>
                  <a:pt x="15152" y="7119"/>
                </a:lnTo>
                <a:lnTo>
                  <a:pt x="15152" y="10636"/>
                </a:lnTo>
                <a:lnTo>
                  <a:pt x="17763" y="13212"/>
                </a:lnTo>
                <a:lnTo>
                  <a:pt x="16109" y="13212"/>
                </a:lnTo>
                <a:lnTo>
                  <a:pt x="16109" y="20401"/>
                </a:lnTo>
                <a:lnTo>
                  <a:pt x="5491" y="20401"/>
                </a:lnTo>
                <a:lnTo>
                  <a:pt x="5491" y="13212"/>
                </a:lnTo>
                <a:lnTo>
                  <a:pt x="3837" y="13212"/>
                </a:lnTo>
                <a:close/>
              </a:path>
              <a:path fill="darkenLess" w="21600" h="26424">
                <a:moveTo>
                  <a:pt x="13376" y="8860"/>
                </a:moveTo>
                <a:lnTo>
                  <a:pt x="13376" y="7119"/>
                </a:lnTo>
                <a:lnTo>
                  <a:pt x="15152" y="7119"/>
                </a:lnTo>
                <a:lnTo>
                  <a:pt x="15152" y="10636"/>
                </a:lnTo>
                <a:close/>
              </a:path>
              <a:path fill="darkenLess" w="21600" h="26424">
                <a:moveTo>
                  <a:pt x="9877" y="16711"/>
                </a:moveTo>
                <a:lnTo>
                  <a:pt x="11723" y="16711"/>
                </a:lnTo>
                <a:lnTo>
                  <a:pt x="11723" y="20401"/>
                </a:lnTo>
                <a:lnTo>
                  <a:pt x="16109" y="20401"/>
                </a:lnTo>
                <a:lnTo>
                  <a:pt x="16109" y="13212"/>
                </a:lnTo>
                <a:lnTo>
                  <a:pt x="5491" y="13212"/>
                </a:lnTo>
                <a:lnTo>
                  <a:pt x="5491" y="20401"/>
                </a:lnTo>
                <a:lnTo>
                  <a:pt x="9877" y="2040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5280" y="1125000"/>
            <a:ext cx="7561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品上潘长江说：浓缩的就是精华。戏剧演员葛优自嘲道：热闹的马路不长草，聪明的脑袋不长毛。这表达了他们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观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达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耻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自知之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1187280" y="476280"/>
            <a:ext cx="24480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课堂练习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796000" y="3213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360" y="1052640"/>
            <a:ext cx="71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尊者达观，面对他人批评时的正确态度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于敏感，斤斤计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则改之，无则加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事要多忍让，不与他人过多争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理不让人，及时予以回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292720" y="1773360"/>
            <a:ext cx="93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4000" y="47628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美国一位心理学家曾经作了这样一项实验研究。他在某中学新生开学的第一天，对其中的一个班宣布：你们是经过精选出来的最有发展前途的学生。在之后的十几年的追踪研究中，他得出惊人的结果，这一个班的学生确实如他所说得那样，个个出类拔萃。这个事例说明了什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权威性的谎言”具有权威性的力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尊自信可以促人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发展前途的孩子成功的机遇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偶然的巧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308720" y="328464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4920" y="404280"/>
            <a:ext cx="7705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生活中，人人都有不如别人的地方，比如长得不漂亮，甚至有生理缺陷等。面对不如意我们正确的态度应该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气馁，不灰心，不放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相信自己，自己看得起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尊重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通过进一步的努力，找到自己的人生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尽一切办法，超越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①②③④           B②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①②③⑤           D①②③④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516720" y="414972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196"/>
          <p:cNvSpPr/>
          <p:nvPr/>
        </p:nvSpPr>
        <p:spPr>
          <a:xfrm>
            <a:off x="860400" y="5002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负不同于自信，就在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负者依据的事实是虚假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负者追求的目标根本就是不能达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信者的依据是真实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信的人所追求的目标是真实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①②③④             B②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①②③                 D①②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227640" y="30686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自信者具有哪些心理品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乐观        ②好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专注        ④注重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性、好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①②③            B②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①②③⑤        D①②③④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156360" y="2205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50DE-675E-487C-B8B0-1215514CC4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里夫人说：“生活对我们每个人来说都是不容易的，所以我们必须努力地工作，最重要的是我们要自信。”机遇永远垂青有准备的头脑。勤奋与自信是成功的基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坚信“有志者，事竟成，百二秦关终属楚；苦心人，天不负，三千越甲可吞吴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32400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620280"/>
            <a:ext cx="5843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老虎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最棒的林中之王，我的皮毛光滑漂亮，简直无与伦比；我的嗓音婉转动听，赛过夜莺；我的体格健壮，日行千里。我的任何一点都比他们强！它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哼！怎么可以和我相比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1"/>
          <p:cNvPicPr/>
          <p:nvPr/>
        </p:nvPicPr>
        <p:blipFill>
          <a:blip r:embed="rId1"/>
          <a:stretch/>
        </p:blipFill>
        <p:spPr>
          <a:xfrm>
            <a:off x="5508720" y="4154400"/>
            <a:ext cx="36352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4920" y="404280"/>
            <a:ext cx="676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对自己很满意。虽然我身材矮小，不够强壮，但我一样有力气搬得动比我自己还重的东西；虽然没有翅膀不能飞，游泳也不好，但我会造漂亮的地下宫殿，冬暖夏凉；虽然我一个不起眼，但我的亲戚遍布全球，我的生活很快乐，感到非常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3"/>
          <p:cNvPicPr/>
          <p:nvPr/>
        </p:nvPicPr>
        <p:blipFill>
          <a:blip r:embed="rId1"/>
          <a:stretch/>
        </p:blipFill>
        <p:spPr>
          <a:xfrm>
            <a:off x="5580000" y="4203720"/>
            <a:ext cx="35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你曾经你听到的、看到的关于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自信、自卑和自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故事说给你们组的同学听，然后说给大家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觉得你是自信的、自卑的、还是自负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说你的这种自信、自卑、或是自负给你带来的是什么后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2340000" y="549360"/>
            <a:ext cx="2808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活动探究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11640" y="691920"/>
            <a:ext cx="4402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末农民起义军领袖项羽，自封为西楚霸王，江山未定便大封诸侯，颇有秦始皇“普天之下莫非王土，率土之滨莫非王臣”的气概，忽视了汉王刘邦的力量，终为其击败，最后从垓下突围到乌江，自刎江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1300000356220126285449476374"/>
          <p:cNvPicPr/>
          <p:nvPr/>
        </p:nvPicPr>
        <p:blipFill>
          <a:blip r:embed="rId1"/>
          <a:stretch/>
        </p:blipFill>
        <p:spPr>
          <a:xfrm>
            <a:off x="0" y="0"/>
            <a:ext cx="3995640" cy="349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01300000259382123501077248170"/>
          <p:cNvPicPr/>
          <p:nvPr/>
        </p:nvPicPr>
        <p:blipFill>
          <a:blip r:embed="rId2"/>
          <a:stretch/>
        </p:blipFill>
        <p:spPr>
          <a:xfrm>
            <a:off x="0" y="3451320"/>
            <a:ext cx="39956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5651640" y="31510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333360"/>
            <a:ext cx="4619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拿破仑在经过阿尔卑斯山说：“我比阿尔卑斯山还要高！”傲气十足，何等英伟！他帅兵降服大半个欧洲。但是他的自负使之对外侵略扩张的欲望日益强烈，终于发动了以争霸为目的的侵略战争。最后，他的自负使他在滑铁卢战役中失败了，被流放而后死了对赫勒拿岛，他曾经拥有的一切最终都失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824b899a9014c08a9a04a350a7b02087af4f483"/>
          <p:cNvPicPr/>
          <p:nvPr/>
        </p:nvPicPr>
        <p:blipFill>
          <a:blip r:embed="rId1"/>
          <a:stretch/>
        </p:blipFill>
        <p:spPr>
          <a:xfrm>
            <a:off x="4716360" y="476280"/>
            <a:ext cx="4257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276360" y="333000"/>
            <a:ext cx="5492520" cy="61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总统尼克松，也是因为过于自卑而毁掉了自己的政治前程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他竞选连任，由于在第一任期间成绩斐然，大多数政治评论家纷纷预测他将获胜。然而尼克松本人却不自信，走不出过去失败的阴影，在这种意识的驱使下，他做出了让自己终生后悔的事：他指事的手下潜入竞争对手总部的水门饭店，在对物的办公室 里安装了窃听器。事发之后，他又连中、连阻止调查，推卸责任，在选举胜利后，被近辞职。本来稳操胜算的尼克松，只因缺乏自信而惨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8f790529822720e6f2b0b897bcb0a46f31fabd8"/>
          <p:cNvPicPr/>
          <p:nvPr/>
        </p:nvPicPr>
        <p:blipFill>
          <a:blip r:embed="rId1"/>
          <a:stretch/>
        </p:blipFill>
        <p:spPr>
          <a:xfrm>
            <a:off x="0" y="907920"/>
            <a:ext cx="32385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项羽、拿破仑、尼克松分别所表现的是一种怎样的心理状态？结果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了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负和自卑都会使人远离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0:40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07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