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6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5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94C1B-22A1-46B4-BECF-BF844462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71F79-E7E9-47E7-A7C3-FB7DA7A5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A876D-C8AE-4199-87F5-D732ECD69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2CD6D-9341-42A7-A701-92E978240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4A3B-E4D2-40BB-A5A7-E66A661D3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93FF-58CF-4986-ACAC-080650CE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0CD9-71FD-4EF6-A00D-523BE413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DE0F-C976-4970-83C9-E5FA8518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C0B0-9897-46B9-91ED-98494E7B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B200-008C-464A-AAC7-B61F10D0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56E5-A192-4957-A208-C1114D0A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E1762-143D-47A7-8602-D30CB148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B63B-F880-45FC-AB73-65D1F07D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5895-78D2-49D3-B015-446EC74F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D15D-1AF5-4F09-BCE3-68CB7D2F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31D2-1B4F-4926-8352-5105DDE1C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E43B-47E7-4539-B0AC-A50A2D246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95A7C-2CB9-41D0-B5D2-59CB4BEEE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B6D59-DA4F-43F3-A0B9-01EBC17F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72C47-5CDD-4D15-BB24-C6007ADE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90232-D2D3-46D8-BB1B-4FA7621B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1DBEB-5C34-4898-A93A-062A1BCA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A451E-F232-4376-9E06-A825C739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B69E7-19CF-498E-883B-BC4335C0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A9399-269F-4BC6-A3E8-8EEBA002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B009F-C5F3-4829-865B-76BD03BC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42661-031D-411C-9D33-DF0D9269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311E2-4B90-43D2-A064-453F84B8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AAC4B-FF41-46D7-9A7B-44A7B6B13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35558-5EB0-4CEC-9DF5-779698B9C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1913C-FFDC-4FDE-9A73-53E16FBC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956AE-36A8-4ED4-96BD-870995E8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824F9-C4A9-4991-BD2B-0DD43FFD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4C0D4-F7D6-4856-B495-7AA165E6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AB64F-DF77-46F7-805D-129A3DAB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3633D-C49C-4A14-92F7-68FA8A1C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B51F-4B95-4715-ADEE-96652B6709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6740-F743-467A-8C1F-AB68B50915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0885-BB7D-4704-86DE-6DCA3A4435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upian.hudong.com/s/&#25195;&#25551;&#38567;&#36947;&#26174;&#24494;&#38236;/xgtupian/1/3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tupian.hudong.com/a4_57_06_01300000308005122971062591573_jpg.html" TargetMode="External"/><Relationship Id="rId4" Type="http://schemas.openxmlformats.org/officeDocument/2006/relationships/hyperlink" Target="http://tupian.hudong.com/a4_57_06_01300000308005122971062591573_jpg.html" TargetMode="External"/><Relationship Id="rId5" Type="http://schemas.openxmlformats.org/officeDocument/2006/relationships/hyperlink" Target="http://www.hudong.com/wiki/&#25195;&#25551;" TargetMode="External"/><Relationship Id="rId6" Type="http://schemas.openxmlformats.org/officeDocument/2006/relationships/hyperlink" Target="http://www.hudong.com/wiki/&#33521;&#25991;" TargetMode="External"/><Relationship Id="rId7" Type="http://schemas.openxmlformats.org/officeDocument/2006/relationships/hyperlink" Target="http://www.hudong.com/wiki/&#25195;&#25551;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89000" y="2133720"/>
            <a:ext cx="6019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怎样放得更大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课件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">
            <a:hlinkClick r:id="" action="ppaction://hlinkshowjump?jump=nextslide"/>
          </p:cNvPr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3988"/>
                </a:moveTo>
                <a:lnTo>
                  <a:pt x="17806" y="10994"/>
                </a:lnTo>
                <a:lnTo>
                  <a:pt x="3794" y="18001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"/>
          <p:cNvSpPr/>
          <p:nvPr/>
        </p:nvSpPr>
        <p:spPr>
          <a:xfrm>
            <a:off x="5086440" y="8557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教科版六年级科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图片 3" descr=""/>
          <p:cNvPicPr/>
          <p:nvPr/>
        </p:nvPicPr>
        <p:blipFill>
          <a:blip r:embed="rId1"/>
          <a:stretch/>
        </p:blipFill>
        <p:spPr>
          <a:xfrm>
            <a:off x="1130400" y="3573360"/>
            <a:ext cx="3512880" cy="213696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6" descr=""/>
          <p:cNvPicPr/>
          <p:nvPr/>
        </p:nvPicPr>
        <p:blipFill>
          <a:blip r:embed="rId2"/>
          <a:stretch/>
        </p:blipFill>
        <p:spPr>
          <a:xfrm>
            <a:off x="4643280" y="3573360"/>
            <a:ext cx="3090960" cy="2136960"/>
          </a:xfrm>
          <a:prstGeom prst="rect">
            <a:avLst/>
          </a:prstGeom>
          <a:ln w="0">
            <a:noFill/>
          </a:ln>
        </p:spPr>
      </p:pic>
      <p:sp>
        <p:nvSpPr>
          <p:cNvPr id="15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250920" y="83664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然后移开一个凸透镜，比较一下两次看到的物体有什么不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反复几次，看看有什么发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3" descr="未标题-4"/>
          <p:cNvPicPr/>
          <p:nvPr/>
        </p:nvPicPr>
        <p:blipFill>
          <a:blip r:embed="rId1"/>
          <a:stretch/>
        </p:blipFill>
        <p:spPr>
          <a:xfrm>
            <a:off x="2411280" y="2852640"/>
            <a:ext cx="3888000" cy="34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24000" y="764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上下移动调整两个凸透镜之间的距离，直到找到物体最清楚的图像，用</a:t>
            </a:r>
            <a:r>
              <a:rPr b="0" lang="zh-CN" sz="3200" spc="-1" strike="noStrike">
                <a:solidFill>
                  <a:srgbClr val="9999cc"/>
                </a:solidFill>
                <a:latin typeface="Arial"/>
              </a:rPr>
              <a:t>学具</a:t>
            </a:r>
            <a:r>
              <a:rPr b="0" lang="en-US" sz="3200" spc="-1" strike="noStrike">
                <a:solidFill>
                  <a:srgbClr val="9999cc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9999cc"/>
                </a:solidFill>
                <a:latin typeface="Arial"/>
              </a:rPr>
              <a:t>塑料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把两个透镜固定下来，一个简易的显微镜就做好了。试试看，物体的图像是不是被放得更大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未标题-5"/>
          <p:cNvPicPr/>
          <p:nvPr/>
        </p:nvPicPr>
        <p:blipFill>
          <a:blip r:embed="rId1"/>
          <a:stretch/>
        </p:blipFill>
        <p:spPr>
          <a:xfrm>
            <a:off x="4140360" y="2924280"/>
            <a:ext cx="3404880" cy="376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知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世纪，人们发现把两个凸透镜组合起来明显提高了放大能力。这是因为一个凸透镜把另外一个凸透镜成的像进一步放大了。这就是早期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显微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显微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个了不起的发明，它使人类的视野一下子拓宽了许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539640" y="18442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自制的显微镜观察周围的物体，与放大镜比物体图像的放大倍数是不是增加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是不是又有了新发现？把我们的发现记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2050560"/>
            <a:ext cx="3970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青苔看起来好像绿茸茸的“地毯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苔藓2"/>
          <p:cNvPicPr/>
          <p:nvPr/>
        </p:nvPicPr>
        <p:blipFill>
          <a:blip r:embed="rId1"/>
          <a:stretch/>
        </p:blipFill>
        <p:spPr>
          <a:xfrm>
            <a:off x="4643280" y="907920"/>
            <a:ext cx="3765600" cy="567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苔藓"/>
          <p:cNvPicPr/>
          <p:nvPr/>
        </p:nvPicPr>
        <p:blipFill>
          <a:blip r:embed="rId1"/>
          <a:stretch/>
        </p:blipFill>
        <p:spPr>
          <a:xfrm>
            <a:off x="1042920" y="765000"/>
            <a:ext cx="5761080" cy="460872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395280" y="5589720"/>
            <a:ext cx="8209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显微镜下看，简直就像是一片丛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250560" y="3933360"/>
            <a:ext cx="28810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肉眼看到的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" descr="未标题-8"/>
          <p:cNvPicPr/>
          <p:nvPr/>
        </p:nvPicPr>
        <p:blipFill>
          <a:blip r:embed="rId1"/>
          <a:stretch/>
        </p:blipFill>
        <p:spPr>
          <a:xfrm>
            <a:off x="395280" y="1617840"/>
            <a:ext cx="2521080" cy="1936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未标题-9"/>
          <p:cNvPicPr/>
          <p:nvPr/>
        </p:nvPicPr>
        <p:blipFill>
          <a:blip r:embed="rId2"/>
          <a:stretch/>
        </p:blipFill>
        <p:spPr>
          <a:xfrm>
            <a:off x="3276720" y="1657440"/>
            <a:ext cx="2663640" cy="19494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未标题-10"/>
          <p:cNvPicPr/>
          <p:nvPr/>
        </p:nvPicPr>
        <p:blipFill>
          <a:blip r:embed="rId3"/>
          <a:stretch/>
        </p:blipFill>
        <p:spPr>
          <a:xfrm>
            <a:off x="6084720" y="1700280"/>
            <a:ext cx="2679840" cy="20016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6"/>
          <p:cNvSpPr/>
          <p:nvPr/>
        </p:nvSpPr>
        <p:spPr>
          <a:xfrm>
            <a:off x="3203640" y="4005360"/>
            <a:ext cx="28810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显微镜下看到的花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5940360" y="4076640"/>
            <a:ext cx="2881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显微镜下看到的花粉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8199"/>
          <p:cNvSpPr/>
          <p:nvPr/>
        </p:nvSpPr>
        <p:spPr>
          <a:xfrm>
            <a:off x="1281240" y="8748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666699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花粉"/>
          <p:cNvPicPr/>
          <p:nvPr/>
        </p:nvPicPr>
        <p:blipFill>
          <a:blip r:embed="rId1"/>
          <a:stretch/>
        </p:blipFill>
        <p:spPr>
          <a:xfrm>
            <a:off x="1116000" y="907920"/>
            <a:ext cx="5400720" cy="47768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1547640" y="587700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显微镜下看到的花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611280" y="522936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爵床的花粉。爵床还被称为小青草、孩儿草、野万年青、节节寒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花粉4"/>
          <p:cNvPicPr/>
          <p:nvPr/>
        </p:nvPicPr>
        <p:blipFill>
          <a:blip r:embed="rId1"/>
          <a:stretch/>
        </p:blipFill>
        <p:spPr>
          <a:xfrm>
            <a:off x="1547640" y="1413000"/>
            <a:ext cx="5761080" cy="35449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电子显微镜下的花粉颗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79280" y="5516640"/>
            <a:ext cx="89647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凤梨科植物大铁兰的花粉表面皱褶，这种构造使得它能够干燥时收缩，潮湿时膨胀，而不必破坏受精过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" descr="花粉5"/>
          <p:cNvPicPr/>
          <p:nvPr/>
        </p:nvPicPr>
        <p:blipFill>
          <a:blip r:embed="rId1"/>
          <a:stretch/>
        </p:blipFill>
        <p:spPr>
          <a:xfrm>
            <a:off x="1258920" y="1484280"/>
            <a:ext cx="6335640" cy="37688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684360" y="1341360"/>
            <a:ext cx="77752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两个凸透镜组合起来可以使物体的图像放得更大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显微镜的发明拓宽了观察领域，显微镜是人类认识微小世界的重要观察工具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、了解列文虎克的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、掌握显微镜的正确使用步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537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勿忘我花瓣中的花粉颗粒。这些颗粒的直径只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0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毫米，属于最小的那种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花粉6"/>
          <p:cNvPicPr/>
          <p:nvPr/>
        </p:nvPicPr>
        <p:blipFill>
          <a:blip r:embed="rId1"/>
          <a:stretch/>
        </p:blipFill>
        <p:spPr>
          <a:xfrm>
            <a:off x="755640" y="981000"/>
            <a:ext cx="7415280" cy="434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50920" y="5444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浮莲这种植物随处可见，需经过风的传递和借助昆虫的力量才能完成授粉和繁殖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水浮莲的花粉"/>
          <p:cNvPicPr/>
          <p:nvPr/>
        </p:nvPicPr>
        <p:blipFill>
          <a:blip r:embed="rId1"/>
          <a:stretch/>
        </p:blipFill>
        <p:spPr>
          <a:xfrm>
            <a:off x="1692360" y="692280"/>
            <a:ext cx="525600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显微镜下看到的花粉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3" descr="显微镜下看到的花粉管"/>
          <p:cNvPicPr/>
          <p:nvPr/>
        </p:nvPicPr>
        <p:blipFill>
          <a:blip r:embed="rId1"/>
          <a:stretch/>
        </p:blipFill>
        <p:spPr>
          <a:xfrm>
            <a:off x="1547640" y="1916280"/>
            <a:ext cx="5616720" cy="44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612720" y="83664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阅读资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80720"/>
            <a:ext cx="5843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资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列文虎克发现微生物的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未标题-11"/>
          <p:cNvPicPr/>
          <p:nvPr/>
        </p:nvPicPr>
        <p:blipFill>
          <a:blip r:embed="rId1"/>
          <a:stretch/>
        </p:blipFill>
        <p:spPr>
          <a:xfrm>
            <a:off x="6516720" y="1125360"/>
            <a:ext cx="1990800" cy="522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显微镜的发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9640" y="18442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显微镜的发明，是人类认识世界的一大飞跃，把人类带入了一个崭新的微观世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列文虎克显微镜"/>
          <p:cNvPicPr/>
          <p:nvPr/>
        </p:nvPicPr>
        <p:blipFill>
          <a:blip r:embed="rId1"/>
          <a:stretch/>
        </p:blipFill>
        <p:spPr>
          <a:xfrm>
            <a:off x="755640" y="3429000"/>
            <a:ext cx="3192480" cy="2394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罗伯特胡克显微镜"/>
          <p:cNvPicPr/>
          <p:nvPr/>
        </p:nvPicPr>
        <p:blipFill>
          <a:blip r:embed="rId2"/>
          <a:stretch/>
        </p:blipFill>
        <p:spPr>
          <a:xfrm>
            <a:off x="4859280" y="3213000"/>
            <a:ext cx="2933640" cy="2757600"/>
          </a:xfrm>
          <a:prstGeom prst="rect">
            <a:avLst/>
          </a:prstGeom>
          <a:ln w="0">
            <a:noFill/>
          </a:ln>
        </p:spPr>
      </p:pic>
      <p:sp>
        <p:nvSpPr>
          <p:cNvPr id="235" name="文本框 8199"/>
          <p:cNvSpPr/>
          <p:nvPr/>
        </p:nvSpPr>
        <p:spPr>
          <a:xfrm>
            <a:off x="1176480" y="457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6666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电子显微镜"/>
          <p:cNvPicPr/>
          <p:nvPr/>
        </p:nvPicPr>
        <p:blipFill>
          <a:blip r:embed="rId1"/>
          <a:stretch/>
        </p:blipFill>
        <p:spPr>
          <a:xfrm>
            <a:off x="250920" y="1989000"/>
            <a:ext cx="3160440" cy="42134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电子显微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未标题-12"/>
          <p:cNvPicPr/>
          <p:nvPr/>
        </p:nvPicPr>
        <p:blipFill>
          <a:blip r:embed="rId2"/>
          <a:stretch/>
        </p:blipFill>
        <p:spPr>
          <a:xfrm>
            <a:off x="3708360" y="2133720"/>
            <a:ext cx="5000760" cy="401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未标题-13"/>
          <p:cNvPicPr/>
          <p:nvPr/>
        </p:nvPicPr>
        <p:blipFill>
          <a:blip r:embed="rId1"/>
          <a:stretch/>
        </p:blipFill>
        <p:spPr>
          <a:xfrm>
            <a:off x="324000" y="2637000"/>
            <a:ext cx="4105080" cy="2681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SARS病毒"/>
          <p:cNvPicPr/>
          <p:nvPr/>
        </p:nvPicPr>
        <p:blipFill>
          <a:blip r:embed="rId2"/>
          <a:stretch/>
        </p:blipFill>
        <p:spPr>
          <a:xfrm>
            <a:off x="4572000" y="2708280"/>
            <a:ext cx="4248000" cy="252108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RS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病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CBBF-A7D2-42A7-A822-4AD9687FA5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93560" y="14839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了看到更小的物体，人们又研制出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电子显微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扫描隧道显微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电子显微镜可把物体放大到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万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611280" y="450864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显微镜是人类认识微小世界的重要观察工具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做一个简易显微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比较单个凸透镜与两个调整好焦距的凸透镜之间的效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制简易显微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显微镜是怎么显著提高放大物体的能力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因为显微镜中的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“一个凸透镜把另外一个凸透镜成的像进一步放大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用自制简易显微镜观察周围的物体，与放大镜比有什么新发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何兰生物学家列文虎克的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">
            <a:hlinkClick r:id="" action="ppaction://hlinkshowjump?jump=previousslide"/>
          </p:cNvPr>
          <p:cNvSpPr/>
          <p:nvPr/>
        </p:nvSpPr>
        <p:spPr>
          <a:xfrm>
            <a:off x="802800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">
            <a:hlinkClick r:id="" action="ppaction://hlinkshowjump?jump=nextslide"/>
          </p:cNvPr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17806" y="10982"/>
                </a:lnTo>
                <a:lnTo>
                  <a:pt x="3794" y="1798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列文虎克发明的显微镜"/>
          <p:cNvPicPr/>
          <p:nvPr/>
        </p:nvPicPr>
        <p:blipFill>
          <a:blip r:embed="rId1"/>
          <a:stretch/>
        </p:blipFill>
        <p:spPr>
          <a:xfrm>
            <a:off x="3419640" y="2637000"/>
            <a:ext cx="5400360" cy="3617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200511311252"/>
          <p:cNvPicPr/>
          <p:nvPr/>
        </p:nvPicPr>
        <p:blipFill>
          <a:blip r:embed="rId2"/>
          <a:stretch/>
        </p:blipFill>
        <p:spPr>
          <a:xfrm>
            <a:off x="324000" y="2565360"/>
            <a:ext cx="2735280" cy="3672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2005113112526"/>
          <p:cNvPicPr/>
          <p:nvPr/>
        </p:nvPicPr>
        <p:blipFill>
          <a:blip r:embed="rId3"/>
          <a:stretch/>
        </p:blipFill>
        <p:spPr>
          <a:xfrm>
            <a:off x="6084720" y="981000"/>
            <a:ext cx="2381400" cy="12384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0"/>
          <p:cNvSpPr/>
          <p:nvPr/>
        </p:nvSpPr>
        <p:spPr>
          <a:xfrm>
            <a:off x="179280" y="981000"/>
            <a:ext cx="5543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列文虎克和他的显微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1">
            <a:hlinkClick r:id="" action="ppaction://hlinkshowjump?jump=previousslide"/>
          </p:cNvPr>
          <p:cNvSpPr/>
          <p:nvPr/>
        </p:nvSpPr>
        <p:spPr>
          <a:xfrm>
            <a:off x="7885080" y="6381720"/>
            <a:ext cx="538200" cy="476280"/>
          </a:xfrm>
          <a:custGeom>
            <a:avLst/>
            <a:gdLst>
              <a:gd name="textAreaLeft" fmla="*/ 30600 w 538200"/>
              <a:gd name="textAreaRight" fmla="*/ 507600 w 5382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06" h="21600">
                <a:moveTo>
                  <a:pt x="0" y="0"/>
                </a:moveTo>
                <a:lnTo>
                  <a:pt x="24406" y="0"/>
                </a:lnTo>
                <a:lnTo>
                  <a:pt x="24406" y="21600"/>
                </a:lnTo>
                <a:lnTo>
                  <a:pt x="0" y="21600"/>
                </a:lnTo>
                <a:close/>
              </a:path>
              <a:path fill="lightenLess" w="24406" h="21600">
                <a:moveTo>
                  <a:pt x="0" y="0"/>
                </a:moveTo>
                <a:lnTo>
                  <a:pt x="24406" y="0"/>
                </a:lnTo>
                <a:lnTo>
                  <a:pt x="23006" y="1400"/>
                </a:lnTo>
                <a:lnTo>
                  <a:pt x="1400" y="1400"/>
                </a:lnTo>
                <a:close/>
              </a:path>
              <a:path fill="darken" w="24406" h="21600">
                <a:moveTo>
                  <a:pt x="24406" y="0"/>
                </a:moveTo>
                <a:lnTo>
                  <a:pt x="24406" y="21600"/>
                </a:lnTo>
                <a:lnTo>
                  <a:pt x="23006" y="20200"/>
                </a:lnTo>
                <a:lnTo>
                  <a:pt x="23006" y="1400"/>
                </a:lnTo>
                <a:close/>
              </a:path>
              <a:path fill="darkenLess" w="24406" h="21600">
                <a:moveTo>
                  <a:pt x="244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06" y="20200"/>
                </a:lnTo>
                <a:close/>
              </a:path>
              <a:path fill="lighten" w="244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06" h="21600">
                <a:moveTo>
                  <a:pt x="5197" y="10800"/>
                </a:moveTo>
                <a:lnTo>
                  <a:pt x="19210" y="3794"/>
                </a:lnTo>
                <a:lnTo>
                  <a:pt x="19210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2">
            <a:hlinkClick r:id="" action="ppaction://hlinkshowjump?jump=nextslide"/>
          </p:cNvPr>
          <p:cNvSpPr/>
          <p:nvPr/>
        </p:nvSpPr>
        <p:spPr>
          <a:xfrm>
            <a:off x="8532720" y="6381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6852" y="3794"/>
                </a:moveTo>
                <a:lnTo>
                  <a:pt x="20865" y="10800"/>
                </a:lnTo>
                <a:lnTo>
                  <a:pt x="6852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显微镜的发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4000" y="162864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显微镜的发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认识显微镜（生物显微镜的构造与使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203640" y="3141720"/>
            <a:ext cx="187308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子显微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5651640" y="3141720"/>
            <a:ext cx="266364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扫描隧道显微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8">
            <a:hlinkClick r:id="" action="ppaction://hlinkshowjump?jump=previousslide"/>
          </p:cNvPr>
          <p:cNvSpPr/>
          <p:nvPr/>
        </p:nvSpPr>
        <p:spPr>
          <a:xfrm>
            <a:off x="8101080" y="630864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3794" y="11024"/>
                </a:moveTo>
                <a:lnTo>
                  <a:pt x="17806" y="4017"/>
                </a:lnTo>
                <a:lnTo>
                  <a:pt x="17806" y="1803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611280" y="3068640"/>
            <a:ext cx="201600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光学显微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2"/>
          <p:cNvSpPr/>
          <p:nvPr/>
        </p:nvSpPr>
        <p:spPr>
          <a:xfrm>
            <a:off x="2700360" y="3141720"/>
            <a:ext cx="431640" cy="70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3"/>
          <p:cNvSpPr/>
          <p:nvPr/>
        </p:nvSpPr>
        <p:spPr>
          <a:xfrm>
            <a:off x="5148360" y="3068640"/>
            <a:ext cx="431640" cy="84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4">
            <a:hlinkClick r:id="" action="ppaction://hlinkshowjump?jump=nextslide"/>
          </p:cNvPr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3794" y="5660"/>
                </a:moveTo>
                <a:lnTo>
                  <a:pt x="17806" y="12666"/>
                </a:lnTo>
                <a:lnTo>
                  <a:pt x="3794" y="19673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（图）扫描隧道显微镜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830240"/>
            <a:ext cx="6286680" cy="50277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6"/>
          <p:cNvSpPr/>
          <p:nvPr/>
        </p:nvSpPr>
        <p:spPr>
          <a:xfrm>
            <a:off x="2268360" y="620640"/>
            <a:ext cx="468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扫描隧道显微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372360" y="2464560"/>
            <a:ext cx="2376360" cy="23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1880" rIns="0" tIns="7128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  </a:t>
            </a:r>
            <a:r>
              <a:rPr b="0" lang="en-US" sz="9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 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 </a:t>
            </a:r>
            <a:r>
              <a:rPr b="0" lang="zh-CN" sz="2800" spc="-1" strike="noStrike" u="sng">
                <a:solidFill>
                  <a:srgbClr val="666699"/>
                </a:solidFill>
                <a:uFillTx/>
                <a:latin typeface="Arial"/>
                <a:ea typeface="lucida grande"/>
                <a:hlinkClick r:id="rId5"/>
              </a:rPr>
              <a:t>扫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隧道显微镜的</a:t>
            </a:r>
            <a:r>
              <a:rPr b="0" lang="zh-CN" sz="2800" spc="-1" strike="noStrike" u="sng">
                <a:solidFill>
                  <a:srgbClr val="666699"/>
                </a:solidFill>
                <a:uFillTx/>
                <a:latin typeface="Arial"/>
                <a:ea typeface="lucida grande"/>
                <a:hlinkClick r:id="rId6"/>
              </a:rPr>
              <a:t>英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缩写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它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世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代初期出现的一种新型表面分析工具。其基本原理是基于量子力学的隧道效应和三维扫描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9" descr="enlar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732040" y="195588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10">
            <a:hlinkClick r:id="" action="ppaction://hlinkshowjump?jump=previousslide"/>
          </p:cNvPr>
          <p:cNvSpPr/>
          <p:nvPr/>
        </p:nvSpPr>
        <p:spPr>
          <a:xfrm>
            <a:off x="802800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1">
            <a:hlinkClick r:id="" action="ppaction://hlinkshowjump?jump=next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正确使用显微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步骤的记法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979640" y="1773360"/>
            <a:ext cx="5545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放、二转、三反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四）粗调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筒载片装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五调螺旋慢慢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六）通过目镜往下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再调螺旋慢慢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直至看清该标本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七）慢慢移动载玻片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整个标本全看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1403280" y="1197000"/>
            <a:ext cx="5400720" cy="5400720"/>
          </a:xfrm>
          <a:prstGeom prst="rect">
            <a:avLst/>
          </a:prstGeom>
          <a:noFill/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6">
            <a:hlinkClick r:id="" action="ppaction://hlinkshowjump?jump=previousslide"/>
          </p:cNvPr>
          <p:cNvSpPr/>
          <p:nvPr/>
        </p:nvSpPr>
        <p:spPr>
          <a:xfrm>
            <a:off x="8244000" y="6308640"/>
            <a:ext cx="466560" cy="54936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430">
                <a:moveTo>
                  <a:pt x="0" y="0"/>
                </a:moveTo>
                <a:lnTo>
                  <a:pt x="21600" y="0"/>
                </a:lnTo>
                <a:lnTo>
                  <a:pt x="21600" y="25430"/>
                </a:lnTo>
                <a:lnTo>
                  <a:pt x="0" y="25430"/>
                </a:lnTo>
                <a:close/>
              </a:path>
              <a:path fill="lightenLess" w="21600" h="254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430">
                <a:moveTo>
                  <a:pt x="21600" y="0"/>
                </a:moveTo>
                <a:lnTo>
                  <a:pt x="21600" y="25430"/>
                </a:lnTo>
                <a:lnTo>
                  <a:pt x="20200" y="24030"/>
                </a:lnTo>
                <a:lnTo>
                  <a:pt x="20200" y="1400"/>
                </a:lnTo>
                <a:close/>
              </a:path>
              <a:path fill="darkenLess" w="21600" h="25430">
                <a:moveTo>
                  <a:pt x="21600" y="25430"/>
                </a:moveTo>
                <a:lnTo>
                  <a:pt x="0" y="25430"/>
                </a:lnTo>
                <a:lnTo>
                  <a:pt x="1400" y="24030"/>
                </a:lnTo>
                <a:lnTo>
                  <a:pt x="20200" y="24030"/>
                </a:lnTo>
                <a:close/>
              </a:path>
              <a:path fill="lighten" w="21600" h="25430">
                <a:moveTo>
                  <a:pt x="0" y="2543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030"/>
                </a:lnTo>
                <a:close/>
              </a:path>
              <a:path fill="darken" w="21600" h="25430">
                <a:moveTo>
                  <a:pt x="3794" y="12715"/>
                </a:moveTo>
                <a:lnTo>
                  <a:pt x="17806" y="5709"/>
                </a:lnTo>
                <a:lnTo>
                  <a:pt x="17806" y="19722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8">
            <a:hlinkClick r:id="" action="ppaction://hlinkshowjump?jump=firstslide"/>
          </p:cNvPr>
          <p:cNvSpPr/>
          <p:nvPr/>
        </p:nvSpPr>
        <p:spPr>
          <a:xfrm>
            <a:off x="8748720" y="6308640"/>
            <a:ext cx="395280" cy="54936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549360"/>
              <a:gd name="textAreaBottom" fmla="*/ 523800 h 549360"/>
            </a:gdLst>
            <a:ahLst/>
            <a:rect l="textAreaLeft" t="textAreaTop" r="textAreaRight" b="textAreaBottom"/>
            <a:pathLst>
              <a:path w="21600" h="30012">
                <a:moveTo>
                  <a:pt x="0" y="0"/>
                </a:moveTo>
                <a:lnTo>
                  <a:pt x="21600" y="0"/>
                </a:lnTo>
                <a:lnTo>
                  <a:pt x="21600" y="30012"/>
                </a:lnTo>
                <a:lnTo>
                  <a:pt x="0" y="30012"/>
                </a:lnTo>
                <a:close/>
              </a:path>
              <a:path fill="lightenLess" w="21600" h="300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012">
                <a:moveTo>
                  <a:pt x="21600" y="0"/>
                </a:moveTo>
                <a:lnTo>
                  <a:pt x="21600" y="30012"/>
                </a:lnTo>
                <a:lnTo>
                  <a:pt x="20200" y="28612"/>
                </a:lnTo>
                <a:lnTo>
                  <a:pt x="20200" y="1400"/>
                </a:lnTo>
                <a:close/>
              </a:path>
              <a:path fill="darkenLess" w="21600" h="30012">
                <a:moveTo>
                  <a:pt x="21600" y="30012"/>
                </a:moveTo>
                <a:lnTo>
                  <a:pt x="0" y="30012"/>
                </a:lnTo>
                <a:lnTo>
                  <a:pt x="1400" y="28612"/>
                </a:lnTo>
                <a:lnTo>
                  <a:pt x="20200" y="28612"/>
                </a:lnTo>
                <a:close/>
              </a:path>
              <a:path fill="lighten" w="21600" h="30012">
                <a:moveTo>
                  <a:pt x="0" y="300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8612"/>
                </a:lnTo>
                <a:close/>
              </a:path>
              <a:path fill="darken" w="21600" h="30012">
                <a:moveTo>
                  <a:pt x="10800" y="8043"/>
                </a:moveTo>
                <a:lnTo>
                  <a:pt x="13376" y="10654"/>
                </a:ln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lnTo>
                  <a:pt x="17763" y="15006"/>
                </a:lnTo>
                <a:lnTo>
                  <a:pt x="16109" y="15006"/>
                </a:lnTo>
                <a:lnTo>
                  <a:pt x="16109" y="22195"/>
                </a:lnTo>
                <a:lnTo>
                  <a:pt x="5491" y="22195"/>
                </a:lnTo>
                <a:lnTo>
                  <a:pt x="5491" y="15006"/>
                </a:lnTo>
                <a:lnTo>
                  <a:pt x="3837" y="15006"/>
                </a:lnTo>
                <a:close/>
              </a:path>
              <a:path fill="darkenLess" w="21600" h="30012">
                <a:moveTo>
                  <a:pt x="13376" y="10654"/>
                </a:move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close/>
              </a:path>
              <a:path fill="darkenLess" w="21600" h="30012">
                <a:moveTo>
                  <a:pt x="9877" y="18505"/>
                </a:moveTo>
                <a:lnTo>
                  <a:pt x="11723" y="18505"/>
                </a:lnTo>
                <a:lnTo>
                  <a:pt x="11723" y="22195"/>
                </a:lnTo>
                <a:lnTo>
                  <a:pt x="16109" y="22195"/>
                </a:lnTo>
                <a:lnTo>
                  <a:pt x="16109" y="15006"/>
                </a:lnTo>
                <a:lnTo>
                  <a:pt x="5491" y="15006"/>
                </a:lnTo>
                <a:lnTo>
                  <a:pt x="5491" y="22195"/>
                </a:lnTo>
                <a:lnTo>
                  <a:pt x="9877" y="22195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个凸透镜的放大倍数是有限的，怎样才能把物体放得更大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a517c755ee731484b745aeb7"/>
          <p:cNvPicPr/>
          <p:nvPr/>
        </p:nvPicPr>
        <p:blipFill>
          <a:blip r:embed="rId1"/>
          <a:stretch/>
        </p:blipFill>
        <p:spPr>
          <a:xfrm>
            <a:off x="5867280" y="3141720"/>
            <a:ext cx="2454480" cy="306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492360" y="1267920"/>
            <a:ext cx="417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做个简易显微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8360" y="378936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找两个放大倍数不同的凸透镜，调整它们之间的距离来观察物体，直到看得最清楚为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未标题-3"/>
          <p:cNvPicPr/>
          <p:nvPr/>
        </p:nvPicPr>
        <p:blipFill>
          <a:blip r:embed="rId1"/>
          <a:stretch/>
        </p:blipFill>
        <p:spPr>
          <a:xfrm>
            <a:off x="468360" y="765000"/>
            <a:ext cx="2700360" cy="27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00:52:5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0:19Z</dcterms:modified>
  <cp:revision>1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