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787-F396-4450-8BFF-B0BDFBA8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558-F49F-46C7-83E7-764C306C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D68-B1B5-4BC6-9802-8D51E5F4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05D-8FC7-4A40-B640-010C6CF6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88B-7135-414C-97E0-FFB780D2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1C1-C2AE-4963-B5CC-1BCDAF0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DFBD-3044-48BD-9C32-FC4FD97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719-4757-49D3-8397-D261F002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996-6422-44F0-BBCA-BEA6E5E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E788-FC84-4CB3-9997-B1D354B9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FF7-AC0B-4456-B615-B02AB6D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AC7-8FCB-4C5D-95E6-9B88348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E86A-17A6-461C-BFA9-0AA1362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A41-9FF1-4538-9D25-D11958B5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D6A2-A2AA-4376-88F1-392A717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C6E-56FA-4AF9-8D79-8081A27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A0F5-1A03-425D-AC27-C79F2264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0033-B9B0-4F5C-90B8-0AC5634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3B26-8B18-4750-A703-AC76B99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F466-FFC9-46A9-9D5B-5F8BB186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D67B-D908-4E98-B84B-DD14745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4458-C247-425F-9009-59D45D67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A29-D00E-4905-B9BF-89770B0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414C-BFE7-41C4-949A-C66E5AA9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BD9E-441C-4489-93B1-C8A70DD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AA94-E186-474B-81AA-3E9F8E7A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FE42-3790-420C-B944-EA57A94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F693-ACA7-4767-A208-DC58F71A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D622-6103-4B94-827A-9432FA49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3858-CB4C-44E3-925B-07F98C44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A5C-3A93-4C31-8767-7C40F7E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ECF-7A4C-46C0-AA8E-E75A31CE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73D-247F-4320-8B7C-6265EFD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7CF-50CE-457C-9F4B-6E46FD8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61C-8C9F-4596-B26E-265E40EA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38F-937F-4B24-BE88-EF280EDE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44D-F402-4C86-9C52-6DE764E6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BAD0-205A-464F-8537-F332E6B3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AF58-9588-409C-8B89-A4989626F8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1839960" y="981000"/>
            <a:ext cx="52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课  在承担责任中成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725920" y="1908000"/>
            <a:ext cx="36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做一个负责任的公民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042920" y="2924280"/>
            <a:ext cx="700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承认错误  勇担过错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00280" y="5016600"/>
            <a:ext cx="76579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许苇承担了哪些责任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哪些责任是她被动承担的？哪些责任是她主动承担的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她怎样才能享受到承担责任的快乐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半透明条"/>
          <p:cNvPicPr/>
          <p:nvPr/>
        </p:nvPicPr>
        <p:blipFill>
          <a:blip r:embed="rId2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：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截图-许苇"/>
          <p:cNvPicPr/>
          <p:nvPr/>
        </p:nvPicPr>
        <p:blipFill>
          <a:blip r:embed="rId3"/>
          <a:stretch/>
        </p:blipFill>
        <p:spPr>
          <a:xfrm>
            <a:off x="2057400" y="1257480"/>
            <a:ext cx="5029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365120" y="2924280"/>
            <a:ext cx="63756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、自觉担责  享受快乐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半透明条"/>
          <p:cNvPicPr/>
          <p:nvPr/>
        </p:nvPicPr>
        <p:blipFill>
          <a:blip r:embed="rId2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：学会反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自己的责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2057400"/>
          <a:ext cx="8534160" cy="3475080"/>
        </p:xfrm>
        <a:graphic>
          <a:graphicData uri="http://schemas.openxmlformats.org/drawingml/2006/table">
            <a:tbl>
              <a:tblPr/>
              <a:tblGrid>
                <a:gridCol w="1218960"/>
                <a:gridCol w="3886200"/>
                <a:gridCol w="3429000"/>
              </a:tblGrid>
              <a:tr h="6858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责    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我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学  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家  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班集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社  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0B5-4A0C-4044-B2C6-0A620B3B6D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666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自己的责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057400"/>
          <a:ext cx="8534160" cy="3475080"/>
        </p:xfrm>
        <a:graphic>
          <a:graphicData uri="http://schemas.openxmlformats.org/drawingml/2006/table">
            <a:tbl>
              <a:tblPr/>
              <a:tblGrid>
                <a:gridCol w="1218960"/>
                <a:gridCol w="3886200"/>
                <a:gridCol w="3429000"/>
              </a:tblGrid>
              <a:tr h="68580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责    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我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1872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学  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认真学习，独立完成作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学习积极性、主动性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家  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尊敬长辈、孝敬父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主动承担子女的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班集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积极完成值日等班级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集体荣誉感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社  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遵纪守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做一个合格的公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cc33"/>
                      </a:solidFill>
                    </a:lnL>
                    <a:lnR w="1872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1872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导入新课"/>
          <p:cNvPicPr/>
          <p:nvPr/>
        </p:nvPicPr>
        <p:blipFill>
          <a:blip r:embed="rId2"/>
          <a:stretch/>
        </p:blipFill>
        <p:spPr>
          <a:xfrm>
            <a:off x="291960" y="152280"/>
            <a:ext cx="2044800" cy="584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1066680" y="977760"/>
            <a:ext cx="65534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心理小测试：我是一个有责任感的人吗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（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来回答以下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个问题。）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520560" y="1955880"/>
            <a:ext cx="80773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做事总是非常认真，哪怕让人感觉有点过分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和别的小朋友约好一起玩，我总是准时赴约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做事一向善始善终，有头有尾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论做什么事情，别人都很信任我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认为每一天自己都是进步和发展的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经常把事情拖到最后一刻才做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有时候会有放任自流的想法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专心致志地做一件事，如果时间持续很长，对我来说就很困难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需要很长时间的准备才能开始做一件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常常会忘了需要我做的小事情。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19040" y="1447920"/>
            <a:ext cx="8242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或者玩游戏，别人都很难和我步调一致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喜欢评论和批评别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别人以为我是一个懒散的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只要我答应做某件事情，不管过程有多麻烦，或者有很多变故，我总会努力实践诺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有时候做事情，我会想马马虎虎混过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老实说，我比其他人都更守诺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需要在早上很早起床，我会上好闹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参加任何选举，我都不在乎自己得到的票数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街上，我不会随地乱扔垃圾，一定要找到垃圾箱才扔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有时候会装病，用来逃课或者逃避玩讨厌的游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49160" y="182880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注意：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，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：你是一个非常有责任感的人，你行事谨慎、懂礼貌、为人诚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：大多数情况下，你很有责任感，但有时没有考虑得很周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总分为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以下：是一个完全不负责任的人，会造成人际关系的紧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187280" y="2924280"/>
            <a:ext cx="6624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、慎重许诺  履行诺言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73200" y="505476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商场送货工不能按时送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商场送货工准时把电视机送到而刘汀家没人等候，那么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有没有两全其美的办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截图-许诺"/>
          <p:cNvPicPr/>
          <p:nvPr/>
        </p:nvPicPr>
        <p:blipFill>
          <a:blip r:embed="rId2"/>
          <a:stretch/>
        </p:blipFill>
        <p:spPr>
          <a:xfrm>
            <a:off x="2463840" y="1752480"/>
            <a:ext cx="4241880" cy="2892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半透明条"/>
          <p:cNvPicPr/>
          <p:nvPr/>
        </p:nvPicPr>
        <p:blipFill>
          <a:blip r:embed="rId3"/>
          <a:stretch/>
        </p:blipFill>
        <p:spPr>
          <a:xfrm>
            <a:off x="304920" y="100332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609480" y="113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一：请你帮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新课教学"/>
          <p:cNvPicPr/>
          <p:nvPr/>
        </p:nvPicPr>
        <p:blipFill>
          <a:blip r:embed="rId4"/>
          <a:stretch/>
        </p:blipFill>
        <p:spPr>
          <a:xfrm>
            <a:off x="279360" y="152280"/>
            <a:ext cx="2044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851040" y="1447920"/>
            <a:ext cx="7543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我们要慎重许诺，一旦许诺，坚决履行诺言，做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言必信，行必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，这是对自己和他人负责任的表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23960" y="293364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生日常行为规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定：诚实守信，言行一致，答应他人的事要做到，做不到时表示歉意，借他人钱物要及时归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4724280"/>
            <a:ext cx="86043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她为什么陷入矛盾之中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如果你是她，你该怎么办呢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你是如何对待自己的错误的？是勇敢认错，还是逃避责任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幼圆"/>
                <a:ea typeface="幼圆"/>
              </a:rPr>
              <a:t>）你有过勇敢认错的经历吗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截图-小玉"/>
          <p:cNvPicPr/>
          <p:nvPr/>
        </p:nvPicPr>
        <p:blipFill>
          <a:blip r:embed="rId2"/>
          <a:stretch/>
        </p:blipFill>
        <p:spPr>
          <a:xfrm>
            <a:off x="1905120" y="1066680"/>
            <a:ext cx="5333760" cy="326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半透明条"/>
          <p:cNvPicPr/>
          <p:nvPr/>
        </p:nvPicPr>
        <p:blipFill>
          <a:blip r:embed="rId3"/>
          <a:stretch/>
        </p:blipFill>
        <p:spPr>
          <a:xfrm>
            <a:off x="304920" y="50760"/>
            <a:ext cx="3276360" cy="728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609480" y="177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二：各抒己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74720" y="1447920"/>
            <a:ext cx="7696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当我们做错事时，承认错误是一种负责任的表现，而承担错误所造成的后果则更能考验我们的勇气和道德修养。错了，就要勇于承认，并承担相应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23960" y="358128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生日常行为规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定：不说谎，不骗人，不弄虚作假，知错就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17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0Z</dcterms:modified>
  <cp:revision>5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