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96C-EB3D-47DE-B8DC-D24396B4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BE3-B094-404F-9C1B-6D230D6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237-9C5B-432A-9277-42D1EEE4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78-D2D2-4FDA-8CE5-D8D2CDAD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7FE-FC3E-4D2C-9670-97B63848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928E-0E1F-40D7-8E91-27EE85E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4EF5-8B6A-4932-A21C-2A64214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51C2-5FD2-4C32-97AF-5AB658C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3BA8-49D1-4FEE-A10A-9E1B5CA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E987-C79C-4AE0-970F-1424582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7C5-C81F-4C3C-89F1-189F2A2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F56-B92D-47F3-B777-D4B3A34B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65E3-094A-41C0-AFB7-086C69C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FBF-FA92-4E0A-9021-F88498D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383-D3FC-4FC5-A817-602D710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BB43-75D2-4A8C-9B55-59A3B165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E729-6F2F-4DD8-BB57-4AF9746D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901-AAEA-4F68-98E4-E6CCF3B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4FA-BA41-4E14-9DBF-B5C3431E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45F-780F-4AF3-AE57-77D6EA0D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6A9-DAEA-4853-98FB-D7FC149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1C8-3B60-445E-9E9E-A12108B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C52-60D3-474D-8251-E5A9EA5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0CB-2635-4D55-836F-2821264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8BC-E37D-4757-B853-F3E0D087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9D3-D793-46B6-8BCF-36C9894412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背景2"/>
          <p:cNvPicPr/>
          <p:nvPr/>
        </p:nvPicPr>
        <p:blipFill>
          <a:blip r:embed="rId1"/>
          <a:stretch/>
        </p:blipFill>
        <p:spPr>
          <a:xfrm>
            <a:off x="2340000" y="2236680"/>
            <a:ext cx="6804000" cy="760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340000" y="226692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一个钟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2"/>
          <a:stretch/>
        </p:blipFill>
        <p:spPr>
          <a:xfrm>
            <a:off x="7020000" y="5373720"/>
            <a:ext cx="86364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41183525372_2"/>
          <p:cNvPicPr/>
          <p:nvPr/>
        </p:nvPicPr>
        <p:blipFill>
          <a:blip r:embed="rId3"/>
          <a:stretch/>
        </p:blipFill>
        <p:spPr>
          <a:xfrm>
            <a:off x="0" y="907920"/>
            <a:ext cx="2340000" cy="540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00841183525372_2"/>
          <p:cNvPicPr/>
          <p:nvPr/>
        </p:nvPicPr>
        <p:blipFill>
          <a:blip r:embed="rId4"/>
          <a:stretch/>
        </p:blipFill>
        <p:spPr>
          <a:xfrm>
            <a:off x="8028000" y="5373720"/>
            <a:ext cx="863640" cy="865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4737240" y="907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科版五年级科学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观察到了什么变化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固定磁铁后，摆动变慢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怎样解释这种变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摆绳长度？摆锤长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磁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979640" y="4941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位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磁铁的位置不同，对摆动快慢有影响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332080"/>
            <a:ext cx="433080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实验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要改变的条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95640" y="24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比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619280" y="3933720"/>
            <a:ext cx="67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磁铁位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把磁铁固定在离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052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磁铁固定在离顶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，观察并记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内摆动次数，重复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相同方法，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摆动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实验完成，停摆，整理分析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150920" y="3933720"/>
            <a:ext cx="6842160" cy="2230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2738520" y="1212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05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的发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变摆锤上磁铁的位置可以改变摆动快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摆锤上的磁铁离固定点越近，摆动越快；反之，摆动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26920" y="43657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长：固定点到重心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1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的摆动快慢与摆长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一个摆，摆长越长，摆动越慢，摆长越短摆动越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D000-CF12-454D-A840-7E1CDC01D1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个“钟摆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628280"/>
            <a:ext cx="87120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上面的钢条、磁铁，做一个每分钟正好摆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的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根据数据预测摆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节省时间，先调整到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摆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实验完成，举手示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伽利略"/>
          <p:cNvPicPr/>
          <p:nvPr/>
        </p:nvPicPr>
        <p:blipFill>
          <a:blip r:embed="rId1"/>
          <a:stretch/>
        </p:blipFill>
        <p:spPr>
          <a:xfrm>
            <a:off x="468360" y="1268280"/>
            <a:ext cx="3627360" cy="453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伽利略灯"/>
          <p:cNvPicPr/>
          <p:nvPr/>
        </p:nvPicPr>
        <p:blipFill>
          <a:blip r:embed="rId2"/>
          <a:stretch/>
        </p:blipFill>
        <p:spPr>
          <a:xfrm>
            <a:off x="4716360" y="1341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6021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82-158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意大利物理学家伽利略发现了摆的等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14979600" y="6237360"/>
            <a:ext cx="14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56-1657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荷兰物理学家和天文学家惠更斯利用伽利略摆的等时性原理，发明了第一个摆钟。后经不断改进，一直沿用至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惠更斯"/>
          <p:cNvPicPr/>
          <p:nvPr/>
        </p:nvPicPr>
        <p:blipFill>
          <a:blip r:embed="rId1"/>
          <a:stretch/>
        </p:blipFill>
        <p:spPr>
          <a:xfrm>
            <a:off x="324000" y="1195560"/>
            <a:ext cx="3600360" cy="46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惠更斯的摆钟"/>
          <p:cNvPicPr/>
          <p:nvPr/>
        </p:nvPicPr>
        <p:blipFill>
          <a:blip r:embed="rId2"/>
          <a:stretch/>
        </p:blipFill>
        <p:spPr>
          <a:xfrm>
            <a:off x="4067280" y="1079640"/>
            <a:ext cx="4787640" cy="479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摆钟3"/>
          <p:cNvPicPr/>
          <p:nvPr/>
        </p:nvPicPr>
        <p:blipFill>
          <a:blip r:embed="rId3"/>
          <a:stretch/>
        </p:blipFill>
        <p:spPr>
          <a:xfrm>
            <a:off x="3297240" y="979560"/>
            <a:ext cx="2786040" cy="4970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摆钟3"/>
          <p:cNvPicPr/>
          <p:nvPr/>
        </p:nvPicPr>
        <p:blipFill>
          <a:blip r:embed="rId4"/>
          <a:stretch/>
        </p:blipFill>
        <p:spPr>
          <a:xfrm>
            <a:off x="3348000" y="1052640"/>
            <a:ext cx="2736720" cy="48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摆钟"/>
          <p:cNvPicPr/>
          <p:nvPr/>
        </p:nvPicPr>
        <p:blipFill>
          <a:blip r:embed="rId5"/>
          <a:stretch/>
        </p:blipFill>
        <p:spPr>
          <a:xfrm>
            <a:off x="3348000" y="1052640"/>
            <a:ext cx="2735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9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9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9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2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42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35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5E-006 1.32948E-006 L -0.33056 1.32948E-006 E">
                                      <p:cBhvr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1.38889E-006 3.4104E-006 L 0.29913 3.4104E-006 E">
                                      <p:cBhvr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摆钟落地式"/>
          <p:cNvPicPr/>
          <p:nvPr/>
        </p:nvPicPr>
        <p:blipFill>
          <a:blip r:embed="rId1"/>
          <a:stretch/>
        </p:blipFill>
        <p:spPr>
          <a:xfrm>
            <a:off x="611280" y="1125360"/>
            <a:ext cx="1944720" cy="506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3203640" y="2205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台计时准确的机械摆钟，它的钟摆每分钟来回摆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059280" y="436572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也来做一个钟摆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5" descr=""/>
          <p:cNvPicPr/>
          <p:nvPr/>
        </p:nvPicPr>
        <p:blipFill>
          <a:blip r:embed="rId1"/>
          <a:stretch/>
        </p:blipFill>
        <p:spPr>
          <a:xfrm>
            <a:off x="430200" y="692280"/>
            <a:ext cx="8713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摆的快慢与什么因素有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的摆动快慢与摆绳的长度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一个摆，摆绳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动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摆绳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动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的快慢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摆锤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摆动幅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9"/>
          <p:cNvSpPr/>
          <p:nvPr/>
        </p:nvSpPr>
        <p:spPr>
          <a:xfrm>
            <a:off x="1339920" y="126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0840" y="765000"/>
            <a:ext cx="884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两个摆每分钟摆动次数一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442880" y="1916280"/>
            <a:ext cx="6256440" cy="4194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4"/>
          <p:cNvGrpSpPr/>
          <p:nvPr/>
        </p:nvGrpSpPr>
        <p:grpSpPr>
          <a:xfrm>
            <a:off x="1701720" y="2365200"/>
            <a:ext cx="1214640" cy="1981440"/>
            <a:chOff x="1701720" y="2365200"/>
            <a:chExt cx="1214640" cy="1981440"/>
          </a:xfrm>
        </p:grpSpPr>
        <p:sp>
          <p:nvSpPr>
            <p:cNvPr id="110" name="AutoShape 6"/>
            <p:cNvSpPr/>
            <p:nvPr/>
          </p:nvSpPr>
          <p:spPr>
            <a:xfrm>
              <a:off x="2771640" y="2365200"/>
              <a:ext cx="144720" cy="19814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1701720" y="2995560"/>
              <a:ext cx="1033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4906800" y="2438280"/>
            <a:ext cx="1105200" cy="1981440"/>
            <a:chOff x="4906800" y="2438280"/>
            <a:chExt cx="1105200" cy="1981440"/>
          </a:xfrm>
        </p:grpSpPr>
        <p:sp>
          <p:nvSpPr>
            <p:cNvPr id="113" name="AutoShape 7"/>
            <p:cNvSpPr/>
            <p:nvPr/>
          </p:nvSpPr>
          <p:spPr>
            <a:xfrm>
              <a:off x="5867280" y="2438280"/>
              <a:ext cx="144720" cy="19814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906800" y="3049560"/>
              <a:ext cx="1033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761480" y="4508640"/>
            <a:ext cx="1081800" cy="1153800"/>
            <a:chOff x="1761480" y="4508640"/>
            <a:chExt cx="1081800" cy="1153800"/>
          </a:xfrm>
        </p:grpSpPr>
        <p:sp>
          <p:nvSpPr>
            <p:cNvPr id="116" name="AutoShape 8"/>
            <p:cNvSpPr/>
            <p:nvPr/>
          </p:nvSpPr>
          <p:spPr>
            <a:xfrm>
              <a:off x="2627280" y="4508640"/>
              <a:ext cx="216000" cy="11538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9880 h 1153800"/>
                <a:gd name="textAreaBottom" fmla="*/ 1123920 h 11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2"/>
            <p:cNvSpPr/>
            <p:nvPr/>
          </p:nvSpPr>
          <p:spPr>
            <a:xfrm>
              <a:off x="1761480" y="4724280"/>
              <a:ext cx="911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4930200" y="4437000"/>
            <a:ext cx="1010160" cy="792360"/>
            <a:chOff x="4930200" y="4437000"/>
            <a:chExt cx="1010160" cy="792360"/>
          </a:xfrm>
        </p:grpSpPr>
        <p:sp>
          <p:nvSpPr>
            <p:cNvPr id="119" name="AutoShape 9"/>
            <p:cNvSpPr/>
            <p:nvPr/>
          </p:nvSpPr>
          <p:spPr>
            <a:xfrm>
              <a:off x="5796000" y="4508640"/>
              <a:ext cx="144360" cy="57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4930200" y="4437000"/>
              <a:ext cx="911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3"/>
          <p:cNvSpPr/>
          <p:nvPr/>
        </p:nvSpPr>
        <p:spPr>
          <a:xfrm>
            <a:off x="7412400" y="249228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摆长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摆锤"/>
          <p:cNvPicPr/>
          <p:nvPr/>
        </p:nvPicPr>
        <p:blipFill>
          <a:blip r:embed="rId1"/>
          <a:stretch/>
        </p:blipFill>
        <p:spPr>
          <a:xfrm>
            <a:off x="1547640" y="345960"/>
            <a:ext cx="4824720" cy="6166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13360" y="2060640"/>
            <a:ext cx="1033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摆锤下端的金属圆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摆锤上固定一块磁铁，这个摆的摆动会变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915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观察并记录它们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内分别摆动多少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重复测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实验完成，停摆，整理分析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4005360"/>
          <a:ext cx="8002440" cy="2120760"/>
        </p:xfrm>
        <a:graphic>
          <a:graphicData uri="http://schemas.openxmlformats.org/drawingml/2006/table">
            <a:tbl>
              <a:tblPr/>
              <a:tblGrid>
                <a:gridCol w="2668680"/>
                <a:gridCol w="2665440"/>
                <a:gridCol w="266832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磁铁的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磁铁的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2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1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