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E294-A809-4CD0-9CB8-001FE5F4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C417-F089-4FB2-B3E4-34A28074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28C-940B-4659-B003-AC96CC84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425A-AC13-4A35-A494-00E6CF4B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6822-DDEB-477A-9B8F-4AB6547A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32AF-C385-400B-90A4-F602FCA0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001B-A06E-4102-A5DD-230E99C7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A39E-66DE-47FF-8EA3-E4CD2823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6CAC-A47B-4F78-835D-1A52CDAF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BBE5-9C2A-4508-AA31-61FC6BCF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8F53-9589-4E20-B8D0-ADB426F2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2AD9-3F99-44AA-B936-02578E87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B74A-D9BA-4BC3-8705-5D9EDCD9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E04D-D64E-4844-B2F2-C60A0C60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BB19-158A-4CDB-8FB6-768A2920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826E-86F1-479B-B9CC-F5229B76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1F3A-A8C4-4195-9421-A839FCF5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F4EF-2FC4-419B-BE7C-AD2C2293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51D2-9AA3-45C2-A6C5-713F43E0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45C3-B30B-4B88-91D6-8E7B590A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9E11-E79A-4C80-84FE-2607ED4F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529A-D286-4911-A436-5BA0B686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1DFA-ABFD-4C74-B4EA-1692E46F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64E-9532-4977-9A3D-97088EAB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0F9A-03F3-4B1A-9C3F-68B28F168A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A05B-D4A8-4B3A-9FF8-E666578F16F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3720" y="16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做一个指南针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2" descr=""/>
          <p:cNvPicPr/>
          <p:nvPr/>
        </p:nvPicPr>
        <p:blipFill>
          <a:blip r:embed="rId1"/>
          <a:stretch/>
        </p:blipFill>
        <p:spPr>
          <a:xfrm>
            <a:off x="868320" y="3068640"/>
            <a:ext cx="3889440" cy="27226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5" descr=""/>
          <p:cNvPicPr/>
          <p:nvPr/>
        </p:nvPicPr>
        <p:blipFill>
          <a:blip r:embed="rId2"/>
          <a:stretch/>
        </p:blipFill>
        <p:spPr>
          <a:xfrm>
            <a:off x="4788000" y="3068640"/>
            <a:ext cx="3632040" cy="27226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3381480" y="6922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科版三年级科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611280" y="187200"/>
            <a:ext cx="813744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40000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140000"/>
                </a:solidFill>
                <a:latin typeface="Verdana"/>
              </a:rPr>
              <a:t>安装磁针，开动脑筋，设计自己的指南针，合作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40000"/>
                </a:solidFill>
                <a:latin typeface="Verdana"/>
              </a:rPr>
              <a:t>想一想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0000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140000"/>
                </a:solidFill>
                <a:latin typeface="Verdana"/>
              </a:rPr>
              <a:t>、怎样才能让磁针自由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转动</a:t>
            </a:r>
            <a:r>
              <a:rPr b="1" lang="zh-CN" sz="3200" spc="-1" strike="noStrike">
                <a:solidFill>
                  <a:srgbClr val="140000"/>
                </a:solidFill>
                <a:latin typeface="Verdana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0000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140000"/>
                </a:solidFill>
                <a:latin typeface="Verdana"/>
              </a:rPr>
              <a:t>、怎样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表示磁针</a:t>
            </a:r>
            <a:r>
              <a:rPr b="1" lang="zh-CN" sz="3200" spc="-1" strike="noStrike">
                <a:solidFill>
                  <a:srgbClr val="140000"/>
                </a:solidFill>
                <a:latin typeface="Verdana"/>
              </a:rPr>
              <a:t>的南极和北极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0000"/>
                </a:solidFill>
                <a:latin typeface="Verdana"/>
              </a:rPr>
              <a:t>3</a:t>
            </a:r>
            <a:r>
              <a:rPr b="1" lang="zh-CN" sz="3200" spc="-1" strike="noStrike">
                <a:solidFill>
                  <a:srgbClr val="140000"/>
                </a:solidFill>
                <a:latin typeface="Verdana"/>
              </a:rPr>
              <a:t>、安装完磁针后，要进行检查和调整，试一试，能不能指示方向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未命名"/>
          <p:cNvPicPr/>
          <p:nvPr/>
        </p:nvPicPr>
        <p:blipFill>
          <a:blip r:embed="rId1"/>
          <a:stretch/>
        </p:blipFill>
        <p:spPr>
          <a:xfrm>
            <a:off x="1979640" y="476280"/>
            <a:ext cx="5400720" cy="56894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4068720" y="3286080"/>
            <a:ext cx="336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判断南北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435640" y="404640"/>
            <a:ext cx="2881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20120509288"/>
          <p:cNvPicPr/>
          <p:nvPr/>
        </p:nvPicPr>
        <p:blipFill>
          <a:blip r:embed="rId1"/>
          <a:stretch/>
        </p:blipFill>
        <p:spPr>
          <a:xfrm>
            <a:off x="4861080" y="1270080"/>
            <a:ext cx="4038480" cy="22701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5003640" y="3789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拿一块磁铁的磁极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去</a:t>
            </a:r>
            <a:r>
              <a:rPr b="1" i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慢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靠近小磁针的一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003640" y="5229360"/>
            <a:ext cx="32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依据：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两块磁铁靠近时，同极相斥异极相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739160" y="476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方法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20120509283"/>
          <p:cNvPicPr/>
          <p:nvPr/>
        </p:nvPicPr>
        <p:blipFill>
          <a:blip r:embed="rId2"/>
          <a:stretch/>
        </p:blipFill>
        <p:spPr>
          <a:xfrm>
            <a:off x="179280" y="1270080"/>
            <a:ext cx="4038840" cy="22701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8"/>
          <p:cNvSpPr/>
          <p:nvPr/>
        </p:nvSpPr>
        <p:spPr>
          <a:xfrm>
            <a:off x="324000" y="3860640"/>
            <a:ext cx="38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让磁针能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水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由转动，看静止时的位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395280" y="530208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依据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磁铁静止时能指南北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1476360" y="2709720"/>
            <a:ext cx="19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调平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QQ截图20120509103821"/>
          <p:cNvPicPr/>
          <p:nvPr/>
        </p:nvPicPr>
        <p:blipFill>
          <a:blip r:embed="rId1"/>
          <a:stretch/>
        </p:blipFill>
        <p:spPr>
          <a:xfrm>
            <a:off x="1116000" y="404640"/>
            <a:ext cx="2303640" cy="1951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QQ截图20120509103758"/>
          <p:cNvPicPr/>
          <p:nvPr/>
        </p:nvPicPr>
        <p:blipFill>
          <a:blip r:embed="rId2"/>
          <a:stretch/>
        </p:blipFill>
        <p:spPr>
          <a:xfrm>
            <a:off x="1116000" y="2637000"/>
            <a:ext cx="2028960" cy="1645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未命名2"/>
          <p:cNvPicPr/>
          <p:nvPr/>
        </p:nvPicPr>
        <p:blipFill>
          <a:blip r:embed="rId3"/>
          <a:stretch/>
        </p:blipFill>
        <p:spPr>
          <a:xfrm>
            <a:off x="1260360" y="4292640"/>
            <a:ext cx="1711440" cy="14223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5219640" y="765000"/>
            <a:ext cx="13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悬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5292720" y="3070080"/>
            <a:ext cx="13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水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5405760" y="4941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支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未命名3"/>
          <p:cNvPicPr/>
          <p:nvPr/>
        </p:nvPicPr>
        <p:blipFill>
          <a:blip r:embed="rId4"/>
          <a:stretch/>
        </p:blipFill>
        <p:spPr>
          <a:xfrm>
            <a:off x="1295280" y="1101600"/>
            <a:ext cx="17622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54EE-E1B5-4791-8A03-3E4238443E3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250920" y="260280"/>
            <a:ext cx="410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法官“判一判”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612720" y="1701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用磁铁摩擦钢针比摩擦铁钉、铁片具有的磁性更强一点                             （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2560" y="2990880"/>
            <a:ext cx="741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塑料笔杆经过摩擦可以制成磁铁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11280" y="4363920"/>
            <a:ext cx="741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小磁针只有能自由转动时才能指示方向（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661080" y="2133720"/>
            <a:ext cx="9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1403280" y="4869000"/>
            <a:ext cx="9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1187280" y="3500280"/>
            <a:ext cx="9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158480" y="765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標楷體"/>
                <a:ea typeface="標楷體"/>
              </a:rPr>
              <a:t>复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85800" y="1860480"/>
            <a:ext cx="360" cy="4496040"/>
            <a:chOff x="685800" y="1860480"/>
            <a:chExt cx="360" cy="4496040"/>
          </a:xfrm>
        </p:grpSpPr>
        <p:sp>
          <p:nvSpPr>
            <p:cNvPr id="89" name="Line 3"/>
            <p:cNvSpPr/>
            <p:nvPr/>
          </p:nvSpPr>
          <p:spPr>
            <a:xfrm>
              <a:off x="685800" y="1860480"/>
              <a:ext cx="0" cy="4496040"/>
            </a:xfrm>
            <a:prstGeom prst="line">
              <a:avLst/>
            </a:prstGeom>
            <a:ln cap="sq" w="38160">
              <a:solidFill>
                <a:srgbClr val="009900"/>
              </a:solidFill>
              <a:round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685800" y="1860480"/>
              <a:ext cx="360" cy="449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4"/>
          <p:cNvGrpSpPr/>
          <p:nvPr/>
        </p:nvGrpSpPr>
        <p:grpSpPr>
          <a:xfrm>
            <a:off x="814320" y="1512720"/>
            <a:ext cx="7985160" cy="3933360"/>
            <a:chOff x="814320" y="1512720"/>
            <a:chExt cx="7985160" cy="3933360"/>
          </a:xfrm>
        </p:grpSpPr>
        <p:sp>
          <p:nvSpPr>
            <p:cNvPr id="92" name="Text Box 5"/>
            <p:cNvSpPr/>
            <p:nvPr/>
          </p:nvSpPr>
          <p:spPr>
            <a:xfrm>
              <a:off x="814320" y="1512720"/>
              <a:ext cx="798516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66ff"/>
                  </a:solidFill>
                  <a:latin typeface="宋体"/>
                </a:rPr>
                <a:t>一、指南针是中国古代的四大发明之一，世界上最早的指南针叫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66ff"/>
                  </a:solidFill>
                  <a:latin typeface="宋体"/>
                </a:rPr>
                <a:t>二、指南针由哪几部分构成？分别有什么作用</a:t>
              </a:r>
              <a:r>
                <a:rPr b="0" lang="en-US" sz="2800" spc="-1" strike="noStrike">
                  <a:solidFill>
                    <a:srgbClr val="0066ff"/>
                  </a:solidFill>
                  <a:latin typeface="宋体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66ff"/>
                  </a:solidFill>
                  <a:latin typeface="宋体"/>
                </a:rPr>
                <a:t>三、怎样正确地使用指南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6" descr=""/>
            <p:cNvPicPr/>
            <p:nvPr/>
          </p:nvPicPr>
          <p:blipFill>
            <a:blip r:embed="rId1"/>
            <a:stretch/>
          </p:blipFill>
          <p:spPr>
            <a:xfrm>
              <a:off x="6972120" y="2137320"/>
              <a:ext cx="1611360" cy="1004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Picture 7" descr="下一頁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848720" y="6146640"/>
            <a:ext cx="687240" cy="711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上一頁向左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8880" y="6146640"/>
            <a:ext cx="687600" cy="711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回首頁"/>
          <p:cNvPicPr/>
          <p:nvPr/>
        </p:nvPicPr>
        <p:blipFill>
          <a:blip r:embed="rId4"/>
          <a:stretch/>
        </p:blipFill>
        <p:spPr>
          <a:xfrm>
            <a:off x="8456760" y="6146640"/>
            <a:ext cx="687240" cy="711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5"/>
          <a:stretch/>
        </p:blipFill>
        <p:spPr>
          <a:xfrm>
            <a:off x="5940360" y="3713040"/>
            <a:ext cx="1744560" cy="2001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480960" y="262080"/>
            <a:ext cx="447516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指南针由几部分组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480960" y="227160"/>
            <a:ext cx="4403880" cy="18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8f4c6"/>
              </a:gs>
              <a:gs pos="100000">
                <a:srgbClr val="99cc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20079490452479491"/>
          <p:cNvPicPr/>
          <p:nvPr/>
        </p:nvPicPr>
        <p:blipFill>
          <a:blip r:embed="rId1"/>
          <a:stretch/>
        </p:blipFill>
        <p:spPr>
          <a:xfrm>
            <a:off x="1763640" y="1773360"/>
            <a:ext cx="3229200" cy="30798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5"/>
          <p:cNvGrpSpPr/>
          <p:nvPr/>
        </p:nvGrpSpPr>
        <p:grpSpPr>
          <a:xfrm>
            <a:off x="3419640" y="1628640"/>
            <a:ext cx="5039640" cy="2736720"/>
            <a:chOff x="3419640" y="1628640"/>
            <a:chExt cx="5039640" cy="2736720"/>
          </a:xfrm>
        </p:grpSpPr>
        <p:grpSp>
          <p:nvGrpSpPr>
            <p:cNvPr id="102" name=""/>
            <p:cNvGrpSpPr/>
            <p:nvPr/>
          </p:nvGrpSpPr>
          <p:grpSpPr>
            <a:xfrm>
              <a:off x="3995640" y="2997000"/>
              <a:ext cx="2592000" cy="432000"/>
              <a:chOff x="3995640" y="2997000"/>
              <a:chExt cx="2592000" cy="432000"/>
            </a:xfrm>
          </p:grpSpPr>
          <p:sp>
            <p:nvSpPr>
              <p:cNvPr id="103" name="Line 6"/>
              <p:cNvSpPr/>
              <p:nvPr/>
            </p:nvSpPr>
            <p:spPr>
              <a:xfrm flipH="1">
                <a:off x="3995640" y="2997000"/>
                <a:ext cx="2592000" cy="432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 txBox="1"/>
              <p:nvPr/>
            </p:nvSpPr>
            <p:spPr>
              <a:xfrm>
                <a:off x="3995640" y="2997000"/>
                <a:ext cx="2592000" cy="43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419640" y="2492280"/>
              <a:ext cx="3096720" cy="576360"/>
              <a:chOff x="3419640" y="2492280"/>
              <a:chExt cx="3096720" cy="576360"/>
            </a:xfrm>
          </p:grpSpPr>
          <p:sp>
            <p:nvSpPr>
              <p:cNvPr id="106" name="Line 7"/>
              <p:cNvSpPr/>
              <p:nvPr/>
            </p:nvSpPr>
            <p:spPr>
              <a:xfrm flipH="1">
                <a:off x="3419640" y="2492280"/>
                <a:ext cx="3096720" cy="576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>
                <a:off x="3419640" y="2492280"/>
                <a:ext cx="3096720" cy="57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3419640" y="1989000"/>
              <a:ext cx="3096720" cy="503280"/>
              <a:chOff x="3419640" y="1989000"/>
              <a:chExt cx="3096720" cy="503280"/>
            </a:xfrm>
          </p:grpSpPr>
          <p:sp>
            <p:nvSpPr>
              <p:cNvPr id="109" name="Line 8"/>
              <p:cNvSpPr/>
              <p:nvPr/>
            </p:nvSpPr>
            <p:spPr>
              <a:xfrm flipH="1">
                <a:off x="3419640" y="1989000"/>
                <a:ext cx="3096720" cy="503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 txBox="1"/>
              <p:nvPr/>
            </p:nvSpPr>
            <p:spPr>
              <a:xfrm>
                <a:off x="3419640" y="1989000"/>
                <a:ext cx="309672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995280" y="3933720"/>
              <a:ext cx="2736720" cy="431640"/>
              <a:chOff x="3995280" y="3933720"/>
              <a:chExt cx="2736720" cy="431640"/>
            </a:xfrm>
          </p:grpSpPr>
          <p:sp>
            <p:nvSpPr>
              <p:cNvPr id="112" name="Line 9"/>
              <p:cNvSpPr/>
              <p:nvPr/>
            </p:nvSpPr>
            <p:spPr>
              <a:xfrm flipH="1">
                <a:off x="3995280" y="3933720"/>
                <a:ext cx="2736360" cy="431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 txBox="1"/>
              <p:nvPr/>
            </p:nvSpPr>
            <p:spPr>
              <a:xfrm>
                <a:off x="3995640" y="3933720"/>
                <a:ext cx="2736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Text Box 10"/>
            <p:cNvSpPr/>
            <p:nvPr/>
          </p:nvSpPr>
          <p:spPr>
            <a:xfrm>
              <a:off x="6659280" y="162864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方位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6659280" y="220500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支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6732360" y="2708280"/>
              <a:ext cx="16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磁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3"/>
            <p:cNvSpPr/>
            <p:nvPr/>
          </p:nvSpPr>
          <p:spPr>
            <a:xfrm>
              <a:off x="6804000" y="3644640"/>
              <a:ext cx="16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外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381560" y="1413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標楷體"/>
                <a:ea typeface="標楷體"/>
              </a:rPr>
              <a:t>思考：做一个指南针需要哪些材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85800" y="1860480"/>
            <a:ext cx="360" cy="4496040"/>
            <a:chOff x="685800" y="1860480"/>
            <a:chExt cx="360" cy="4496040"/>
          </a:xfrm>
        </p:grpSpPr>
        <p:sp>
          <p:nvSpPr>
            <p:cNvPr id="121" name="Line 3"/>
            <p:cNvSpPr/>
            <p:nvPr/>
          </p:nvSpPr>
          <p:spPr>
            <a:xfrm>
              <a:off x="685800" y="1860480"/>
              <a:ext cx="0" cy="4496040"/>
            </a:xfrm>
            <a:prstGeom prst="line">
              <a:avLst/>
            </a:prstGeom>
            <a:ln cap="sq" w="38160">
              <a:solidFill>
                <a:srgbClr val="009900"/>
              </a:solidFill>
              <a:round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685800" y="1860480"/>
              <a:ext cx="360" cy="449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4" descr="下一頁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848720" y="6146640"/>
            <a:ext cx="687240" cy="711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上一頁向左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8880" y="6146640"/>
            <a:ext cx="687600" cy="711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回首頁"/>
          <p:cNvPicPr/>
          <p:nvPr/>
        </p:nvPicPr>
        <p:blipFill>
          <a:blip r:embed="rId3"/>
          <a:stretch/>
        </p:blipFill>
        <p:spPr>
          <a:xfrm>
            <a:off x="8456760" y="6146640"/>
            <a:ext cx="687240" cy="7113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1332000" y="2133720"/>
            <a:ext cx="6192720" cy="26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磁针：指示南北方向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方向指示盘：确定各个方向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支架：能使磁针自由旋转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外盒：起到保护作用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684360" y="692280"/>
            <a:ext cx="7543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標楷體"/>
                <a:ea typeface="標楷體"/>
              </a:rPr>
              <a:t>下列哪些物品可以做指南针？在□中打</a:t>
            </a:r>
            <a:r>
              <a:rPr b="0" lang="zh-CN" sz="1800" spc="-1" strike="noStrike">
                <a:solidFill>
                  <a:srgbClr val="080808"/>
                </a:solidFill>
                <a:latin typeface="標楷體"/>
              </a:rPr>
              <a:t>√</a:t>
            </a:r>
            <a:r>
              <a:rPr b="0" lang="zh-CN" sz="1800" spc="-1" strike="noStrike">
                <a:solidFill>
                  <a:srgbClr val="080808"/>
                </a:solidFill>
                <a:latin typeface="標楷體"/>
                <a:ea typeface="標楷體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3"/>
          <p:cNvPicPr/>
          <p:nvPr/>
        </p:nvPicPr>
        <p:blipFill>
          <a:blip r:embed="rId1"/>
          <a:stretch/>
        </p:blipFill>
        <p:spPr>
          <a:xfrm>
            <a:off x="468360" y="1343160"/>
            <a:ext cx="8315280" cy="334332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  <p:sp>
        <p:nvSpPr>
          <p:cNvPr id="129" name="Text Box 4"/>
          <p:cNvSpPr/>
          <p:nvPr/>
        </p:nvSpPr>
        <p:spPr>
          <a:xfrm>
            <a:off x="5298480" y="15098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標楷體"/>
                <a:ea typeface="標楷體"/>
              </a:rPr>
              <a:t>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372360" y="3146400"/>
            <a:ext cx="69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標楷體"/>
                <a:ea typeface="標楷體"/>
              </a:rPr>
              <a:t>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下一頁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56760" y="6146640"/>
            <a:ext cx="687240" cy="711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2197080" y="3216240"/>
            <a:ext cx="5745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牙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4932360" y="3068640"/>
            <a:ext cx="26654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3492360" y="1560600"/>
            <a:ext cx="187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钢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6516720" y="1560600"/>
            <a:ext cx="863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塑料笔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971640" y="1631880"/>
            <a:ext cx="1368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般的铁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290320" y="1415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標楷體"/>
                <a:ea typeface="標楷體"/>
              </a:rPr>
              <a:t>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612720" y="5013360"/>
            <a:ext cx="77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磁化小钢针和铁钉，哪个的磁性会更强一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2513160" y="5635800"/>
            <a:ext cx="43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钢针磁性更强一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人们很早就发现，铁钉、钢针被磁石接触或摩擦后，有时会具有磁性，后来人们逐渐掌握了用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摩擦的方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制造小磁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200942423698595586"/>
          <p:cNvPicPr/>
          <p:nvPr/>
        </p:nvPicPr>
        <p:blipFill>
          <a:blip r:embed="rId1"/>
          <a:stretch/>
        </p:blipFill>
        <p:spPr>
          <a:xfrm>
            <a:off x="3276720" y="2781360"/>
            <a:ext cx="2589120" cy="2952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1042920" y="765000"/>
            <a:ext cx="58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钢针有磁力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042920" y="155736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才能让它们变成磁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磁铁的磁极在钢针上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沿一个方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摩擦，重复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—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2916360" y="3068640"/>
            <a:ext cx="49003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009960" y="2913120"/>
            <a:ext cx="5438880" cy="689040"/>
            <a:chOff x="3009960" y="2913120"/>
            <a:chExt cx="5438880" cy="689040"/>
          </a:xfrm>
        </p:grpSpPr>
        <p:sp>
          <p:nvSpPr>
            <p:cNvPr id="148" name="AutoShape 3"/>
            <p:cNvSpPr/>
            <p:nvPr/>
          </p:nvSpPr>
          <p:spPr>
            <a:xfrm>
              <a:off x="3009960" y="2913120"/>
              <a:ext cx="543888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ccecff"/>
                </a:gs>
                <a:gs pos="50000">
                  <a:srgbClr val="fafd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3023280" y="2934360"/>
              <a:ext cx="5418720" cy="636840"/>
              <a:chOff x="3023280" y="2934360"/>
              <a:chExt cx="5418720" cy="636840"/>
            </a:xfrm>
          </p:grpSpPr>
          <p:sp>
            <p:nvSpPr>
              <p:cNvPr id="150" name="AutoShape 5"/>
              <p:cNvSpPr/>
              <p:nvPr/>
            </p:nvSpPr>
            <p:spPr>
              <a:xfrm>
                <a:off x="3023280" y="3406320"/>
                <a:ext cx="54187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ecff">
                      <a:alpha val="0"/>
                    </a:srgbClr>
                  </a:gs>
                  <a:gs pos="100000">
                    <a:srgbClr val="faf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6"/>
              <p:cNvSpPr/>
              <p:nvPr/>
            </p:nvSpPr>
            <p:spPr>
              <a:xfrm>
                <a:off x="3023280" y="2934360"/>
                <a:ext cx="54187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afdff"/>
                  </a:gs>
                  <a:gs pos="100000">
                    <a:srgbClr val="cce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" name="Group 7"/>
          <p:cNvGrpSpPr/>
          <p:nvPr/>
        </p:nvGrpSpPr>
        <p:grpSpPr>
          <a:xfrm>
            <a:off x="3009960" y="3990960"/>
            <a:ext cx="5438880" cy="689040"/>
            <a:chOff x="3009960" y="3990960"/>
            <a:chExt cx="5438880" cy="689040"/>
          </a:xfrm>
        </p:grpSpPr>
        <p:sp>
          <p:nvSpPr>
            <p:cNvPr id="153" name="AutoShape 8"/>
            <p:cNvSpPr/>
            <p:nvPr/>
          </p:nvSpPr>
          <p:spPr>
            <a:xfrm>
              <a:off x="3009960" y="3990960"/>
              <a:ext cx="543888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5f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9"/>
            <p:cNvGrpSpPr/>
            <p:nvPr/>
          </p:nvGrpSpPr>
          <p:grpSpPr>
            <a:xfrm>
              <a:off x="3023280" y="4012200"/>
              <a:ext cx="5418720" cy="636840"/>
              <a:chOff x="3023280" y="4012200"/>
              <a:chExt cx="5418720" cy="636840"/>
            </a:xfrm>
          </p:grpSpPr>
          <p:sp>
            <p:nvSpPr>
              <p:cNvPr id="155" name="AutoShape 10"/>
              <p:cNvSpPr/>
              <p:nvPr/>
            </p:nvSpPr>
            <p:spPr>
              <a:xfrm>
                <a:off x="3023280" y="4484160"/>
                <a:ext cx="54187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ecff">
                      <a:alpha val="0"/>
                    </a:srgbClr>
                  </a:gs>
                  <a:gs pos="100000">
                    <a:srgbClr val="f5fb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1"/>
              <p:cNvSpPr/>
              <p:nvPr/>
            </p:nvSpPr>
            <p:spPr>
              <a:xfrm>
                <a:off x="3023280" y="4012200"/>
                <a:ext cx="54187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ecff">
                      <a:alpha val="0"/>
                    </a:srgbClr>
                  </a:gs>
                  <a:gs pos="100000">
                    <a:srgbClr val="f5fb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Group 12"/>
          <p:cNvGrpSpPr/>
          <p:nvPr/>
        </p:nvGrpSpPr>
        <p:grpSpPr>
          <a:xfrm>
            <a:off x="3006720" y="1825560"/>
            <a:ext cx="5438880" cy="689040"/>
            <a:chOff x="3006720" y="1825560"/>
            <a:chExt cx="5438880" cy="689040"/>
          </a:xfrm>
        </p:grpSpPr>
        <p:sp>
          <p:nvSpPr>
            <p:cNvPr id="158" name="AutoShape 13"/>
            <p:cNvSpPr/>
            <p:nvPr/>
          </p:nvSpPr>
          <p:spPr>
            <a:xfrm>
              <a:off x="3006720" y="1825560"/>
              <a:ext cx="543888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0f8f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Group 14"/>
            <p:cNvGrpSpPr/>
            <p:nvPr/>
          </p:nvGrpSpPr>
          <p:grpSpPr>
            <a:xfrm>
              <a:off x="3020040" y="1846800"/>
              <a:ext cx="5418720" cy="636840"/>
              <a:chOff x="3020040" y="1846800"/>
              <a:chExt cx="5418720" cy="636840"/>
            </a:xfrm>
          </p:grpSpPr>
          <p:sp>
            <p:nvSpPr>
              <p:cNvPr id="160" name="AutoShape 15"/>
              <p:cNvSpPr/>
              <p:nvPr/>
            </p:nvSpPr>
            <p:spPr>
              <a:xfrm>
                <a:off x="3020040" y="2318760"/>
                <a:ext cx="54187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f0f8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utoShape 16"/>
              <p:cNvSpPr/>
              <p:nvPr/>
            </p:nvSpPr>
            <p:spPr>
              <a:xfrm>
                <a:off x="3020040" y="1846800"/>
                <a:ext cx="54187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0f8f9"/>
                  </a:gs>
                  <a:gs pos="100000">
                    <a:srgbClr val="bbe0e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2" name="Picture 1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2809800" y="396720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2809800" y="288756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2811600" y="182088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0"/>
          <p:cNvSpPr/>
          <p:nvPr/>
        </p:nvSpPr>
        <p:spPr>
          <a:xfrm>
            <a:off x="3156120" y="4027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3132000" y="1917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3132000" y="30225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3"/>
          <p:cNvSpPr/>
          <p:nvPr/>
        </p:nvSpPr>
        <p:spPr>
          <a:xfrm>
            <a:off x="250920" y="260280"/>
            <a:ext cx="4392360" cy="884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be5d"/>
              </a:gs>
            </a:gsLst>
            <a:lin ang="5400000"/>
          </a:gra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制作磁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4"/>
          <p:cNvSpPr/>
          <p:nvPr/>
        </p:nvSpPr>
        <p:spPr>
          <a:xfrm>
            <a:off x="4348440" y="2060640"/>
            <a:ext cx="26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磁铁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沿一个方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摩擦钢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—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5"/>
          <p:cNvSpPr/>
          <p:nvPr/>
        </p:nvSpPr>
        <p:spPr>
          <a:xfrm>
            <a:off x="4124160" y="40766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自己方法的测出南北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6"/>
          <p:cNvSpPr/>
          <p:nvPr/>
        </p:nvSpPr>
        <p:spPr>
          <a:xfrm>
            <a:off x="457200" y="2984400"/>
            <a:ext cx="21337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7"/>
          <p:cNvGrpSpPr/>
          <p:nvPr/>
        </p:nvGrpSpPr>
        <p:grpSpPr>
          <a:xfrm>
            <a:off x="2979720" y="4896000"/>
            <a:ext cx="5438880" cy="688680"/>
            <a:chOff x="2979720" y="4896000"/>
            <a:chExt cx="5438880" cy="688680"/>
          </a:xfrm>
        </p:grpSpPr>
        <p:sp>
          <p:nvSpPr>
            <p:cNvPr id="173" name="AutoShape 28"/>
            <p:cNvSpPr/>
            <p:nvPr/>
          </p:nvSpPr>
          <p:spPr>
            <a:xfrm>
              <a:off x="2979720" y="4896000"/>
              <a:ext cx="543888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5f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29"/>
            <p:cNvGrpSpPr/>
            <p:nvPr/>
          </p:nvGrpSpPr>
          <p:grpSpPr>
            <a:xfrm>
              <a:off x="2993040" y="4917240"/>
              <a:ext cx="5418720" cy="636840"/>
              <a:chOff x="2993040" y="4917240"/>
              <a:chExt cx="5418720" cy="636840"/>
            </a:xfrm>
          </p:grpSpPr>
          <p:sp>
            <p:nvSpPr>
              <p:cNvPr id="175" name="AutoShape 30"/>
              <p:cNvSpPr/>
              <p:nvPr/>
            </p:nvSpPr>
            <p:spPr>
              <a:xfrm>
                <a:off x="2993040" y="5389200"/>
                <a:ext cx="54187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ecff">
                      <a:alpha val="0"/>
                    </a:srgbClr>
                  </a:gs>
                  <a:gs pos="100000">
                    <a:srgbClr val="f5fb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utoShape 31"/>
              <p:cNvSpPr/>
              <p:nvPr/>
            </p:nvSpPr>
            <p:spPr>
              <a:xfrm>
                <a:off x="2993040" y="4917240"/>
                <a:ext cx="54187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ecff">
                      <a:alpha val="0"/>
                    </a:srgbClr>
                  </a:gs>
                  <a:gs pos="100000">
                    <a:srgbClr val="f5fb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7" name="Picture 32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2843280" y="47973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3"/>
          <p:cNvSpPr/>
          <p:nvPr/>
        </p:nvSpPr>
        <p:spPr>
          <a:xfrm>
            <a:off x="3156120" y="48909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4"/>
          <p:cNvSpPr/>
          <p:nvPr/>
        </p:nvSpPr>
        <p:spPr>
          <a:xfrm>
            <a:off x="4410720" y="2997360"/>
            <a:ext cx="29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检测钢针是否变成磁铁，能吸几枚大头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5"/>
          <p:cNvSpPr/>
          <p:nvPr/>
        </p:nvSpPr>
        <p:spPr>
          <a:xfrm>
            <a:off x="4126320" y="494172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自己的方法标出南北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6" descr=""/>
          <p:cNvPicPr/>
          <p:nvPr/>
        </p:nvPicPr>
        <p:blipFill>
          <a:blip r:embed="rId5"/>
          <a:stretch/>
        </p:blipFill>
        <p:spPr>
          <a:xfrm>
            <a:off x="395280" y="3068640"/>
            <a:ext cx="2089080" cy="1403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7" descr=""/>
          <p:cNvPicPr/>
          <p:nvPr/>
        </p:nvPicPr>
        <p:blipFill>
          <a:blip r:embed="rId6"/>
          <a:stretch/>
        </p:blipFill>
        <p:spPr>
          <a:xfrm>
            <a:off x="0" y="1628640"/>
            <a:ext cx="2808360" cy="15955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38"/>
          <p:cNvSpPr/>
          <p:nvPr/>
        </p:nvSpPr>
        <p:spPr>
          <a:xfrm flipH="1">
            <a:off x="3809160" y="549360"/>
            <a:ext cx="5334120" cy="1039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00">
                  <a:alpha val="70196"/>
                </a:srgbClr>
              </a:gs>
              <a:gs pos="100000">
                <a:srgbClr val="ebf5ce"/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9"/>
          <p:cNvSpPr/>
          <p:nvPr/>
        </p:nvSpPr>
        <p:spPr>
          <a:xfrm>
            <a:off x="5591880" y="88092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小心操作，别让钢针扎了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0:09:2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18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