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589-D2B1-440E-8F91-D63E4EB9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185-58CA-4A9E-83F6-DFCC4809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458-DE62-4371-8D6C-5E50374F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74F-A2B7-4CC0-B072-CC1568F1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CD63-71F9-4043-9C9F-0635CCD1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346A-C7F7-4443-ADDE-0B9C8C54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E3F9-BFD0-479A-AC03-972B1DB6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EBD8-5402-4A20-971A-66D44380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7DE4-9369-4CF6-B127-DF9EB559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64640"/>
            <a:ext cx="8229600" cy="43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B146-5F2E-4E43-949D-6057B3DF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8ACE-074B-4529-AF9E-572B3B60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6C7-DC88-4DEC-B2E0-EB0FC31C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E262-465B-499D-9960-55F55C35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E6A2-E912-4014-ADAC-1EAF6C50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BB0D-5639-4C45-B4D7-8B90F74B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4F05-FE8A-43CE-951F-C2C2A944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D987-A733-4D12-AB97-2F67AABF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4AE9B-C7FD-42BD-B6A3-EFB4162F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2E22E-2DFD-498C-B981-BF5382FD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F3745-1FF0-4009-BBBB-642AE560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548BC-57A5-409D-B34A-D5147759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C59F6-88C6-4688-BCF3-B9E3180A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1ED3-0D35-4093-B0C8-00D97E64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764640"/>
            <a:ext cx="8229600" cy="43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79B92-311E-4512-9D96-3DF021A9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C98FD-4AAA-4585-837C-0071F4F3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E1070-6D0B-408C-95A5-30F403FB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E4B78-B046-439B-9918-F0941AE5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9D846-648B-4A64-834F-FAEE4FA1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5E3D6-A22F-4EC9-A3F7-B9E58F7A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5AFB3-CAFE-4753-9F61-6BE35D2C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9B2E-3A82-4357-8587-05AD3995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EAD-F57A-4105-B9B4-CBAC0160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4640"/>
            <a:ext cx="8229600" cy="43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EF90-FAEC-43F3-B62F-C550F57C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DD7-E7A8-47AC-A7E0-7B2CBE8C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BDDB-880A-44A7-A467-D04AD254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789-9F24-4419-83B0-796678EC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7781-2B2D-40E8-855B-220E09161B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C9B7-5BE8-4647-A8C3-94755C5B95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E20D-9940-47CF-B865-FFEA395E43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7920" y="15807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正义是人类良知的声音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h3"/>
          <p:cNvPicPr/>
          <p:nvPr/>
        </p:nvPicPr>
        <p:blipFill>
          <a:blip r:embed="rId2"/>
          <a:stretch/>
        </p:blipFill>
        <p:spPr>
          <a:xfrm>
            <a:off x="4343400" y="3000240"/>
            <a:ext cx="457200" cy="857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7048666_170419000000_2"/>
          <p:cNvPicPr/>
          <p:nvPr/>
        </p:nvPicPr>
        <p:blipFill>
          <a:blip r:embed="rId3"/>
          <a:stretch/>
        </p:blipFill>
        <p:spPr>
          <a:xfrm>
            <a:off x="1123920" y="2808360"/>
            <a:ext cx="6877080" cy="3257640"/>
          </a:xfrm>
          <a:prstGeom prst="rect">
            <a:avLst/>
          </a:prstGeom>
          <a:ln w="0">
            <a:noFill/>
          </a:ln>
        </p:spPr>
      </p:pic>
      <p:sp>
        <p:nvSpPr>
          <p:cNvPr id="126" name="矩形 1"/>
          <p:cNvSpPr/>
          <p:nvPr/>
        </p:nvSpPr>
        <p:spPr>
          <a:xfrm>
            <a:off x="2846520" y="946080"/>
            <a:ext cx="27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十课　我们维护正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96720" y="2289240"/>
            <a:ext cx="799164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微软雅黑"/>
                <a:ea typeface="微软雅黑"/>
              </a:rPr>
              <a:t>正义对社会发展的促进作用：</a:t>
            </a:r>
            <a:r>
              <a:rPr b="0" lang="zh-CN" sz="2800" spc="-1" strike="noStrike">
                <a:solidFill>
                  <a:srgbClr val="800080"/>
                </a:solidFill>
                <a:latin typeface="微软雅黑"/>
                <a:ea typeface="微软雅黑"/>
              </a:rPr>
              <a:t>p110-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微软雅黑"/>
                <a:ea typeface="微软雅黑"/>
              </a:rPr>
              <a:t>a</a:t>
            </a:r>
            <a:r>
              <a:rPr b="0" lang="zh-CN" sz="2800" spc="-1" strike="noStrike">
                <a:solidFill>
                  <a:srgbClr val="800080"/>
                </a:solidFill>
                <a:latin typeface="微软雅黑"/>
                <a:ea typeface="微软雅黑"/>
              </a:rPr>
              <a:t>、正义保障人民的生命和财产安全，使人民得以生存和发展，推动社会的进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微软雅黑"/>
                <a:ea typeface="微软雅黑"/>
              </a:rPr>
              <a:t>b</a:t>
            </a:r>
            <a:r>
              <a:rPr b="0" lang="zh-CN" sz="2800" spc="-1" strike="noStrike">
                <a:solidFill>
                  <a:srgbClr val="800080"/>
                </a:solidFill>
                <a:latin typeface="微软雅黑"/>
                <a:ea typeface="微软雅黑"/>
              </a:rPr>
              <a:t>、正义通过制度的调节避免严重的社会分化，以利于社会健康、持续发展，造福每一个社会成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微软雅黑"/>
                <a:ea typeface="微软雅黑"/>
              </a:rPr>
              <a:t>c</a:t>
            </a:r>
            <a:r>
              <a:rPr b="0" lang="zh-CN" sz="2800" spc="-1" strike="noStrike">
                <a:solidFill>
                  <a:srgbClr val="800080"/>
                </a:solidFill>
                <a:latin typeface="微软雅黑"/>
                <a:ea typeface="微软雅黑"/>
              </a:rPr>
              <a:t>、正义有利于增进人与人之间的沟通、理解，有利于社会的和谐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90160" y="1053720"/>
            <a:ext cx="6550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三、由人到众——促进整个社会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4"/>
          <p:cNvSpPr/>
          <p:nvPr/>
        </p:nvSpPr>
        <p:spPr>
          <a:xfrm>
            <a:off x="619200" y="2781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02920" y="838080"/>
            <a:ext cx="5545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微软雅黑"/>
              </a:rPr>
              <a:t>III </a:t>
            </a:r>
            <a:r>
              <a:rPr b="1" lang="zh-CN" sz="3200" spc="-1" strike="noStrike">
                <a:solidFill>
                  <a:srgbClr val="ff0066"/>
                </a:solidFill>
                <a:latin typeface="微软雅黑"/>
              </a:rPr>
              <a:t>为正义而战——维护正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8191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6920" y="836640"/>
            <a:ext cx="5340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一、修炼内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528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内功心法：做一个有正义感的人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p1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微软雅黑"/>
              </a:rPr>
              <a:t>有正义感、为人正直，这是做人应该具有的优良品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微软雅黑"/>
              </a:rPr>
              <a:t>合作探究：何为正义感——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、对正义行为表现出赞赏和崇敬之情，对正义充满向往之情，乐于把正义的崇尚之情付诸行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、对非正义行为，则会产生不安、不满愤怒等情绪，乃至采取行动来维护正义。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p114 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8198"/>
          <p:cNvSpPr/>
          <p:nvPr/>
        </p:nvSpPr>
        <p:spPr>
          <a:xfrm>
            <a:off x="663480" y="1440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活动：举例古今中外有正义感的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富贵不能淫，贫贱不能移，威武不能屈，此之谓大丈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-------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孟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惶恐滩头说惶恐，零丁洋里叹零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人生自古谁无死，留取丹心照汗青。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文天祥《过零丁洋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粉身碎骨浑不怕，留得清白在人间。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于谦《石灰吟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砍头不要紧，只要主义真；杀了夏明翰，自有后来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夏明翰《就义诗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大雪压青松，青松挺且直。要知松高洁，待到雪化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-------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陈毅《明志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0000" y="764640"/>
            <a:ext cx="6418440" cy="9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新时期正义应该与时俱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践行党的群众路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党的好干部，人民的好公仆</a:t>
            </a:r>
            <a:r>
              <a:rPr b="0" lang="zh-CN" sz="2000" spc="-1" strike="noStrike">
                <a:solidFill>
                  <a:srgbClr val="ff0066"/>
                </a:solidFill>
                <a:latin typeface="华文细黑"/>
              </a:rPr>
              <a:t>——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焦裕禄、孔繁森、任长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大限度将焦裕禄精神转化为改善民生的根本动力。学习焦裕禄精神，就是要强化宗旨观念和公仆情怀，把群众呼声作为第一信号，把群众需求作为第一选择，把群众满意作为第一标准，尽可能将新增财力向困难群体、基层、民生保障薄弱环节倾斜，强力推进城东新区、教育城、医疗卫生城及市民服务中心建设，着力解决衣食住行、业教保医等民生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bc305bae43d60f7658680b"/>
          <p:cNvPicPr/>
          <p:nvPr/>
        </p:nvPicPr>
        <p:blipFill>
          <a:blip r:embed="rId1"/>
          <a:stretch/>
        </p:blipFill>
        <p:spPr>
          <a:xfrm>
            <a:off x="684360" y="907920"/>
            <a:ext cx="8243640" cy="5762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bc305bae43d60f76586810"/>
          <p:cNvPicPr/>
          <p:nvPr/>
        </p:nvPicPr>
        <p:blipFill>
          <a:blip r:embed="rId2"/>
          <a:stretch/>
        </p:blipFill>
        <p:spPr>
          <a:xfrm>
            <a:off x="684360" y="907920"/>
            <a:ext cx="828036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32000" y="764640"/>
            <a:ext cx="5976720" cy="9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微软雅黑"/>
              </a:rPr>
              <a:t>争做有正义感的人</a:t>
            </a:r>
            <a:r>
              <a:rPr b="1" lang="zh-CN" sz="3200" spc="-1" strike="noStrike">
                <a:solidFill>
                  <a:srgbClr val="ff0066"/>
                </a:solidFill>
                <a:latin typeface="微软雅黑"/>
              </a:rPr>
              <a:t>---</a:t>
            </a:r>
            <a:r>
              <a:rPr b="1" lang="zh-CN" sz="3200" spc="-1" strike="noStrike">
                <a:solidFill>
                  <a:srgbClr val="ff0066"/>
                </a:solidFill>
                <a:latin typeface="微软雅黑"/>
              </a:rPr>
              <a:t>如何做</a:t>
            </a:r>
            <a:r>
              <a:rPr b="1" lang="zh-CN" sz="3200" spc="-1" strike="noStrike">
                <a:solidFill>
                  <a:srgbClr val="ff0066"/>
                </a:solidFill>
                <a:latin typeface="微软雅黑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844280"/>
            <a:ext cx="82296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、如果非正义的事情发生在自己身上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如果非正义的事情发生在他人身上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、做一个有正义感的人，不仅要求我们明辨什么是正义行为，什么是非正义行为，更重要的是去感悟，以升华道德境界；去践行，以伸张正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、作为未成年人，既要有见义勇为的精神，又要做到见义巧为，尽量在不伤害自己的前提下，维护正义。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p1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684360" y="1773360"/>
            <a:ext cx="6443640" cy="3081240"/>
            <a:chOff x="684360" y="1773360"/>
            <a:chExt cx="6443640" cy="3081240"/>
          </a:xfrm>
        </p:grpSpPr>
        <p:sp>
          <p:nvSpPr>
            <p:cNvPr id="169" name="Text Box 3"/>
            <p:cNvSpPr/>
            <p:nvPr/>
          </p:nvSpPr>
          <p:spPr>
            <a:xfrm>
              <a:off x="684360" y="31417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青少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4"/>
            <p:cNvSpPr/>
            <p:nvPr/>
          </p:nvSpPr>
          <p:spPr>
            <a:xfrm>
              <a:off x="2592360" y="2206080"/>
              <a:ext cx="360360" cy="26485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68760 h 2648520"/>
                <a:gd name="textAreaBottom" fmla="*/ 2579760 h 264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cap="sq" w="57240">
              <a:solidFill>
                <a:srgbClr val="f365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5"/>
            <p:cNvSpPr/>
            <p:nvPr/>
          </p:nvSpPr>
          <p:spPr>
            <a:xfrm>
              <a:off x="2952360" y="2925720"/>
              <a:ext cx="1447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敢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3024000" y="4147560"/>
              <a:ext cx="1447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善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4319640" y="2133000"/>
              <a:ext cx="380520" cy="2718360"/>
            </a:xfrm>
            <a:custGeom>
              <a:avLst/>
              <a:gdLst>
                <a:gd name="textAreaLeft" fmla="*/ 0 w 380520"/>
                <a:gd name="textAreaRight" fmla="*/ 137520 w 380520"/>
                <a:gd name="textAreaTop" fmla="*/ 70560 h 2718360"/>
                <a:gd name="textAreaBottom" fmla="*/ 2647800 h 271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16200" y="10800"/>
                    <a:pt x="21600" y="10800"/>
                  </a:cubicBezTo>
                  <a:cubicBezTo>
                    <a:pt x="162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5400" y="21600"/>
                    <a:pt x="0" y="21600"/>
                  </a:cubicBezTo>
                </a:path>
              </a:pathLst>
            </a:custGeom>
            <a:noFill/>
            <a:ln cap="sq" w="57240">
              <a:solidFill>
                <a:srgbClr val="f365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751280" y="2493720"/>
              <a:ext cx="2376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同一切非正义的行      为作斗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2879280" y="1773360"/>
              <a:ext cx="167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应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374760" y="-69840"/>
            <a:ext cx="9518400" cy="6964200"/>
            <a:chOff x="-374760" y="-69840"/>
            <a:chExt cx="9518400" cy="6964200"/>
          </a:xfrm>
        </p:grpSpPr>
        <p:grpSp>
          <p:nvGrpSpPr>
            <p:cNvPr id="177" name="Group 3"/>
            <p:cNvGrpSpPr/>
            <p:nvPr/>
          </p:nvGrpSpPr>
          <p:grpSpPr>
            <a:xfrm>
              <a:off x="-374760" y="-69840"/>
              <a:ext cx="9515520" cy="6964200"/>
              <a:chOff x="-374760" y="-69840"/>
              <a:chExt cx="9515520" cy="6964200"/>
            </a:xfrm>
          </p:grpSpPr>
          <p:pic>
            <p:nvPicPr>
              <p:cNvPr id="178" name="Picture 4" descr="报案1"/>
              <p:cNvPicPr/>
              <p:nvPr/>
            </p:nvPicPr>
            <p:blipFill>
              <a:blip r:embed="rId1"/>
              <a:stretch/>
            </p:blipFill>
            <p:spPr>
              <a:xfrm>
                <a:off x="-374760" y="-69840"/>
                <a:ext cx="9515520" cy="696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AutoShape 5"/>
              <p:cNvSpPr/>
              <p:nvPr/>
            </p:nvSpPr>
            <p:spPr>
              <a:xfrm>
                <a:off x="4497120" y="44280"/>
                <a:ext cx="2664000" cy="760680"/>
              </a:xfrm>
              <a:prstGeom prst="cloudCallout">
                <a:avLst>
                  <a:gd name="adj1" fmla="val -40120"/>
                  <a:gd name="adj2" fmla="val 123750"/>
                </a:avLst>
              </a:prstGeom>
              <a:solidFill>
                <a:srgbClr val="bbe0e3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808080"/>
                    </a:solidFill>
                    <a:latin typeface="Times New Roman"/>
                    <a:ea typeface="华文行楷"/>
                  </a:rPr>
                  <a:t>借点钱花花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AutoShape 6"/>
            <p:cNvSpPr/>
            <p:nvPr/>
          </p:nvSpPr>
          <p:spPr>
            <a:xfrm>
              <a:off x="7200720" y="5400"/>
              <a:ext cx="1942920" cy="1195560"/>
            </a:xfrm>
            <a:prstGeom prst="wedgeEllipseCallout">
              <a:avLst>
                <a:gd name="adj1" fmla="val 6162"/>
                <a:gd name="adj2" fmla="val 900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要不冲上去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0160" y="1125000"/>
            <a:ext cx="6407280" cy="7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微软雅黑"/>
              </a:rPr>
              <a:t>二、建立防护网——正义的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539640" y="1846440"/>
            <a:ext cx="82296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如果没有规则和制度的支持，就难以实现公平。正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制度：以公开宣布的程序和规则组成的系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微软雅黑"/>
                <a:ea typeface="微软雅黑"/>
              </a:rPr>
              <a:t>制度的正义性在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它的程序与规则</a:t>
            </a:r>
            <a:r>
              <a:rPr b="0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不是为少数人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利益制定的，</a:t>
            </a:r>
            <a:r>
              <a:rPr b="0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而是为维护所有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会成员的利益制定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每个人既能从制度和规则的正常运行中受益，又要受到制度和规则的约束。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109-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2351160"/>
            <a:ext cx="74898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微软雅黑"/>
              </a:rPr>
              <a:t>正义的化身</a:t>
            </a:r>
            <a:br>
              <a:rPr sz="4000"/>
            </a:br>
            <a:r>
              <a:rPr b="0" lang="zh-CN" sz="4000" spc="-1" strike="noStrike">
                <a:solidFill>
                  <a:srgbClr val="ff0066"/>
                </a:solidFill>
                <a:latin typeface="微软雅黑"/>
              </a:rPr>
              <a:t>           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0066"/>
                </a:solidFill>
                <a:latin typeface="微软雅黑"/>
              </a:rPr>
              <a:t>    ——我们维护正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20130405113956_AzLzd.thumb.600_0"/>
          <p:cNvPicPr/>
          <p:nvPr/>
        </p:nvPicPr>
        <p:blipFill>
          <a:blip r:embed="rId1"/>
          <a:stretch/>
        </p:blipFill>
        <p:spPr>
          <a:xfrm>
            <a:off x="5724360" y="836640"/>
            <a:ext cx="307692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24000" y="127008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正义制度的要求：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p1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每一个人都必须遵守制度、规则和程序，没有人可以例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规则和程序反对歧视，不允许特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95280" y="170172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微软雅黑"/>
              </a:rPr>
              <a:t>正义的制度对社会公平的促进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微软雅黑"/>
              </a:rPr>
              <a:t>1</a:t>
            </a:r>
            <a:r>
              <a:rPr b="0" lang="zh-CN" sz="2800" spc="-1" strike="noStrike">
                <a:solidFill>
                  <a:srgbClr val="800080"/>
                </a:solidFill>
                <a:latin typeface="微软雅黑"/>
              </a:rPr>
              <a:t>、当我们参与社会合作竞争的时候，正义的制度给予人们何公平合作的</a:t>
            </a:r>
            <a:r>
              <a:rPr b="0" lang="zh-CN" sz="2800" spc="-1" strike="noStrike">
                <a:solidFill>
                  <a:srgbClr val="ff0066"/>
                </a:solidFill>
                <a:latin typeface="微软雅黑"/>
              </a:rPr>
              <a:t>支持和保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微软雅黑"/>
              </a:rPr>
              <a:t>2</a:t>
            </a:r>
            <a:r>
              <a:rPr b="0" lang="zh-CN" sz="2800" spc="-1" strike="noStrike">
                <a:solidFill>
                  <a:srgbClr val="800080"/>
                </a:solidFill>
                <a:latin typeface="微软雅黑"/>
              </a:rPr>
              <a:t>、当我们遇到不公平的事情时，公平的获得也需要正义的制度作为</a:t>
            </a:r>
            <a:r>
              <a:rPr b="0" lang="zh-CN" sz="2800" spc="-1" strike="noStrike">
                <a:solidFill>
                  <a:srgbClr val="ff0066"/>
                </a:solidFill>
                <a:latin typeface="微软雅黑"/>
              </a:rPr>
              <a:t>支撑</a:t>
            </a:r>
            <a:r>
              <a:rPr b="0" lang="zh-CN" sz="2800" spc="-1" strike="noStrike">
                <a:solidFill>
                  <a:srgbClr val="800080"/>
                </a:solidFill>
                <a:latin typeface="微软雅黑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微软雅黑"/>
              </a:rPr>
              <a:t>3</a:t>
            </a:r>
            <a:r>
              <a:rPr b="0" lang="zh-CN" sz="2800" spc="-1" strike="noStrike">
                <a:solidFill>
                  <a:srgbClr val="800080"/>
                </a:solidFill>
                <a:latin typeface="微软雅黑"/>
              </a:rPr>
              <a:t>、没有正义的制度就没有真正的公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微软雅黑"/>
              </a:rPr>
              <a:t>p111 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260360" y="98100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微软雅黑"/>
              </a:rPr>
              <a:t>防护网的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009E-5A3A-4FE7-AED1-51266CBA12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640" y="1197000"/>
            <a:ext cx="42480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我们应该如何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360" y="2276640"/>
            <a:ext cx="8229600" cy="37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遵守社会规则和程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就是维护正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我们要从小树立自觉遵守各项社会制度和规则为荣的意识，养成自觉遵守各项社会制度和规则的良好习惯，以实际行动维护正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69080" y="1413000"/>
            <a:ext cx="1656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标明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4160" y="1487520"/>
            <a:ext cx="66942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情感、态度与价值观目标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</a:rPr>
              <a:t>：对正义充满向往和追求，做有正义感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能力目标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</a:rPr>
              <a:t>：具有分辨正义行为与非正义行为的认知能力，自觉维护正义的实际行动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知识目标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</a:rPr>
              <a:t>：理解正义与非正义的涵义，正义与社会公平的关系，正义与社会发展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c9fb05d8_8522_47b6_a3c4_9492c6416ae8"/>
          <p:cNvPicPr/>
          <p:nvPr/>
        </p:nvPicPr>
        <p:blipFill>
          <a:blip r:embed="rId1"/>
          <a:stretch/>
        </p:blipFill>
        <p:spPr>
          <a:xfrm>
            <a:off x="8029440" y="765000"/>
            <a:ext cx="9874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050920" y="981000"/>
            <a:ext cx="439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微软雅黑"/>
                <a:ea typeface="微软雅黑"/>
              </a:rPr>
              <a:t>I</a:t>
            </a:r>
            <a:r>
              <a:rPr b="1" lang="zh-CN" sz="4800" spc="-1" strike="noStrike">
                <a:solidFill>
                  <a:srgbClr val="ff0066"/>
                </a:solidFill>
                <a:latin typeface="Arial Narrow"/>
                <a:ea typeface="微软雅黑"/>
              </a:rPr>
              <a:t> </a:t>
            </a:r>
            <a:r>
              <a:rPr b="1" lang="zh-CN" sz="4800" spc="-1" strike="noStrike">
                <a:solidFill>
                  <a:srgbClr val="ff0066"/>
                </a:solidFill>
                <a:latin typeface="Arial Narrow"/>
                <a:ea typeface="微软雅黑"/>
              </a:rPr>
              <a:t>感悟正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81080" y="1846440"/>
            <a:ext cx="8426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微软雅黑"/>
                <a:ea typeface="微软雅黑"/>
              </a:rPr>
              <a:t>我心永恒” 让心在人间继续跳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脑死亡的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广西小伙子小叶在桂林解放军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1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院无偿捐献心脏、肝、肾和眼角膜，率先被摘取的心脏，需要火速送往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87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里之外的北京——一名正在靠“人工体外心肺辅助装置”维持生命的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江西小男孩，正在焦急地等待着这颗圣洁的“爱心”做移植手术。桂林和北京两地的人们，为了跑赢生命倒计时，拉开了一场自建国以来十分罕见的“爱心”接力赛——民航航班提前起飞降落“送心”，数家航班绕道飞行，直升飞机首都机场“接心”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“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下午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，江西小男孩终于清醒过来了。我们呼唤他，他有反应，还能说话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8720" y="1412640"/>
            <a:ext cx="38145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看完这则故事你的感受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11280" y="28540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微软雅黑"/>
              </a:rPr>
              <a:t>“</a:t>
            </a:r>
            <a:r>
              <a:rPr b="0" lang="zh-CN" sz="3200" spc="-1" strike="noStrike">
                <a:solidFill>
                  <a:srgbClr val="99cc00"/>
                </a:solidFill>
                <a:latin typeface="微软雅黑"/>
              </a:rPr>
              <a:t>千里送心”——感动更要行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微软雅黑"/>
              </a:rPr>
              <a:t>思想上：我们要对正义充满追求和向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微软雅黑"/>
              </a:rPr>
              <a:t>行动上：感动更要行动，做一个有正义感的人，让关爱他人、奉献社会的传统美德得以传承弘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7236000" y="836640"/>
            <a:ext cx="187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 Narrow"/>
                <a:ea typeface="微软雅黑"/>
              </a:rPr>
              <a:t>升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619280" y="551808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 Narrow"/>
                <a:ea typeface="微软雅黑"/>
              </a:rPr>
              <a:t>开启正义之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050920" y="981000"/>
            <a:ext cx="438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微软雅黑"/>
                <a:ea typeface="微软雅黑"/>
              </a:rPr>
              <a:t>II</a:t>
            </a:r>
            <a:r>
              <a:rPr b="1" lang="zh-CN" sz="6000" spc="-1" strike="noStrike">
                <a:solidFill>
                  <a:srgbClr val="ff0066"/>
                </a:solidFill>
                <a:latin typeface="Arial Narrow"/>
                <a:ea typeface="微软雅黑"/>
              </a:rPr>
              <a:t> </a:t>
            </a:r>
            <a:r>
              <a:rPr b="1" lang="zh-CN" sz="6000" spc="-1" strike="noStrike">
                <a:solidFill>
                  <a:srgbClr val="ff0066"/>
                </a:solidFill>
                <a:latin typeface="Arial Narrow"/>
                <a:ea typeface="微软雅黑"/>
              </a:rPr>
              <a:t>正义之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004240" y="2819520"/>
            <a:ext cx="45720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95280" y="2205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正义之行的意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1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12720" y="2925720"/>
            <a:ext cx="63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如果没有正义，善良就会被践踏，邪恶就会肆虐，整个社会就会陷入黑暗和混乱之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期盼正义、维护正义，是所有善良人的共同心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实施正义行为，不做非正义的事，是做人的基本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1365328143875122606"/>
          <p:cNvPicPr/>
          <p:nvPr/>
        </p:nvPicPr>
        <p:blipFill>
          <a:blip r:embed="rId1"/>
          <a:stretch/>
        </p:blipFill>
        <p:spPr>
          <a:xfrm>
            <a:off x="6804000" y="1125360"/>
            <a:ext cx="2082960" cy="381636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8198"/>
          <p:cNvSpPr/>
          <p:nvPr/>
        </p:nvSpPr>
        <p:spPr>
          <a:xfrm>
            <a:off x="1163520" y="7905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836640"/>
            <a:ext cx="56991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明辨是非、明确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68360" y="184464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判断正义行为与非正义行为的标准：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1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促进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社会进步与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维护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共利益和他人正当权益的行为，都是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正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行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阻碍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社会进步与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损害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共利益和他人正当权益的行为，都是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非正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行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正义的要求：正义要求我们尊重他人的基本权利，尤其要尊重人的生命权，公正地对待他人和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764640"/>
            <a:ext cx="2735280" cy="9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理论联系实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9280" y="5030640"/>
            <a:ext cx="81378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上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左右，广州火车站广场有人持刀砍伤过往旅客，警方开枪击中其中一名持刀疑犯，目前该事件已造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群众受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600x450_9RJE7KB500AN0001"/>
          <p:cNvPicPr/>
          <p:nvPr/>
        </p:nvPicPr>
        <p:blipFill>
          <a:blip r:embed="rId1"/>
          <a:stretch/>
        </p:blipFill>
        <p:spPr>
          <a:xfrm>
            <a:off x="1260360" y="1486080"/>
            <a:ext cx="63756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95280" y="127008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校中，阿贵为了好朋友不受欺负两肋插刀，先下手为强，打伤他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生孙军考试中没有给答案给同学受到冷落，不知所措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刘东看到叔叔做生意出售假冒伪劣商品，多次劝说无效后打电话到工商管理部门举报，叔叔受到了处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95280" y="3502080"/>
            <a:ext cx="85694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Arial"/>
                <a:ea typeface="微软雅黑"/>
              </a:rPr>
              <a:t>正义不等于哥们义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Arial"/>
                <a:ea typeface="微软雅黑"/>
              </a:rPr>
              <a:t>伸张正义不仅是对外界，对自己也有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Arial"/>
                <a:ea typeface="微软雅黑"/>
              </a:rPr>
              <a:t>表达正义感要合理、合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Arial"/>
                <a:ea typeface="微软雅黑"/>
              </a:rPr>
              <a:t>正义感在日常生活中就会时常体现出来：如扶贫、公平、团结同学、尊重权利等等。良好的班风建立、制度的执行等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2T04:02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24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