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650-6B06-4002-9CE5-A58BFC6B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521-C37B-4571-8E22-79B95A2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56B-77D5-42AA-9A60-7A711974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1DD-2A1A-4901-A018-B6F84F3C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CE0A-280B-4215-BFE5-227FD3F3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C55-79EA-4999-9CF2-18D19A4A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F36D-304A-463E-94B4-75EE116A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3CC-8CD1-4DD2-B50D-1422EE8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E225-9BCA-48E1-9F4C-25472CB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508B-2753-45EF-A5F8-9337490D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87DA-8C05-46BB-9E98-594A897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620-4BDF-4483-8BA8-880EF15F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4F68-552A-41F3-B5AB-22043AD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92B-1CD4-4EDA-9E0D-DEDEB42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BFE-9C16-459D-A75D-03962A8C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DAF0-ACCF-4C41-A1C4-C091EF34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D8B-CDD7-44F1-B2AC-34A2F815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E666-FDAA-4F09-8921-71032F67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B7FD-E747-463C-BB01-C8DF929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34DD-4DEE-4451-B162-B47AA159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EF63-6FD8-46B8-B224-A253633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ADDE-0ACD-48A9-9A54-6B4E211B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A61-D11B-4D31-B7D2-9B02D4D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18A7-5674-4C8E-8556-EA1F1B3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6C43-A7C5-482B-8120-EC500FF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BD1B-BE36-447D-9D53-0B9A8EF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BA986-18F1-44B0-910E-92CB3D2D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EFA6-5232-4E12-AE40-0FF150FB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54ECE-1E24-46EE-BE94-96F8A03B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E84E-F849-47C0-A2E3-A451BD9F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65D-72A1-45E7-8AC6-07CC130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5FC-A638-4E87-B9FC-24037F64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6B3-19D8-4FB4-AD1A-02609E8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DC4-178B-46BF-8ABC-8EA625C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0CD-6215-4D58-8D95-BA24E34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0B9-7F93-4B52-A423-D62167A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26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组合 27"/>
            <p:cNvGrpSpPr/>
            <p:nvPr/>
          </p:nvGrpSpPr>
          <p:grpSpPr>
            <a:xfrm>
              <a:off x="1051200" y="6202440"/>
              <a:ext cx="535680" cy="655200"/>
              <a:chOff x="1051200" y="6202440"/>
              <a:chExt cx="535680" cy="655200"/>
            </a:xfrm>
          </p:grpSpPr>
          <p:sp>
            <p:nvSpPr>
              <p:cNvPr id="2" name="任意多边形 28"/>
              <p:cNvSpPr/>
              <p:nvPr/>
            </p:nvSpPr>
            <p:spPr>
              <a:xfrm rot="18580800">
                <a:off x="1137960" y="6233040"/>
                <a:ext cx="15732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任意多边形 29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30"/>
              <p:cNvSpPr/>
              <p:nvPr/>
            </p:nvSpPr>
            <p:spPr>
              <a:xfrm>
                <a:off x="132264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矩形 31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矩形 32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33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组合 12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矩形 7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矩形 10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3E5-CE4E-4DBA-8138-C4F9C8AE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组合 13"/>
          <p:cNvGrpSpPr/>
          <p:nvPr/>
        </p:nvGrpSpPr>
        <p:grpSpPr>
          <a:xfrm>
            <a:off x="7795080" y="-15480"/>
            <a:ext cx="1239120" cy="573840"/>
            <a:chOff x="7795080" y="-15480"/>
            <a:chExt cx="1239120" cy="573840"/>
          </a:xfrm>
        </p:grpSpPr>
        <p:grpSp>
          <p:nvGrpSpPr>
            <p:cNvPr id="17" name="组合 14"/>
            <p:cNvGrpSpPr/>
            <p:nvPr/>
          </p:nvGrpSpPr>
          <p:grpSpPr>
            <a:xfrm>
              <a:off x="7795080" y="-15480"/>
              <a:ext cx="451440" cy="573840"/>
              <a:chOff x="7795080" y="-15480"/>
              <a:chExt cx="451440" cy="573840"/>
            </a:xfrm>
          </p:grpSpPr>
          <p:sp>
            <p:nvSpPr>
              <p:cNvPr id="18" name="任意多边形 15"/>
              <p:cNvSpPr/>
              <p:nvPr/>
            </p:nvSpPr>
            <p:spPr>
              <a:xfrm rot="18580800">
                <a:off x="7865280" y="162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任意多边形 16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矩形 17"/>
              <p:cNvSpPr/>
              <p:nvPr/>
            </p:nvSpPr>
            <p:spPr>
              <a:xfrm>
                <a:off x="802116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组合 18"/>
            <p:cNvGrpSpPr/>
            <p:nvPr/>
          </p:nvGrpSpPr>
          <p:grpSpPr>
            <a:xfrm>
              <a:off x="8188560" y="-15480"/>
              <a:ext cx="451440" cy="573840"/>
              <a:chOff x="8188560" y="-15480"/>
              <a:chExt cx="451440" cy="573840"/>
            </a:xfrm>
          </p:grpSpPr>
          <p:sp>
            <p:nvSpPr>
              <p:cNvPr id="22" name="任意多边形 19"/>
              <p:cNvSpPr/>
              <p:nvPr/>
            </p:nvSpPr>
            <p:spPr>
              <a:xfrm rot="18580800">
                <a:off x="8258760" y="1620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任意多边形 20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矩形 21"/>
              <p:cNvSpPr/>
              <p:nvPr/>
            </p:nvSpPr>
            <p:spPr>
              <a:xfrm>
                <a:off x="841464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组合 22"/>
            <p:cNvGrpSpPr/>
            <p:nvPr/>
          </p:nvGrpSpPr>
          <p:grpSpPr>
            <a:xfrm>
              <a:off x="8582040" y="-15480"/>
              <a:ext cx="452160" cy="573840"/>
              <a:chOff x="8582040" y="-15480"/>
              <a:chExt cx="452160" cy="573840"/>
            </a:xfrm>
          </p:grpSpPr>
          <p:sp>
            <p:nvSpPr>
              <p:cNvPr id="26" name="任意多边形 23"/>
              <p:cNvSpPr/>
              <p:nvPr/>
            </p:nvSpPr>
            <p:spPr>
              <a:xfrm rot="18580800">
                <a:off x="8652600" y="1584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任意多边形 24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矩形 25"/>
              <p:cNvSpPr/>
              <p:nvPr/>
            </p:nvSpPr>
            <p:spPr>
              <a:xfrm>
                <a:off x="8808120" y="213840"/>
                <a:ext cx="27360" cy="34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31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A8C5-7A22-4E43-B180-924500CC4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F130-65D8-49ED-A841-B9A69F601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qq82.com/vector/show/80/30221.htm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4"/>
          <p:cNvSpPr/>
          <p:nvPr/>
        </p:nvSpPr>
        <p:spPr>
          <a:xfrm>
            <a:off x="392040" y="517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科教版小学科学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304920" y="3495600"/>
            <a:ext cx="3468600" cy="2787840"/>
          </a:xfrm>
          <a:prstGeom prst="rect">
            <a:avLst/>
          </a:prstGeom>
          <a:ln w="0">
            <a:noFill/>
          </a:ln>
        </p:spPr>
      </p:pic>
      <p:sp>
        <p:nvSpPr>
          <p:cNvPr id="150" name="右箭头 5"/>
          <p:cNvSpPr/>
          <p:nvPr/>
        </p:nvSpPr>
        <p:spPr>
          <a:xfrm>
            <a:off x="3906720" y="4495680"/>
            <a:ext cx="962280" cy="7876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2"/>
          <a:stretch/>
        </p:blipFill>
        <p:spPr>
          <a:xfrm>
            <a:off x="5003640" y="3495600"/>
            <a:ext cx="3713400" cy="27878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"/>
          <p:cNvSpPr/>
          <p:nvPr/>
        </p:nvSpPr>
        <p:spPr>
          <a:xfrm>
            <a:off x="2236320" y="17064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种子变成了幼苗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4272120" y="1687680"/>
            <a:ext cx="4698720" cy="471312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2"/>
          <p:cNvSpPr/>
          <p:nvPr/>
        </p:nvSpPr>
        <p:spPr>
          <a:xfrm>
            <a:off x="1121400" y="552600"/>
            <a:ext cx="44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生长阶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3" descr=""/>
          <p:cNvPicPr/>
          <p:nvPr/>
        </p:nvPicPr>
        <p:blipFill>
          <a:blip r:embed="rId2"/>
          <a:stretch/>
        </p:blipFill>
        <p:spPr>
          <a:xfrm>
            <a:off x="457200" y="1687680"/>
            <a:ext cx="3578400" cy="452412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5"/>
          <p:cNvSpPr/>
          <p:nvPr/>
        </p:nvSpPr>
        <p:spPr>
          <a:xfrm>
            <a:off x="1180440" y="1687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琥珀"/>
                <a:ea typeface="华文琥珀"/>
              </a:rPr>
              <a:t>叶是怎样排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"/>
          <p:cNvSpPr/>
          <p:nvPr/>
        </p:nvSpPr>
        <p:spPr>
          <a:xfrm>
            <a:off x="457200" y="2795760"/>
            <a:ext cx="345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叶片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交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生长，伸向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四面八方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原因是为了能最大限度地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接受太阳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进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光合作用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植物生长所需要的食物是从哪里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家经过多年的研究，发现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多数植物能自己制造“食物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养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指导学生学习科学书</a:t>
            </a: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P11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页上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436680" y="318960"/>
            <a:ext cx="6973920" cy="927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二</a:t>
            </a:r>
            <a:r>
              <a:rPr b="0" lang="en-US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叶为植物提供“食物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片 18" descr=""/>
          <p:cNvPicPr/>
          <p:nvPr/>
        </p:nvPicPr>
        <p:blipFill>
          <a:blip r:embed="rId1"/>
          <a:stretch/>
        </p:blipFill>
        <p:spPr>
          <a:xfrm>
            <a:off x="1371600" y="674640"/>
            <a:ext cx="6512040" cy="452772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20"/>
          <p:cNvSpPr/>
          <p:nvPr/>
        </p:nvSpPr>
        <p:spPr>
          <a:xfrm>
            <a:off x="3554640" y="412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植物的光合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2"/>
          <p:cNvSpPr/>
          <p:nvPr/>
        </p:nvSpPr>
        <p:spPr>
          <a:xfrm>
            <a:off x="1012680" y="5462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"/>
          <p:cNvSpPr/>
          <p:nvPr/>
        </p:nvSpPr>
        <p:spPr>
          <a:xfrm>
            <a:off x="3128400" y="546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4"/>
          <p:cNvSpPr/>
          <p:nvPr/>
        </p:nvSpPr>
        <p:spPr>
          <a:xfrm>
            <a:off x="5652000" y="546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氧 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5"/>
          <p:cNvSpPr/>
          <p:nvPr/>
        </p:nvSpPr>
        <p:spPr>
          <a:xfrm>
            <a:off x="7225200" y="546264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养 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加号 27"/>
          <p:cNvSpPr/>
          <p:nvPr/>
        </p:nvSpPr>
        <p:spPr>
          <a:xfrm>
            <a:off x="2468520" y="5464080"/>
            <a:ext cx="574560" cy="582840"/>
          </a:xfrm>
          <a:custGeom>
            <a:avLst/>
            <a:gdLst/>
            <a:ahLst/>
            <a:rect l="l" t="t" r="r" b="b"/>
            <a:pathLst>
              <a:path w="574675" h="582613">
                <a:moveTo>
                  <a:pt x="76173" y="223725"/>
                </a:moveTo>
                <a:lnTo>
                  <a:pt x="219756" y="223725"/>
                </a:lnTo>
                <a:lnTo>
                  <a:pt x="219756" y="77225"/>
                </a:lnTo>
                <a:lnTo>
                  <a:pt x="354919" y="77225"/>
                </a:lnTo>
                <a:lnTo>
                  <a:pt x="354919" y="223725"/>
                </a:lnTo>
                <a:lnTo>
                  <a:pt x="498502" y="223725"/>
                </a:lnTo>
                <a:lnTo>
                  <a:pt x="498502" y="358888"/>
                </a:lnTo>
                <a:lnTo>
                  <a:pt x="354919" y="358888"/>
                </a:lnTo>
                <a:lnTo>
                  <a:pt x="354919" y="505388"/>
                </a:lnTo>
                <a:lnTo>
                  <a:pt x="219756" y="505388"/>
                </a:lnTo>
                <a:lnTo>
                  <a:pt x="219756" y="358888"/>
                </a:lnTo>
                <a:lnTo>
                  <a:pt x="76173" y="358888"/>
                </a:lnTo>
                <a:lnTo>
                  <a:pt x="76173" y="223725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加号 29"/>
          <p:cNvSpPr/>
          <p:nvPr/>
        </p:nvSpPr>
        <p:spPr>
          <a:xfrm>
            <a:off x="6529320" y="5464080"/>
            <a:ext cx="609840" cy="582840"/>
          </a:xfrm>
          <a:custGeom>
            <a:avLst/>
            <a:gdLst/>
            <a:ahLst/>
            <a:rect l="l" t="t" r="r" b="b"/>
            <a:pathLst>
              <a:path w="609600" h="582613">
                <a:moveTo>
                  <a:pt x="80802" y="222791"/>
                </a:moveTo>
                <a:lnTo>
                  <a:pt x="236285" y="222791"/>
                </a:lnTo>
                <a:lnTo>
                  <a:pt x="236285" y="77225"/>
                </a:lnTo>
                <a:lnTo>
                  <a:pt x="373315" y="77225"/>
                </a:lnTo>
                <a:lnTo>
                  <a:pt x="373315" y="222791"/>
                </a:lnTo>
                <a:lnTo>
                  <a:pt x="528798" y="222791"/>
                </a:lnTo>
                <a:lnTo>
                  <a:pt x="528798" y="359822"/>
                </a:lnTo>
                <a:lnTo>
                  <a:pt x="373315" y="359822"/>
                </a:lnTo>
                <a:lnTo>
                  <a:pt x="373315" y="505388"/>
                </a:lnTo>
                <a:lnTo>
                  <a:pt x="236285" y="505388"/>
                </a:lnTo>
                <a:lnTo>
                  <a:pt x="236285" y="359822"/>
                </a:lnTo>
                <a:lnTo>
                  <a:pt x="80802" y="359822"/>
                </a:lnTo>
                <a:lnTo>
                  <a:pt x="80802" y="222791"/>
                </a:lnTo>
                <a:close/>
              </a:path>
            </a:pathLst>
          </a:custGeom>
          <a:solidFill>
            <a:srgbClr val="333399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0"/>
          <p:cNvSpPr/>
          <p:nvPr/>
        </p:nvSpPr>
        <p:spPr>
          <a:xfrm>
            <a:off x="15791040" y="3689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右箭头 31"/>
          <p:cNvSpPr/>
          <p:nvPr/>
        </p:nvSpPr>
        <p:spPr>
          <a:xfrm>
            <a:off x="3776760" y="5856120"/>
            <a:ext cx="1709640" cy="19080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2"/>
          <p:cNvSpPr/>
          <p:nvPr/>
        </p:nvSpPr>
        <p:spPr>
          <a:xfrm>
            <a:off x="4202640" y="52722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阳 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1080" y="4647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长出花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943600" y="17668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蕾长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叶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位， 凤仙花出现花蕾时，植株增长就变得很缓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476280" y="1766880"/>
            <a:ext cx="4962600" cy="40813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3" descr=""/>
          <p:cNvPicPr/>
          <p:nvPr/>
        </p:nvPicPr>
        <p:blipFill>
          <a:blip r:embed="rId2"/>
          <a:stretch/>
        </p:blipFill>
        <p:spPr>
          <a:xfrm rot="17559000">
            <a:off x="717480" y="2122200"/>
            <a:ext cx="470664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018200" y="218124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凤仙花播种后两个月后就开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654120" y="1798560"/>
            <a:ext cx="5941800" cy="446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" descr=""/>
          <p:cNvPicPr/>
          <p:nvPr/>
        </p:nvPicPr>
        <p:blipFill>
          <a:blip r:embed="rId1"/>
          <a:stretch/>
        </p:blipFill>
        <p:spPr>
          <a:xfrm>
            <a:off x="0" y="1486080"/>
            <a:ext cx="6369120" cy="52606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4"/>
          <p:cNvSpPr/>
          <p:nvPr/>
        </p:nvSpPr>
        <p:spPr>
          <a:xfrm>
            <a:off x="6573960" y="1943280"/>
            <a:ext cx="24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凤仙花凋谢后，花的一部分逐渐发育，长出果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"/>
          <p:cNvSpPr/>
          <p:nvPr/>
        </p:nvSpPr>
        <p:spPr>
          <a:xfrm>
            <a:off x="1871280" y="582480"/>
            <a:ext cx="44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     （长出果实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内容占位符 3" descr=""/>
          <p:cNvPicPr/>
          <p:nvPr/>
        </p:nvPicPr>
        <p:blipFill>
          <a:blip r:embed="rId1"/>
          <a:stretch/>
        </p:blipFill>
        <p:spPr>
          <a:xfrm>
            <a:off x="0" y="361800"/>
            <a:ext cx="3862440" cy="2711520"/>
          </a:xfrm>
          <a:prstGeom prst="rect">
            <a:avLst/>
          </a:prstGeom>
          <a:ln w="0">
            <a:noFill/>
          </a:ln>
        </p:spPr>
      </p:pic>
      <p:sp>
        <p:nvSpPr>
          <p:cNvPr id="268" name="文本框 5"/>
          <p:cNvSpPr/>
          <p:nvPr/>
        </p:nvSpPr>
        <p:spPr>
          <a:xfrm>
            <a:off x="4932360" y="969840"/>
            <a:ext cx="290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果实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8"/>
          <p:cNvSpPr/>
          <p:nvPr/>
        </p:nvSpPr>
        <p:spPr>
          <a:xfrm>
            <a:off x="71280" y="3441600"/>
            <a:ext cx="37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凤仙花的果实椭圆形，绿色（成熟后变成黄色），外面有白色的茸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9" descr=""/>
          <p:cNvPicPr/>
          <p:nvPr/>
        </p:nvPicPr>
        <p:blipFill>
          <a:blip r:embed="rId2"/>
          <a:stretch/>
        </p:blipFill>
        <p:spPr>
          <a:xfrm>
            <a:off x="3862440" y="2600280"/>
            <a:ext cx="5281560" cy="4146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5"/>
          <p:cNvSpPr/>
          <p:nvPr/>
        </p:nvSpPr>
        <p:spPr>
          <a:xfrm>
            <a:off x="5245200" y="1341360"/>
            <a:ext cx="290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果实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8"/>
          <p:cNvSpPr/>
          <p:nvPr/>
        </p:nvSpPr>
        <p:spPr>
          <a:xfrm>
            <a:off x="109440" y="4033800"/>
            <a:ext cx="413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轻轻碰一下成熟的果实，里面的种子会被</a:t>
            </a: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弹射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9440" y="816120"/>
            <a:ext cx="4130640" cy="27637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" descr=""/>
          <p:cNvPicPr/>
          <p:nvPr/>
        </p:nvPicPr>
        <p:blipFill>
          <a:blip r:embed="rId2"/>
          <a:stretch/>
        </p:blipFill>
        <p:spPr>
          <a:xfrm>
            <a:off x="4249800" y="3405240"/>
            <a:ext cx="4894200" cy="3341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116128725"/>
          <p:cNvPicPr/>
          <p:nvPr/>
        </p:nvPicPr>
        <p:blipFill>
          <a:blip r:embed="rId1"/>
          <a:stretch/>
        </p:blipFill>
        <p:spPr>
          <a:xfrm>
            <a:off x="0" y="3527280"/>
            <a:ext cx="4764240" cy="33307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2" descr=""/>
          <p:cNvPicPr/>
          <p:nvPr/>
        </p:nvPicPr>
        <p:blipFill>
          <a:blip r:embed="rId2"/>
          <a:stretch/>
        </p:blipFill>
        <p:spPr>
          <a:xfrm>
            <a:off x="4179960" y="569880"/>
            <a:ext cx="4913280" cy="2957400"/>
          </a:xfrm>
          <a:prstGeom prst="rect">
            <a:avLst/>
          </a:prstGeom>
          <a:ln w="0">
            <a:noFill/>
          </a:ln>
        </p:spPr>
      </p:pic>
      <p:sp>
        <p:nvSpPr>
          <p:cNvPr id="277" name="WordArt 4"/>
          <p:cNvSpPr txBox="1"/>
          <p:nvPr/>
        </p:nvSpPr>
        <p:spPr>
          <a:xfrm>
            <a:off x="399960" y="979560"/>
            <a:ext cx="338004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我们的大丰收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8" name="文本框 4"/>
          <p:cNvSpPr/>
          <p:nvPr/>
        </p:nvSpPr>
        <p:spPr>
          <a:xfrm>
            <a:off x="4986360" y="3598920"/>
            <a:ext cx="388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种下一粒种子可以收获几百粒种子，这是我们的大丰收，同时也说明凤仙花的</a:t>
            </a:r>
            <a:r>
              <a:rPr b="0" lang="zh-CN" sz="2800" spc="-1" strike="noStrike">
                <a:solidFill>
                  <a:srgbClr val="cc0000"/>
                </a:solidFill>
                <a:latin typeface="华文琥珀"/>
                <a:ea typeface="华文琥珀"/>
              </a:rPr>
              <a:t>繁殖能力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是很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5"/>
          <p:cNvSpPr/>
          <p:nvPr/>
        </p:nvSpPr>
        <p:spPr>
          <a:xfrm>
            <a:off x="2370960" y="1308240"/>
            <a:ext cx="439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三</a:t>
            </a: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的生长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右箭头 8"/>
          <p:cNvSpPr/>
          <p:nvPr/>
        </p:nvSpPr>
        <p:spPr>
          <a:xfrm>
            <a:off x="773280" y="2647800"/>
            <a:ext cx="1465200" cy="7812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 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右箭头 9"/>
          <p:cNvSpPr/>
          <p:nvPr/>
        </p:nvSpPr>
        <p:spPr>
          <a:xfrm>
            <a:off x="3610080" y="2679840"/>
            <a:ext cx="1466640" cy="78264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发  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右箭头 10"/>
          <p:cNvSpPr/>
          <p:nvPr/>
        </p:nvSpPr>
        <p:spPr>
          <a:xfrm>
            <a:off x="6448320" y="2679840"/>
            <a:ext cx="1465200" cy="7826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生   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右箭头 11"/>
          <p:cNvSpPr/>
          <p:nvPr/>
        </p:nvSpPr>
        <p:spPr>
          <a:xfrm>
            <a:off x="1230480" y="5994360"/>
            <a:ext cx="1465200" cy="7812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开   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右箭头 12"/>
          <p:cNvSpPr/>
          <p:nvPr/>
        </p:nvSpPr>
        <p:spPr>
          <a:xfrm>
            <a:off x="5076720" y="5981760"/>
            <a:ext cx="1465200" cy="780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琥珀"/>
                <a:ea typeface="华文琥珀"/>
              </a:rPr>
              <a:t>结  果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1800" y="606600"/>
            <a:ext cx="8229600" cy="24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我们种的凤仙花已经从一粒种子变成了小苗，现在让我们一起分享前一段时间的观察记录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" descr=""/>
          <p:cNvPicPr/>
          <p:nvPr/>
        </p:nvPicPr>
        <p:blipFill>
          <a:blip r:embed="rId1"/>
          <a:stretch/>
        </p:blipFill>
        <p:spPr>
          <a:xfrm>
            <a:off x="361800" y="3357720"/>
            <a:ext cx="3611880" cy="305892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" descr=""/>
          <p:cNvPicPr/>
          <p:nvPr/>
        </p:nvPicPr>
        <p:blipFill>
          <a:blip r:embed="rId2"/>
          <a:stretch/>
        </p:blipFill>
        <p:spPr>
          <a:xfrm>
            <a:off x="5076720" y="3357720"/>
            <a:ext cx="3514680" cy="3058920"/>
          </a:xfrm>
          <a:prstGeom prst="rect">
            <a:avLst/>
          </a:prstGeom>
          <a:ln w="0">
            <a:noFill/>
          </a:ln>
        </p:spPr>
      </p:pic>
      <p:sp>
        <p:nvSpPr>
          <p:cNvPr id="157" name="右箭头 4"/>
          <p:cNvSpPr/>
          <p:nvPr/>
        </p:nvSpPr>
        <p:spPr>
          <a:xfrm>
            <a:off x="4043520" y="4494240"/>
            <a:ext cx="961920" cy="7873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4"/>
          <p:cNvSpPr/>
          <p:nvPr/>
        </p:nvSpPr>
        <p:spPr>
          <a:xfrm>
            <a:off x="2484360" y="2492280"/>
            <a:ext cx="3527640" cy="19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 仙 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的 组 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3848040" y="4851360"/>
            <a:ext cx="2590920" cy="1727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49280" y="4365720"/>
            <a:ext cx="2733480" cy="1790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103320" y="1695600"/>
            <a:ext cx="255564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2627280" y="244440"/>
            <a:ext cx="2879640" cy="1916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5683320" y="887400"/>
            <a:ext cx="2952720" cy="2087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6084720" y="3284640"/>
            <a:ext cx="2880000" cy="194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559880" y="554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226520" y="2865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352040" y="500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6219000" y="181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7140600" y="450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4991040" y="5961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8199"/>
          <p:cNvSpPr/>
          <p:nvPr/>
        </p:nvSpPr>
        <p:spPr>
          <a:xfrm>
            <a:off x="1450800" y="416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5"/>
          <p:cNvSpPr/>
          <p:nvPr/>
        </p:nvSpPr>
        <p:spPr>
          <a:xfrm>
            <a:off x="2700360" y="836640"/>
            <a:ext cx="3529080" cy="4751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3384360" y="585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植物生长需要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452520" y="4075200"/>
            <a:ext cx="2457360" cy="207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6087960" y="4016520"/>
            <a:ext cx="2457720" cy="2170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1" descr=""/>
          <p:cNvPicPr/>
          <p:nvPr/>
        </p:nvPicPr>
        <p:blipFill>
          <a:blip r:embed="rId4"/>
          <a:stretch/>
        </p:blipFill>
        <p:spPr>
          <a:xfrm>
            <a:off x="6229440" y="681120"/>
            <a:ext cx="2457360" cy="25034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2" descr=""/>
          <p:cNvPicPr/>
          <p:nvPr/>
        </p:nvPicPr>
        <p:blipFill>
          <a:blip r:embed="rId5"/>
          <a:stretch/>
        </p:blipFill>
        <p:spPr>
          <a:xfrm>
            <a:off x="0" y="582480"/>
            <a:ext cx="2700360" cy="260208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3"/>
          <p:cNvSpPr/>
          <p:nvPr/>
        </p:nvSpPr>
        <p:spPr>
          <a:xfrm>
            <a:off x="934920" y="318456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3"/>
          <p:cNvSpPr/>
          <p:nvPr/>
        </p:nvSpPr>
        <p:spPr>
          <a:xfrm>
            <a:off x="1155600" y="61578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4"/>
          <p:cNvSpPr/>
          <p:nvPr/>
        </p:nvSpPr>
        <p:spPr>
          <a:xfrm>
            <a:off x="6888240" y="615780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5"/>
          <p:cNvSpPr/>
          <p:nvPr/>
        </p:nvSpPr>
        <p:spPr>
          <a:xfrm>
            <a:off x="6985080" y="301932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5" descr="chuangyibiankuang2_01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01240" cy="7015320"/>
          </a:xfrm>
          <a:prstGeom prst="rect">
            <a:avLst/>
          </a:prstGeom>
          <a:ln w="0">
            <a:noFill/>
          </a:ln>
        </p:spPr>
      </p:pic>
      <p:sp>
        <p:nvSpPr>
          <p:cNvPr id="313" name="文本框 5"/>
          <p:cNvSpPr/>
          <p:nvPr/>
        </p:nvSpPr>
        <p:spPr>
          <a:xfrm>
            <a:off x="1881720" y="56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琥珀"/>
                <a:ea typeface="华文琥珀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6"/>
          <p:cNvSpPr/>
          <p:nvPr/>
        </p:nvSpPr>
        <p:spPr>
          <a:xfrm>
            <a:off x="584280" y="1246320"/>
            <a:ext cx="375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粒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子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在适宜的环境下能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发育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成一株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植物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并结出许多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绿色开花植物通过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种子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繁殖后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4699080" y="711360"/>
            <a:ext cx="394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绿色开花植物一生中会经历种子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萌发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幼苗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、营养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生长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开花结果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的生长发育需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阳光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土壤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、适宜的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水分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温度</a:t>
            </a: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92AC-F7B2-4B41-AE72-6556234E7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1240" y="42048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琥珀"/>
                <a:ea typeface="华文琥珀"/>
              </a:rPr>
              <a:t>通过种凤仙花我知道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根的作用是吸收水分，叶的作用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长出的第一对叶我们称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，第二对和以后的叶我们称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植物的绿叶可以制造植物生长所需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凤仙花的叶在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琥珀"/>
                <a:ea typeface="华文琥珀"/>
              </a:rPr>
              <a:t>上</a:t>
            </a:r>
            <a:r>
              <a:rPr b="0" lang="zh-CN" sz="28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      生长，有利于接受更多的阳光进行                 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6172200" y="15224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制造养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562720" y="25146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962520" y="298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真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892680" y="50115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交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054240" y="6064200"/>
            <a:ext cx="1447920" cy="360"/>
            <a:chOff x="3054240" y="6064200"/>
            <a:chExt cx="1447920" cy="360"/>
          </a:xfrm>
        </p:grpSpPr>
        <p:sp>
          <p:nvSpPr>
            <p:cNvPr id="327" name="Line 10"/>
            <p:cNvSpPr/>
            <p:nvPr/>
          </p:nvSpPr>
          <p:spPr>
            <a:xfrm>
              <a:off x="3054240" y="6064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054240" y="60642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3022560" y="552276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光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934320" y="4495680"/>
            <a:ext cx="1218960" cy="360"/>
            <a:chOff x="6934320" y="4495680"/>
            <a:chExt cx="1218960" cy="360"/>
          </a:xfrm>
        </p:grpSpPr>
        <p:sp>
          <p:nvSpPr>
            <p:cNvPr id="331" name="Line 13"/>
            <p:cNvSpPr/>
            <p:nvPr/>
          </p:nvSpPr>
          <p:spPr>
            <a:xfrm>
              <a:off x="6934320" y="4495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934320" y="44956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4"/>
          <p:cNvSpPr/>
          <p:nvPr/>
        </p:nvSpPr>
        <p:spPr>
          <a:xfrm>
            <a:off x="6934320" y="3924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养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484280" cy="123048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701880" y="5572080"/>
            <a:ext cx="1447920" cy="360"/>
            <a:chOff x="3701880" y="5572080"/>
            <a:chExt cx="1447920" cy="360"/>
          </a:xfrm>
        </p:grpSpPr>
        <p:sp>
          <p:nvSpPr>
            <p:cNvPr id="336" name="Line 10"/>
            <p:cNvSpPr/>
            <p:nvPr/>
          </p:nvSpPr>
          <p:spPr>
            <a:xfrm>
              <a:off x="3701880" y="55720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3701880" y="55720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7"/>
          <p:cNvSpPr/>
          <p:nvPr/>
        </p:nvSpPr>
        <p:spPr>
          <a:xfrm>
            <a:off x="325440" y="130320"/>
            <a:ext cx="6973920" cy="92700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一</a:t>
            </a:r>
            <a:r>
              <a:rPr b="0" lang="en-US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.</a:t>
            </a:r>
            <a:r>
              <a:rPr b="0" lang="zh-CN" sz="5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凤仙花的生长变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40"/>
          <p:cNvGrpSpPr/>
          <p:nvPr/>
        </p:nvGrpSpPr>
        <p:grpSpPr>
          <a:xfrm>
            <a:off x="190440" y="1265040"/>
            <a:ext cx="7470360" cy="863280"/>
            <a:chOff x="190440" y="1265040"/>
            <a:chExt cx="7470360" cy="863280"/>
          </a:xfrm>
        </p:grpSpPr>
        <p:sp>
          <p:nvSpPr>
            <p:cNvPr id="160" name="自选图形 37"/>
            <p:cNvSpPr/>
            <p:nvPr/>
          </p:nvSpPr>
          <p:spPr>
            <a:xfrm>
              <a:off x="417600" y="140436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39"/>
            <p:cNvSpPr/>
            <p:nvPr/>
          </p:nvSpPr>
          <p:spPr>
            <a:xfrm>
              <a:off x="190440" y="130104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6"/>
            <p:cNvGrpSpPr/>
            <p:nvPr/>
          </p:nvGrpSpPr>
          <p:grpSpPr>
            <a:xfrm>
              <a:off x="324000" y="1265040"/>
              <a:ext cx="531000" cy="355680"/>
              <a:chOff x="324000" y="1265040"/>
              <a:chExt cx="531000" cy="355680"/>
            </a:xfrm>
          </p:grpSpPr>
          <p:sp>
            <p:nvSpPr>
              <p:cNvPr id="163" name="椭圆 27"/>
              <p:cNvSpPr/>
              <p:nvPr/>
            </p:nvSpPr>
            <p:spPr>
              <a:xfrm>
                <a:off x="324000" y="150624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自选图形 28"/>
              <p:cNvSpPr/>
              <p:nvPr/>
            </p:nvSpPr>
            <p:spPr>
              <a:xfrm>
                <a:off x="408240" y="141192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组合 29"/>
              <p:cNvGrpSpPr/>
              <p:nvPr/>
            </p:nvGrpSpPr>
            <p:grpSpPr>
              <a:xfrm>
                <a:off x="464040" y="1265040"/>
                <a:ext cx="238680" cy="190800"/>
                <a:chOff x="464040" y="1265040"/>
                <a:chExt cx="238680" cy="190800"/>
              </a:xfrm>
            </p:grpSpPr>
            <p:sp>
              <p:nvSpPr>
                <p:cNvPr id="166" name="任意多边形 30"/>
                <p:cNvSpPr/>
                <p:nvPr/>
              </p:nvSpPr>
              <p:spPr>
                <a:xfrm rot="18580800">
                  <a:off x="515160" y="125316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任意多边形 31"/>
                <p:cNvSpPr/>
                <p:nvPr/>
              </p:nvSpPr>
              <p:spPr>
                <a:xfrm rot="2400000">
                  <a:off x="603000" y="128700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32"/>
                <p:cNvSpPr/>
                <p:nvPr/>
              </p:nvSpPr>
              <p:spPr>
                <a:xfrm>
                  <a:off x="589680" y="135216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" name="组合 40"/>
          <p:cNvGrpSpPr/>
          <p:nvPr/>
        </p:nvGrpSpPr>
        <p:grpSpPr>
          <a:xfrm>
            <a:off x="190440" y="2414520"/>
            <a:ext cx="7470360" cy="863280"/>
            <a:chOff x="190440" y="2414520"/>
            <a:chExt cx="7470360" cy="863280"/>
          </a:xfrm>
        </p:grpSpPr>
        <p:sp>
          <p:nvSpPr>
            <p:cNvPr id="170" name="自选图形 37"/>
            <p:cNvSpPr/>
            <p:nvPr/>
          </p:nvSpPr>
          <p:spPr>
            <a:xfrm>
              <a:off x="417600" y="255384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9"/>
            <p:cNvSpPr/>
            <p:nvPr/>
          </p:nvSpPr>
          <p:spPr>
            <a:xfrm>
              <a:off x="190440" y="245052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26"/>
            <p:cNvGrpSpPr/>
            <p:nvPr/>
          </p:nvGrpSpPr>
          <p:grpSpPr>
            <a:xfrm>
              <a:off x="324000" y="2414520"/>
              <a:ext cx="531000" cy="355680"/>
              <a:chOff x="324000" y="2414520"/>
              <a:chExt cx="531000" cy="355680"/>
            </a:xfrm>
          </p:grpSpPr>
          <p:sp>
            <p:nvSpPr>
              <p:cNvPr id="173" name="椭圆 27"/>
              <p:cNvSpPr/>
              <p:nvPr/>
            </p:nvSpPr>
            <p:spPr>
              <a:xfrm>
                <a:off x="324000" y="265572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自选图形 28"/>
              <p:cNvSpPr/>
              <p:nvPr/>
            </p:nvSpPr>
            <p:spPr>
              <a:xfrm>
                <a:off x="408240" y="256140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组合 29"/>
              <p:cNvGrpSpPr/>
              <p:nvPr/>
            </p:nvGrpSpPr>
            <p:grpSpPr>
              <a:xfrm>
                <a:off x="464040" y="2414520"/>
                <a:ext cx="238680" cy="190800"/>
                <a:chOff x="464040" y="2414520"/>
                <a:chExt cx="238680" cy="190800"/>
              </a:xfrm>
            </p:grpSpPr>
            <p:sp>
              <p:nvSpPr>
                <p:cNvPr id="176" name="任意多边形 30"/>
                <p:cNvSpPr/>
                <p:nvPr/>
              </p:nvSpPr>
              <p:spPr>
                <a:xfrm rot="18580800">
                  <a:off x="515160" y="240264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任意多边形 31"/>
                <p:cNvSpPr/>
                <p:nvPr/>
              </p:nvSpPr>
              <p:spPr>
                <a:xfrm rot="2400000">
                  <a:off x="603000" y="243648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矩形 32"/>
                <p:cNvSpPr/>
                <p:nvPr/>
              </p:nvSpPr>
              <p:spPr>
                <a:xfrm>
                  <a:off x="589680" y="250164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组合 40"/>
          <p:cNvGrpSpPr/>
          <p:nvPr/>
        </p:nvGrpSpPr>
        <p:grpSpPr>
          <a:xfrm>
            <a:off x="190440" y="3547800"/>
            <a:ext cx="7470360" cy="863640"/>
            <a:chOff x="190440" y="3547800"/>
            <a:chExt cx="7470360" cy="863640"/>
          </a:xfrm>
        </p:grpSpPr>
        <p:sp>
          <p:nvSpPr>
            <p:cNvPr id="180" name="自选图形 37"/>
            <p:cNvSpPr/>
            <p:nvPr/>
          </p:nvSpPr>
          <p:spPr>
            <a:xfrm>
              <a:off x="417600" y="3687120"/>
              <a:ext cx="7243200" cy="72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39"/>
            <p:cNvSpPr/>
            <p:nvPr/>
          </p:nvSpPr>
          <p:spPr>
            <a:xfrm>
              <a:off x="190440" y="3583800"/>
              <a:ext cx="855360" cy="44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组合 26"/>
            <p:cNvGrpSpPr/>
            <p:nvPr/>
          </p:nvGrpSpPr>
          <p:grpSpPr>
            <a:xfrm>
              <a:off x="324000" y="3547800"/>
              <a:ext cx="531000" cy="356040"/>
              <a:chOff x="324000" y="3547800"/>
              <a:chExt cx="531000" cy="356040"/>
            </a:xfrm>
          </p:grpSpPr>
          <p:sp>
            <p:nvSpPr>
              <p:cNvPr id="183" name="椭圆 27"/>
              <p:cNvSpPr/>
              <p:nvPr/>
            </p:nvSpPr>
            <p:spPr>
              <a:xfrm>
                <a:off x="324000" y="378936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自选图形 28"/>
              <p:cNvSpPr/>
              <p:nvPr/>
            </p:nvSpPr>
            <p:spPr>
              <a:xfrm>
                <a:off x="408240" y="369468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组合 29"/>
              <p:cNvGrpSpPr/>
              <p:nvPr/>
            </p:nvGrpSpPr>
            <p:grpSpPr>
              <a:xfrm>
                <a:off x="464040" y="3547800"/>
                <a:ext cx="238680" cy="190800"/>
                <a:chOff x="464040" y="3547800"/>
                <a:chExt cx="238680" cy="190800"/>
              </a:xfrm>
            </p:grpSpPr>
            <p:sp>
              <p:nvSpPr>
                <p:cNvPr id="186" name="任意多边形 30"/>
                <p:cNvSpPr/>
                <p:nvPr/>
              </p:nvSpPr>
              <p:spPr>
                <a:xfrm rot="18580800">
                  <a:off x="515160" y="353592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任意多边形 31"/>
                <p:cNvSpPr/>
                <p:nvPr/>
              </p:nvSpPr>
              <p:spPr>
                <a:xfrm rot="2400000">
                  <a:off x="603000" y="356976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矩形 32"/>
                <p:cNvSpPr/>
                <p:nvPr/>
              </p:nvSpPr>
              <p:spPr>
                <a:xfrm>
                  <a:off x="589680" y="363492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9" name="组合 40"/>
          <p:cNvGrpSpPr/>
          <p:nvPr/>
        </p:nvGrpSpPr>
        <p:grpSpPr>
          <a:xfrm>
            <a:off x="190440" y="4717800"/>
            <a:ext cx="7470360" cy="862200"/>
            <a:chOff x="190440" y="4717800"/>
            <a:chExt cx="7470360" cy="862200"/>
          </a:xfrm>
        </p:grpSpPr>
        <p:sp>
          <p:nvSpPr>
            <p:cNvPr id="190" name="自选图形 37"/>
            <p:cNvSpPr/>
            <p:nvPr/>
          </p:nvSpPr>
          <p:spPr>
            <a:xfrm>
              <a:off x="417600" y="4857120"/>
              <a:ext cx="7243200" cy="72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39"/>
            <p:cNvSpPr/>
            <p:nvPr/>
          </p:nvSpPr>
          <p:spPr>
            <a:xfrm>
              <a:off x="190440" y="4753800"/>
              <a:ext cx="855360" cy="44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26"/>
            <p:cNvGrpSpPr/>
            <p:nvPr/>
          </p:nvGrpSpPr>
          <p:grpSpPr>
            <a:xfrm>
              <a:off x="324000" y="4717800"/>
              <a:ext cx="531000" cy="355320"/>
              <a:chOff x="324000" y="4717800"/>
              <a:chExt cx="531000" cy="355320"/>
            </a:xfrm>
          </p:grpSpPr>
          <p:sp>
            <p:nvSpPr>
              <p:cNvPr id="193" name="椭圆 27"/>
              <p:cNvSpPr/>
              <p:nvPr/>
            </p:nvSpPr>
            <p:spPr>
              <a:xfrm>
                <a:off x="324000" y="495864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自选图形 28"/>
              <p:cNvSpPr/>
              <p:nvPr/>
            </p:nvSpPr>
            <p:spPr>
              <a:xfrm>
                <a:off x="408240" y="4864320"/>
                <a:ext cx="372240" cy="1731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组合 29"/>
              <p:cNvGrpSpPr/>
              <p:nvPr/>
            </p:nvGrpSpPr>
            <p:grpSpPr>
              <a:xfrm>
                <a:off x="464040" y="4717800"/>
                <a:ext cx="238680" cy="190440"/>
                <a:chOff x="464040" y="4717800"/>
                <a:chExt cx="238680" cy="190440"/>
              </a:xfrm>
            </p:grpSpPr>
            <p:sp>
              <p:nvSpPr>
                <p:cNvPr id="196" name="任意多边形 30"/>
                <p:cNvSpPr/>
                <p:nvPr/>
              </p:nvSpPr>
              <p:spPr>
                <a:xfrm rot="18580800">
                  <a:off x="515160" y="470592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任意多边形 31"/>
                <p:cNvSpPr/>
                <p:nvPr/>
              </p:nvSpPr>
              <p:spPr>
                <a:xfrm rot="2400000">
                  <a:off x="603000" y="473976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32"/>
                <p:cNvSpPr/>
                <p:nvPr/>
              </p:nvSpPr>
              <p:spPr>
                <a:xfrm>
                  <a:off x="589680" y="4804920"/>
                  <a:ext cx="16200" cy="10332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9" name="组合 40"/>
          <p:cNvGrpSpPr/>
          <p:nvPr/>
        </p:nvGrpSpPr>
        <p:grpSpPr>
          <a:xfrm>
            <a:off x="190440" y="5765760"/>
            <a:ext cx="7470360" cy="863280"/>
            <a:chOff x="190440" y="5765760"/>
            <a:chExt cx="7470360" cy="863280"/>
          </a:xfrm>
        </p:grpSpPr>
        <p:sp>
          <p:nvSpPr>
            <p:cNvPr id="200" name="自选图形 37"/>
            <p:cNvSpPr/>
            <p:nvPr/>
          </p:nvSpPr>
          <p:spPr>
            <a:xfrm>
              <a:off x="417600" y="5905080"/>
              <a:ext cx="7243200" cy="72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189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39"/>
            <p:cNvSpPr/>
            <p:nvPr/>
          </p:nvSpPr>
          <p:spPr>
            <a:xfrm>
              <a:off x="190440" y="5801760"/>
              <a:ext cx="855360" cy="444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组合 26"/>
            <p:cNvGrpSpPr/>
            <p:nvPr/>
          </p:nvGrpSpPr>
          <p:grpSpPr>
            <a:xfrm>
              <a:off x="324000" y="5765760"/>
              <a:ext cx="531000" cy="355680"/>
              <a:chOff x="324000" y="5765760"/>
              <a:chExt cx="531000" cy="355680"/>
            </a:xfrm>
          </p:grpSpPr>
          <p:sp>
            <p:nvSpPr>
              <p:cNvPr id="203" name="椭圆 27"/>
              <p:cNvSpPr/>
              <p:nvPr/>
            </p:nvSpPr>
            <p:spPr>
              <a:xfrm>
                <a:off x="324000" y="6006960"/>
                <a:ext cx="5310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自选图形 28"/>
              <p:cNvSpPr/>
              <p:nvPr/>
            </p:nvSpPr>
            <p:spPr>
              <a:xfrm>
                <a:off x="408240" y="5912640"/>
                <a:ext cx="372240" cy="1735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29"/>
              <p:cNvGrpSpPr/>
              <p:nvPr/>
            </p:nvGrpSpPr>
            <p:grpSpPr>
              <a:xfrm>
                <a:off x="464040" y="5765760"/>
                <a:ext cx="238680" cy="190800"/>
                <a:chOff x="464040" y="5765760"/>
                <a:chExt cx="238680" cy="190800"/>
              </a:xfrm>
            </p:grpSpPr>
            <p:sp>
              <p:nvSpPr>
                <p:cNvPr id="206" name="任意多边形 30"/>
                <p:cNvSpPr/>
                <p:nvPr/>
              </p:nvSpPr>
              <p:spPr>
                <a:xfrm rot="18580800">
                  <a:off x="515160" y="5753880"/>
                  <a:ext cx="41760" cy="1526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任意多边形 31"/>
                <p:cNvSpPr/>
                <p:nvPr/>
              </p:nvSpPr>
              <p:spPr>
                <a:xfrm rot="2400000">
                  <a:off x="603000" y="5787720"/>
                  <a:ext cx="85320" cy="7488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矩形 32"/>
                <p:cNvSpPr/>
                <p:nvPr/>
              </p:nvSpPr>
              <p:spPr>
                <a:xfrm>
                  <a:off x="589680" y="5852880"/>
                  <a:ext cx="16200" cy="10368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矩形 1"/>
          <p:cNvSpPr/>
          <p:nvPr/>
        </p:nvSpPr>
        <p:spPr>
          <a:xfrm>
            <a:off x="3115080" y="1573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刚出土的时间和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4"/>
          <p:cNvSpPr/>
          <p:nvPr/>
        </p:nvSpPr>
        <p:spPr>
          <a:xfrm>
            <a:off x="1815120" y="2741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出土凤仙花茎是什么颜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5"/>
          <p:cNvSpPr/>
          <p:nvPr/>
        </p:nvSpPr>
        <p:spPr>
          <a:xfrm>
            <a:off x="1815120" y="38307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刚出土凤仙花叶是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96"/>
          <p:cNvSpPr/>
          <p:nvPr/>
        </p:nvSpPr>
        <p:spPr>
          <a:xfrm>
            <a:off x="3861000" y="496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对叶和以后长出的叶子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1963080" y="60199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凤仙花叶子在茎上是怎么排列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520560" y="476280"/>
            <a:ext cx="789804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凤仙花的观察日记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5" name="图片 5" descr=""/>
          <p:cNvPicPr/>
          <p:nvPr/>
        </p:nvPicPr>
        <p:blipFill>
          <a:blip r:embed="rId1"/>
          <a:stretch/>
        </p:blipFill>
        <p:spPr>
          <a:xfrm>
            <a:off x="1598760" y="3168720"/>
            <a:ext cx="5470200" cy="3452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520" y="356760"/>
            <a:ext cx="58644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月</a:t>
            </a: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15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</a:rPr>
              <a:t>日（播种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内容占位符 5" descr=""/>
          <p:cNvPicPr/>
          <p:nvPr/>
        </p:nvPicPr>
        <p:blipFill>
          <a:blip r:embed="rId1"/>
          <a:stretch/>
        </p:blipFill>
        <p:spPr>
          <a:xfrm>
            <a:off x="5684760" y="990720"/>
            <a:ext cx="3287880" cy="23907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1"/>
          <p:cNvSpPr/>
          <p:nvPr/>
        </p:nvSpPr>
        <p:spPr>
          <a:xfrm>
            <a:off x="4729320" y="3589200"/>
            <a:ext cx="41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手指在土中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坑，深度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厘米，每个小坑里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粒凤仙花的种子，再用土盖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花盆中浇适量的水，使土壤湿润，将它放在温暖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"/>
          <p:cNvSpPr/>
          <p:nvPr/>
        </p:nvSpPr>
        <p:spPr>
          <a:xfrm>
            <a:off x="236520" y="1442880"/>
            <a:ext cx="53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挑选那些颗粒饱满的、没有受过损伤的种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一个合适的花盆，把一块小瓦片放在花盆的出水孔上然后装上适量疏松、肥沃、微酸的土壤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2"/>
          <a:stretch/>
        </p:blipFill>
        <p:spPr>
          <a:xfrm>
            <a:off x="344520" y="3408480"/>
            <a:ext cx="427680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324000" y="61740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华文细黑"/>
              </a:rPr>
              <a:t>3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  <a:ea typeface="华文细黑"/>
              </a:rPr>
              <a:t>月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华文细黑"/>
              </a:rPr>
              <a:t>22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  <a:ea typeface="华文细黑"/>
              </a:rPr>
              <a:t>日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华文细黑"/>
              </a:rPr>
              <a:t>（小苗出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5407200" y="5154480"/>
            <a:ext cx="40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刚破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出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2" descr=""/>
          <p:cNvPicPr/>
          <p:nvPr/>
        </p:nvPicPr>
        <p:blipFill>
          <a:blip r:embed="rId1"/>
          <a:stretch/>
        </p:blipFill>
        <p:spPr>
          <a:xfrm>
            <a:off x="4699080" y="1876320"/>
            <a:ext cx="4367160" cy="32781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" descr=""/>
          <p:cNvPicPr/>
          <p:nvPr/>
        </p:nvPicPr>
        <p:blipFill>
          <a:blip r:embed="rId2"/>
          <a:stretch/>
        </p:blipFill>
        <p:spPr>
          <a:xfrm>
            <a:off x="324000" y="1876320"/>
            <a:ext cx="4371840" cy="4048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6170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月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24</a:t>
            </a:r>
            <a:r>
              <a:rPr b="0" lang="zh-CN" sz="4400" spc="-1" strike="noStrike">
                <a:solidFill>
                  <a:srgbClr val="002060"/>
                </a:solidFill>
                <a:latin typeface="Arial"/>
              </a:rPr>
              <a:t>日（长出子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内容占位符 3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4836960" cy="350208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2"/>
          <p:cNvSpPr/>
          <p:nvPr/>
        </p:nvSpPr>
        <p:spPr>
          <a:xfrm>
            <a:off x="550800" y="545004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种子萌发时，需要的养料来自于种子子叶中所储存的养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"/>
          <p:cNvSpPr/>
          <p:nvPr/>
        </p:nvSpPr>
        <p:spPr>
          <a:xfrm>
            <a:off x="5483160" y="1479600"/>
            <a:ext cx="3660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凤仙花的第一对叶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子叶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叶淡绿色，椭圆形，表面光滑、无明显叶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4" descr=""/>
          <p:cNvPicPr/>
          <p:nvPr/>
        </p:nvPicPr>
        <p:blipFill>
          <a:blip r:embed="rId2"/>
          <a:stretch/>
        </p:blipFill>
        <p:spPr>
          <a:xfrm rot="19569000">
            <a:off x="1517760" y="2390760"/>
            <a:ext cx="2766960" cy="142416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7080" y="6519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日（长出第一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叶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27080" y="1701720"/>
            <a:ext cx="35161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叶张开约一周后长出</a:t>
            </a:r>
            <a:r>
              <a:rPr b="0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真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真叶是凤仙花真正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椭圆行，边缘锯齿状，淡绿色，有明显的叶脉。茎明显变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内容占位符 4" descr=""/>
          <p:cNvPicPr/>
          <p:nvPr/>
        </p:nvPicPr>
        <p:blipFill>
          <a:blip r:embed="rId1"/>
          <a:stretch/>
        </p:blipFill>
        <p:spPr>
          <a:xfrm>
            <a:off x="3768840" y="1967040"/>
            <a:ext cx="4589280" cy="422892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" descr=""/>
          <p:cNvPicPr/>
          <p:nvPr/>
        </p:nvPicPr>
        <p:blipFill>
          <a:blip r:embed="rId2"/>
          <a:stretch/>
        </p:blipFill>
        <p:spPr>
          <a:xfrm rot="16384800">
            <a:off x="4884480" y="887040"/>
            <a:ext cx="2590920" cy="579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773280" y="1684440"/>
            <a:ext cx="4760640" cy="4495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7080" y="6519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日（长出第二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真叶</a:t>
            </a: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8" descr=""/>
          <p:cNvPicPr/>
          <p:nvPr/>
        </p:nvPicPr>
        <p:blipFill>
          <a:blip r:embed="rId2"/>
          <a:stretch/>
        </p:blipFill>
        <p:spPr>
          <a:xfrm rot="19692000">
            <a:off x="1806120" y="3018960"/>
            <a:ext cx="2320920" cy="1573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627520" y="1351080"/>
            <a:ext cx="351648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天后，长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第二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真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第二对真叶与第一对真叶形成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号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7:51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6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