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7291-0DEF-446A-8289-B959987F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8551-F7BE-446C-A30E-CF5BE139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6E3B-0378-4D80-8FC8-808BFB58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2CE5-8014-4F40-B6FF-A4452C40F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B855-7B24-4E34-98B5-F74526B46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3843-C98A-45F0-BACE-95DCBE99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1853-DC81-4C22-9975-DDCE52A6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A457-8AED-4368-B003-770A545B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CB9D-F0E7-420C-9331-17655FD6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A469-27E9-48EB-A169-793DCD46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8634-E8B4-4E58-BE41-F33341E0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8D3D-6B8D-4E3E-A99A-CEF92C8C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BA79-4645-4C7A-BE48-B9C2615B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33E2-882C-416B-B243-286C6EF9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527D-EE78-4578-A1FD-D24E251E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B2ED-24DC-48A3-A899-B6AC7DE8E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2103-7871-4990-AFAA-E3E79F80C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A395-2EFE-4269-BFAA-ED89FE4A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AA23-B0DF-41A8-A56B-6E1A2148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F629-3354-4814-B631-07D8E23B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EA18-E547-44BA-BD0B-6B6C379D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1CAE-1926-4EA8-B2A7-1C568164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53DB-177D-4488-9528-1A359611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5EAE-BD8E-4ACC-A2E3-9A0E49AA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8C3C-E7C1-495E-ADE6-38BAD47EF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1D69-8AC5-4875-9FC9-3FA7C57FD38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.jpeg"/><Relationship Id="rId10" Type="http://schemas.openxmlformats.org/officeDocument/2006/relationships/image" Target="../media/image11.gi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closeup"/>
          <p:cNvPicPr/>
          <p:nvPr/>
        </p:nvPicPr>
        <p:blipFill>
          <a:blip r:embed="rId1"/>
          <a:stretch/>
        </p:blipFill>
        <p:spPr>
          <a:xfrm>
            <a:off x="380880" y="344520"/>
            <a:ext cx="3810240" cy="56260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4191120" y="1447920"/>
            <a:ext cx="485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真正的英雄语文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PPT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6095880" y="43434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 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里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53F2-51A4-42C9-8D24-F532F817639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amemap4"/>
          <p:cNvPicPr/>
          <p:nvPr/>
        </p:nvPicPr>
        <p:blipFill>
          <a:blip r:embed="rId1"/>
          <a:stretch/>
        </p:blipFill>
        <p:spPr>
          <a:xfrm>
            <a:off x="635040" y="254160"/>
            <a:ext cx="787392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5"/>
          <p:cNvSpPr/>
          <p:nvPr/>
        </p:nvSpPr>
        <p:spPr>
          <a:xfrm>
            <a:off x="3200400" y="16765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yingxiong"/>
          <p:cNvPicPr/>
          <p:nvPr/>
        </p:nvPicPr>
        <p:blipFill>
          <a:blip r:embed="rId1"/>
          <a:stretch/>
        </p:blipFill>
        <p:spPr>
          <a:xfrm>
            <a:off x="2057400" y="0"/>
            <a:ext cx="473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scobee"/>
          <p:cNvPicPr/>
          <p:nvPr/>
        </p:nvPicPr>
        <p:blipFill>
          <a:blip r:embed="rId1"/>
          <a:stretch/>
        </p:blipFill>
        <p:spPr>
          <a:xfrm>
            <a:off x="3132000" y="1916280"/>
            <a:ext cx="2965680" cy="3671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smith-michael"/>
          <p:cNvPicPr/>
          <p:nvPr/>
        </p:nvPicPr>
        <p:blipFill>
          <a:blip r:embed="rId2"/>
          <a:stretch/>
        </p:blipFill>
        <p:spPr>
          <a:xfrm>
            <a:off x="3203640" y="1916280"/>
            <a:ext cx="2908080" cy="3600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resnik"/>
          <p:cNvPicPr/>
          <p:nvPr/>
        </p:nvPicPr>
        <p:blipFill>
          <a:blip r:embed="rId3"/>
          <a:stretch/>
        </p:blipFill>
        <p:spPr>
          <a:xfrm>
            <a:off x="3203640" y="1916280"/>
            <a:ext cx="2906640" cy="3600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onizuka"/>
          <p:cNvPicPr/>
          <p:nvPr/>
        </p:nvPicPr>
        <p:blipFill>
          <a:blip r:embed="rId4"/>
          <a:stretch/>
        </p:blipFill>
        <p:spPr>
          <a:xfrm>
            <a:off x="3132000" y="1987560"/>
            <a:ext cx="2908440" cy="3600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mcnair"/>
          <p:cNvPicPr/>
          <p:nvPr/>
        </p:nvPicPr>
        <p:blipFill>
          <a:blip r:embed="rId5"/>
          <a:stretch/>
        </p:blipFill>
        <p:spPr>
          <a:xfrm>
            <a:off x="3132000" y="1987560"/>
            <a:ext cx="2908440" cy="3600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jarvis"/>
          <p:cNvPicPr/>
          <p:nvPr/>
        </p:nvPicPr>
        <p:blipFill>
          <a:blip r:embed="rId6"/>
          <a:stretch/>
        </p:blipFill>
        <p:spPr>
          <a:xfrm>
            <a:off x="3203640" y="1916280"/>
            <a:ext cx="2913120" cy="3673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mcauliffe"/>
          <p:cNvPicPr/>
          <p:nvPr/>
        </p:nvPicPr>
        <p:blipFill>
          <a:blip r:embed="rId7"/>
          <a:stretch/>
        </p:blipFill>
        <p:spPr>
          <a:xfrm>
            <a:off x="3203640" y="1987560"/>
            <a:ext cx="2921040" cy="3683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移柩"/>
          <p:cNvPicPr/>
          <p:nvPr/>
        </p:nvPicPr>
        <p:blipFill>
          <a:blip r:embed="rId8"/>
          <a:stretch/>
        </p:blipFill>
        <p:spPr>
          <a:xfrm>
            <a:off x="1476360" y="1773360"/>
            <a:ext cx="6048360" cy="3944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closeup"/>
          <p:cNvPicPr/>
          <p:nvPr/>
        </p:nvPicPr>
        <p:blipFill>
          <a:blip r:embed="rId9"/>
          <a:stretch/>
        </p:blipFill>
        <p:spPr>
          <a:xfrm>
            <a:off x="2700360" y="907920"/>
            <a:ext cx="3809880" cy="5626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candle"/>
          <p:cNvPicPr/>
          <p:nvPr/>
        </p:nvPicPr>
        <p:blipFill>
          <a:blip r:embed="rId10"/>
          <a:stretch/>
        </p:blipFill>
        <p:spPr>
          <a:xfrm>
            <a:off x="0" y="0"/>
            <a:ext cx="793800" cy="10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457200" y="9144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西进运动使美国农业迅速发展起来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国成为了幅员辽阔、自然资源丰富的国家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西部的开拓，带动了大规模铁路的建筑和大批移民的流动，使美国形成了广大的国内市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种不断的再生，这种美国生活的流动性，这种向西扩张带来的新机会以及跟简单原始社会的不断接触，提供了支配美国性格的力量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边疆不断的向西部推进就意味着逐渐离开欧洲的影响，减少了对英国的依赖，逐渐增长美国独有的特点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西进运动和边疆生活铸就了美国人鲜明的个性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美国的开拓精神，自由主张，还有那极具代表性的勇敢、开拓、洒脱的西部牛仔形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" y="228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中宋"/>
              </a:rPr>
              <a:t>美国西进开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赤脚医生李春燕"/>
          <p:cNvPicPr/>
          <p:nvPr/>
        </p:nvPicPr>
        <p:blipFill>
          <a:blip r:embed="rId1"/>
          <a:stretch/>
        </p:blipFill>
        <p:spPr>
          <a:xfrm>
            <a:off x="1752480" y="380880"/>
            <a:ext cx="5257800" cy="38782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1219320" y="4952880"/>
            <a:ext cx="64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她是大山里最后的赤脚医生，提着篮子在田垄里行医，一间四壁透风的竹楼，成了天下最温暖的医院，一副瘦弱的肩膀，担负起十里八乡的健康，她是迁徙的候鸟，她是照亮苗乡的月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828800" y="441972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  <a:ea typeface="华文中宋"/>
              </a:rPr>
              <a:t>感动中国人物：赤脚医生李春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徐本禹"/>
          <p:cNvPicPr/>
          <p:nvPr/>
        </p:nvPicPr>
        <p:blipFill>
          <a:blip r:embed="rId1"/>
          <a:stretch/>
        </p:blipFill>
        <p:spPr>
          <a:xfrm>
            <a:off x="5715000" y="533520"/>
            <a:ext cx="3035160" cy="3809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邮递员王顺友"/>
          <p:cNvPicPr/>
          <p:nvPr/>
        </p:nvPicPr>
        <p:blipFill>
          <a:blip r:embed="rId2"/>
          <a:stretch/>
        </p:blipFill>
        <p:spPr>
          <a:xfrm>
            <a:off x="533520" y="685800"/>
            <a:ext cx="4267080" cy="32907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838080" y="48006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邮递员：王顺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5943600" y="4876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教师：徐本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533520" y="762120"/>
            <a:ext cx="807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挑战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的碎片正纷纷扬扬撒向大西洋时，美国总统里根正同他的高级助手们共进工作午餐。副总统布什和国家安全顾问波因德克斯特急匆匆地冲进来，把这个不幸的消息告诉了众人。里根总统的第一反应是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女教师乘坐的那架航天飞机吗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布什表情严肃地说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所有人都中止了午餐站起来，随里根总统来到离那儿最近的总统书房，打开电视观看这次事故的录像新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初，这位总统被残酷的现实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震惊得一言不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脸上充满了忧虑、焦急不安和悲痛的表情。后来，里根对记者说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当时根本摆脱不掉遇难者家属的形象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304920" y="160020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  <a:ea typeface="华文中宋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在痛苦中我们认识到一个意义深远的道理：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华文中宋"/>
              </a:rPr>
              <a:t>未来的道路并不平坦，整个人类前进的历史是与一切艰难险阻斗争的历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8200"/>
          <p:cNvSpPr/>
          <p:nvPr/>
        </p:nvSpPr>
        <p:spPr>
          <a:xfrm>
            <a:off x="1905120" y="41911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228600" y="1143000"/>
            <a:ext cx="86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6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中午，迪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司各比等七名宇航员坐在竖立的航天飞机中，准备出发。他们的妻子、丈夫、父亲、母亲、孩子、朋友和全美国人民都坐在电视机前观看电视转播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挑战者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升空后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，观看者就看到了爆炸，航天飞机化为一缕缕长烟。长烟中，迪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司各比、迈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史密斯、朱蒂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莱恩尼科、埃里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奥尼佐卡、罗纳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麦克耐尔、高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杰维斯、科里斯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麦考利芙，七位宇航员的笑容凝固了，凝固成金属的墓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长烟在天际消散，悲痛却在人民的心中积聚起来。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，时任美国总统的里根在追悼会上发表演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正的英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09480" y="4572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中宋"/>
              </a:rPr>
              <a:t>挑战者号</a:t>
            </a: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”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中宋"/>
              </a:rPr>
              <a:t>升空爆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5T12:08:0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8:05Z</dcterms:modified>
  <cp:revision>1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