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10F-6D5C-417D-8045-275E5C69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B11-BAE3-4209-9296-9E836B17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6A7E-76A6-4AFE-858A-118F3BFE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A23-027D-415B-9C76-08115E31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9643-AE02-45D5-B91A-76C2169A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C054-5117-4156-B670-E9A204DE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C3A6-1389-4869-9DAE-39A6C1E1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13CB-B827-4C75-B181-EC4F0B72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DF69-B6E7-42DA-8E02-E5061156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A5A5-399E-4EE3-89CA-B9E60DFF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0922-F831-4AF2-994A-CE27055C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0B2-A7D7-4F56-A745-2C3C1386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8FD6-5801-4DB1-9393-B72D3370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E273-BB13-4380-878D-CFCBF1C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DE87-9650-40E4-8A2E-C0815509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033A-DE91-4487-91E4-29C570BB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09A8-0D49-4E17-AA34-F1F88C21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C9FC-BF9D-4B7B-B4A5-D2ABA2A7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C7B0F-4A41-452A-83F4-123EA445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D33B-56A8-46A1-A7B5-64A73140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C4287-F8C1-4AC4-9808-861C680F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E5B1-93B0-42A6-B086-56F8CABC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F97-DD5C-41D5-9698-4D59A0B1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8F50-FB18-439D-ACD6-C601B40B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0AA9-8B83-454B-B272-171134D0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9411-326E-406B-8C7A-2A32518D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97542-FDDB-47E4-96DA-DE2DABD6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9D872-E8B3-4BD9-B9F2-3AD64E17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8B46-5C7C-47B7-BF01-E038E8D8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3266-E23A-4C2C-9458-AF61A357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DD7-C1E0-4A58-BD29-F885C14F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587-072C-48F5-BE1A-4D277805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FEE-8690-4EDE-BB65-CAB00BF4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D49-2927-4926-81B6-5CD7FF54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085-9644-4D78-B666-45F9F4E3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A40-5D11-4431-BFBD-76CC7DA3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AA9B-9D22-4E95-8AC8-61C28B1FE26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40CB-CC55-47BF-B297-E8B30644C9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EAD4-4894-40BB-9E22-F4701BF9465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/>
          <a:stretch/>
        </p:blipFill>
        <p:spPr>
          <a:xfrm>
            <a:off x="144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440" y="907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种子发芽试验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一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492360" y="754920"/>
            <a:ext cx="27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验计划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9280" y="1700280"/>
          <a:ext cx="8820000" cy="4497480"/>
        </p:xfrm>
        <a:graphic>
          <a:graphicData uri="http://schemas.openxmlformats.org/drawingml/2006/table">
            <a:tbl>
              <a:tblPr/>
              <a:tblGrid>
                <a:gridCol w="2730600"/>
                <a:gridCol w="6089400"/>
              </a:tblGrid>
              <a:tr h="76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我们提出的问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   </a:t>
                      </a: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绿豆发芽需要土壤吗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我们的推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 </a:t>
                      </a:r>
                      <a:r>
                        <a:rPr b="1" lang="zh-CN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楷体_GB2312"/>
                        </a:rPr>
                        <a:t>绿豆发芽需要土壤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两个组相同的条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两个组不同的条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4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楷体_GB2312"/>
                        </a:rPr>
                        <a:t>实验的方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3"/>
          <p:cNvSpPr/>
          <p:nvPr/>
        </p:nvSpPr>
        <p:spPr>
          <a:xfrm>
            <a:off x="4427640" y="3065760"/>
            <a:ext cx="33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空气  水  相同数量的绿豆  温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3492360" y="400284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组有土，另一组没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2917800" y="52250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让一组绿豆种子在土壤的环境下发芽，我们可以把这组称为实验组。而另一组绿豆种子在没有土壤的环境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们可以把这组称为对照组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68360" y="1773360"/>
          <a:ext cx="8229600" cy="450036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645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我们提出的问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我  们  的  推 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两个组的相同条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两个组的不同条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9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实  验  的  方  法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2"/>
          <p:cNvSpPr/>
          <p:nvPr/>
        </p:nvSpPr>
        <p:spPr>
          <a:xfrm>
            <a:off x="539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我们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种子发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实验计划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539640" y="11761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验开始时间：         班级：         姓名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24000" y="1844640"/>
          <a:ext cx="8424720" cy="4041720"/>
        </p:xfrm>
        <a:graphic>
          <a:graphicData uri="http://schemas.openxmlformats.org/drawingml/2006/table">
            <a:tbl>
              <a:tblPr/>
              <a:tblGrid>
                <a:gridCol w="1352520"/>
                <a:gridCol w="3201840"/>
                <a:gridCol w="3870360"/>
              </a:tblGrid>
              <a:tr h="4269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日   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            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绿豆种子变化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960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实验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对照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月  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月  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月  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月  日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31"/>
          <p:cNvSpPr/>
          <p:nvPr/>
        </p:nvSpPr>
        <p:spPr>
          <a:xfrm>
            <a:off x="0" y="48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2"/>
          <p:cNvSpPr/>
          <p:nvPr/>
        </p:nvSpPr>
        <p:spPr>
          <a:xfrm>
            <a:off x="2365200" y="619920"/>
            <a:ext cx="416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子发芽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关系实验记录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33"/>
          <p:cNvSpPr/>
          <p:nvPr/>
        </p:nvSpPr>
        <p:spPr>
          <a:xfrm>
            <a:off x="250920" y="1890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学习任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50920" y="11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883440" y="1076400"/>
            <a:ext cx="71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研究水分对种子发芽的影响时不需要控制的条件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需要控制的条件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2059920" y="2733120"/>
            <a:ext cx="50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对比试验时，只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条件不同，其他条件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1148400" y="3669120"/>
            <a:ext cx="507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对比试验时，和我们的猜测一致一组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我们的猜测不一致一组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7524720" y="9079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温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0" y="162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空气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619280" y="162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843280" y="162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种子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732720" y="1700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3492360" y="2637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7524720" y="2565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084720" y="3500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实验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780000" y="4221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对照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250920" y="11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练习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06760" y="107640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把两组相同的种子，一组放在常温下，一组放在冰箱内，保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温，同时都加适量的水，这个实验设计中改变的条件是（   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光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温度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641960" y="2587680"/>
            <a:ext cx="55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常温下两组相同的种子，一组受到光照，加适量的水，另一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子用纸盒盖住，加少量的水。这个实验设计（   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是科学的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是不科学的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无法判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2652120" y="4362480"/>
            <a:ext cx="25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种子发芽的自身条件（   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完整的活的胚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适宜的温度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充足的空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956720" y="1413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6372360" y="2924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564000" y="422100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02F0-79F2-4C51-8CE9-3C88EB0198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6004351"/>
          <p:cNvPicPr/>
          <p:nvPr/>
        </p:nvPicPr>
        <p:blipFill>
          <a:blip r:embed="rId1"/>
          <a:stretch/>
        </p:blipFill>
        <p:spPr>
          <a:xfrm>
            <a:off x="1332000" y="333360"/>
            <a:ext cx="7153200" cy="53658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276720" y="587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经营的豆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116956518"/>
          <p:cNvPicPr/>
          <p:nvPr/>
        </p:nvPicPr>
        <p:blipFill>
          <a:blip r:embed="rId1"/>
          <a:stretch/>
        </p:blipFill>
        <p:spPr>
          <a:xfrm>
            <a:off x="0" y="0"/>
            <a:ext cx="5364000" cy="4167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885960" y="4322160"/>
            <a:ext cx="190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播种后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天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4" descr="116977241"/>
          <p:cNvPicPr/>
          <p:nvPr/>
        </p:nvPicPr>
        <p:blipFill>
          <a:blip r:embed="rId2"/>
          <a:stretch/>
        </p:blipFill>
        <p:spPr>
          <a:xfrm>
            <a:off x="4008600" y="1628640"/>
            <a:ext cx="5135400" cy="4203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6111000" y="5949360"/>
            <a:ext cx="11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出苗一周以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长出第一对真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16118192"/>
          <p:cNvPicPr/>
          <p:nvPr/>
        </p:nvPicPr>
        <p:blipFill>
          <a:blip r:embed="rId1"/>
          <a:stretch/>
        </p:blipFill>
        <p:spPr>
          <a:xfrm>
            <a:off x="324000" y="404640"/>
            <a:ext cx="431460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1836720" y="38570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长出花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116300662"/>
          <p:cNvPicPr/>
          <p:nvPr/>
        </p:nvPicPr>
        <p:blipFill>
          <a:blip r:embed="rId2"/>
          <a:stretch/>
        </p:blipFill>
        <p:spPr>
          <a:xfrm>
            <a:off x="4140360" y="2565360"/>
            <a:ext cx="4543200" cy="3409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5923440" y="6015960"/>
            <a:ext cx="22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播种后两个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开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16763996"/>
          <p:cNvPicPr/>
          <p:nvPr/>
        </p:nvPicPr>
        <p:blipFill>
          <a:blip r:embed="rId1"/>
          <a:stretch/>
        </p:blipFill>
        <p:spPr>
          <a:xfrm>
            <a:off x="1979640" y="105264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3703680" y="4865040"/>
            <a:ext cx="21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结果：播种后三个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628280"/>
            <a:ext cx="8877240" cy="179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种子发芽</a:t>
            </a:r>
            <a:r>
              <a:rPr b="1" lang="zh-CN" sz="6000" spc="-1" strike="noStrike">
                <a:solidFill>
                  <a:srgbClr val="ff5050"/>
                </a:solidFill>
                <a:latin typeface="Verdana"/>
              </a:rPr>
              <a:t>需要哪些条件呢</a:t>
            </a:r>
            <a:r>
              <a:rPr b="1" lang="zh-CN" sz="6000" spc="-1" strike="noStrike">
                <a:solidFill>
                  <a:srgbClr val="ff505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3"/>
          <p:cNvSpPr/>
          <p:nvPr/>
        </p:nvSpPr>
        <p:spPr>
          <a:xfrm>
            <a:off x="248436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2" descr="绿豆"/>
          <p:cNvPicPr/>
          <p:nvPr/>
        </p:nvPicPr>
        <p:blipFill>
          <a:blip r:embed="rId1"/>
          <a:stretch/>
        </p:blipFill>
        <p:spPr>
          <a:xfrm>
            <a:off x="430200" y="324000"/>
            <a:ext cx="87138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619280" y="1773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豆发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所说的这些条件都需要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WordArt 3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1582560" cy="2303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1547640" y="350028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，哪些又是必须的呢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种子发芽书图2"/>
          <p:cNvPicPr/>
          <p:nvPr/>
        </p:nvPicPr>
        <p:blipFill>
          <a:blip r:embed="rId1"/>
          <a:stretch/>
        </p:blipFill>
        <p:spPr>
          <a:xfrm>
            <a:off x="250920" y="333360"/>
            <a:ext cx="8569080" cy="605628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8199"/>
          <p:cNvSpPr/>
          <p:nvPr/>
        </p:nvSpPr>
        <p:spPr>
          <a:xfrm>
            <a:off x="1949400" y="436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813240" y="475560"/>
            <a:ext cx="129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Verdana"/>
              </a:rPr>
              <a:t>小结</a:t>
            </a:r>
            <a:r>
              <a:rPr b="0" lang="zh-CN" sz="6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539640" y="30999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把这种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实验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照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同时进行实验，最后对比两组实验结果的实验方法称为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对比实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对比实验要注意对照组只改变一个条件，其他条件与实验组相同。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1:21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55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